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9D7B-F7D6-4540-8D50-19AF24F8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4EE8-D834-4FA6-84F1-544D46D2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EE4E-3769-4BAC-85D4-5A75AB186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DACE-B183-4AE3-AAC4-02D9E2033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31D4-343A-4B99-BA49-CF9F37FE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5E69-D7E8-474C-8B46-886A30DE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4431-26BC-4474-B9D1-A3628171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F9A8-9EB9-48CB-89E8-6B9F36A5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E3D0-791D-492F-9087-A3BAF006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ED50-1F90-45EB-AE51-DCF923A0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BBA0-B3BC-499B-B0A6-43DF47BC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6940-3A8B-4C68-8505-7CB254ED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C7E4-CBEB-4506-81C1-6DF890782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4.01 Linea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3x - 1/4y = 24 in slope-intercept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x and y intercept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x - 8y = 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equation of the line with a slope of -2 and goes through the piont (-4, 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Ink 4"/>
          <p:cNvSpPr/>
          <p:nvPr/>
        </p:nvSpPr>
        <p:spPr>
          <a:xfrm>
            <a:off x="2160720" y="1725480"/>
            <a:ext cx="434880" cy="274680"/>
          </a:xfrm>
          <a:custGeom>
            <a:avLst/>
            <a:gdLst/>
            <a:ahLst/>
            <a:rect l="l" t="t" r="r" b="b"/>
            <a:pathLst>
              <a:path w="1207" h="763">
                <a:moveTo>
                  <a:pt x="6001" y="4985"/>
                </a:moveTo>
                <a:cubicBezTo>
                  <a:pt x="6011" y="4985"/>
                  <a:pt x="6022" y="4985"/>
                  <a:pt x="6032" y="4985"/>
                </a:cubicBezTo>
                <a:cubicBezTo>
                  <a:pt x="6048" y="5032"/>
                  <a:pt x="6072" y="5016"/>
                  <a:pt x="6128" y="5016"/>
                </a:cubicBezTo>
                <a:cubicBezTo>
                  <a:pt x="6170" y="5016"/>
                  <a:pt x="6213" y="5016"/>
                  <a:pt x="6255" y="5016"/>
                </a:cubicBezTo>
              </a:path>
              <a:path w="1207" h="763">
                <a:moveTo>
                  <a:pt x="6445" y="4890"/>
                </a:moveTo>
                <a:cubicBezTo>
                  <a:pt x="6477" y="4847"/>
                  <a:pt x="6487" y="4812"/>
                  <a:pt x="6540" y="4794"/>
                </a:cubicBezTo>
                <a:cubicBezTo>
                  <a:pt x="6580" y="4780"/>
                  <a:pt x="6679" y="4785"/>
                  <a:pt x="6699" y="4826"/>
                </a:cubicBezTo>
                <a:cubicBezTo>
                  <a:pt x="6706" y="4840"/>
                  <a:pt x="6734" y="4946"/>
                  <a:pt x="6731" y="4953"/>
                </a:cubicBezTo>
                <a:cubicBezTo>
                  <a:pt x="6717" y="4984"/>
                  <a:pt x="6662" y="5091"/>
                  <a:pt x="6636" y="5112"/>
                </a:cubicBezTo>
                <a:cubicBezTo>
                  <a:pt x="6628" y="5118"/>
                  <a:pt x="6510" y="5188"/>
                  <a:pt x="6572" y="5144"/>
                </a:cubicBezTo>
                <a:cubicBezTo>
                  <a:pt x="6601" y="5115"/>
                  <a:pt x="6612" y="5109"/>
                  <a:pt x="6604" y="5080"/>
                </a:cubicBezTo>
                <a:cubicBezTo>
                  <a:pt x="6653" y="5092"/>
                  <a:pt x="6692" y="5110"/>
                  <a:pt x="6731" y="5144"/>
                </a:cubicBezTo>
                <a:cubicBezTo>
                  <a:pt x="6785" y="5191"/>
                  <a:pt x="6763" y="5266"/>
                  <a:pt x="6763" y="5334"/>
                </a:cubicBezTo>
                <a:cubicBezTo>
                  <a:pt x="6763" y="5365"/>
                  <a:pt x="6730" y="5445"/>
                  <a:pt x="6699" y="5461"/>
                </a:cubicBezTo>
                <a:cubicBezTo>
                  <a:pt x="6663" y="5479"/>
                  <a:pt x="6575" y="5482"/>
                  <a:pt x="6540" y="5493"/>
                </a:cubicBezTo>
                <a:cubicBezTo>
                  <a:pt x="6494" y="5507"/>
                  <a:pt x="6478" y="5485"/>
                  <a:pt x="6445" y="5461"/>
                </a:cubicBezTo>
              </a:path>
              <a:path w="1207" h="763">
                <a:moveTo>
                  <a:pt x="6890" y="5080"/>
                </a:moveTo>
                <a:cubicBezTo>
                  <a:pt x="6901" y="5080"/>
                  <a:pt x="6911" y="5080"/>
                  <a:pt x="6922" y="5080"/>
                </a:cubicBezTo>
                <a:cubicBezTo>
                  <a:pt x="6935" y="5133"/>
                  <a:pt x="6958" y="5160"/>
                  <a:pt x="6985" y="5207"/>
                </a:cubicBezTo>
                <a:cubicBezTo>
                  <a:pt x="7024" y="5275"/>
                  <a:pt x="7030" y="5393"/>
                  <a:pt x="7112" y="5429"/>
                </a:cubicBezTo>
                <a:cubicBezTo>
                  <a:pt x="7143" y="5443"/>
                  <a:pt x="7173" y="5452"/>
                  <a:pt x="7207" y="5461"/>
                </a:cubicBezTo>
              </a:path>
              <a:path w="1207" h="763">
                <a:moveTo>
                  <a:pt x="7112" y="5112"/>
                </a:moveTo>
                <a:cubicBezTo>
                  <a:pt x="7061" y="5193"/>
                  <a:pt x="7012" y="5291"/>
                  <a:pt x="6953" y="5366"/>
                </a:cubicBezTo>
                <a:cubicBezTo>
                  <a:pt x="6911" y="5420"/>
                  <a:pt x="6834" y="5455"/>
                  <a:pt x="6826" y="5524"/>
                </a:cubicBezTo>
                <a:cubicBezTo>
                  <a:pt x="6826" y="5556"/>
                  <a:pt x="6826" y="5567"/>
                  <a:pt x="6794" y="55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Ink 5"/>
          <p:cNvSpPr/>
          <p:nvPr/>
        </p:nvSpPr>
        <p:spPr>
          <a:xfrm>
            <a:off x="3897360" y="1714680"/>
            <a:ext cx="584280" cy="252360"/>
          </a:xfrm>
          <a:custGeom>
            <a:avLst/>
            <a:gdLst/>
            <a:ahLst/>
            <a:rect l="l" t="t" r="r" b="b"/>
            <a:pathLst>
              <a:path w="1620" h="700">
                <a:moveTo>
                  <a:pt x="10827" y="5144"/>
                </a:moveTo>
                <a:cubicBezTo>
                  <a:pt x="10907" y="5144"/>
                  <a:pt x="10942" y="5116"/>
                  <a:pt x="11017" y="5112"/>
                </a:cubicBezTo>
                <a:cubicBezTo>
                  <a:pt x="11109" y="5107"/>
                  <a:pt x="11182" y="5091"/>
                  <a:pt x="11271" y="5080"/>
                </a:cubicBezTo>
              </a:path>
              <a:path w="1620" h="700">
                <a:moveTo>
                  <a:pt x="11525" y="4890"/>
                </a:moveTo>
                <a:cubicBezTo>
                  <a:pt x="11535" y="4861"/>
                  <a:pt x="11579" y="4821"/>
                  <a:pt x="11620" y="4794"/>
                </a:cubicBezTo>
                <a:cubicBezTo>
                  <a:pt x="11660" y="4768"/>
                  <a:pt x="11783" y="4722"/>
                  <a:pt x="11811" y="4794"/>
                </a:cubicBezTo>
                <a:cubicBezTo>
                  <a:pt x="11838" y="4864"/>
                  <a:pt x="11791" y="4938"/>
                  <a:pt x="11748" y="4985"/>
                </a:cubicBezTo>
                <a:cubicBezTo>
                  <a:pt x="11707" y="5030"/>
                  <a:pt x="11661" y="5052"/>
                  <a:pt x="11620" y="5080"/>
                </a:cubicBezTo>
                <a:cubicBezTo>
                  <a:pt x="11592" y="5109"/>
                  <a:pt x="11582" y="5124"/>
                  <a:pt x="11589" y="5080"/>
                </a:cubicBezTo>
                <a:cubicBezTo>
                  <a:pt x="11628" y="5072"/>
                  <a:pt x="11705" y="5023"/>
                  <a:pt x="11748" y="5048"/>
                </a:cubicBezTo>
                <a:cubicBezTo>
                  <a:pt x="11804" y="5080"/>
                  <a:pt x="11836" y="5102"/>
                  <a:pt x="11843" y="5175"/>
                </a:cubicBezTo>
                <a:cubicBezTo>
                  <a:pt x="11848" y="5220"/>
                  <a:pt x="11814" y="5339"/>
                  <a:pt x="11779" y="5366"/>
                </a:cubicBezTo>
                <a:cubicBezTo>
                  <a:pt x="11741" y="5396"/>
                  <a:pt x="11666" y="5456"/>
                  <a:pt x="11620" y="5461"/>
                </a:cubicBezTo>
                <a:cubicBezTo>
                  <a:pt x="11554" y="5468"/>
                  <a:pt x="11550" y="5442"/>
                  <a:pt x="11525" y="5429"/>
                </a:cubicBezTo>
                <a:cubicBezTo>
                  <a:pt x="11490" y="5429"/>
                  <a:pt x="11482" y="5426"/>
                  <a:pt x="11525" y="5398"/>
                </a:cubicBezTo>
              </a:path>
              <a:path w="1620" h="700">
                <a:moveTo>
                  <a:pt x="12033" y="4858"/>
                </a:moveTo>
                <a:cubicBezTo>
                  <a:pt x="12033" y="4869"/>
                  <a:pt x="12033" y="4879"/>
                  <a:pt x="12033" y="4890"/>
                </a:cubicBezTo>
                <a:cubicBezTo>
                  <a:pt x="12084" y="4915"/>
                  <a:pt x="12125" y="4989"/>
                  <a:pt x="12160" y="5048"/>
                </a:cubicBezTo>
                <a:cubicBezTo>
                  <a:pt x="12209" y="5130"/>
                  <a:pt x="12267" y="5193"/>
                  <a:pt x="12319" y="5270"/>
                </a:cubicBezTo>
                <a:cubicBezTo>
                  <a:pt x="12368" y="5343"/>
                  <a:pt x="12358" y="5366"/>
                  <a:pt x="12446" y="5366"/>
                </a:cubicBezTo>
              </a:path>
              <a:path w="1620" h="700">
                <a:moveTo>
                  <a:pt x="12414" y="4890"/>
                </a:moveTo>
                <a:cubicBezTo>
                  <a:pt x="12353" y="4950"/>
                  <a:pt x="12315" y="5017"/>
                  <a:pt x="12256" y="5080"/>
                </a:cubicBezTo>
                <a:cubicBezTo>
                  <a:pt x="12171" y="5170"/>
                  <a:pt x="12106" y="5270"/>
                  <a:pt x="12033" y="5366"/>
                </a:cubicBezTo>
                <a:cubicBezTo>
                  <a:pt x="11992" y="5409"/>
                  <a:pt x="11970" y="5430"/>
                  <a:pt x="11938" y="54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Ink 6"/>
          <p:cNvSpPr/>
          <p:nvPr/>
        </p:nvSpPr>
        <p:spPr>
          <a:xfrm>
            <a:off x="2239920" y="1978200"/>
            <a:ext cx="3257640" cy="718920"/>
          </a:xfrm>
          <a:custGeom>
            <a:avLst/>
            <a:gdLst/>
            <a:ahLst/>
            <a:rect l="l" t="t" r="r" b="b"/>
            <a:pathLst>
              <a:path w="9050" h="2001">
                <a:moveTo>
                  <a:pt x="7747" y="6160"/>
                </a:moveTo>
                <a:cubicBezTo>
                  <a:pt x="7811" y="6160"/>
                  <a:pt x="7874" y="6160"/>
                  <a:pt x="7938" y="6160"/>
                </a:cubicBezTo>
              </a:path>
              <a:path w="9050" h="2001">
                <a:moveTo>
                  <a:pt x="8287" y="5588"/>
                </a:moveTo>
                <a:cubicBezTo>
                  <a:pt x="8356" y="5635"/>
                  <a:pt x="8300" y="5698"/>
                  <a:pt x="8287" y="5778"/>
                </a:cubicBezTo>
                <a:cubicBezTo>
                  <a:pt x="8274" y="5855"/>
                  <a:pt x="8277" y="5904"/>
                  <a:pt x="8255" y="5969"/>
                </a:cubicBezTo>
                <a:cubicBezTo>
                  <a:pt x="8255" y="6011"/>
                  <a:pt x="8255" y="6032"/>
                  <a:pt x="8255" y="6064"/>
                </a:cubicBezTo>
              </a:path>
              <a:path w="9050" h="2001">
                <a:moveTo>
                  <a:pt x="8096" y="6223"/>
                </a:moveTo>
                <a:cubicBezTo>
                  <a:pt x="8085" y="6223"/>
                  <a:pt x="8075" y="6223"/>
                  <a:pt x="8064" y="6223"/>
                </a:cubicBezTo>
                <a:cubicBezTo>
                  <a:pt x="8159" y="6223"/>
                  <a:pt x="8239" y="6207"/>
                  <a:pt x="8318" y="6191"/>
                </a:cubicBezTo>
                <a:cubicBezTo>
                  <a:pt x="8398" y="6175"/>
                  <a:pt x="8418" y="6203"/>
                  <a:pt x="8477" y="6223"/>
                </a:cubicBezTo>
                <a:cubicBezTo>
                  <a:pt x="8488" y="6223"/>
                  <a:pt x="8498" y="6223"/>
                  <a:pt x="8509" y="6223"/>
                </a:cubicBezTo>
              </a:path>
              <a:path w="9050" h="2001">
                <a:moveTo>
                  <a:pt x="8128" y="6445"/>
                </a:moveTo>
                <a:cubicBezTo>
                  <a:pt x="8128" y="6544"/>
                  <a:pt x="8124" y="6617"/>
                  <a:pt x="8096" y="6699"/>
                </a:cubicBezTo>
                <a:cubicBezTo>
                  <a:pt x="8096" y="6731"/>
                  <a:pt x="8096" y="6742"/>
                  <a:pt x="8064" y="6731"/>
                </a:cubicBezTo>
                <a:cubicBezTo>
                  <a:pt x="8096" y="6731"/>
                  <a:pt x="8107" y="6731"/>
                  <a:pt x="8128" y="6731"/>
                </a:cubicBezTo>
                <a:cubicBezTo>
                  <a:pt x="8144" y="6683"/>
                  <a:pt x="8166" y="6699"/>
                  <a:pt x="8223" y="6699"/>
                </a:cubicBezTo>
                <a:cubicBezTo>
                  <a:pt x="8304" y="6699"/>
                  <a:pt x="8382" y="6714"/>
                  <a:pt x="8446" y="6668"/>
                </a:cubicBezTo>
              </a:path>
              <a:path w="9050" h="2001">
                <a:moveTo>
                  <a:pt x="8382" y="6350"/>
                </a:moveTo>
                <a:cubicBezTo>
                  <a:pt x="8382" y="6483"/>
                  <a:pt x="8366" y="6607"/>
                  <a:pt x="8350" y="6731"/>
                </a:cubicBezTo>
                <a:cubicBezTo>
                  <a:pt x="8337" y="6833"/>
                  <a:pt x="8350" y="6945"/>
                  <a:pt x="8350" y="7048"/>
                </a:cubicBezTo>
              </a:path>
              <a:path w="9050" h="2001">
                <a:moveTo>
                  <a:pt x="8763" y="6223"/>
                </a:moveTo>
                <a:cubicBezTo>
                  <a:pt x="8763" y="6139"/>
                  <a:pt x="8770" y="6350"/>
                  <a:pt x="8763" y="6382"/>
                </a:cubicBezTo>
                <a:cubicBezTo>
                  <a:pt x="8741" y="6487"/>
                  <a:pt x="8704" y="6619"/>
                  <a:pt x="8731" y="6731"/>
                </a:cubicBezTo>
                <a:cubicBezTo>
                  <a:pt x="8744" y="6784"/>
                  <a:pt x="8764" y="6849"/>
                  <a:pt x="8795" y="6890"/>
                </a:cubicBezTo>
                <a:cubicBezTo>
                  <a:pt x="8852" y="6876"/>
                  <a:pt x="8896" y="6819"/>
                  <a:pt x="8922" y="6763"/>
                </a:cubicBezTo>
                <a:cubicBezTo>
                  <a:pt x="8973" y="6652"/>
                  <a:pt x="8954" y="6527"/>
                  <a:pt x="8985" y="6414"/>
                </a:cubicBezTo>
                <a:cubicBezTo>
                  <a:pt x="9016" y="6352"/>
                  <a:pt x="9027" y="6333"/>
                  <a:pt x="9017" y="6286"/>
                </a:cubicBezTo>
                <a:cubicBezTo>
                  <a:pt x="9017" y="6213"/>
                  <a:pt x="8986" y="6414"/>
                  <a:pt x="8985" y="6445"/>
                </a:cubicBezTo>
                <a:cubicBezTo>
                  <a:pt x="8978" y="6599"/>
                  <a:pt x="8974" y="6740"/>
                  <a:pt x="8954" y="6890"/>
                </a:cubicBezTo>
                <a:cubicBezTo>
                  <a:pt x="8942" y="6980"/>
                  <a:pt x="8928" y="7163"/>
                  <a:pt x="8890" y="7239"/>
                </a:cubicBezTo>
                <a:cubicBezTo>
                  <a:pt x="8863" y="7293"/>
                  <a:pt x="8757" y="7428"/>
                  <a:pt x="8700" y="7461"/>
                </a:cubicBezTo>
                <a:cubicBezTo>
                  <a:pt x="8666" y="7481"/>
                  <a:pt x="8555" y="7512"/>
                  <a:pt x="8509" y="7493"/>
                </a:cubicBezTo>
                <a:cubicBezTo>
                  <a:pt x="8452" y="7469"/>
                  <a:pt x="8435" y="7383"/>
                  <a:pt x="8414" y="7334"/>
                </a:cubicBezTo>
              </a:path>
              <a:path w="9050" h="2001">
                <a:moveTo>
                  <a:pt x="9398" y="6382"/>
                </a:moveTo>
                <a:cubicBezTo>
                  <a:pt x="9469" y="6382"/>
                  <a:pt x="9488" y="6367"/>
                  <a:pt x="9557" y="6350"/>
                </a:cubicBezTo>
                <a:cubicBezTo>
                  <a:pt x="9599" y="6350"/>
                  <a:pt x="9620" y="6350"/>
                  <a:pt x="9652" y="6350"/>
                </a:cubicBezTo>
              </a:path>
              <a:path w="9050" h="2001">
                <a:moveTo>
                  <a:pt x="9366" y="6731"/>
                </a:moveTo>
                <a:cubicBezTo>
                  <a:pt x="9449" y="6731"/>
                  <a:pt x="9481" y="6718"/>
                  <a:pt x="9557" y="6699"/>
                </a:cubicBezTo>
                <a:cubicBezTo>
                  <a:pt x="9567" y="6699"/>
                  <a:pt x="9578" y="6699"/>
                  <a:pt x="9588" y="6699"/>
                </a:cubicBezTo>
              </a:path>
              <a:path w="9050" h="2001">
                <a:moveTo>
                  <a:pt x="9970" y="6255"/>
                </a:moveTo>
                <a:cubicBezTo>
                  <a:pt x="10044" y="6255"/>
                  <a:pt x="10118" y="6255"/>
                  <a:pt x="10192" y="6255"/>
                </a:cubicBezTo>
              </a:path>
              <a:path w="9050" h="2001">
                <a:moveTo>
                  <a:pt x="10478" y="6128"/>
                </a:moveTo>
                <a:cubicBezTo>
                  <a:pt x="10490" y="6077"/>
                  <a:pt x="10549" y="6015"/>
                  <a:pt x="10604" y="6001"/>
                </a:cubicBezTo>
                <a:cubicBezTo>
                  <a:pt x="10663" y="5986"/>
                  <a:pt x="10752" y="5994"/>
                  <a:pt x="10795" y="6032"/>
                </a:cubicBezTo>
                <a:cubicBezTo>
                  <a:pt x="10841" y="6073"/>
                  <a:pt x="10796" y="6173"/>
                  <a:pt x="10763" y="6223"/>
                </a:cubicBezTo>
                <a:cubicBezTo>
                  <a:pt x="10723" y="6284"/>
                  <a:pt x="10658" y="6309"/>
                  <a:pt x="10604" y="6350"/>
                </a:cubicBezTo>
                <a:cubicBezTo>
                  <a:pt x="10576" y="6379"/>
                  <a:pt x="10570" y="6390"/>
                  <a:pt x="10541" y="6382"/>
                </a:cubicBezTo>
                <a:cubicBezTo>
                  <a:pt x="10598" y="6368"/>
                  <a:pt x="10631" y="6350"/>
                  <a:pt x="10700" y="6350"/>
                </a:cubicBezTo>
                <a:cubicBezTo>
                  <a:pt x="10783" y="6350"/>
                  <a:pt x="10802" y="6389"/>
                  <a:pt x="10858" y="6445"/>
                </a:cubicBezTo>
                <a:cubicBezTo>
                  <a:pt x="10919" y="6506"/>
                  <a:pt x="10891" y="6574"/>
                  <a:pt x="10858" y="6636"/>
                </a:cubicBezTo>
                <a:cubicBezTo>
                  <a:pt x="10815" y="6718"/>
                  <a:pt x="10782" y="6751"/>
                  <a:pt x="10700" y="6794"/>
                </a:cubicBezTo>
                <a:cubicBezTo>
                  <a:pt x="10648" y="6822"/>
                  <a:pt x="10570" y="6847"/>
                  <a:pt x="10509" y="6826"/>
                </a:cubicBezTo>
                <a:cubicBezTo>
                  <a:pt x="10406" y="6791"/>
                  <a:pt x="10423" y="6781"/>
                  <a:pt x="10446" y="6699"/>
                </a:cubicBezTo>
              </a:path>
              <a:path w="9050" h="2001">
                <a:moveTo>
                  <a:pt x="11112" y="6318"/>
                </a:moveTo>
                <a:cubicBezTo>
                  <a:pt x="11126" y="6375"/>
                  <a:pt x="11164" y="6401"/>
                  <a:pt x="11208" y="6445"/>
                </a:cubicBezTo>
                <a:cubicBezTo>
                  <a:pt x="11282" y="6518"/>
                  <a:pt x="11281" y="6618"/>
                  <a:pt x="11335" y="6699"/>
                </a:cubicBezTo>
                <a:cubicBezTo>
                  <a:pt x="11361" y="6739"/>
                  <a:pt x="11460" y="6850"/>
                  <a:pt x="11494" y="6858"/>
                </a:cubicBezTo>
                <a:cubicBezTo>
                  <a:pt x="11504" y="6858"/>
                  <a:pt x="11515" y="6858"/>
                  <a:pt x="11525" y="6858"/>
                </a:cubicBezTo>
              </a:path>
              <a:path w="9050" h="2001">
                <a:moveTo>
                  <a:pt x="11398" y="6350"/>
                </a:moveTo>
                <a:cubicBezTo>
                  <a:pt x="11339" y="6424"/>
                  <a:pt x="11306" y="6502"/>
                  <a:pt x="11240" y="6572"/>
                </a:cubicBezTo>
                <a:cubicBezTo>
                  <a:pt x="11157" y="6660"/>
                  <a:pt x="11057" y="6760"/>
                  <a:pt x="10986" y="6858"/>
                </a:cubicBezTo>
                <a:cubicBezTo>
                  <a:pt x="10940" y="6922"/>
                  <a:pt x="10931" y="6956"/>
                  <a:pt x="10858" y="6985"/>
                </a:cubicBezTo>
              </a:path>
              <a:path w="9050" h="2001">
                <a:moveTo>
                  <a:pt x="11970" y="6255"/>
                </a:moveTo>
                <a:cubicBezTo>
                  <a:pt x="11984" y="6309"/>
                  <a:pt x="12022" y="6345"/>
                  <a:pt x="12002" y="6414"/>
                </a:cubicBezTo>
                <a:cubicBezTo>
                  <a:pt x="11975" y="6505"/>
                  <a:pt x="11970" y="6569"/>
                  <a:pt x="11970" y="6668"/>
                </a:cubicBezTo>
                <a:cubicBezTo>
                  <a:pt x="11970" y="6735"/>
                  <a:pt x="11952" y="6739"/>
                  <a:pt x="11938" y="6794"/>
                </a:cubicBezTo>
              </a:path>
              <a:path w="9050" h="2001">
                <a:moveTo>
                  <a:pt x="11684" y="6509"/>
                </a:moveTo>
                <a:cubicBezTo>
                  <a:pt x="11755" y="6509"/>
                  <a:pt x="11803" y="6481"/>
                  <a:pt x="11874" y="6477"/>
                </a:cubicBezTo>
                <a:cubicBezTo>
                  <a:pt x="11935" y="6474"/>
                  <a:pt x="11976" y="6457"/>
                  <a:pt x="12033" y="6445"/>
                </a:cubicBezTo>
              </a:path>
              <a:path w="9050" h="2001">
                <a:moveTo>
                  <a:pt x="12351" y="6128"/>
                </a:moveTo>
                <a:cubicBezTo>
                  <a:pt x="12360" y="6092"/>
                  <a:pt x="12400" y="6014"/>
                  <a:pt x="12446" y="6001"/>
                </a:cubicBezTo>
                <a:cubicBezTo>
                  <a:pt x="12493" y="5988"/>
                  <a:pt x="12643" y="5982"/>
                  <a:pt x="12668" y="6032"/>
                </a:cubicBezTo>
                <a:cubicBezTo>
                  <a:pt x="12702" y="6100"/>
                  <a:pt x="12692" y="6184"/>
                  <a:pt x="12668" y="6255"/>
                </a:cubicBezTo>
                <a:cubicBezTo>
                  <a:pt x="12638" y="6344"/>
                  <a:pt x="12568" y="6440"/>
                  <a:pt x="12510" y="6509"/>
                </a:cubicBezTo>
                <a:cubicBezTo>
                  <a:pt x="12456" y="6574"/>
                  <a:pt x="12411" y="6639"/>
                  <a:pt x="12351" y="6699"/>
                </a:cubicBezTo>
                <a:cubicBezTo>
                  <a:pt x="12322" y="6728"/>
                  <a:pt x="12311" y="6734"/>
                  <a:pt x="12319" y="6763"/>
                </a:cubicBezTo>
                <a:cubicBezTo>
                  <a:pt x="12369" y="6750"/>
                  <a:pt x="12389" y="6731"/>
                  <a:pt x="12446" y="6731"/>
                </a:cubicBezTo>
                <a:cubicBezTo>
                  <a:pt x="12512" y="6731"/>
                  <a:pt x="12551" y="6747"/>
                  <a:pt x="12605" y="6763"/>
                </a:cubicBezTo>
                <a:cubicBezTo>
                  <a:pt x="12673" y="6784"/>
                  <a:pt x="12744" y="6746"/>
                  <a:pt x="12795" y="6731"/>
                </a:cubicBezTo>
                <a:cubicBezTo>
                  <a:pt x="12806" y="6731"/>
                  <a:pt x="12816" y="6731"/>
                  <a:pt x="12827" y="6731"/>
                </a:cubicBezTo>
              </a:path>
              <a:path w="9050" h="2001">
                <a:moveTo>
                  <a:pt x="13049" y="6001"/>
                </a:moveTo>
                <a:cubicBezTo>
                  <a:pt x="13049" y="6108"/>
                  <a:pt x="13040" y="6187"/>
                  <a:pt x="13018" y="6286"/>
                </a:cubicBezTo>
                <a:cubicBezTo>
                  <a:pt x="13000" y="6366"/>
                  <a:pt x="13010" y="6438"/>
                  <a:pt x="12986" y="6509"/>
                </a:cubicBezTo>
                <a:cubicBezTo>
                  <a:pt x="12986" y="6519"/>
                  <a:pt x="12986" y="6530"/>
                  <a:pt x="12986" y="6540"/>
                </a:cubicBezTo>
                <a:cubicBezTo>
                  <a:pt x="13045" y="6521"/>
                  <a:pt x="13018" y="6485"/>
                  <a:pt x="13113" y="6477"/>
                </a:cubicBezTo>
                <a:cubicBezTo>
                  <a:pt x="13194" y="6470"/>
                  <a:pt x="13228" y="6505"/>
                  <a:pt x="13303" y="6509"/>
                </a:cubicBezTo>
                <a:cubicBezTo>
                  <a:pt x="13373" y="6513"/>
                  <a:pt x="13507" y="6534"/>
                  <a:pt x="13526" y="6477"/>
                </a:cubicBezTo>
              </a:path>
              <a:path w="9050" h="2001">
                <a:moveTo>
                  <a:pt x="13494" y="5842"/>
                </a:moveTo>
                <a:cubicBezTo>
                  <a:pt x="13481" y="5949"/>
                  <a:pt x="13442" y="6051"/>
                  <a:pt x="13430" y="6160"/>
                </a:cubicBezTo>
                <a:cubicBezTo>
                  <a:pt x="13415" y="6297"/>
                  <a:pt x="13403" y="6435"/>
                  <a:pt x="13398" y="6572"/>
                </a:cubicBezTo>
                <a:cubicBezTo>
                  <a:pt x="13394" y="6699"/>
                  <a:pt x="13398" y="6826"/>
                  <a:pt x="13398" y="6953"/>
                </a:cubicBezTo>
              </a:path>
              <a:path w="9050" h="2001">
                <a:moveTo>
                  <a:pt x="7239" y="6477"/>
                </a:moveTo>
                <a:cubicBezTo>
                  <a:pt x="7239" y="6541"/>
                  <a:pt x="7239" y="6604"/>
                  <a:pt x="7239" y="6668"/>
                </a:cubicBezTo>
                <a:cubicBezTo>
                  <a:pt x="7294" y="6668"/>
                  <a:pt x="7315" y="6661"/>
                  <a:pt x="7334" y="6604"/>
                </a:cubicBezTo>
                <a:cubicBezTo>
                  <a:pt x="7342" y="6580"/>
                  <a:pt x="7334" y="6535"/>
                  <a:pt x="7334" y="6509"/>
                </a:cubicBezTo>
                <a:cubicBezTo>
                  <a:pt x="7258" y="6509"/>
                  <a:pt x="7273" y="6521"/>
                  <a:pt x="7239" y="6572"/>
                </a:cubicBezTo>
                <a:cubicBezTo>
                  <a:pt x="7210" y="6601"/>
                  <a:pt x="7199" y="6607"/>
                  <a:pt x="7207" y="6636"/>
                </a:cubicBezTo>
                <a:cubicBezTo>
                  <a:pt x="7250" y="6650"/>
                  <a:pt x="7246" y="6673"/>
                  <a:pt x="7302" y="6636"/>
                </a:cubicBezTo>
                <a:cubicBezTo>
                  <a:pt x="7341" y="6610"/>
                  <a:pt x="7351" y="6616"/>
                  <a:pt x="7334" y="6572"/>
                </a:cubicBezTo>
                <a:cubicBezTo>
                  <a:pt x="7318" y="6532"/>
                  <a:pt x="7358" y="6553"/>
                  <a:pt x="7302" y="6572"/>
                </a:cubicBezTo>
              </a:path>
              <a:path w="9050" h="2001">
                <a:moveTo>
                  <a:pt x="6223" y="6382"/>
                </a:moveTo>
                <a:cubicBezTo>
                  <a:pt x="6223" y="6393"/>
                  <a:pt x="6223" y="6403"/>
                  <a:pt x="6223" y="6414"/>
                </a:cubicBezTo>
                <a:cubicBezTo>
                  <a:pt x="6337" y="6414"/>
                  <a:pt x="6443" y="6426"/>
                  <a:pt x="6540" y="6445"/>
                </a:cubicBezTo>
                <a:cubicBezTo>
                  <a:pt x="6587" y="6454"/>
                  <a:pt x="6650" y="6445"/>
                  <a:pt x="6699" y="6445"/>
                </a:cubicBezTo>
              </a:path>
              <a:path w="9050" h="2001">
                <a:moveTo>
                  <a:pt x="6794" y="6128"/>
                </a:moveTo>
                <a:cubicBezTo>
                  <a:pt x="6871" y="6154"/>
                  <a:pt x="6804" y="6248"/>
                  <a:pt x="6794" y="6318"/>
                </a:cubicBezTo>
                <a:cubicBezTo>
                  <a:pt x="6783" y="6394"/>
                  <a:pt x="6796" y="6474"/>
                  <a:pt x="6763" y="6540"/>
                </a:cubicBezTo>
                <a:cubicBezTo>
                  <a:pt x="6739" y="6589"/>
                  <a:pt x="6716" y="6649"/>
                  <a:pt x="6699" y="6699"/>
                </a:cubicBezTo>
                <a:cubicBezTo>
                  <a:pt x="6699" y="6710"/>
                  <a:pt x="6699" y="6720"/>
                  <a:pt x="6699" y="6731"/>
                </a:cubicBezTo>
                <a:cubicBezTo>
                  <a:pt x="6740" y="6700"/>
                  <a:pt x="6757" y="6673"/>
                  <a:pt x="6794" y="6668"/>
                </a:cubicBezTo>
                <a:cubicBezTo>
                  <a:pt x="6882" y="6657"/>
                  <a:pt x="6946" y="6676"/>
                  <a:pt x="7017" y="6699"/>
                </a:cubicBezTo>
                <a:cubicBezTo>
                  <a:pt x="7061" y="6714"/>
                  <a:pt x="7107" y="6707"/>
                  <a:pt x="7112" y="6668"/>
                </a:cubicBezTo>
                <a:cubicBezTo>
                  <a:pt x="7112" y="6657"/>
                  <a:pt x="7112" y="6647"/>
                  <a:pt x="7112" y="6636"/>
                </a:cubicBezTo>
              </a:path>
              <a:path w="9050" h="2001">
                <a:moveTo>
                  <a:pt x="7048" y="5969"/>
                </a:moveTo>
                <a:cubicBezTo>
                  <a:pt x="7032" y="6083"/>
                  <a:pt x="7035" y="6205"/>
                  <a:pt x="7017" y="6318"/>
                </a:cubicBezTo>
                <a:cubicBezTo>
                  <a:pt x="6991" y="6481"/>
                  <a:pt x="6985" y="6628"/>
                  <a:pt x="6985" y="6794"/>
                </a:cubicBezTo>
                <a:cubicBezTo>
                  <a:pt x="6985" y="6945"/>
                  <a:pt x="6955" y="7093"/>
                  <a:pt x="6922" y="7239"/>
                </a:cubicBezTo>
              </a:path>
              <a:path w="9050" h="2001">
                <a:moveTo>
                  <a:pt x="14256" y="6382"/>
                </a:moveTo>
                <a:cubicBezTo>
                  <a:pt x="14256" y="6418"/>
                  <a:pt x="14259" y="6432"/>
                  <a:pt x="14288" y="6445"/>
                </a:cubicBezTo>
                <a:cubicBezTo>
                  <a:pt x="14336" y="6397"/>
                  <a:pt x="14351" y="6386"/>
                  <a:pt x="14351" y="6318"/>
                </a:cubicBezTo>
                <a:cubicBezTo>
                  <a:pt x="14351" y="6307"/>
                  <a:pt x="14351" y="6297"/>
                  <a:pt x="14351" y="6286"/>
                </a:cubicBezTo>
                <a:cubicBezTo>
                  <a:pt x="14288" y="6302"/>
                  <a:pt x="14288" y="6317"/>
                  <a:pt x="14288" y="6382"/>
                </a:cubicBezTo>
                <a:cubicBezTo>
                  <a:pt x="14288" y="6440"/>
                  <a:pt x="14234" y="6477"/>
                  <a:pt x="14319" y="6414"/>
                </a:cubicBezTo>
              </a:path>
              <a:path w="9050" h="2001">
                <a:moveTo>
                  <a:pt x="14859" y="5842"/>
                </a:moveTo>
                <a:cubicBezTo>
                  <a:pt x="14859" y="5918"/>
                  <a:pt x="14846" y="5969"/>
                  <a:pt x="14827" y="6032"/>
                </a:cubicBezTo>
                <a:cubicBezTo>
                  <a:pt x="14810" y="6090"/>
                  <a:pt x="14743" y="6217"/>
                  <a:pt x="14796" y="6255"/>
                </a:cubicBezTo>
                <a:cubicBezTo>
                  <a:pt x="14840" y="6287"/>
                  <a:pt x="15055" y="6272"/>
                  <a:pt x="15113" y="6286"/>
                </a:cubicBezTo>
                <a:cubicBezTo>
                  <a:pt x="15163" y="6298"/>
                  <a:pt x="15204" y="6286"/>
                  <a:pt x="15240" y="6255"/>
                </a:cubicBezTo>
                <a:cubicBezTo>
                  <a:pt x="15251" y="6244"/>
                  <a:pt x="15261" y="6234"/>
                  <a:pt x="15272" y="6223"/>
                </a:cubicBezTo>
              </a:path>
              <a:path w="9050" h="2001">
                <a:moveTo>
                  <a:pt x="15240" y="5842"/>
                </a:moveTo>
                <a:cubicBezTo>
                  <a:pt x="15227" y="5907"/>
                  <a:pt x="15187" y="5968"/>
                  <a:pt x="15176" y="6032"/>
                </a:cubicBezTo>
                <a:cubicBezTo>
                  <a:pt x="15157" y="6139"/>
                  <a:pt x="15145" y="6242"/>
                  <a:pt x="15113" y="6350"/>
                </a:cubicBezTo>
                <a:cubicBezTo>
                  <a:pt x="15087" y="6436"/>
                  <a:pt x="15080" y="6559"/>
                  <a:pt x="15050" y="6636"/>
                </a:cubicBezTo>
                <a:cubicBezTo>
                  <a:pt x="15039" y="6647"/>
                  <a:pt x="15029" y="6657"/>
                  <a:pt x="15018" y="6668"/>
                </a:cubicBezTo>
              </a:path>
              <a:path w="9050" h="2001">
                <a:moveTo>
                  <a:pt x="13652" y="5556"/>
                </a:moveTo>
                <a:cubicBezTo>
                  <a:pt x="13664" y="5615"/>
                  <a:pt x="13695" y="5666"/>
                  <a:pt x="13716" y="5715"/>
                </a:cubicBezTo>
                <a:cubicBezTo>
                  <a:pt x="13763" y="5822"/>
                  <a:pt x="13785" y="5891"/>
                  <a:pt x="13811" y="6001"/>
                </a:cubicBezTo>
                <a:cubicBezTo>
                  <a:pt x="13838" y="6116"/>
                  <a:pt x="13893" y="6263"/>
                  <a:pt x="13875" y="6382"/>
                </a:cubicBezTo>
                <a:cubicBezTo>
                  <a:pt x="13859" y="6489"/>
                  <a:pt x="13867" y="6627"/>
                  <a:pt x="13843" y="6731"/>
                </a:cubicBezTo>
                <a:cubicBezTo>
                  <a:pt x="13822" y="6820"/>
                  <a:pt x="13785" y="6934"/>
                  <a:pt x="13748" y="7017"/>
                </a:cubicBezTo>
                <a:cubicBezTo>
                  <a:pt x="13711" y="7100"/>
                  <a:pt x="13635" y="7135"/>
                  <a:pt x="13589" y="7207"/>
                </a:cubicBezTo>
                <a:cubicBezTo>
                  <a:pt x="13551" y="7266"/>
                  <a:pt x="13544" y="7290"/>
                  <a:pt x="13494" y="7302"/>
                </a:cubicBezTo>
              </a:path>
              <a:path w="9050" h="2001">
                <a:moveTo>
                  <a:pt x="14478" y="5874"/>
                </a:moveTo>
                <a:cubicBezTo>
                  <a:pt x="14478" y="5885"/>
                  <a:pt x="14478" y="5895"/>
                  <a:pt x="14478" y="5906"/>
                </a:cubicBezTo>
                <a:cubicBezTo>
                  <a:pt x="14563" y="5906"/>
                  <a:pt x="14647" y="5906"/>
                  <a:pt x="14732" y="5906"/>
                </a:cubicBezTo>
              </a:path>
              <a:path w="9050" h="2001">
                <a:moveTo>
                  <a:pt x="10224" y="5493"/>
                </a:moveTo>
                <a:cubicBezTo>
                  <a:pt x="10188" y="5539"/>
                  <a:pt x="10174" y="5574"/>
                  <a:pt x="10128" y="5620"/>
                </a:cubicBezTo>
                <a:cubicBezTo>
                  <a:pt x="10066" y="5682"/>
                  <a:pt x="9978" y="5766"/>
                  <a:pt x="9938" y="5842"/>
                </a:cubicBezTo>
                <a:cubicBezTo>
                  <a:pt x="9875" y="5963"/>
                  <a:pt x="9817" y="6090"/>
                  <a:pt x="9779" y="6223"/>
                </a:cubicBezTo>
                <a:cubicBezTo>
                  <a:pt x="9735" y="6378"/>
                  <a:pt x="9735" y="6521"/>
                  <a:pt x="9811" y="6668"/>
                </a:cubicBezTo>
                <a:cubicBezTo>
                  <a:pt x="9887" y="6815"/>
                  <a:pt x="9944" y="6907"/>
                  <a:pt x="10065" y="7017"/>
                </a:cubicBezTo>
                <a:cubicBezTo>
                  <a:pt x="10131" y="7083"/>
                  <a:pt x="10156" y="7105"/>
                  <a:pt x="10224" y="7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Ink 7"/>
          <p:cNvSpPr/>
          <p:nvPr/>
        </p:nvSpPr>
        <p:spPr>
          <a:xfrm>
            <a:off x="6126120" y="1943280"/>
            <a:ext cx="1817640" cy="777600"/>
          </a:xfrm>
          <a:custGeom>
            <a:avLst/>
            <a:gdLst/>
            <a:ahLst/>
            <a:rect l="l" t="t" r="r" b="b"/>
            <a:pathLst>
              <a:path w="5049" h="2159">
                <a:moveTo>
                  <a:pt x="17113" y="5652"/>
                </a:moveTo>
                <a:cubicBezTo>
                  <a:pt x="17113" y="5755"/>
                  <a:pt x="17140" y="5807"/>
                  <a:pt x="17145" y="5906"/>
                </a:cubicBezTo>
                <a:cubicBezTo>
                  <a:pt x="17152" y="6050"/>
                  <a:pt x="17158" y="6178"/>
                  <a:pt x="17177" y="6318"/>
                </a:cubicBezTo>
                <a:cubicBezTo>
                  <a:pt x="17188" y="6395"/>
                  <a:pt x="17173" y="6469"/>
                  <a:pt x="17208" y="6540"/>
                </a:cubicBezTo>
                <a:cubicBezTo>
                  <a:pt x="17240" y="6540"/>
                  <a:pt x="17251" y="6540"/>
                  <a:pt x="17240" y="6572"/>
                </a:cubicBezTo>
                <a:cubicBezTo>
                  <a:pt x="17260" y="6552"/>
                  <a:pt x="17308" y="6521"/>
                  <a:pt x="17336" y="6477"/>
                </a:cubicBezTo>
                <a:cubicBezTo>
                  <a:pt x="17395" y="6384"/>
                  <a:pt x="17398" y="6290"/>
                  <a:pt x="17431" y="6191"/>
                </a:cubicBezTo>
                <a:cubicBezTo>
                  <a:pt x="17467" y="6082"/>
                  <a:pt x="17488" y="5956"/>
                  <a:pt x="17494" y="5842"/>
                </a:cubicBezTo>
                <a:cubicBezTo>
                  <a:pt x="17494" y="5778"/>
                  <a:pt x="17494" y="5757"/>
                  <a:pt x="17494" y="5715"/>
                </a:cubicBezTo>
                <a:cubicBezTo>
                  <a:pt x="17494" y="5828"/>
                  <a:pt x="17515" y="5924"/>
                  <a:pt x="17526" y="6032"/>
                </a:cubicBezTo>
                <a:cubicBezTo>
                  <a:pt x="17542" y="6192"/>
                  <a:pt x="17577" y="6349"/>
                  <a:pt x="17590" y="6509"/>
                </a:cubicBezTo>
                <a:cubicBezTo>
                  <a:pt x="17610" y="6753"/>
                  <a:pt x="17627" y="7069"/>
                  <a:pt x="17558" y="7302"/>
                </a:cubicBezTo>
                <a:cubicBezTo>
                  <a:pt x="17524" y="7416"/>
                  <a:pt x="17502" y="7471"/>
                  <a:pt x="17399" y="7525"/>
                </a:cubicBezTo>
                <a:cubicBezTo>
                  <a:pt x="17330" y="7562"/>
                  <a:pt x="17235" y="7543"/>
                  <a:pt x="17177" y="7493"/>
                </a:cubicBezTo>
                <a:cubicBezTo>
                  <a:pt x="17113" y="7438"/>
                  <a:pt x="17037" y="7357"/>
                  <a:pt x="17018" y="7271"/>
                </a:cubicBezTo>
                <a:cubicBezTo>
                  <a:pt x="17004" y="7208"/>
                  <a:pt x="17018" y="7111"/>
                  <a:pt x="17018" y="7048"/>
                </a:cubicBezTo>
              </a:path>
              <a:path w="5049" h="2159">
                <a:moveTo>
                  <a:pt x="17716" y="6032"/>
                </a:moveTo>
                <a:cubicBezTo>
                  <a:pt x="17852" y="6032"/>
                  <a:pt x="17980" y="6040"/>
                  <a:pt x="18098" y="6064"/>
                </a:cubicBezTo>
                <a:cubicBezTo>
                  <a:pt x="18123" y="6069"/>
                  <a:pt x="18340" y="6064"/>
                  <a:pt x="18256" y="6064"/>
                </a:cubicBezTo>
              </a:path>
              <a:path w="5049" h="2159">
                <a:moveTo>
                  <a:pt x="17780" y="6382"/>
                </a:moveTo>
                <a:cubicBezTo>
                  <a:pt x="17769" y="6382"/>
                  <a:pt x="17759" y="6382"/>
                  <a:pt x="17748" y="6382"/>
                </a:cubicBezTo>
                <a:cubicBezTo>
                  <a:pt x="17804" y="6424"/>
                  <a:pt x="17833" y="6414"/>
                  <a:pt x="17907" y="6414"/>
                </a:cubicBezTo>
                <a:cubicBezTo>
                  <a:pt x="17980" y="6414"/>
                  <a:pt x="18251" y="6372"/>
                  <a:pt x="18288" y="6445"/>
                </a:cubicBezTo>
                <a:cubicBezTo>
                  <a:pt x="18288" y="6456"/>
                  <a:pt x="18288" y="6466"/>
                  <a:pt x="18288" y="6477"/>
                </a:cubicBezTo>
              </a:path>
              <a:path w="5049" h="2159">
                <a:moveTo>
                  <a:pt x="18732" y="5398"/>
                </a:moveTo>
                <a:cubicBezTo>
                  <a:pt x="18732" y="5540"/>
                  <a:pt x="18716" y="5672"/>
                  <a:pt x="18701" y="5810"/>
                </a:cubicBezTo>
                <a:cubicBezTo>
                  <a:pt x="18665" y="6145"/>
                  <a:pt x="18653" y="6599"/>
                  <a:pt x="18732" y="6922"/>
                </a:cubicBezTo>
                <a:cubicBezTo>
                  <a:pt x="18732" y="6932"/>
                  <a:pt x="18732" y="6943"/>
                  <a:pt x="18732" y="6953"/>
                </a:cubicBezTo>
              </a:path>
              <a:path w="5049" h="2159">
                <a:moveTo>
                  <a:pt x="18955" y="5747"/>
                </a:moveTo>
                <a:cubicBezTo>
                  <a:pt x="18968" y="5681"/>
                  <a:pt x="18978" y="5606"/>
                  <a:pt x="19018" y="5556"/>
                </a:cubicBezTo>
                <a:cubicBezTo>
                  <a:pt x="19055" y="5510"/>
                  <a:pt x="19095" y="5478"/>
                  <a:pt x="19145" y="5461"/>
                </a:cubicBezTo>
                <a:cubicBezTo>
                  <a:pt x="19207" y="5440"/>
                  <a:pt x="19253" y="5463"/>
                  <a:pt x="19272" y="5524"/>
                </a:cubicBezTo>
                <a:cubicBezTo>
                  <a:pt x="19305" y="5629"/>
                  <a:pt x="19258" y="5803"/>
                  <a:pt x="19240" y="5906"/>
                </a:cubicBezTo>
                <a:cubicBezTo>
                  <a:pt x="19212" y="6063"/>
                  <a:pt x="19159" y="6228"/>
                  <a:pt x="19114" y="6382"/>
                </a:cubicBezTo>
                <a:cubicBezTo>
                  <a:pt x="19082" y="6493"/>
                  <a:pt x="19019" y="6592"/>
                  <a:pt x="18986" y="6699"/>
                </a:cubicBezTo>
                <a:cubicBezTo>
                  <a:pt x="18965" y="6766"/>
                  <a:pt x="18965" y="6758"/>
                  <a:pt x="18986" y="6699"/>
                </a:cubicBezTo>
                <a:cubicBezTo>
                  <a:pt x="19015" y="6619"/>
                  <a:pt x="19053" y="6616"/>
                  <a:pt x="19082" y="6572"/>
                </a:cubicBezTo>
                <a:cubicBezTo>
                  <a:pt x="19101" y="6543"/>
                  <a:pt x="19130" y="6562"/>
                  <a:pt x="19177" y="6604"/>
                </a:cubicBezTo>
                <a:cubicBezTo>
                  <a:pt x="19220" y="6643"/>
                  <a:pt x="19272" y="6713"/>
                  <a:pt x="19304" y="6763"/>
                </a:cubicBezTo>
                <a:cubicBezTo>
                  <a:pt x="19344" y="6825"/>
                  <a:pt x="19365" y="6864"/>
                  <a:pt x="19431" y="6890"/>
                </a:cubicBezTo>
                <a:cubicBezTo>
                  <a:pt x="19482" y="6910"/>
                  <a:pt x="19525" y="6932"/>
                  <a:pt x="19558" y="6858"/>
                </a:cubicBezTo>
                <a:cubicBezTo>
                  <a:pt x="19558" y="6822"/>
                  <a:pt x="19561" y="6808"/>
                  <a:pt x="19590" y="6794"/>
                </a:cubicBezTo>
              </a:path>
              <a:path w="5049" h="2159">
                <a:moveTo>
                  <a:pt x="19558" y="5906"/>
                </a:moveTo>
                <a:cubicBezTo>
                  <a:pt x="19544" y="5906"/>
                  <a:pt x="19535" y="5924"/>
                  <a:pt x="19558" y="6001"/>
                </a:cubicBezTo>
                <a:cubicBezTo>
                  <a:pt x="19589" y="6105"/>
                  <a:pt x="19617" y="6211"/>
                  <a:pt x="19653" y="6318"/>
                </a:cubicBezTo>
                <a:cubicBezTo>
                  <a:pt x="19693" y="6439"/>
                  <a:pt x="19761" y="6550"/>
                  <a:pt x="19812" y="6668"/>
                </a:cubicBezTo>
                <a:cubicBezTo>
                  <a:pt x="19844" y="6742"/>
                  <a:pt x="19879" y="6819"/>
                  <a:pt x="19907" y="6890"/>
                </a:cubicBezTo>
                <a:cubicBezTo>
                  <a:pt x="19930" y="6948"/>
                  <a:pt x="19937" y="6972"/>
                  <a:pt x="19971" y="7017"/>
                </a:cubicBezTo>
              </a:path>
              <a:path w="5049" h="2159">
                <a:moveTo>
                  <a:pt x="19907" y="5906"/>
                </a:moveTo>
                <a:cubicBezTo>
                  <a:pt x="19887" y="5985"/>
                  <a:pt x="19841" y="6075"/>
                  <a:pt x="19812" y="6160"/>
                </a:cubicBezTo>
                <a:cubicBezTo>
                  <a:pt x="19758" y="6321"/>
                  <a:pt x="19700" y="6471"/>
                  <a:pt x="19653" y="6636"/>
                </a:cubicBezTo>
                <a:cubicBezTo>
                  <a:pt x="19624" y="6738"/>
                  <a:pt x="19573" y="6828"/>
                  <a:pt x="19526" y="6922"/>
                </a:cubicBezTo>
              </a:path>
              <a:path w="5049" h="2159">
                <a:moveTo>
                  <a:pt x="20130" y="6255"/>
                </a:moveTo>
                <a:cubicBezTo>
                  <a:pt x="20130" y="6265"/>
                  <a:pt x="20130" y="6276"/>
                  <a:pt x="20130" y="6286"/>
                </a:cubicBezTo>
              </a:path>
              <a:path w="5049" h="2159">
                <a:moveTo>
                  <a:pt x="20130" y="6255"/>
                </a:moveTo>
                <a:cubicBezTo>
                  <a:pt x="20119" y="6255"/>
                  <a:pt x="20109" y="6255"/>
                  <a:pt x="20098" y="6255"/>
                </a:cubicBezTo>
              </a:path>
              <a:path w="5049" h="2159">
                <a:moveTo>
                  <a:pt x="20098" y="6255"/>
                </a:moveTo>
                <a:cubicBezTo>
                  <a:pt x="20203" y="6255"/>
                  <a:pt x="20296" y="6241"/>
                  <a:pt x="20384" y="6223"/>
                </a:cubicBezTo>
                <a:cubicBezTo>
                  <a:pt x="20470" y="6206"/>
                  <a:pt x="20538" y="6232"/>
                  <a:pt x="20606" y="6255"/>
                </a:cubicBezTo>
                <a:cubicBezTo>
                  <a:pt x="20617" y="6255"/>
                  <a:pt x="20627" y="6255"/>
                  <a:pt x="20638" y="6255"/>
                </a:cubicBezTo>
              </a:path>
              <a:path w="5049" h="2159">
                <a:moveTo>
                  <a:pt x="21336" y="5937"/>
                </a:moveTo>
                <a:cubicBezTo>
                  <a:pt x="21336" y="5835"/>
                  <a:pt x="21348" y="5745"/>
                  <a:pt x="21304" y="5652"/>
                </a:cubicBezTo>
                <a:cubicBezTo>
                  <a:pt x="21285" y="5613"/>
                  <a:pt x="21227" y="5507"/>
                  <a:pt x="21177" y="5493"/>
                </a:cubicBezTo>
                <a:cubicBezTo>
                  <a:pt x="21074" y="5464"/>
                  <a:pt x="21042" y="5526"/>
                  <a:pt x="20987" y="5588"/>
                </a:cubicBezTo>
                <a:cubicBezTo>
                  <a:pt x="20885" y="5704"/>
                  <a:pt x="20892" y="5795"/>
                  <a:pt x="20860" y="5937"/>
                </a:cubicBezTo>
                <a:cubicBezTo>
                  <a:pt x="20838" y="6037"/>
                  <a:pt x="20815" y="6126"/>
                  <a:pt x="20860" y="6223"/>
                </a:cubicBezTo>
                <a:cubicBezTo>
                  <a:pt x="20884" y="6275"/>
                  <a:pt x="20965" y="6312"/>
                  <a:pt x="21018" y="6286"/>
                </a:cubicBezTo>
                <a:cubicBezTo>
                  <a:pt x="21087" y="6252"/>
                  <a:pt x="21173" y="6165"/>
                  <a:pt x="21209" y="6096"/>
                </a:cubicBezTo>
                <a:cubicBezTo>
                  <a:pt x="21268" y="5983"/>
                  <a:pt x="21244" y="5852"/>
                  <a:pt x="21304" y="5747"/>
                </a:cubicBezTo>
                <a:cubicBezTo>
                  <a:pt x="21333" y="5718"/>
                  <a:pt x="21344" y="5712"/>
                  <a:pt x="21336" y="5683"/>
                </a:cubicBezTo>
                <a:cubicBezTo>
                  <a:pt x="21336" y="6074"/>
                  <a:pt x="21359" y="6475"/>
                  <a:pt x="21304" y="6858"/>
                </a:cubicBezTo>
                <a:cubicBezTo>
                  <a:pt x="21294" y="6927"/>
                  <a:pt x="21291" y="6938"/>
                  <a:pt x="21336" y="6953"/>
                </a:cubicBezTo>
              </a:path>
              <a:path w="5049" h="2159">
                <a:moveTo>
                  <a:pt x="21590" y="5747"/>
                </a:moveTo>
                <a:cubicBezTo>
                  <a:pt x="21577" y="5853"/>
                  <a:pt x="21536" y="5957"/>
                  <a:pt x="21526" y="6064"/>
                </a:cubicBezTo>
                <a:cubicBezTo>
                  <a:pt x="21502" y="6313"/>
                  <a:pt x="21520" y="6589"/>
                  <a:pt x="21558" y="6826"/>
                </a:cubicBezTo>
                <a:cubicBezTo>
                  <a:pt x="21567" y="6883"/>
                  <a:pt x="21577" y="6995"/>
                  <a:pt x="21654" y="7017"/>
                </a:cubicBezTo>
                <a:cubicBezTo>
                  <a:pt x="21757" y="7047"/>
                  <a:pt x="21784" y="6997"/>
                  <a:pt x="21844" y="6953"/>
                </a:cubicBezTo>
                <a:cubicBezTo>
                  <a:pt x="21936" y="6886"/>
                  <a:pt x="21961" y="6811"/>
                  <a:pt x="22003" y="6699"/>
                </a:cubicBezTo>
                <a:cubicBezTo>
                  <a:pt x="22053" y="6564"/>
                  <a:pt x="22066" y="6460"/>
                  <a:pt x="22066" y="6318"/>
                </a:cubicBezTo>
                <a:cubicBezTo>
                  <a:pt x="22066" y="6242"/>
                  <a:pt x="22053" y="6242"/>
                  <a:pt x="22003" y="6191"/>
                </a:cubicBezTo>
                <a:cubicBezTo>
                  <a:pt x="21928" y="6191"/>
                  <a:pt x="21892" y="6218"/>
                  <a:pt x="21844" y="6286"/>
                </a:cubicBezTo>
                <a:cubicBezTo>
                  <a:pt x="21778" y="6380"/>
                  <a:pt x="21732" y="6525"/>
                  <a:pt x="21717" y="6636"/>
                </a:cubicBezTo>
                <a:cubicBezTo>
                  <a:pt x="21700" y="6763"/>
                  <a:pt x="21716" y="6909"/>
                  <a:pt x="21749" y="7017"/>
                </a:cubicBezTo>
                <a:cubicBezTo>
                  <a:pt x="21749" y="7027"/>
                  <a:pt x="21749" y="7038"/>
                  <a:pt x="21749" y="70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Ink 8"/>
          <p:cNvSpPr/>
          <p:nvPr/>
        </p:nvSpPr>
        <p:spPr>
          <a:xfrm>
            <a:off x="6286680" y="3063960"/>
            <a:ext cx="1006200" cy="628560"/>
          </a:xfrm>
          <a:custGeom>
            <a:avLst/>
            <a:gdLst/>
            <a:ahLst/>
            <a:rect l="l" t="t" r="r" b="b"/>
            <a:pathLst>
              <a:path w="2795" h="1747">
                <a:moveTo>
                  <a:pt x="17939" y="8795"/>
                </a:moveTo>
                <a:cubicBezTo>
                  <a:pt x="17939" y="8868"/>
                  <a:pt x="17918" y="8918"/>
                  <a:pt x="17907" y="8985"/>
                </a:cubicBezTo>
                <a:cubicBezTo>
                  <a:pt x="17888" y="9097"/>
                  <a:pt x="17873" y="9310"/>
                  <a:pt x="17939" y="9398"/>
                </a:cubicBezTo>
                <a:cubicBezTo>
                  <a:pt x="17998" y="9398"/>
                  <a:pt x="18031" y="9388"/>
                  <a:pt x="18066" y="9334"/>
                </a:cubicBezTo>
                <a:cubicBezTo>
                  <a:pt x="18120" y="9250"/>
                  <a:pt x="18132" y="9166"/>
                  <a:pt x="18161" y="9080"/>
                </a:cubicBezTo>
                <a:cubicBezTo>
                  <a:pt x="18182" y="9018"/>
                  <a:pt x="18193" y="8824"/>
                  <a:pt x="18193" y="8890"/>
                </a:cubicBezTo>
                <a:cubicBezTo>
                  <a:pt x="18193" y="8901"/>
                  <a:pt x="18193" y="8911"/>
                  <a:pt x="18193" y="8922"/>
                </a:cubicBezTo>
                <a:cubicBezTo>
                  <a:pt x="18160" y="9009"/>
                  <a:pt x="18141" y="9112"/>
                  <a:pt x="18161" y="9208"/>
                </a:cubicBezTo>
                <a:cubicBezTo>
                  <a:pt x="18189" y="9342"/>
                  <a:pt x="18210" y="9484"/>
                  <a:pt x="18224" y="9620"/>
                </a:cubicBezTo>
                <a:cubicBezTo>
                  <a:pt x="18236" y="9739"/>
                  <a:pt x="18281" y="9881"/>
                  <a:pt x="18256" y="10001"/>
                </a:cubicBezTo>
                <a:cubicBezTo>
                  <a:pt x="18226" y="10142"/>
                  <a:pt x="18228" y="10167"/>
                  <a:pt x="18129" y="10224"/>
                </a:cubicBezTo>
                <a:cubicBezTo>
                  <a:pt x="18074" y="10256"/>
                  <a:pt x="18025" y="10257"/>
                  <a:pt x="17970" y="10192"/>
                </a:cubicBezTo>
                <a:cubicBezTo>
                  <a:pt x="17913" y="10124"/>
                  <a:pt x="17914" y="10051"/>
                  <a:pt x="17907" y="9970"/>
                </a:cubicBezTo>
              </a:path>
              <a:path w="2795" h="1747">
                <a:moveTo>
                  <a:pt x="18383" y="9176"/>
                </a:moveTo>
                <a:cubicBezTo>
                  <a:pt x="18456" y="9176"/>
                  <a:pt x="18483" y="9164"/>
                  <a:pt x="18542" y="9144"/>
                </a:cubicBezTo>
                <a:cubicBezTo>
                  <a:pt x="18587" y="9144"/>
                  <a:pt x="18604" y="9132"/>
                  <a:pt x="18606" y="9080"/>
                </a:cubicBezTo>
              </a:path>
              <a:path w="2795" h="1747">
                <a:moveTo>
                  <a:pt x="18732" y="8858"/>
                </a:moveTo>
                <a:cubicBezTo>
                  <a:pt x="18732" y="8941"/>
                  <a:pt x="18704" y="9000"/>
                  <a:pt x="18701" y="9080"/>
                </a:cubicBezTo>
                <a:cubicBezTo>
                  <a:pt x="18693" y="9259"/>
                  <a:pt x="18701" y="9440"/>
                  <a:pt x="18701" y="9620"/>
                </a:cubicBezTo>
              </a:path>
              <a:path w="2795" h="1747">
                <a:moveTo>
                  <a:pt x="18923" y="8922"/>
                </a:moveTo>
                <a:cubicBezTo>
                  <a:pt x="18923" y="9026"/>
                  <a:pt x="18902" y="9105"/>
                  <a:pt x="18891" y="9208"/>
                </a:cubicBezTo>
                <a:cubicBezTo>
                  <a:pt x="18881" y="9300"/>
                  <a:pt x="18891" y="9401"/>
                  <a:pt x="18891" y="9493"/>
                </a:cubicBezTo>
                <a:cubicBezTo>
                  <a:pt x="18951" y="9474"/>
                  <a:pt x="18923" y="9407"/>
                  <a:pt x="18923" y="9334"/>
                </a:cubicBezTo>
                <a:cubicBezTo>
                  <a:pt x="18923" y="9208"/>
                  <a:pt x="18951" y="9074"/>
                  <a:pt x="18986" y="8954"/>
                </a:cubicBezTo>
                <a:cubicBezTo>
                  <a:pt x="19011" y="8869"/>
                  <a:pt x="19028" y="8785"/>
                  <a:pt x="19114" y="8763"/>
                </a:cubicBezTo>
                <a:cubicBezTo>
                  <a:pt x="19207" y="8787"/>
                  <a:pt x="19177" y="8865"/>
                  <a:pt x="19177" y="8954"/>
                </a:cubicBezTo>
                <a:cubicBezTo>
                  <a:pt x="19177" y="9097"/>
                  <a:pt x="19194" y="9228"/>
                  <a:pt x="19209" y="9366"/>
                </a:cubicBezTo>
                <a:cubicBezTo>
                  <a:pt x="19220" y="9467"/>
                  <a:pt x="19226" y="9497"/>
                  <a:pt x="19272" y="9588"/>
                </a:cubicBezTo>
                <a:cubicBezTo>
                  <a:pt x="19340" y="9588"/>
                  <a:pt x="19350" y="9573"/>
                  <a:pt x="19399" y="9525"/>
                </a:cubicBezTo>
                <a:cubicBezTo>
                  <a:pt x="19466" y="9459"/>
                  <a:pt x="19488" y="9435"/>
                  <a:pt x="19494" y="9366"/>
                </a:cubicBezTo>
              </a:path>
              <a:path w="2795" h="1747">
                <a:moveTo>
                  <a:pt x="19653" y="8509"/>
                </a:moveTo>
                <a:cubicBezTo>
                  <a:pt x="19653" y="8704"/>
                  <a:pt x="19669" y="8889"/>
                  <a:pt x="19685" y="9080"/>
                </a:cubicBezTo>
                <a:cubicBezTo>
                  <a:pt x="19697" y="9216"/>
                  <a:pt x="19740" y="9329"/>
                  <a:pt x="19748" y="9462"/>
                </a:cubicBezTo>
                <a:cubicBezTo>
                  <a:pt x="19748" y="9493"/>
                  <a:pt x="19748" y="9504"/>
                  <a:pt x="19780" y="9493"/>
                </a:cubicBezTo>
              </a:path>
              <a:path w="2795" h="1747">
                <a:moveTo>
                  <a:pt x="19494" y="9080"/>
                </a:moveTo>
                <a:cubicBezTo>
                  <a:pt x="19632" y="9080"/>
                  <a:pt x="19769" y="9080"/>
                  <a:pt x="19907" y="9080"/>
                </a:cubicBezTo>
              </a:path>
              <a:path w="2795" h="1747">
                <a:moveTo>
                  <a:pt x="17526" y="9652"/>
                </a:moveTo>
                <a:cubicBezTo>
                  <a:pt x="17500" y="9672"/>
                  <a:pt x="17488" y="9664"/>
                  <a:pt x="17462" y="9684"/>
                </a:cubicBezTo>
                <a:cubicBezTo>
                  <a:pt x="17517" y="9711"/>
                  <a:pt x="17499" y="9711"/>
                  <a:pt x="17590" y="9716"/>
                </a:cubicBezTo>
                <a:cubicBezTo>
                  <a:pt x="17715" y="9723"/>
                  <a:pt x="17887" y="9755"/>
                  <a:pt x="18002" y="9747"/>
                </a:cubicBezTo>
                <a:cubicBezTo>
                  <a:pt x="18159" y="9736"/>
                  <a:pt x="18315" y="9716"/>
                  <a:pt x="18478" y="9716"/>
                </a:cubicBezTo>
                <a:cubicBezTo>
                  <a:pt x="18747" y="9716"/>
                  <a:pt x="19006" y="9705"/>
                  <a:pt x="19272" y="9684"/>
                </a:cubicBezTo>
                <a:cubicBezTo>
                  <a:pt x="19441" y="9671"/>
                  <a:pt x="19611" y="9657"/>
                  <a:pt x="19780" y="9652"/>
                </a:cubicBezTo>
                <a:cubicBezTo>
                  <a:pt x="19938" y="9647"/>
                  <a:pt x="20098" y="9652"/>
                  <a:pt x="20256" y="9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Ink 9"/>
          <p:cNvSpPr/>
          <p:nvPr/>
        </p:nvSpPr>
        <p:spPr>
          <a:xfrm>
            <a:off x="4308480" y="3200400"/>
            <a:ext cx="1760400" cy="1224000"/>
          </a:xfrm>
          <a:custGeom>
            <a:avLst/>
            <a:gdLst/>
            <a:ahLst/>
            <a:rect l="l" t="t" r="r" b="b"/>
            <a:pathLst>
              <a:path w="4890" h="3398">
                <a:moveTo>
                  <a:pt x="12668" y="8954"/>
                </a:moveTo>
                <a:cubicBezTo>
                  <a:pt x="12700" y="8996"/>
                  <a:pt x="12719" y="9030"/>
                  <a:pt x="12732" y="9080"/>
                </a:cubicBezTo>
                <a:cubicBezTo>
                  <a:pt x="12793" y="9126"/>
                  <a:pt x="12779" y="9200"/>
                  <a:pt x="12827" y="9271"/>
                </a:cubicBezTo>
                <a:cubicBezTo>
                  <a:pt x="12856" y="9314"/>
                  <a:pt x="12909" y="9405"/>
                  <a:pt x="12922" y="9462"/>
                </a:cubicBezTo>
                <a:cubicBezTo>
                  <a:pt x="12938" y="9531"/>
                  <a:pt x="12966" y="9560"/>
                  <a:pt x="12986" y="9620"/>
                </a:cubicBezTo>
                <a:cubicBezTo>
                  <a:pt x="12986" y="9631"/>
                  <a:pt x="12986" y="9641"/>
                  <a:pt x="12986" y="9652"/>
                </a:cubicBezTo>
              </a:path>
              <a:path w="4890" h="3398">
                <a:moveTo>
                  <a:pt x="13081" y="9017"/>
                </a:moveTo>
                <a:cubicBezTo>
                  <a:pt x="13070" y="9017"/>
                  <a:pt x="13060" y="9017"/>
                  <a:pt x="13049" y="9017"/>
                </a:cubicBezTo>
                <a:cubicBezTo>
                  <a:pt x="13035" y="9073"/>
                  <a:pt x="13024" y="9156"/>
                  <a:pt x="12986" y="9208"/>
                </a:cubicBezTo>
                <a:cubicBezTo>
                  <a:pt x="12925" y="9291"/>
                  <a:pt x="12860" y="9380"/>
                  <a:pt x="12795" y="9462"/>
                </a:cubicBezTo>
                <a:cubicBezTo>
                  <a:pt x="12748" y="9521"/>
                  <a:pt x="12693" y="9589"/>
                  <a:pt x="12668" y="9652"/>
                </a:cubicBezTo>
                <a:cubicBezTo>
                  <a:pt x="12636" y="9652"/>
                  <a:pt x="12625" y="9652"/>
                  <a:pt x="12636" y="9684"/>
                </a:cubicBezTo>
              </a:path>
              <a:path w="4890" h="3398">
                <a:moveTo>
                  <a:pt x="12986" y="9366"/>
                </a:moveTo>
                <a:cubicBezTo>
                  <a:pt x="13039" y="9366"/>
                  <a:pt x="13091" y="9366"/>
                  <a:pt x="13144" y="9366"/>
                </a:cubicBezTo>
              </a:path>
              <a:path w="4890" h="3398">
                <a:moveTo>
                  <a:pt x="13398" y="9080"/>
                </a:moveTo>
                <a:cubicBezTo>
                  <a:pt x="13398" y="9249"/>
                  <a:pt x="13398" y="9419"/>
                  <a:pt x="13398" y="9588"/>
                </a:cubicBezTo>
              </a:path>
              <a:path w="4890" h="3398">
                <a:moveTo>
                  <a:pt x="13557" y="9080"/>
                </a:moveTo>
                <a:cubicBezTo>
                  <a:pt x="13548" y="9182"/>
                  <a:pt x="13526" y="9262"/>
                  <a:pt x="13526" y="9366"/>
                </a:cubicBezTo>
                <a:cubicBezTo>
                  <a:pt x="13526" y="9442"/>
                  <a:pt x="13494" y="9509"/>
                  <a:pt x="13494" y="9588"/>
                </a:cubicBezTo>
                <a:cubicBezTo>
                  <a:pt x="13494" y="9674"/>
                  <a:pt x="13526" y="9494"/>
                  <a:pt x="13526" y="9493"/>
                </a:cubicBezTo>
                <a:cubicBezTo>
                  <a:pt x="13542" y="9378"/>
                  <a:pt x="13562" y="9291"/>
                  <a:pt x="13589" y="9176"/>
                </a:cubicBezTo>
                <a:cubicBezTo>
                  <a:pt x="13589" y="9131"/>
                  <a:pt x="13595" y="9108"/>
                  <a:pt x="13621" y="9080"/>
                </a:cubicBezTo>
                <a:cubicBezTo>
                  <a:pt x="13692" y="9080"/>
                  <a:pt x="13696" y="9111"/>
                  <a:pt x="13716" y="9176"/>
                </a:cubicBezTo>
                <a:cubicBezTo>
                  <a:pt x="13741" y="9260"/>
                  <a:pt x="13735" y="9406"/>
                  <a:pt x="13748" y="9493"/>
                </a:cubicBezTo>
                <a:cubicBezTo>
                  <a:pt x="13758" y="9565"/>
                  <a:pt x="13716" y="9695"/>
                  <a:pt x="13780" y="9716"/>
                </a:cubicBezTo>
              </a:path>
              <a:path w="4890" h="3398">
                <a:moveTo>
                  <a:pt x="13970" y="8890"/>
                </a:moveTo>
                <a:cubicBezTo>
                  <a:pt x="13970" y="8987"/>
                  <a:pt x="13932" y="9120"/>
                  <a:pt x="13938" y="9208"/>
                </a:cubicBezTo>
                <a:cubicBezTo>
                  <a:pt x="13947" y="9334"/>
                  <a:pt x="13970" y="9456"/>
                  <a:pt x="13970" y="9588"/>
                </a:cubicBezTo>
                <a:cubicBezTo>
                  <a:pt x="13970" y="9629"/>
                  <a:pt x="13992" y="9645"/>
                  <a:pt x="14002" y="9684"/>
                </a:cubicBezTo>
              </a:path>
              <a:path w="4890" h="3398">
                <a:moveTo>
                  <a:pt x="13843" y="9366"/>
                </a:moveTo>
                <a:cubicBezTo>
                  <a:pt x="13912" y="9366"/>
                  <a:pt x="13948" y="9346"/>
                  <a:pt x="14002" y="9334"/>
                </a:cubicBezTo>
                <a:cubicBezTo>
                  <a:pt x="14037" y="9326"/>
                  <a:pt x="14091" y="9334"/>
                  <a:pt x="14129" y="9334"/>
                </a:cubicBezTo>
              </a:path>
              <a:path w="4890" h="3398">
                <a:moveTo>
                  <a:pt x="12573" y="9811"/>
                </a:moveTo>
                <a:cubicBezTo>
                  <a:pt x="12541" y="9811"/>
                  <a:pt x="12530" y="9811"/>
                  <a:pt x="12541" y="9779"/>
                </a:cubicBezTo>
                <a:cubicBezTo>
                  <a:pt x="12557" y="9827"/>
                  <a:pt x="12579" y="9811"/>
                  <a:pt x="12636" y="9811"/>
                </a:cubicBezTo>
                <a:cubicBezTo>
                  <a:pt x="12750" y="9811"/>
                  <a:pt x="12844" y="9827"/>
                  <a:pt x="12954" y="9842"/>
                </a:cubicBezTo>
                <a:cubicBezTo>
                  <a:pt x="13320" y="9893"/>
                  <a:pt x="13709" y="9791"/>
                  <a:pt x="14065" y="9874"/>
                </a:cubicBezTo>
                <a:cubicBezTo>
                  <a:pt x="14122" y="9887"/>
                  <a:pt x="14108" y="9866"/>
                  <a:pt x="14160" y="9906"/>
                </a:cubicBezTo>
              </a:path>
              <a:path w="4890" h="3398">
                <a:moveTo>
                  <a:pt x="12033" y="9970"/>
                </a:moveTo>
                <a:cubicBezTo>
                  <a:pt x="12033" y="10093"/>
                  <a:pt x="12021" y="10203"/>
                  <a:pt x="12002" y="10319"/>
                </a:cubicBezTo>
                <a:cubicBezTo>
                  <a:pt x="11976" y="10481"/>
                  <a:pt x="12019" y="10648"/>
                  <a:pt x="11970" y="10795"/>
                </a:cubicBezTo>
                <a:cubicBezTo>
                  <a:pt x="11970" y="10827"/>
                  <a:pt x="11970" y="10837"/>
                  <a:pt x="11970" y="10858"/>
                </a:cubicBezTo>
              </a:path>
              <a:path w="4890" h="3398">
                <a:moveTo>
                  <a:pt x="12224" y="10160"/>
                </a:moveTo>
                <a:cubicBezTo>
                  <a:pt x="12210" y="10229"/>
                  <a:pt x="12182" y="10316"/>
                  <a:pt x="12160" y="10382"/>
                </a:cubicBezTo>
                <a:cubicBezTo>
                  <a:pt x="12131" y="10468"/>
                  <a:pt x="12104" y="10545"/>
                  <a:pt x="12097" y="10636"/>
                </a:cubicBezTo>
                <a:cubicBezTo>
                  <a:pt x="12096" y="10652"/>
                  <a:pt x="12121" y="10820"/>
                  <a:pt x="12128" y="10827"/>
                </a:cubicBezTo>
                <a:cubicBezTo>
                  <a:pt x="12152" y="10851"/>
                  <a:pt x="12217" y="10858"/>
                  <a:pt x="12256" y="10858"/>
                </a:cubicBezTo>
                <a:cubicBezTo>
                  <a:pt x="12271" y="10800"/>
                  <a:pt x="12320" y="10759"/>
                  <a:pt x="12351" y="10700"/>
                </a:cubicBezTo>
                <a:cubicBezTo>
                  <a:pt x="12386" y="10633"/>
                  <a:pt x="12426" y="10573"/>
                  <a:pt x="12446" y="10509"/>
                </a:cubicBezTo>
                <a:cubicBezTo>
                  <a:pt x="12460" y="10463"/>
                  <a:pt x="12405" y="10422"/>
                  <a:pt x="12382" y="10414"/>
                </a:cubicBezTo>
                <a:cubicBezTo>
                  <a:pt x="12326" y="10471"/>
                  <a:pt x="12321" y="10501"/>
                  <a:pt x="12287" y="10573"/>
                </a:cubicBezTo>
                <a:cubicBezTo>
                  <a:pt x="12253" y="10645"/>
                  <a:pt x="12256" y="10684"/>
                  <a:pt x="12256" y="10763"/>
                </a:cubicBezTo>
                <a:cubicBezTo>
                  <a:pt x="12256" y="10833"/>
                  <a:pt x="12321" y="10786"/>
                  <a:pt x="12351" y="10763"/>
                </a:cubicBezTo>
              </a:path>
              <a:path w="4890" h="3398">
                <a:moveTo>
                  <a:pt x="12510" y="10255"/>
                </a:moveTo>
                <a:cubicBezTo>
                  <a:pt x="12510" y="10301"/>
                  <a:pt x="12518" y="10348"/>
                  <a:pt x="12541" y="10382"/>
                </a:cubicBezTo>
                <a:cubicBezTo>
                  <a:pt x="12584" y="10446"/>
                  <a:pt x="12631" y="10504"/>
                  <a:pt x="12668" y="10573"/>
                </a:cubicBezTo>
                <a:cubicBezTo>
                  <a:pt x="12705" y="10642"/>
                  <a:pt x="12688" y="10681"/>
                  <a:pt x="12764" y="10700"/>
                </a:cubicBezTo>
              </a:path>
              <a:path w="4890" h="3398">
                <a:moveTo>
                  <a:pt x="12764" y="10160"/>
                </a:moveTo>
                <a:cubicBezTo>
                  <a:pt x="12706" y="10276"/>
                  <a:pt x="12655" y="10390"/>
                  <a:pt x="12605" y="10509"/>
                </a:cubicBezTo>
                <a:cubicBezTo>
                  <a:pt x="12573" y="10585"/>
                  <a:pt x="12531" y="10662"/>
                  <a:pt x="12510" y="10732"/>
                </a:cubicBezTo>
                <a:cubicBezTo>
                  <a:pt x="12510" y="10742"/>
                  <a:pt x="12510" y="10753"/>
                  <a:pt x="12510" y="10763"/>
                </a:cubicBezTo>
              </a:path>
              <a:path w="4890" h="3398">
                <a:moveTo>
                  <a:pt x="12859" y="10414"/>
                </a:moveTo>
                <a:cubicBezTo>
                  <a:pt x="12922" y="10414"/>
                  <a:pt x="12986" y="10414"/>
                  <a:pt x="13049" y="10414"/>
                </a:cubicBezTo>
              </a:path>
              <a:path w="4890" h="3398">
                <a:moveTo>
                  <a:pt x="13494" y="10128"/>
                </a:moveTo>
                <a:cubicBezTo>
                  <a:pt x="13474" y="10067"/>
                  <a:pt x="13447" y="10085"/>
                  <a:pt x="13398" y="10096"/>
                </a:cubicBezTo>
                <a:cubicBezTo>
                  <a:pt x="13295" y="10119"/>
                  <a:pt x="13299" y="10147"/>
                  <a:pt x="13240" y="10224"/>
                </a:cubicBezTo>
                <a:cubicBezTo>
                  <a:pt x="13192" y="10288"/>
                  <a:pt x="13195" y="10291"/>
                  <a:pt x="13208" y="10350"/>
                </a:cubicBezTo>
                <a:cubicBezTo>
                  <a:pt x="13218" y="10395"/>
                  <a:pt x="13277" y="10408"/>
                  <a:pt x="13335" y="10414"/>
                </a:cubicBezTo>
                <a:cubicBezTo>
                  <a:pt x="13361" y="10417"/>
                  <a:pt x="13452" y="10446"/>
                  <a:pt x="13462" y="10478"/>
                </a:cubicBezTo>
                <a:cubicBezTo>
                  <a:pt x="13480" y="10536"/>
                  <a:pt x="13466" y="10627"/>
                  <a:pt x="13430" y="10668"/>
                </a:cubicBezTo>
                <a:cubicBezTo>
                  <a:pt x="13395" y="10707"/>
                  <a:pt x="13380" y="10721"/>
                  <a:pt x="13335" y="10732"/>
                </a:cubicBezTo>
                <a:cubicBezTo>
                  <a:pt x="13303" y="10689"/>
                  <a:pt x="13285" y="10633"/>
                  <a:pt x="13303" y="10573"/>
                </a:cubicBezTo>
                <a:cubicBezTo>
                  <a:pt x="13327" y="10493"/>
                  <a:pt x="13346" y="10419"/>
                  <a:pt x="13398" y="10350"/>
                </a:cubicBezTo>
                <a:cubicBezTo>
                  <a:pt x="13424" y="10316"/>
                  <a:pt x="13464" y="10285"/>
                  <a:pt x="13494" y="10255"/>
                </a:cubicBezTo>
              </a:path>
              <a:path w="4890" h="3398">
                <a:moveTo>
                  <a:pt x="13875" y="9906"/>
                </a:moveTo>
                <a:cubicBezTo>
                  <a:pt x="13798" y="9925"/>
                  <a:pt x="13795" y="9971"/>
                  <a:pt x="13748" y="10033"/>
                </a:cubicBezTo>
                <a:cubicBezTo>
                  <a:pt x="13689" y="10111"/>
                  <a:pt x="13680" y="10169"/>
                  <a:pt x="13652" y="10255"/>
                </a:cubicBezTo>
                <a:cubicBezTo>
                  <a:pt x="13630" y="10323"/>
                  <a:pt x="13567" y="10469"/>
                  <a:pt x="13589" y="10541"/>
                </a:cubicBezTo>
                <a:cubicBezTo>
                  <a:pt x="13603" y="10585"/>
                  <a:pt x="13638" y="10631"/>
                  <a:pt x="13684" y="10636"/>
                </a:cubicBezTo>
                <a:cubicBezTo>
                  <a:pt x="13730" y="10641"/>
                  <a:pt x="13750" y="10603"/>
                  <a:pt x="13780" y="10573"/>
                </a:cubicBezTo>
              </a:path>
              <a:path w="4890" h="3398">
                <a:moveTo>
                  <a:pt x="13906" y="10160"/>
                </a:moveTo>
                <a:cubicBezTo>
                  <a:pt x="13862" y="10205"/>
                  <a:pt x="13833" y="10235"/>
                  <a:pt x="13811" y="10287"/>
                </a:cubicBezTo>
                <a:cubicBezTo>
                  <a:pt x="13788" y="10340"/>
                  <a:pt x="13755" y="10446"/>
                  <a:pt x="13780" y="10509"/>
                </a:cubicBezTo>
                <a:cubicBezTo>
                  <a:pt x="13790" y="10520"/>
                  <a:pt x="13801" y="10530"/>
                  <a:pt x="13811" y="10541"/>
                </a:cubicBezTo>
                <a:cubicBezTo>
                  <a:pt x="13848" y="10513"/>
                  <a:pt x="13916" y="10496"/>
                  <a:pt x="13938" y="10446"/>
                </a:cubicBezTo>
                <a:cubicBezTo>
                  <a:pt x="13964" y="10387"/>
                  <a:pt x="13920" y="10330"/>
                  <a:pt x="13906" y="10287"/>
                </a:cubicBezTo>
                <a:cubicBezTo>
                  <a:pt x="13906" y="10276"/>
                  <a:pt x="13906" y="10266"/>
                  <a:pt x="13906" y="10255"/>
                </a:cubicBezTo>
              </a:path>
              <a:path w="4890" h="3398">
                <a:moveTo>
                  <a:pt x="13970" y="9970"/>
                </a:moveTo>
                <a:cubicBezTo>
                  <a:pt x="14011" y="10024"/>
                  <a:pt x="14032" y="10093"/>
                  <a:pt x="14065" y="10160"/>
                </a:cubicBezTo>
                <a:cubicBezTo>
                  <a:pt x="14110" y="10251"/>
                  <a:pt x="14173" y="10345"/>
                  <a:pt x="14192" y="10446"/>
                </a:cubicBezTo>
                <a:cubicBezTo>
                  <a:pt x="14215" y="10564"/>
                  <a:pt x="14179" y="10696"/>
                  <a:pt x="14160" y="10795"/>
                </a:cubicBezTo>
                <a:cubicBezTo>
                  <a:pt x="14149" y="10852"/>
                  <a:pt x="14141" y="10871"/>
                  <a:pt x="14129" y="10922"/>
                </a:cubicBezTo>
              </a:path>
              <a:path w="4890" h="3398">
                <a:moveTo>
                  <a:pt x="14319" y="10192"/>
                </a:moveTo>
                <a:cubicBezTo>
                  <a:pt x="14369" y="10180"/>
                  <a:pt x="14389" y="10160"/>
                  <a:pt x="14446" y="10160"/>
                </a:cubicBezTo>
                <a:cubicBezTo>
                  <a:pt x="14478" y="10160"/>
                  <a:pt x="14510" y="10160"/>
                  <a:pt x="14542" y="10160"/>
                </a:cubicBezTo>
              </a:path>
              <a:path w="4890" h="3398">
                <a:moveTo>
                  <a:pt x="14351" y="10446"/>
                </a:moveTo>
                <a:cubicBezTo>
                  <a:pt x="14351" y="10435"/>
                  <a:pt x="14351" y="10425"/>
                  <a:pt x="14351" y="10414"/>
                </a:cubicBezTo>
                <a:cubicBezTo>
                  <a:pt x="14408" y="10414"/>
                  <a:pt x="14428" y="10394"/>
                  <a:pt x="14478" y="10382"/>
                </a:cubicBezTo>
              </a:path>
              <a:path w="4890" h="3398">
                <a:moveTo>
                  <a:pt x="14700" y="9938"/>
                </a:moveTo>
                <a:cubicBezTo>
                  <a:pt x="14664" y="9950"/>
                  <a:pt x="14646" y="10019"/>
                  <a:pt x="14637" y="10065"/>
                </a:cubicBezTo>
                <a:cubicBezTo>
                  <a:pt x="14620" y="10154"/>
                  <a:pt x="14610" y="10261"/>
                  <a:pt x="14605" y="10350"/>
                </a:cubicBezTo>
                <a:cubicBezTo>
                  <a:pt x="14603" y="10397"/>
                  <a:pt x="14598" y="10515"/>
                  <a:pt x="14637" y="10541"/>
                </a:cubicBezTo>
                <a:cubicBezTo>
                  <a:pt x="14669" y="10563"/>
                  <a:pt x="14779" y="10542"/>
                  <a:pt x="14796" y="10509"/>
                </a:cubicBezTo>
                <a:cubicBezTo>
                  <a:pt x="14816" y="10469"/>
                  <a:pt x="14880" y="10392"/>
                  <a:pt x="14891" y="10350"/>
                </a:cubicBezTo>
                <a:cubicBezTo>
                  <a:pt x="14910" y="10280"/>
                  <a:pt x="14873" y="10248"/>
                  <a:pt x="14859" y="10192"/>
                </a:cubicBezTo>
                <a:cubicBezTo>
                  <a:pt x="14824" y="10201"/>
                  <a:pt x="14745" y="10243"/>
                  <a:pt x="14732" y="10287"/>
                </a:cubicBezTo>
                <a:cubicBezTo>
                  <a:pt x="14710" y="10361"/>
                  <a:pt x="14674" y="10435"/>
                  <a:pt x="14668" y="10509"/>
                </a:cubicBezTo>
                <a:cubicBezTo>
                  <a:pt x="14661" y="10588"/>
                  <a:pt x="14681" y="10579"/>
                  <a:pt x="14700" y="10573"/>
                </a:cubicBezTo>
                <a:cubicBezTo>
                  <a:pt x="14711" y="10573"/>
                  <a:pt x="14721" y="10573"/>
                  <a:pt x="14732" y="10573"/>
                </a:cubicBezTo>
              </a:path>
              <a:path w="4890" h="3398">
                <a:moveTo>
                  <a:pt x="14986" y="10001"/>
                </a:moveTo>
                <a:cubicBezTo>
                  <a:pt x="14986" y="9915"/>
                  <a:pt x="14990" y="10054"/>
                  <a:pt x="14986" y="10065"/>
                </a:cubicBezTo>
                <a:cubicBezTo>
                  <a:pt x="14961" y="10134"/>
                  <a:pt x="14980" y="10225"/>
                  <a:pt x="14954" y="10287"/>
                </a:cubicBezTo>
                <a:cubicBezTo>
                  <a:pt x="14943" y="10298"/>
                  <a:pt x="14933" y="10308"/>
                  <a:pt x="14922" y="10319"/>
                </a:cubicBezTo>
                <a:cubicBezTo>
                  <a:pt x="14992" y="10342"/>
                  <a:pt x="14938" y="10342"/>
                  <a:pt x="14986" y="10319"/>
                </a:cubicBezTo>
                <a:cubicBezTo>
                  <a:pt x="15042" y="10292"/>
                  <a:pt x="15140" y="10361"/>
                  <a:pt x="15176" y="10287"/>
                </a:cubicBezTo>
                <a:cubicBezTo>
                  <a:pt x="15176" y="10276"/>
                  <a:pt x="15176" y="10266"/>
                  <a:pt x="15176" y="10255"/>
                </a:cubicBezTo>
              </a:path>
              <a:path w="4890" h="3398">
                <a:moveTo>
                  <a:pt x="15145" y="9811"/>
                </a:moveTo>
                <a:cubicBezTo>
                  <a:pt x="15145" y="9932"/>
                  <a:pt x="15123" y="10041"/>
                  <a:pt x="15113" y="10160"/>
                </a:cubicBezTo>
                <a:cubicBezTo>
                  <a:pt x="15099" y="10320"/>
                  <a:pt x="15081" y="10475"/>
                  <a:pt x="15081" y="10636"/>
                </a:cubicBezTo>
                <a:cubicBezTo>
                  <a:pt x="15081" y="10647"/>
                  <a:pt x="15081" y="10657"/>
                  <a:pt x="15081" y="10668"/>
                </a:cubicBezTo>
              </a:path>
              <a:path w="4890" h="3398">
                <a:moveTo>
                  <a:pt x="12573" y="10954"/>
                </a:moveTo>
                <a:cubicBezTo>
                  <a:pt x="12539" y="11006"/>
                  <a:pt x="12601" y="11013"/>
                  <a:pt x="12573" y="11112"/>
                </a:cubicBezTo>
                <a:cubicBezTo>
                  <a:pt x="12540" y="11230"/>
                  <a:pt x="12541" y="11335"/>
                  <a:pt x="12541" y="11462"/>
                </a:cubicBezTo>
                <a:cubicBezTo>
                  <a:pt x="12541" y="11547"/>
                  <a:pt x="12541" y="11631"/>
                  <a:pt x="12541" y="11716"/>
                </a:cubicBezTo>
              </a:path>
              <a:path w="4890" h="3398">
                <a:moveTo>
                  <a:pt x="12732" y="11017"/>
                </a:moveTo>
                <a:cubicBezTo>
                  <a:pt x="12732" y="11096"/>
                  <a:pt x="12685" y="11134"/>
                  <a:pt x="12668" y="11208"/>
                </a:cubicBezTo>
                <a:cubicBezTo>
                  <a:pt x="12653" y="11276"/>
                  <a:pt x="12624" y="11428"/>
                  <a:pt x="12636" y="11494"/>
                </a:cubicBezTo>
                <a:cubicBezTo>
                  <a:pt x="12648" y="11565"/>
                  <a:pt x="12663" y="11603"/>
                  <a:pt x="12700" y="11652"/>
                </a:cubicBezTo>
                <a:cubicBezTo>
                  <a:pt x="12767" y="11652"/>
                  <a:pt x="12778" y="11637"/>
                  <a:pt x="12827" y="11589"/>
                </a:cubicBezTo>
                <a:cubicBezTo>
                  <a:pt x="12882" y="11534"/>
                  <a:pt x="12931" y="11474"/>
                  <a:pt x="12954" y="11398"/>
                </a:cubicBezTo>
                <a:cubicBezTo>
                  <a:pt x="12968" y="11353"/>
                  <a:pt x="12954" y="11288"/>
                  <a:pt x="12954" y="11240"/>
                </a:cubicBezTo>
                <a:cubicBezTo>
                  <a:pt x="12895" y="11240"/>
                  <a:pt x="12862" y="11249"/>
                  <a:pt x="12827" y="11303"/>
                </a:cubicBezTo>
                <a:cubicBezTo>
                  <a:pt x="12786" y="11366"/>
                  <a:pt x="12734" y="11444"/>
                  <a:pt x="12764" y="11525"/>
                </a:cubicBezTo>
                <a:cubicBezTo>
                  <a:pt x="12776" y="11557"/>
                  <a:pt x="12806" y="11592"/>
                  <a:pt x="12827" y="11620"/>
                </a:cubicBezTo>
              </a:path>
              <a:path w="4890" h="3398">
                <a:moveTo>
                  <a:pt x="13018" y="11112"/>
                </a:moveTo>
                <a:cubicBezTo>
                  <a:pt x="13018" y="11158"/>
                  <a:pt x="13026" y="11206"/>
                  <a:pt x="13049" y="11240"/>
                </a:cubicBezTo>
                <a:cubicBezTo>
                  <a:pt x="13093" y="11305"/>
                  <a:pt x="13111" y="11359"/>
                  <a:pt x="13144" y="11430"/>
                </a:cubicBezTo>
                <a:cubicBezTo>
                  <a:pt x="13175" y="11497"/>
                  <a:pt x="13178" y="11510"/>
                  <a:pt x="13240" y="11525"/>
                </a:cubicBezTo>
              </a:path>
              <a:path w="4890" h="3398">
                <a:moveTo>
                  <a:pt x="13240" y="11081"/>
                </a:moveTo>
                <a:cubicBezTo>
                  <a:pt x="13195" y="11140"/>
                  <a:pt x="13196" y="11168"/>
                  <a:pt x="13176" y="11240"/>
                </a:cubicBezTo>
                <a:cubicBezTo>
                  <a:pt x="13146" y="11350"/>
                  <a:pt x="13088" y="11466"/>
                  <a:pt x="13049" y="11557"/>
                </a:cubicBezTo>
                <a:cubicBezTo>
                  <a:pt x="13030" y="11601"/>
                  <a:pt x="12998" y="11604"/>
                  <a:pt x="12986" y="11652"/>
                </a:cubicBezTo>
              </a:path>
              <a:path w="4890" h="3398">
                <a:moveTo>
                  <a:pt x="13335" y="11240"/>
                </a:moveTo>
                <a:cubicBezTo>
                  <a:pt x="13385" y="11227"/>
                  <a:pt x="13405" y="11208"/>
                  <a:pt x="13462" y="11208"/>
                </a:cubicBezTo>
                <a:cubicBezTo>
                  <a:pt x="13494" y="11208"/>
                  <a:pt x="13505" y="11208"/>
                  <a:pt x="13526" y="11208"/>
                </a:cubicBezTo>
              </a:path>
              <a:path w="4890" h="3398">
                <a:moveTo>
                  <a:pt x="13430" y="11430"/>
                </a:moveTo>
                <a:cubicBezTo>
                  <a:pt x="13419" y="11430"/>
                  <a:pt x="13409" y="11430"/>
                  <a:pt x="13398" y="11430"/>
                </a:cubicBezTo>
                <a:cubicBezTo>
                  <a:pt x="13444" y="11430"/>
                  <a:pt x="13492" y="11421"/>
                  <a:pt x="13526" y="11398"/>
                </a:cubicBezTo>
                <a:cubicBezTo>
                  <a:pt x="13554" y="11369"/>
                  <a:pt x="13560" y="11358"/>
                  <a:pt x="13589" y="11366"/>
                </a:cubicBezTo>
              </a:path>
              <a:path w="4890" h="3398">
                <a:moveTo>
                  <a:pt x="13906" y="10954"/>
                </a:moveTo>
                <a:cubicBezTo>
                  <a:pt x="13906" y="11028"/>
                  <a:pt x="13891" y="11075"/>
                  <a:pt x="13875" y="11144"/>
                </a:cubicBezTo>
                <a:cubicBezTo>
                  <a:pt x="13858" y="11221"/>
                  <a:pt x="13847" y="11319"/>
                  <a:pt x="13843" y="11398"/>
                </a:cubicBezTo>
                <a:cubicBezTo>
                  <a:pt x="13838" y="11483"/>
                  <a:pt x="13834" y="11553"/>
                  <a:pt x="13875" y="11620"/>
                </a:cubicBezTo>
                <a:cubicBezTo>
                  <a:pt x="13942" y="11620"/>
                  <a:pt x="13954" y="11605"/>
                  <a:pt x="14002" y="11557"/>
                </a:cubicBezTo>
                <a:cubicBezTo>
                  <a:pt x="14059" y="11500"/>
                  <a:pt x="14093" y="11441"/>
                  <a:pt x="14097" y="11366"/>
                </a:cubicBezTo>
                <a:cubicBezTo>
                  <a:pt x="14101" y="11294"/>
                  <a:pt x="14105" y="11261"/>
                  <a:pt x="14065" y="11208"/>
                </a:cubicBezTo>
                <a:cubicBezTo>
                  <a:pt x="13977" y="11231"/>
                  <a:pt x="13996" y="11262"/>
                  <a:pt x="13970" y="11335"/>
                </a:cubicBezTo>
                <a:cubicBezTo>
                  <a:pt x="13946" y="11402"/>
                  <a:pt x="13909" y="11514"/>
                  <a:pt x="13938" y="11589"/>
                </a:cubicBezTo>
                <a:cubicBezTo>
                  <a:pt x="13967" y="11617"/>
                  <a:pt x="13973" y="11627"/>
                  <a:pt x="14002" y="11620"/>
                </a:cubicBezTo>
              </a:path>
              <a:path w="4890" h="3398">
                <a:moveTo>
                  <a:pt x="14224" y="10954"/>
                </a:moveTo>
                <a:cubicBezTo>
                  <a:pt x="14224" y="11039"/>
                  <a:pt x="14199" y="11065"/>
                  <a:pt x="14192" y="11144"/>
                </a:cubicBezTo>
                <a:cubicBezTo>
                  <a:pt x="14186" y="11216"/>
                  <a:pt x="14209" y="11241"/>
                  <a:pt x="14224" y="11271"/>
                </a:cubicBezTo>
                <a:cubicBezTo>
                  <a:pt x="14224" y="11303"/>
                  <a:pt x="14224" y="11314"/>
                  <a:pt x="14256" y="11303"/>
                </a:cubicBezTo>
                <a:cubicBezTo>
                  <a:pt x="14282" y="11283"/>
                  <a:pt x="14344" y="11243"/>
                  <a:pt x="14351" y="11240"/>
                </a:cubicBezTo>
                <a:cubicBezTo>
                  <a:pt x="14389" y="11221"/>
                  <a:pt x="14455" y="11195"/>
                  <a:pt x="14478" y="11144"/>
                </a:cubicBezTo>
                <a:cubicBezTo>
                  <a:pt x="14478" y="11133"/>
                  <a:pt x="14478" y="11123"/>
                  <a:pt x="14478" y="11112"/>
                </a:cubicBezTo>
              </a:path>
              <a:path w="4890" h="3398">
                <a:moveTo>
                  <a:pt x="14383" y="10795"/>
                </a:moveTo>
                <a:cubicBezTo>
                  <a:pt x="14383" y="11038"/>
                  <a:pt x="14383" y="11282"/>
                  <a:pt x="14383" y="11525"/>
                </a:cubicBezTo>
              </a:path>
              <a:path w="4890" h="3398">
                <a:moveTo>
                  <a:pt x="15176" y="11112"/>
                </a:moveTo>
                <a:cubicBezTo>
                  <a:pt x="15204" y="11149"/>
                  <a:pt x="15231" y="11222"/>
                  <a:pt x="15240" y="11271"/>
                </a:cubicBezTo>
                <a:cubicBezTo>
                  <a:pt x="15256" y="11360"/>
                  <a:pt x="15267" y="11441"/>
                  <a:pt x="15304" y="11525"/>
                </a:cubicBezTo>
                <a:cubicBezTo>
                  <a:pt x="15341" y="11609"/>
                  <a:pt x="15335" y="11676"/>
                  <a:pt x="15399" y="11748"/>
                </a:cubicBezTo>
                <a:cubicBezTo>
                  <a:pt x="15433" y="11785"/>
                  <a:pt x="15432" y="11803"/>
                  <a:pt x="15462" y="11843"/>
                </a:cubicBezTo>
              </a:path>
              <a:path w="4890" h="3398">
                <a:moveTo>
                  <a:pt x="15462" y="11081"/>
                </a:moveTo>
                <a:cubicBezTo>
                  <a:pt x="15447" y="11156"/>
                  <a:pt x="15404" y="11266"/>
                  <a:pt x="15367" y="11335"/>
                </a:cubicBezTo>
                <a:cubicBezTo>
                  <a:pt x="15296" y="11468"/>
                  <a:pt x="15247" y="11615"/>
                  <a:pt x="15176" y="11748"/>
                </a:cubicBezTo>
                <a:cubicBezTo>
                  <a:pt x="15138" y="11819"/>
                  <a:pt x="15094" y="11919"/>
                  <a:pt x="15018" y="11938"/>
                </a:cubicBezTo>
              </a:path>
              <a:path w="4890" h="3398">
                <a:moveTo>
                  <a:pt x="15430" y="11494"/>
                </a:moveTo>
                <a:cubicBezTo>
                  <a:pt x="15503" y="11494"/>
                  <a:pt x="15530" y="11482"/>
                  <a:pt x="15589" y="11462"/>
                </a:cubicBezTo>
                <a:cubicBezTo>
                  <a:pt x="15632" y="11448"/>
                  <a:pt x="15674" y="11441"/>
                  <a:pt x="15716" y="11430"/>
                </a:cubicBezTo>
              </a:path>
              <a:path w="4890" h="3398">
                <a:moveTo>
                  <a:pt x="15462" y="11748"/>
                </a:moveTo>
                <a:cubicBezTo>
                  <a:pt x="15527" y="11748"/>
                  <a:pt x="15537" y="11733"/>
                  <a:pt x="15589" y="11716"/>
                </a:cubicBezTo>
                <a:cubicBezTo>
                  <a:pt x="15600" y="11716"/>
                  <a:pt x="15610" y="11716"/>
                  <a:pt x="15621" y="11716"/>
                </a:cubicBezTo>
              </a:path>
              <a:path w="4890" h="3398">
                <a:moveTo>
                  <a:pt x="15907" y="11081"/>
                </a:moveTo>
                <a:cubicBezTo>
                  <a:pt x="15892" y="11140"/>
                  <a:pt x="15893" y="11207"/>
                  <a:pt x="15875" y="11271"/>
                </a:cubicBezTo>
                <a:cubicBezTo>
                  <a:pt x="15852" y="11355"/>
                  <a:pt x="15865" y="11443"/>
                  <a:pt x="15843" y="11525"/>
                </a:cubicBezTo>
                <a:cubicBezTo>
                  <a:pt x="15818" y="11577"/>
                  <a:pt x="15807" y="11585"/>
                  <a:pt x="15812" y="11620"/>
                </a:cubicBezTo>
                <a:cubicBezTo>
                  <a:pt x="15861" y="11608"/>
                  <a:pt x="15882" y="11589"/>
                  <a:pt x="15938" y="11589"/>
                </a:cubicBezTo>
                <a:cubicBezTo>
                  <a:pt x="15984" y="11589"/>
                  <a:pt x="16032" y="11597"/>
                  <a:pt x="16066" y="11620"/>
                </a:cubicBezTo>
                <a:cubicBezTo>
                  <a:pt x="16124" y="11659"/>
                  <a:pt x="16102" y="11664"/>
                  <a:pt x="16161" y="11620"/>
                </a:cubicBezTo>
              </a:path>
              <a:path w="4890" h="3398">
                <a:moveTo>
                  <a:pt x="16097" y="11049"/>
                </a:moveTo>
                <a:cubicBezTo>
                  <a:pt x="16097" y="11171"/>
                  <a:pt x="16079" y="11280"/>
                  <a:pt x="16066" y="11398"/>
                </a:cubicBezTo>
                <a:cubicBezTo>
                  <a:pt x="16047" y="11574"/>
                  <a:pt x="16066" y="11761"/>
                  <a:pt x="16066" y="11938"/>
                </a:cubicBezTo>
              </a:path>
              <a:path w="4890" h="3398">
                <a:moveTo>
                  <a:pt x="15335" y="12065"/>
                </a:moveTo>
                <a:cubicBezTo>
                  <a:pt x="15358" y="12110"/>
                  <a:pt x="15349" y="12119"/>
                  <a:pt x="15399" y="12128"/>
                </a:cubicBezTo>
                <a:cubicBezTo>
                  <a:pt x="15471" y="12141"/>
                  <a:pt x="15552" y="12148"/>
                  <a:pt x="15621" y="12160"/>
                </a:cubicBezTo>
                <a:cubicBezTo>
                  <a:pt x="15792" y="12189"/>
                  <a:pt x="16064" y="12185"/>
                  <a:pt x="16224" y="12128"/>
                </a:cubicBezTo>
                <a:cubicBezTo>
                  <a:pt x="16334" y="12089"/>
                  <a:pt x="16482" y="12009"/>
                  <a:pt x="16574" y="11938"/>
                </a:cubicBezTo>
                <a:cubicBezTo>
                  <a:pt x="16677" y="11858"/>
                  <a:pt x="16743" y="11731"/>
                  <a:pt x="16796" y="11620"/>
                </a:cubicBezTo>
                <a:cubicBezTo>
                  <a:pt x="16849" y="11510"/>
                  <a:pt x="16882" y="11396"/>
                  <a:pt x="16859" y="11271"/>
                </a:cubicBezTo>
                <a:cubicBezTo>
                  <a:pt x="16832" y="11122"/>
                  <a:pt x="16762" y="10914"/>
                  <a:pt x="16669" y="10795"/>
                </a:cubicBezTo>
                <a:cubicBezTo>
                  <a:pt x="16602" y="10709"/>
                  <a:pt x="16477" y="10592"/>
                  <a:pt x="16383" y="10541"/>
                </a:cubicBezTo>
                <a:cubicBezTo>
                  <a:pt x="16274" y="10482"/>
                  <a:pt x="16091" y="10431"/>
                  <a:pt x="15970" y="10414"/>
                </a:cubicBezTo>
                <a:cubicBezTo>
                  <a:pt x="15841" y="10395"/>
                  <a:pt x="15682" y="10447"/>
                  <a:pt x="15558" y="10478"/>
                </a:cubicBezTo>
                <a:cubicBezTo>
                  <a:pt x="15407" y="10515"/>
                  <a:pt x="15299" y="10549"/>
                  <a:pt x="15176" y="10636"/>
                </a:cubicBezTo>
                <a:cubicBezTo>
                  <a:pt x="15071" y="10710"/>
                  <a:pt x="14953" y="10840"/>
                  <a:pt x="14891" y="10954"/>
                </a:cubicBezTo>
                <a:cubicBezTo>
                  <a:pt x="14807" y="11109"/>
                  <a:pt x="14796" y="11291"/>
                  <a:pt x="14796" y="11462"/>
                </a:cubicBezTo>
                <a:cubicBezTo>
                  <a:pt x="14796" y="11576"/>
                  <a:pt x="14828" y="11744"/>
                  <a:pt x="14891" y="11843"/>
                </a:cubicBezTo>
                <a:cubicBezTo>
                  <a:pt x="14967" y="11963"/>
                  <a:pt x="15021" y="12077"/>
                  <a:pt x="15145" y="12160"/>
                </a:cubicBezTo>
                <a:cubicBezTo>
                  <a:pt x="15218" y="12209"/>
                  <a:pt x="15346" y="12273"/>
                  <a:pt x="15430" y="12287"/>
                </a:cubicBezTo>
                <a:cubicBezTo>
                  <a:pt x="15537" y="12304"/>
                  <a:pt x="15620" y="12272"/>
                  <a:pt x="15716" y="12256"/>
                </a:cubicBezTo>
                <a:cubicBezTo>
                  <a:pt x="15786" y="12245"/>
                  <a:pt x="15815" y="12250"/>
                  <a:pt x="15875" y="12224"/>
                </a:cubicBezTo>
                <a:cubicBezTo>
                  <a:pt x="15911" y="12224"/>
                  <a:pt x="15925" y="12221"/>
                  <a:pt x="15938" y="12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Ink 10"/>
          <p:cNvSpPr/>
          <p:nvPr/>
        </p:nvSpPr>
        <p:spPr>
          <a:xfrm>
            <a:off x="6343560" y="3451320"/>
            <a:ext cx="2446560" cy="903240"/>
          </a:xfrm>
          <a:custGeom>
            <a:avLst/>
            <a:gdLst/>
            <a:ahLst/>
            <a:rect l="l" t="t" r="r" b="b"/>
            <a:pathLst>
              <a:path w="6796" h="2510">
                <a:moveTo>
                  <a:pt x="17653" y="10128"/>
                </a:moveTo>
                <a:cubicBezTo>
                  <a:pt x="17653" y="10362"/>
                  <a:pt x="17673" y="10605"/>
                  <a:pt x="17621" y="10827"/>
                </a:cubicBezTo>
                <a:cubicBezTo>
                  <a:pt x="17621" y="10837"/>
                  <a:pt x="17621" y="10848"/>
                  <a:pt x="17621" y="10858"/>
                </a:cubicBezTo>
              </a:path>
              <a:path w="6796" h="2510">
                <a:moveTo>
                  <a:pt x="17907" y="10033"/>
                </a:moveTo>
                <a:cubicBezTo>
                  <a:pt x="17907" y="10101"/>
                  <a:pt x="17892" y="10193"/>
                  <a:pt x="17875" y="10255"/>
                </a:cubicBezTo>
                <a:cubicBezTo>
                  <a:pt x="17845" y="10362"/>
                  <a:pt x="17817" y="10460"/>
                  <a:pt x="17812" y="10573"/>
                </a:cubicBezTo>
                <a:cubicBezTo>
                  <a:pt x="17809" y="10643"/>
                  <a:pt x="17834" y="10744"/>
                  <a:pt x="17875" y="10795"/>
                </a:cubicBezTo>
                <a:cubicBezTo>
                  <a:pt x="17917" y="10848"/>
                  <a:pt x="17959" y="10833"/>
                  <a:pt x="18002" y="10795"/>
                </a:cubicBezTo>
                <a:cubicBezTo>
                  <a:pt x="18057" y="10746"/>
                  <a:pt x="18074" y="10697"/>
                  <a:pt x="18098" y="10636"/>
                </a:cubicBezTo>
                <a:cubicBezTo>
                  <a:pt x="18136" y="10539"/>
                  <a:pt x="18129" y="10452"/>
                  <a:pt x="18129" y="10350"/>
                </a:cubicBezTo>
                <a:cubicBezTo>
                  <a:pt x="18129" y="10314"/>
                  <a:pt x="18126" y="10301"/>
                  <a:pt x="18098" y="10287"/>
                </a:cubicBezTo>
                <a:cubicBezTo>
                  <a:pt x="18058" y="10327"/>
                  <a:pt x="17984" y="10394"/>
                  <a:pt x="17970" y="10446"/>
                </a:cubicBezTo>
                <a:cubicBezTo>
                  <a:pt x="17947" y="10531"/>
                  <a:pt x="17959" y="10626"/>
                  <a:pt x="17970" y="10700"/>
                </a:cubicBezTo>
                <a:cubicBezTo>
                  <a:pt x="17976" y="10741"/>
                  <a:pt x="17992" y="10756"/>
                  <a:pt x="18002" y="10795"/>
                </a:cubicBezTo>
              </a:path>
              <a:path w="6796" h="2510">
                <a:moveTo>
                  <a:pt x="18447" y="9938"/>
                </a:moveTo>
                <a:cubicBezTo>
                  <a:pt x="18457" y="9927"/>
                  <a:pt x="18468" y="9917"/>
                  <a:pt x="18478" y="9906"/>
                </a:cubicBezTo>
                <a:cubicBezTo>
                  <a:pt x="18463" y="9966"/>
                  <a:pt x="18411" y="10033"/>
                  <a:pt x="18383" y="10096"/>
                </a:cubicBezTo>
                <a:cubicBezTo>
                  <a:pt x="18336" y="10202"/>
                  <a:pt x="18273" y="10331"/>
                  <a:pt x="18256" y="10446"/>
                </a:cubicBezTo>
                <a:cubicBezTo>
                  <a:pt x="18238" y="10569"/>
                  <a:pt x="18270" y="10683"/>
                  <a:pt x="18288" y="10795"/>
                </a:cubicBezTo>
                <a:cubicBezTo>
                  <a:pt x="18293" y="10826"/>
                  <a:pt x="18310" y="10955"/>
                  <a:pt x="18383" y="10922"/>
                </a:cubicBezTo>
                <a:cubicBezTo>
                  <a:pt x="18415" y="10890"/>
                  <a:pt x="18426" y="10879"/>
                  <a:pt x="18447" y="10858"/>
                </a:cubicBezTo>
              </a:path>
              <a:path w="6796" h="2510">
                <a:moveTo>
                  <a:pt x="18606" y="10255"/>
                </a:moveTo>
                <a:cubicBezTo>
                  <a:pt x="18548" y="10327"/>
                  <a:pt x="18537" y="10370"/>
                  <a:pt x="18510" y="10446"/>
                </a:cubicBezTo>
                <a:cubicBezTo>
                  <a:pt x="18489" y="10506"/>
                  <a:pt x="18433" y="10620"/>
                  <a:pt x="18510" y="10668"/>
                </a:cubicBezTo>
                <a:cubicBezTo>
                  <a:pt x="18579" y="10711"/>
                  <a:pt x="18613" y="10605"/>
                  <a:pt x="18637" y="10573"/>
                </a:cubicBezTo>
                <a:cubicBezTo>
                  <a:pt x="18655" y="10549"/>
                  <a:pt x="18738" y="10441"/>
                  <a:pt x="18732" y="10414"/>
                </a:cubicBezTo>
                <a:cubicBezTo>
                  <a:pt x="18717" y="10343"/>
                  <a:pt x="18670" y="10328"/>
                  <a:pt x="18606" y="10319"/>
                </a:cubicBezTo>
              </a:path>
              <a:path w="6796" h="2510">
                <a:moveTo>
                  <a:pt x="18732" y="10001"/>
                </a:moveTo>
                <a:cubicBezTo>
                  <a:pt x="18747" y="10046"/>
                  <a:pt x="18765" y="10042"/>
                  <a:pt x="18796" y="10096"/>
                </a:cubicBezTo>
                <a:cubicBezTo>
                  <a:pt x="18870" y="10225"/>
                  <a:pt x="18948" y="10363"/>
                  <a:pt x="18955" y="10509"/>
                </a:cubicBezTo>
                <a:cubicBezTo>
                  <a:pt x="18960" y="10618"/>
                  <a:pt x="18948" y="10696"/>
                  <a:pt x="18923" y="10795"/>
                </a:cubicBezTo>
                <a:cubicBezTo>
                  <a:pt x="18911" y="10844"/>
                  <a:pt x="18882" y="10893"/>
                  <a:pt x="18860" y="10827"/>
                </a:cubicBezTo>
              </a:path>
              <a:path w="6796" h="2510">
                <a:moveTo>
                  <a:pt x="19114" y="10414"/>
                </a:moveTo>
                <a:cubicBezTo>
                  <a:pt x="19160" y="10414"/>
                  <a:pt x="19206" y="10405"/>
                  <a:pt x="19240" y="10382"/>
                </a:cubicBezTo>
                <a:cubicBezTo>
                  <a:pt x="19283" y="10353"/>
                  <a:pt x="19347" y="10325"/>
                  <a:pt x="19399" y="10319"/>
                </a:cubicBezTo>
                <a:cubicBezTo>
                  <a:pt x="19446" y="10314"/>
                  <a:pt x="19420" y="10336"/>
                  <a:pt x="19463" y="10350"/>
                </a:cubicBezTo>
              </a:path>
              <a:path w="6796" h="2510">
                <a:moveTo>
                  <a:pt x="19876" y="10065"/>
                </a:moveTo>
                <a:lnTo>
                  <a:pt x="19876" y="10065"/>
                </a:lnTo>
              </a:path>
              <a:path w="6796" h="2510">
                <a:moveTo>
                  <a:pt x="19939" y="10001"/>
                </a:moveTo>
                <a:cubicBezTo>
                  <a:pt x="19903" y="9955"/>
                  <a:pt x="19900" y="9939"/>
                  <a:pt x="19876" y="9906"/>
                </a:cubicBezTo>
                <a:cubicBezTo>
                  <a:pt x="19855" y="9877"/>
                  <a:pt x="19785" y="9853"/>
                  <a:pt x="19748" y="9874"/>
                </a:cubicBezTo>
                <a:cubicBezTo>
                  <a:pt x="19716" y="9892"/>
                  <a:pt x="19660" y="9970"/>
                  <a:pt x="19653" y="10001"/>
                </a:cubicBezTo>
                <a:cubicBezTo>
                  <a:pt x="19635" y="10083"/>
                  <a:pt x="19665" y="10159"/>
                  <a:pt x="19685" y="10224"/>
                </a:cubicBezTo>
                <a:cubicBezTo>
                  <a:pt x="19703" y="10284"/>
                  <a:pt x="19742" y="10302"/>
                  <a:pt x="19812" y="10319"/>
                </a:cubicBezTo>
                <a:cubicBezTo>
                  <a:pt x="19840" y="10326"/>
                  <a:pt x="19928" y="10347"/>
                  <a:pt x="19939" y="10382"/>
                </a:cubicBezTo>
                <a:cubicBezTo>
                  <a:pt x="19967" y="10473"/>
                  <a:pt x="19929" y="10595"/>
                  <a:pt x="19907" y="10668"/>
                </a:cubicBezTo>
                <a:cubicBezTo>
                  <a:pt x="19893" y="10714"/>
                  <a:pt x="19898" y="10700"/>
                  <a:pt x="19844" y="10700"/>
                </a:cubicBezTo>
                <a:cubicBezTo>
                  <a:pt x="19802" y="10644"/>
                  <a:pt x="19812" y="10615"/>
                  <a:pt x="19812" y="10541"/>
                </a:cubicBezTo>
                <a:cubicBezTo>
                  <a:pt x="19812" y="10425"/>
                  <a:pt x="19828" y="10335"/>
                  <a:pt x="19844" y="10224"/>
                </a:cubicBezTo>
                <a:cubicBezTo>
                  <a:pt x="19854" y="10155"/>
                  <a:pt x="19863" y="10088"/>
                  <a:pt x="19907" y="10033"/>
                </a:cubicBezTo>
                <a:cubicBezTo>
                  <a:pt x="19918" y="10022"/>
                  <a:pt x="19928" y="10012"/>
                  <a:pt x="19939" y="10001"/>
                </a:cubicBezTo>
              </a:path>
              <a:path w="6796" h="2510">
                <a:moveTo>
                  <a:pt x="20161" y="10192"/>
                </a:moveTo>
                <a:cubicBezTo>
                  <a:pt x="20161" y="10318"/>
                  <a:pt x="20163" y="10423"/>
                  <a:pt x="20193" y="10541"/>
                </a:cubicBezTo>
                <a:cubicBezTo>
                  <a:pt x="20205" y="10587"/>
                  <a:pt x="20204" y="10573"/>
                  <a:pt x="20256" y="10573"/>
                </a:cubicBezTo>
                <a:cubicBezTo>
                  <a:pt x="20302" y="10512"/>
                  <a:pt x="20296" y="10453"/>
                  <a:pt x="20320" y="10382"/>
                </a:cubicBezTo>
                <a:cubicBezTo>
                  <a:pt x="20344" y="10311"/>
                  <a:pt x="20352" y="10267"/>
                  <a:pt x="20352" y="10192"/>
                </a:cubicBezTo>
                <a:cubicBezTo>
                  <a:pt x="20352" y="10181"/>
                  <a:pt x="20352" y="10171"/>
                  <a:pt x="20352" y="10160"/>
                </a:cubicBezTo>
                <a:cubicBezTo>
                  <a:pt x="20338" y="10230"/>
                  <a:pt x="20298" y="10304"/>
                  <a:pt x="20320" y="10382"/>
                </a:cubicBezTo>
                <a:cubicBezTo>
                  <a:pt x="20353" y="10500"/>
                  <a:pt x="20352" y="10605"/>
                  <a:pt x="20352" y="10732"/>
                </a:cubicBezTo>
                <a:cubicBezTo>
                  <a:pt x="20352" y="10834"/>
                  <a:pt x="20327" y="10957"/>
                  <a:pt x="20288" y="11049"/>
                </a:cubicBezTo>
                <a:cubicBezTo>
                  <a:pt x="20255" y="11127"/>
                  <a:pt x="20239" y="11144"/>
                  <a:pt x="20161" y="11144"/>
                </a:cubicBezTo>
                <a:cubicBezTo>
                  <a:pt x="20093" y="11144"/>
                  <a:pt x="20064" y="11068"/>
                  <a:pt x="20034" y="11017"/>
                </a:cubicBezTo>
              </a:path>
              <a:path w="6796" h="2510">
                <a:moveTo>
                  <a:pt x="20510" y="10224"/>
                </a:moveTo>
                <a:cubicBezTo>
                  <a:pt x="20510" y="10213"/>
                  <a:pt x="20510" y="10203"/>
                  <a:pt x="20510" y="10192"/>
                </a:cubicBezTo>
                <a:cubicBezTo>
                  <a:pt x="20569" y="10192"/>
                  <a:pt x="20586" y="10166"/>
                  <a:pt x="20638" y="10160"/>
                </a:cubicBezTo>
                <a:cubicBezTo>
                  <a:pt x="20689" y="10154"/>
                  <a:pt x="20706" y="10128"/>
                  <a:pt x="20764" y="10128"/>
                </a:cubicBezTo>
              </a:path>
              <a:path w="6796" h="2510">
                <a:moveTo>
                  <a:pt x="20510" y="10414"/>
                </a:moveTo>
                <a:cubicBezTo>
                  <a:pt x="20581" y="10414"/>
                  <a:pt x="20639" y="10424"/>
                  <a:pt x="20701" y="10382"/>
                </a:cubicBezTo>
                <a:cubicBezTo>
                  <a:pt x="20730" y="10353"/>
                  <a:pt x="20736" y="10343"/>
                  <a:pt x="20764" y="10350"/>
                </a:cubicBezTo>
              </a:path>
              <a:path w="6796" h="2510">
                <a:moveTo>
                  <a:pt x="20987" y="9874"/>
                </a:moveTo>
                <a:cubicBezTo>
                  <a:pt x="20935" y="9839"/>
                  <a:pt x="20936" y="9924"/>
                  <a:pt x="20923" y="10001"/>
                </a:cubicBezTo>
                <a:cubicBezTo>
                  <a:pt x="20905" y="10108"/>
                  <a:pt x="20892" y="10208"/>
                  <a:pt x="20892" y="10319"/>
                </a:cubicBezTo>
                <a:cubicBezTo>
                  <a:pt x="20892" y="10421"/>
                  <a:pt x="20902" y="10439"/>
                  <a:pt x="20955" y="10478"/>
                </a:cubicBezTo>
                <a:cubicBezTo>
                  <a:pt x="20992" y="10505"/>
                  <a:pt x="21048" y="10496"/>
                  <a:pt x="21082" y="10446"/>
                </a:cubicBezTo>
                <a:cubicBezTo>
                  <a:pt x="21114" y="10399"/>
                  <a:pt x="21165" y="10278"/>
                  <a:pt x="21177" y="10224"/>
                </a:cubicBezTo>
                <a:cubicBezTo>
                  <a:pt x="21190" y="10162"/>
                  <a:pt x="21158" y="10146"/>
                  <a:pt x="21146" y="10096"/>
                </a:cubicBezTo>
                <a:cubicBezTo>
                  <a:pt x="21088" y="10110"/>
                  <a:pt x="21034" y="10156"/>
                  <a:pt x="21018" y="10224"/>
                </a:cubicBezTo>
                <a:cubicBezTo>
                  <a:pt x="21003" y="10289"/>
                  <a:pt x="20961" y="10409"/>
                  <a:pt x="20987" y="10478"/>
                </a:cubicBezTo>
                <a:cubicBezTo>
                  <a:pt x="20997" y="10488"/>
                  <a:pt x="21008" y="10499"/>
                  <a:pt x="21018" y="10509"/>
                </a:cubicBezTo>
              </a:path>
              <a:path w="6796" h="2510">
                <a:moveTo>
                  <a:pt x="21304" y="9811"/>
                </a:moveTo>
                <a:cubicBezTo>
                  <a:pt x="21304" y="9874"/>
                  <a:pt x="21282" y="9922"/>
                  <a:pt x="21272" y="9970"/>
                </a:cubicBezTo>
                <a:cubicBezTo>
                  <a:pt x="21256" y="10047"/>
                  <a:pt x="21272" y="10144"/>
                  <a:pt x="21272" y="10224"/>
                </a:cubicBezTo>
                <a:cubicBezTo>
                  <a:pt x="21362" y="10224"/>
                  <a:pt x="21420" y="10217"/>
                  <a:pt x="21495" y="10192"/>
                </a:cubicBezTo>
                <a:cubicBezTo>
                  <a:pt x="21539" y="10177"/>
                  <a:pt x="21553" y="10165"/>
                  <a:pt x="21590" y="10128"/>
                </a:cubicBezTo>
              </a:path>
              <a:path w="6796" h="2510">
                <a:moveTo>
                  <a:pt x="21526" y="9684"/>
                </a:moveTo>
                <a:cubicBezTo>
                  <a:pt x="21526" y="9747"/>
                  <a:pt x="21510" y="9812"/>
                  <a:pt x="21495" y="9874"/>
                </a:cubicBezTo>
                <a:cubicBezTo>
                  <a:pt x="21462" y="10010"/>
                  <a:pt x="21437" y="10145"/>
                  <a:pt x="21431" y="10287"/>
                </a:cubicBezTo>
                <a:cubicBezTo>
                  <a:pt x="21431" y="10308"/>
                  <a:pt x="21431" y="10329"/>
                  <a:pt x="21431" y="10350"/>
                </a:cubicBezTo>
              </a:path>
              <a:path w="6796" h="2510">
                <a:moveTo>
                  <a:pt x="18383" y="11144"/>
                </a:moveTo>
                <a:cubicBezTo>
                  <a:pt x="18383" y="11133"/>
                  <a:pt x="18383" y="11123"/>
                  <a:pt x="18383" y="11112"/>
                </a:cubicBezTo>
                <a:cubicBezTo>
                  <a:pt x="18399" y="11160"/>
                  <a:pt x="18421" y="11144"/>
                  <a:pt x="18478" y="11144"/>
                </a:cubicBezTo>
                <a:cubicBezTo>
                  <a:pt x="18531" y="11144"/>
                  <a:pt x="18542" y="11144"/>
                  <a:pt x="18574" y="11144"/>
                </a:cubicBezTo>
              </a:path>
              <a:path w="6796" h="2510">
                <a:moveTo>
                  <a:pt x="19114" y="10954"/>
                </a:moveTo>
                <a:cubicBezTo>
                  <a:pt x="19064" y="10941"/>
                  <a:pt x="19043" y="10922"/>
                  <a:pt x="18986" y="10922"/>
                </a:cubicBezTo>
                <a:cubicBezTo>
                  <a:pt x="18897" y="10922"/>
                  <a:pt x="18865" y="10980"/>
                  <a:pt x="18828" y="11049"/>
                </a:cubicBezTo>
                <a:cubicBezTo>
                  <a:pt x="18811" y="11080"/>
                  <a:pt x="18772" y="11166"/>
                  <a:pt x="18796" y="11208"/>
                </a:cubicBezTo>
                <a:cubicBezTo>
                  <a:pt x="18816" y="11244"/>
                  <a:pt x="18889" y="11292"/>
                  <a:pt x="18923" y="11303"/>
                </a:cubicBezTo>
                <a:cubicBezTo>
                  <a:pt x="18970" y="11319"/>
                  <a:pt x="19010" y="11331"/>
                  <a:pt x="19050" y="11366"/>
                </a:cubicBezTo>
                <a:cubicBezTo>
                  <a:pt x="19084" y="11396"/>
                  <a:pt x="19101" y="11479"/>
                  <a:pt x="19082" y="11525"/>
                </a:cubicBezTo>
                <a:cubicBezTo>
                  <a:pt x="19059" y="11580"/>
                  <a:pt x="19048" y="11631"/>
                  <a:pt x="18986" y="11652"/>
                </a:cubicBezTo>
                <a:cubicBezTo>
                  <a:pt x="18976" y="11652"/>
                  <a:pt x="18965" y="11652"/>
                  <a:pt x="18955" y="11652"/>
                </a:cubicBezTo>
                <a:cubicBezTo>
                  <a:pt x="18938" y="11585"/>
                  <a:pt x="18923" y="11543"/>
                  <a:pt x="18923" y="11462"/>
                </a:cubicBezTo>
                <a:cubicBezTo>
                  <a:pt x="18923" y="11379"/>
                  <a:pt x="18930" y="11312"/>
                  <a:pt x="18955" y="11240"/>
                </a:cubicBezTo>
                <a:cubicBezTo>
                  <a:pt x="18984" y="11156"/>
                  <a:pt x="19024" y="11156"/>
                  <a:pt x="19082" y="11112"/>
                </a:cubicBezTo>
              </a:path>
              <a:path w="6796" h="2510">
                <a:moveTo>
                  <a:pt x="19272" y="11112"/>
                </a:moveTo>
                <a:cubicBezTo>
                  <a:pt x="19272" y="11180"/>
                  <a:pt x="19300" y="11215"/>
                  <a:pt x="19304" y="11271"/>
                </a:cubicBezTo>
                <a:cubicBezTo>
                  <a:pt x="19312" y="11381"/>
                  <a:pt x="19308" y="11491"/>
                  <a:pt x="19336" y="11557"/>
                </a:cubicBezTo>
                <a:cubicBezTo>
                  <a:pt x="19336" y="11568"/>
                  <a:pt x="19336" y="11578"/>
                  <a:pt x="19336" y="11589"/>
                </a:cubicBezTo>
                <a:cubicBezTo>
                  <a:pt x="19375" y="11576"/>
                  <a:pt x="19373" y="11540"/>
                  <a:pt x="19399" y="11494"/>
                </a:cubicBezTo>
                <a:cubicBezTo>
                  <a:pt x="19446" y="11412"/>
                  <a:pt x="19456" y="11268"/>
                  <a:pt x="19463" y="11176"/>
                </a:cubicBezTo>
                <a:cubicBezTo>
                  <a:pt x="19467" y="11130"/>
                  <a:pt x="19431" y="11111"/>
                  <a:pt x="19463" y="11144"/>
                </a:cubicBezTo>
                <a:cubicBezTo>
                  <a:pt x="19502" y="11185"/>
                  <a:pt x="19494" y="11252"/>
                  <a:pt x="19494" y="11335"/>
                </a:cubicBezTo>
                <a:cubicBezTo>
                  <a:pt x="19494" y="11436"/>
                  <a:pt x="19522" y="11521"/>
                  <a:pt x="19526" y="11620"/>
                </a:cubicBezTo>
                <a:cubicBezTo>
                  <a:pt x="19531" y="11736"/>
                  <a:pt x="19511" y="11831"/>
                  <a:pt x="19494" y="11938"/>
                </a:cubicBezTo>
                <a:cubicBezTo>
                  <a:pt x="19485" y="11998"/>
                  <a:pt x="19468" y="12066"/>
                  <a:pt x="19399" y="12097"/>
                </a:cubicBezTo>
                <a:cubicBezTo>
                  <a:pt x="19357" y="12116"/>
                  <a:pt x="19331" y="12086"/>
                  <a:pt x="19304" y="12065"/>
                </a:cubicBezTo>
              </a:path>
              <a:path w="6796" h="2510">
                <a:moveTo>
                  <a:pt x="19653" y="11176"/>
                </a:moveTo>
                <a:cubicBezTo>
                  <a:pt x="19685" y="11176"/>
                  <a:pt x="19696" y="11176"/>
                  <a:pt x="19717" y="11176"/>
                </a:cubicBezTo>
                <a:cubicBezTo>
                  <a:pt x="19726" y="11147"/>
                  <a:pt x="19771" y="11126"/>
                  <a:pt x="19812" y="11112"/>
                </a:cubicBezTo>
                <a:cubicBezTo>
                  <a:pt x="19823" y="11112"/>
                  <a:pt x="19833" y="11112"/>
                  <a:pt x="19844" y="11112"/>
                </a:cubicBezTo>
              </a:path>
              <a:path w="6796" h="2510">
                <a:moveTo>
                  <a:pt x="19622" y="11366"/>
                </a:moveTo>
                <a:cubicBezTo>
                  <a:pt x="19661" y="11337"/>
                  <a:pt x="19699" y="11308"/>
                  <a:pt x="19748" y="11303"/>
                </a:cubicBezTo>
                <a:cubicBezTo>
                  <a:pt x="19779" y="11300"/>
                  <a:pt x="19813" y="11303"/>
                  <a:pt x="19844" y="11303"/>
                </a:cubicBezTo>
              </a:path>
              <a:path w="6796" h="2510">
                <a:moveTo>
                  <a:pt x="20066" y="10795"/>
                </a:moveTo>
                <a:cubicBezTo>
                  <a:pt x="20053" y="10845"/>
                  <a:pt x="20050" y="10900"/>
                  <a:pt x="20034" y="10954"/>
                </a:cubicBezTo>
                <a:cubicBezTo>
                  <a:pt x="20005" y="11053"/>
                  <a:pt x="20002" y="11132"/>
                  <a:pt x="20002" y="11240"/>
                </a:cubicBezTo>
                <a:cubicBezTo>
                  <a:pt x="20002" y="11278"/>
                  <a:pt x="19995" y="11404"/>
                  <a:pt x="20034" y="11430"/>
                </a:cubicBezTo>
                <a:cubicBezTo>
                  <a:pt x="20066" y="11430"/>
                  <a:pt x="20077" y="11430"/>
                  <a:pt x="20098" y="11430"/>
                </a:cubicBezTo>
                <a:cubicBezTo>
                  <a:pt x="20136" y="11379"/>
                  <a:pt x="20151" y="11326"/>
                  <a:pt x="20193" y="11271"/>
                </a:cubicBezTo>
                <a:cubicBezTo>
                  <a:pt x="20245" y="11202"/>
                  <a:pt x="20256" y="11169"/>
                  <a:pt x="20256" y="11081"/>
                </a:cubicBezTo>
                <a:cubicBezTo>
                  <a:pt x="20256" y="11045"/>
                  <a:pt x="20253" y="11031"/>
                  <a:pt x="20225" y="11017"/>
                </a:cubicBezTo>
                <a:cubicBezTo>
                  <a:pt x="20156" y="11086"/>
                  <a:pt x="20159" y="11122"/>
                  <a:pt x="20130" y="11208"/>
                </a:cubicBezTo>
                <a:cubicBezTo>
                  <a:pt x="20118" y="11243"/>
                  <a:pt x="20072" y="11321"/>
                  <a:pt x="20098" y="11366"/>
                </a:cubicBezTo>
                <a:cubicBezTo>
                  <a:pt x="20109" y="11377"/>
                  <a:pt x="20119" y="11387"/>
                  <a:pt x="20130" y="11398"/>
                </a:cubicBezTo>
              </a:path>
              <a:path w="6796" h="2510">
                <a:moveTo>
                  <a:pt x="20384" y="10827"/>
                </a:moveTo>
                <a:cubicBezTo>
                  <a:pt x="20342" y="10882"/>
                  <a:pt x="20352" y="10912"/>
                  <a:pt x="20352" y="10986"/>
                </a:cubicBezTo>
                <a:cubicBezTo>
                  <a:pt x="20352" y="11042"/>
                  <a:pt x="20329" y="11137"/>
                  <a:pt x="20384" y="11144"/>
                </a:cubicBezTo>
                <a:cubicBezTo>
                  <a:pt x="20415" y="11144"/>
                  <a:pt x="20426" y="11144"/>
                  <a:pt x="20415" y="11176"/>
                </a:cubicBezTo>
                <a:cubicBezTo>
                  <a:pt x="20457" y="11145"/>
                  <a:pt x="20503" y="11137"/>
                  <a:pt x="20542" y="11112"/>
                </a:cubicBezTo>
                <a:cubicBezTo>
                  <a:pt x="20613" y="11066"/>
                  <a:pt x="20625" y="11079"/>
                  <a:pt x="20638" y="10986"/>
                </a:cubicBezTo>
              </a:path>
              <a:path w="6796" h="2510">
                <a:moveTo>
                  <a:pt x="20669" y="10636"/>
                </a:moveTo>
                <a:cubicBezTo>
                  <a:pt x="20617" y="10654"/>
                  <a:pt x="20638" y="10698"/>
                  <a:pt x="20638" y="10763"/>
                </a:cubicBezTo>
                <a:cubicBezTo>
                  <a:pt x="20638" y="10928"/>
                  <a:pt x="20631" y="11085"/>
                  <a:pt x="20669" y="11240"/>
                </a:cubicBezTo>
                <a:cubicBezTo>
                  <a:pt x="20669" y="11250"/>
                  <a:pt x="20669" y="11261"/>
                  <a:pt x="20669" y="11271"/>
                </a:cubicBezTo>
              </a:path>
              <a:path w="6796" h="2510">
                <a:moveTo>
                  <a:pt x="18606" y="11652"/>
                </a:moveTo>
                <a:cubicBezTo>
                  <a:pt x="18574" y="11652"/>
                  <a:pt x="18563" y="11652"/>
                  <a:pt x="18542" y="11652"/>
                </a:cubicBezTo>
                <a:cubicBezTo>
                  <a:pt x="18573" y="11642"/>
                  <a:pt x="18600" y="11640"/>
                  <a:pt x="18637" y="11620"/>
                </a:cubicBezTo>
                <a:cubicBezTo>
                  <a:pt x="18735" y="11567"/>
                  <a:pt x="18785" y="11554"/>
                  <a:pt x="18891" y="11525"/>
                </a:cubicBezTo>
                <a:cubicBezTo>
                  <a:pt x="19001" y="11494"/>
                  <a:pt x="19092" y="11446"/>
                  <a:pt x="19209" y="11430"/>
                </a:cubicBezTo>
                <a:cubicBezTo>
                  <a:pt x="19316" y="11415"/>
                  <a:pt x="19419" y="11381"/>
                  <a:pt x="19526" y="11366"/>
                </a:cubicBezTo>
                <a:cubicBezTo>
                  <a:pt x="19617" y="11353"/>
                  <a:pt x="19719" y="11366"/>
                  <a:pt x="19812" y="11366"/>
                </a:cubicBezTo>
              </a:path>
              <a:path w="6796" h="2510">
                <a:moveTo>
                  <a:pt x="18796" y="11779"/>
                </a:moveTo>
                <a:cubicBezTo>
                  <a:pt x="18845" y="11744"/>
                  <a:pt x="18862" y="11748"/>
                  <a:pt x="18923" y="11748"/>
                </a:cubicBezTo>
              </a:path>
              <a:path w="6796" h="2510">
                <a:moveTo>
                  <a:pt x="19399" y="11716"/>
                </a:moveTo>
                <a:cubicBezTo>
                  <a:pt x="19326" y="11660"/>
                  <a:pt x="19326" y="11694"/>
                  <a:pt x="19240" y="11716"/>
                </a:cubicBezTo>
                <a:cubicBezTo>
                  <a:pt x="19200" y="11726"/>
                  <a:pt x="19134" y="11765"/>
                  <a:pt x="19114" y="11811"/>
                </a:cubicBezTo>
                <a:cubicBezTo>
                  <a:pt x="19093" y="11860"/>
                  <a:pt x="19138" y="11893"/>
                  <a:pt x="19177" y="11906"/>
                </a:cubicBezTo>
                <a:cubicBezTo>
                  <a:pt x="19235" y="11925"/>
                  <a:pt x="19290" y="11929"/>
                  <a:pt x="19336" y="11970"/>
                </a:cubicBezTo>
                <a:cubicBezTo>
                  <a:pt x="19375" y="12004"/>
                  <a:pt x="19388" y="12019"/>
                  <a:pt x="19399" y="12065"/>
                </a:cubicBezTo>
                <a:cubicBezTo>
                  <a:pt x="19364" y="12092"/>
                  <a:pt x="19305" y="12130"/>
                  <a:pt x="19272" y="12065"/>
                </a:cubicBezTo>
                <a:cubicBezTo>
                  <a:pt x="19255" y="12031"/>
                  <a:pt x="19290" y="11959"/>
                  <a:pt x="19304" y="11938"/>
                </a:cubicBezTo>
                <a:cubicBezTo>
                  <a:pt x="19343" y="11879"/>
                  <a:pt x="19413" y="11829"/>
                  <a:pt x="19463" y="11779"/>
                </a:cubicBezTo>
              </a:path>
              <a:path w="6796" h="2510">
                <a:moveTo>
                  <a:pt x="20098" y="11430"/>
                </a:moveTo>
                <a:cubicBezTo>
                  <a:pt x="20117" y="11487"/>
                  <a:pt x="20167" y="11454"/>
                  <a:pt x="20225" y="11430"/>
                </a:cubicBezTo>
                <a:cubicBezTo>
                  <a:pt x="20310" y="11396"/>
                  <a:pt x="20420" y="11354"/>
                  <a:pt x="20510" y="11335"/>
                </a:cubicBezTo>
                <a:cubicBezTo>
                  <a:pt x="20590" y="11318"/>
                  <a:pt x="20684" y="11309"/>
                  <a:pt x="20764" y="11303"/>
                </a:cubicBezTo>
                <a:cubicBezTo>
                  <a:pt x="20775" y="11303"/>
                  <a:pt x="20785" y="11303"/>
                  <a:pt x="20796" y="11303"/>
                </a:cubicBezTo>
              </a:path>
              <a:path w="6796" h="2510">
                <a:moveTo>
                  <a:pt x="20320" y="11652"/>
                </a:moveTo>
                <a:cubicBezTo>
                  <a:pt x="20251" y="11652"/>
                  <a:pt x="20272" y="11668"/>
                  <a:pt x="20225" y="11684"/>
                </a:cubicBezTo>
              </a:path>
              <a:path w="6796" h="2510">
                <a:moveTo>
                  <a:pt x="20320" y="11652"/>
                </a:moveTo>
                <a:cubicBezTo>
                  <a:pt x="20299" y="11652"/>
                  <a:pt x="20277" y="11652"/>
                  <a:pt x="20256" y="11652"/>
                </a:cubicBezTo>
              </a:path>
              <a:path w="6796" h="2510">
                <a:moveTo>
                  <a:pt x="20256" y="11652"/>
                </a:moveTo>
                <a:cubicBezTo>
                  <a:pt x="20320" y="11652"/>
                  <a:pt x="20383" y="11652"/>
                  <a:pt x="20447" y="11652"/>
                </a:cubicBezTo>
              </a:path>
              <a:path w="6796" h="2510">
                <a:moveTo>
                  <a:pt x="20701" y="11494"/>
                </a:moveTo>
                <a:cubicBezTo>
                  <a:pt x="20701" y="11458"/>
                  <a:pt x="20698" y="11444"/>
                  <a:pt x="20669" y="11430"/>
                </a:cubicBezTo>
                <a:cubicBezTo>
                  <a:pt x="20621" y="11442"/>
                  <a:pt x="20581" y="11460"/>
                  <a:pt x="20542" y="11494"/>
                </a:cubicBezTo>
                <a:cubicBezTo>
                  <a:pt x="20515" y="11517"/>
                  <a:pt x="20488" y="11581"/>
                  <a:pt x="20510" y="11620"/>
                </a:cubicBezTo>
                <a:cubicBezTo>
                  <a:pt x="20529" y="11653"/>
                  <a:pt x="20606" y="11709"/>
                  <a:pt x="20638" y="11716"/>
                </a:cubicBezTo>
                <a:cubicBezTo>
                  <a:pt x="20681" y="11725"/>
                  <a:pt x="20771" y="11729"/>
                  <a:pt x="20796" y="11779"/>
                </a:cubicBezTo>
                <a:cubicBezTo>
                  <a:pt x="20818" y="11822"/>
                  <a:pt x="20789" y="11878"/>
                  <a:pt x="20764" y="11906"/>
                </a:cubicBezTo>
                <a:cubicBezTo>
                  <a:pt x="20720" y="11957"/>
                  <a:pt x="20703" y="11970"/>
                  <a:pt x="20638" y="11970"/>
                </a:cubicBezTo>
                <a:cubicBezTo>
                  <a:pt x="20627" y="11970"/>
                  <a:pt x="20617" y="11970"/>
                  <a:pt x="20606" y="11970"/>
                </a:cubicBezTo>
                <a:cubicBezTo>
                  <a:pt x="20606" y="11898"/>
                  <a:pt x="20634" y="11877"/>
                  <a:pt x="20669" y="11811"/>
                </a:cubicBezTo>
                <a:cubicBezTo>
                  <a:pt x="20710" y="11734"/>
                  <a:pt x="20749" y="11664"/>
                  <a:pt x="20796" y="11589"/>
                </a:cubicBezTo>
              </a:path>
              <a:path w="6796" h="2510">
                <a:moveTo>
                  <a:pt x="21844" y="10763"/>
                </a:moveTo>
                <a:cubicBezTo>
                  <a:pt x="21771" y="10716"/>
                  <a:pt x="21830" y="10818"/>
                  <a:pt x="21812" y="10890"/>
                </a:cubicBezTo>
                <a:cubicBezTo>
                  <a:pt x="21778" y="11026"/>
                  <a:pt x="21787" y="11100"/>
                  <a:pt x="21812" y="11240"/>
                </a:cubicBezTo>
                <a:cubicBezTo>
                  <a:pt x="21822" y="11298"/>
                  <a:pt x="21853" y="11321"/>
                  <a:pt x="21908" y="11335"/>
                </a:cubicBezTo>
                <a:cubicBezTo>
                  <a:pt x="21922" y="11290"/>
                  <a:pt x="21987" y="11250"/>
                  <a:pt x="22003" y="11176"/>
                </a:cubicBezTo>
                <a:cubicBezTo>
                  <a:pt x="22024" y="11082"/>
                  <a:pt x="22030" y="10954"/>
                  <a:pt x="22034" y="10858"/>
                </a:cubicBezTo>
                <a:cubicBezTo>
                  <a:pt x="22038" y="10757"/>
                  <a:pt x="22017" y="10765"/>
                  <a:pt x="22066" y="10700"/>
                </a:cubicBezTo>
                <a:cubicBezTo>
                  <a:pt x="22066" y="10770"/>
                  <a:pt x="22094" y="10819"/>
                  <a:pt x="22098" y="10890"/>
                </a:cubicBezTo>
                <a:cubicBezTo>
                  <a:pt x="22105" y="11009"/>
                  <a:pt x="22109" y="11153"/>
                  <a:pt x="22130" y="11271"/>
                </a:cubicBezTo>
                <a:cubicBezTo>
                  <a:pt x="22157" y="11423"/>
                  <a:pt x="22175" y="11533"/>
                  <a:pt x="22130" y="11684"/>
                </a:cubicBezTo>
                <a:cubicBezTo>
                  <a:pt x="22089" y="11820"/>
                  <a:pt x="22103" y="11894"/>
                  <a:pt x="22003" y="12002"/>
                </a:cubicBezTo>
                <a:cubicBezTo>
                  <a:pt x="21957" y="12052"/>
                  <a:pt x="21879" y="12093"/>
                  <a:pt x="21812" y="12097"/>
                </a:cubicBezTo>
                <a:cubicBezTo>
                  <a:pt x="21702" y="12104"/>
                  <a:pt x="21685" y="11961"/>
                  <a:pt x="21654" y="11874"/>
                </a:cubicBezTo>
              </a:path>
              <a:path w="6796" h="2510">
                <a:moveTo>
                  <a:pt x="22288" y="10890"/>
                </a:moveTo>
                <a:cubicBezTo>
                  <a:pt x="22354" y="10890"/>
                  <a:pt x="22381" y="10867"/>
                  <a:pt x="22447" y="10858"/>
                </a:cubicBezTo>
              </a:path>
              <a:path w="6796" h="2510">
                <a:moveTo>
                  <a:pt x="22193" y="11176"/>
                </a:moveTo>
                <a:cubicBezTo>
                  <a:pt x="22258" y="11176"/>
                  <a:pt x="22267" y="11174"/>
                  <a:pt x="22320" y="11144"/>
                </a:cubicBezTo>
                <a:cubicBezTo>
                  <a:pt x="22398" y="11099"/>
                  <a:pt x="22462" y="11095"/>
                  <a:pt x="22542" y="11049"/>
                </a:cubicBezTo>
              </a:path>
              <a:path w="6796" h="2510">
                <a:moveTo>
                  <a:pt x="22638" y="10827"/>
                </a:moveTo>
                <a:cubicBezTo>
                  <a:pt x="22695" y="10784"/>
                  <a:pt x="22736" y="10792"/>
                  <a:pt x="22796" y="10763"/>
                </a:cubicBezTo>
                <a:cubicBezTo>
                  <a:pt x="22807" y="10753"/>
                  <a:pt x="22817" y="10742"/>
                  <a:pt x="22828" y="10732"/>
                </a:cubicBezTo>
              </a:path>
              <a:path w="6796" h="2510">
                <a:moveTo>
                  <a:pt x="23622" y="10446"/>
                </a:moveTo>
                <a:cubicBezTo>
                  <a:pt x="23582" y="10416"/>
                  <a:pt x="23545" y="10388"/>
                  <a:pt x="23495" y="10382"/>
                </a:cubicBezTo>
                <a:cubicBezTo>
                  <a:pt x="23425" y="10374"/>
                  <a:pt x="23324" y="10392"/>
                  <a:pt x="23273" y="10446"/>
                </a:cubicBezTo>
                <a:cubicBezTo>
                  <a:pt x="23212" y="10511"/>
                  <a:pt x="23117" y="10577"/>
                  <a:pt x="23082" y="10668"/>
                </a:cubicBezTo>
                <a:cubicBezTo>
                  <a:pt x="23068" y="10703"/>
                  <a:pt x="23042" y="10769"/>
                  <a:pt x="23082" y="10795"/>
                </a:cubicBezTo>
                <a:cubicBezTo>
                  <a:pt x="23114" y="10816"/>
                  <a:pt x="23205" y="10851"/>
                  <a:pt x="23241" y="10858"/>
                </a:cubicBezTo>
                <a:cubicBezTo>
                  <a:pt x="23318" y="10873"/>
                  <a:pt x="23403" y="10873"/>
                  <a:pt x="23463" y="10922"/>
                </a:cubicBezTo>
                <a:cubicBezTo>
                  <a:pt x="23484" y="10939"/>
                  <a:pt x="23563" y="11059"/>
                  <a:pt x="23558" y="11081"/>
                </a:cubicBezTo>
                <a:cubicBezTo>
                  <a:pt x="23544" y="11146"/>
                  <a:pt x="23482" y="11170"/>
                  <a:pt x="23432" y="11208"/>
                </a:cubicBezTo>
                <a:cubicBezTo>
                  <a:pt x="23366" y="11258"/>
                  <a:pt x="23360" y="11233"/>
                  <a:pt x="23304" y="11176"/>
                </a:cubicBezTo>
                <a:cubicBezTo>
                  <a:pt x="23241" y="11112"/>
                  <a:pt x="23216" y="11048"/>
                  <a:pt x="23241" y="10954"/>
                </a:cubicBezTo>
                <a:cubicBezTo>
                  <a:pt x="23271" y="10840"/>
                  <a:pt x="23306" y="10767"/>
                  <a:pt x="23368" y="10668"/>
                </a:cubicBezTo>
                <a:cubicBezTo>
                  <a:pt x="23423" y="10581"/>
                  <a:pt x="23447" y="10569"/>
                  <a:pt x="23527" y="10509"/>
                </a:cubicBezTo>
                <a:cubicBezTo>
                  <a:pt x="23537" y="10499"/>
                  <a:pt x="23548" y="10488"/>
                  <a:pt x="23558" y="10478"/>
                </a:cubicBezTo>
              </a:path>
              <a:path w="6796" h="2510">
                <a:moveTo>
                  <a:pt x="22542" y="11494"/>
                </a:moveTo>
                <a:cubicBezTo>
                  <a:pt x="22579" y="11521"/>
                  <a:pt x="22528" y="11555"/>
                  <a:pt x="22574" y="11557"/>
                </a:cubicBezTo>
                <a:cubicBezTo>
                  <a:pt x="22642" y="11560"/>
                  <a:pt x="22720" y="11528"/>
                  <a:pt x="22796" y="11525"/>
                </a:cubicBezTo>
                <a:cubicBezTo>
                  <a:pt x="22928" y="11521"/>
                  <a:pt x="23048" y="11498"/>
                  <a:pt x="23178" y="11494"/>
                </a:cubicBezTo>
                <a:cubicBezTo>
                  <a:pt x="23329" y="11489"/>
                  <a:pt x="23481" y="11458"/>
                  <a:pt x="23622" y="11398"/>
                </a:cubicBezTo>
                <a:cubicBezTo>
                  <a:pt x="23764" y="11338"/>
                  <a:pt x="23916" y="11277"/>
                  <a:pt x="24035" y="11176"/>
                </a:cubicBezTo>
                <a:cubicBezTo>
                  <a:pt x="24161" y="11068"/>
                  <a:pt x="24242" y="10962"/>
                  <a:pt x="24320" y="10827"/>
                </a:cubicBezTo>
                <a:cubicBezTo>
                  <a:pt x="24390" y="10706"/>
                  <a:pt x="24411" y="10589"/>
                  <a:pt x="24416" y="10446"/>
                </a:cubicBezTo>
                <a:cubicBezTo>
                  <a:pt x="24421" y="10319"/>
                  <a:pt x="24404" y="10214"/>
                  <a:pt x="24352" y="10096"/>
                </a:cubicBezTo>
                <a:cubicBezTo>
                  <a:pt x="24308" y="9996"/>
                  <a:pt x="24249" y="9910"/>
                  <a:pt x="24162" y="9842"/>
                </a:cubicBezTo>
                <a:cubicBezTo>
                  <a:pt x="24080" y="9778"/>
                  <a:pt x="23908" y="9677"/>
                  <a:pt x="23812" y="9652"/>
                </a:cubicBezTo>
                <a:cubicBezTo>
                  <a:pt x="23693" y="9621"/>
                  <a:pt x="23524" y="9600"/>
                  <a:pt x="23400" y="9588"/>
                </a:cubicBezTo>
                <a:cubicBezTo>
                  <a:pt x="23237" y="9573"/>
                  <a:pt x="23083" y="9638"/>
                  <a:pt x="22924" y="9652"/>
                </a:cubicBezTo>
                <a:cubicBezTo>
                  <a:pt x="22732" y="9669"/>
                  <a:pt x="22533" y="9703"/>
                  <a:pt x="22352" y="9779"/>
                </a:cubicBezTo>
                <a:cubicBezTo>
                  <a:pt x="22206" y="9841"/>
                  <a:pt x="22046" y="9901"/>
                  <a:pt x="21908" y="9970"/>
                </a:cubicBezTo>
                <a:cubicBezTo>
                  <a:pt x="21771" y="10038"/>
                  <a:pt x="21638" y="10155"/>
                  <a:pt x="21526" y="10255"/>
                </a:cubicBezTo>
                <a:cubicBezTo>
                  <a:pt x="21409" y="10359"/>
                  <a:pt x="21298" y="10476"/>
                  <a:pt x="21209" y="10604"/>
                </a:cubicBezTo>
                <a:cubicBezTo>
                  <a:pt x="21133" y="10714"/>
                  <a:pt x="21064" y="10829"/>
                  <a:pt x="21018" y="10954"/>
                </a:cubicBezTo>
                <a:cubicBezTo>
                  <a:pt x="20980" y="11057"/>
                  <a:pt x="20971" y="11193"/>
                  <a:pt x="20987" y="11303"/>
                </a:cubicBezTo>
                <a:cubicBezTo>
                  <a:pt x="21001" y="11398"/>
                  <a:pt x="21029" y="11446"/>
                  <a:pt x="21082" y="11525"/>
                </a:cubicBezTo>
                <a:cubicBezTo>
                  <a:pt x="21147" y="11623"/>
                  <a:pt x="21195" y="11666"/>
                  <a:pt x="21304" y="11716"/>
                </a:cubicBezTo>
                <a:cubicBezTo>
                  <a:pt x="21428" y="11773"/>
                  <a:pt x="21518" y="11779"/>
                  <a:pt x="21654" y="11779"/>
                </a:cubicBezTo>
                <a:cubicBezTo>
                  <a:pt x="21803" y="11779"/>
                  <a:pt x="21953" y="11773"/>
                  <a:pt x="22098" y="11748"/>
                </a:cubicBezTo>
                <a:cubicBezTo>
                  <a:pt x="22394" y="11697"/>
                  <a:pt x="22695" y="11614"/>
                  <a:pt x="22987" y="11557"/>
                </a:cubicBezTo>
                <a:cubicBezTo>
                  <a:pt x="23124" y="11530"/>
                  <a:pt x="23259" y="11499"/>
                  <a:pt x="23400" y="11494"/>
                </a:cubicBezTo>
                <a:cubicBezTo>
                  <a:pt x="23497" y="11490"/>
                  <a:pt x="23566" y="11511"/>
                  <a:pt x="23654" y="11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Ink 11"/>
          <p:cNvSpPr/>
          <p:nvPr/>
        </p:nvSpPr>
        <p:spPr>
          <a:xfrm>
            <a:off x="4435560" y="4160880"/>
            <a:ext cx="776160" cy="285840"/>
          </a:xfrm>
          <a:custGeom>
            <a:avLst/>
            <a:gdLst/>
            <a:ahLst/>
            <a:rect l="l" t="t" r="r" b="b"/>
            <a:pathLst>
              <a:path w="2160" h="795">
                <a:moveTo>
                  <a:pt x="12319" y="11811"/>
                </a:moveTo>
                <a:cubicBezTo>
                  <a:pt x="12413" y="11811"/>
                  <a:pt x="12485" y="11794"/>
                  <a:pt x="12573" y="11779"/>
                </a:cubicBezTo>
                <a:cubicBezTo>
                  <a:pt x="12652" y="11766"/>
                  <a:pt x="12751" y="11770"/>
                  <a:pt x="12827" y="11748"/>
                </a:cubicBezTo>
                <a:cubicBezTo>
                  <a:pt x="12908" y="11725"/>
                  <a:pt x="12962" y="11689"/>
                  <a:pt x="13049" y="11684"/>
                </a:cubicBezTo>
                <a:cubicBezTo>
                  <a:pt x="13125" y="11680"/>
                  <a:pt x="13159" y="11652"/>
                  <a:pt x="13240" y="11652"/>
                </a:cubicBezTo>
              </a:path>
              <a:path w="2160" h="795">
                <a:moveTo>
                  <a:pt x="12795" y="11843"/>
                </a:moveTo>
                <a:cubicBezTo>
                  <a:pt x="12795" y="11913"/>
                  <a:pt x="12823" y="11962"/>
                  <a:pt x="12827" y="12033"/>
                </a:cubicBezTo>
                <a:cubicBezTo>
                  <a:pt x="12833" y="12138"/>
                  <a:pt x="12827" y="12245"/>
                  <a:pt x="12827" y="12351"/>
                </a:cubicBezTo>
              </a:path>
              <a:path w="2160" h="795">
                <a:moveTo>
                  <a:pt x="12954" y="11811"/>
                </a:moveTo>
                <a:cubicBezTo>
                  <a:pt x="13005" y="11895"/>
                  <a:pt x="12959" y="11910"/>
                  <a:pt x="12954" y="12002"/>
                </a:cubicBezTo>
                <a:cubicBezTo>
                  <a:pt x="12949" y="12092"/>
                  <a:pt x="12922" y="12161"/>
                  <a:pt x="12922" y="12256"/>
                </a:cubicBezTo>
                <a:cubicBezTo>
                  <a:pt x="12922" y="12301"/>
                  <a:pt x="12928" y="12323"/>
                  <a:pt x="12954" y="12351"/>
                </a:cubicBezTo>
                <a:cubicBezTo>
                  <a:pt x="13023" y="12351"/>
                  <a:pt x="13032" y="12336"/>
                  <a:pt x="13081" y="12287"/>
                </a:cubicBezTo>
                <a:cubicBezTo>
                  <a:pt x="13145" y="12223"/>
                  <a:pt x="13150" y="12170"/>
                  <a:pt x="13176" y="12097"/>
                </a:cubicBezTo>
                <a:cubicBezTo>
                  <a:pt x="13201" y="12025"/>
                  <a:pt x="13208" y="11982"/>
                  <a:pt x="13208" y="11906"/>
                </a:cubicBezTo>
                <a:cubicBezTo>
                  <a:pt x="13147" y="11926"/>
                  <a:pt x="13166" y="11968"/>
                  <a:pt x="13144" y="12033"/>
                </a:cubicBezTo>
                <a:cubicBezTo>
                  <a:pt x="13116" y="12114"/>
                  <a:pt x="13113" y="12168"/>
                  <a:pt x="13113" y="12256"/>
                </a:cubicBezTo>
                <a:cubicBezTo>
                  <a:pt x="13113" y="12287"/>
                  <a:pt x="13113" y="12297"/>
                  <a:pt x="13144" y="12287"/>
                </a:cubicBezTo>
              </a:path>
              <a:path w="2160" h="795">
                <a:moveTo>
                  <a:pt x="13748" y="11874"/>
                </a:moveTo>
                <a:cubicBezTo>
                  <a:pt x="13805" y="11860"/>
                  <a:pt x="13854" y="11839"/>
                  <a:pt x="13906" y="11811"/>
                </a:cubicBezTo>
                <a:cubicBezTo>
                  <a:pt x="14003" y="11759"/>
                  <a:pt x="14095" y="11703"/>
                  <a:pt x="14192" y="11652"/>
                </a:cubicBezTo>
                <a:cubicBezTo>
                  <a:pt x="14263" y="11614"/>
                  <a:pt x="14348" y="11577"/>
                  <a:pt x="14414" y="11557"/>
                </a:cubicBezTo>
                <a:cubicBezTo>
                  <a:pt x="14446" y="11557"/>
                  <a:pt x="14457" y="11557"/>
                  <a:pt x="14478" y="11557"/>
                </a:cubicBezTo>
              </a:path>
              <a:path w="2160" h="795">
                <a:moveTo>
                  <a:pt x="13970" y="11843"/>
                </a:moveTo>
                <a:cubicBezTo>
                  <a:pt x="13981" y="11843"/>
                  <a:pt x="13991" y="11843"/>
                  <a:pt x="14002" y="11843"/>
                </a:cubicBezTo>
                <a:cubicBezTo>
                  <a:pt x="14019" y="11908"/>
                  <a:pt x="14034" y="11924"/>
                  <a:pt x="14034" y="12002"/>
                </a:cubicBezTo>
                <a:cubicBezTo>
                  <a:pt x="14034" y="12086"/>
                  <a:pt x="14057" y="12146"/>
                  <a:pt x="14065" y="12224"/>
                </a:cubicBezTo>
                <a:cubicBezTo>
                  <a:pt x="14065" y="12235"/>
                  <a:pt x="14065" y="12245"/>
                  <a:pt x="14065" y="12256"/>
                </a:cubicBezTo>
              </a:path>
              <a:path w="2160" h="795">
                <a:moveTo>
                  <a:pt x="14256" y="11779"/>
                </a:moveTo>
                <a:cubicBezTo>
                  <a:pt x="14222" y="11835"/>
                  <a:pt x="14204" y="11932"/>
                  <a:pt x="14192" y="12002"/>
                </a:cubicBezTo>
                <a:cubicBezTo>
                  <a:pt x="14178" y="12086"/>
                  <a:pt x="14235" y="12129"/>
                  <a:pt x="14256" y="12192"/>
                </a:cubicBezTo>
                <a:cubicBezTo>
                  <a:pt x="14256" y="12224"/>
                  <a:pt x="14256" y="12235"/>
                  <a:pt x="14288" y="12224"/>
                </a:cubicBezTo>
                <a:cubicBezTo>
                  <a:pt x="14359" y="12151"/>
                  <a:pt x="14375" y="12111"/>
                  <a:pt x="14414" y="12033"/>
                </a:cubicBezTo>
                <a:cubicBezTo>
                  <a:pt x="14429" y="12003"/>
                  <a:pt x="14486" y="11914"/>
                  <a:pt x="14446" y="11874"/>
                </a:cubicBezTo>
                <a:cubicBezTo>
                  <a:pt x="14435" y="11874"/>
                  <a:pt x="14425" y="11874"/>
                  <a:pt x="14414" y="11874"/>
                </a:cubicBezTo>
                <a:cubicBezTo>
                  <a:pt x="14376" y="11900"/>
                  <a:pt x="14355" y="11966"/>
                  <a:pt x="14351" y="12033"/>
                </a:cubicBezTo>
                <a:cubicBezTo>
                  <a:pt x="14351" y="12097"/>
                  <a:pt x="14351" y="12118"/>
                  <a:pt x="14351" y="12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Ink 12"/>
          <p:cNvSpPr/>
          <p:nvPr/>
        </p:nvSpPr>
        <p:spPr>
          <a:xfrm>
            <a:off x="2719440" y="5246640"/>
            <a:ext cx="2195640" cy="593640"/>
          </a:xfrm>
          <a:custGeom>
            <a:avLst/>
            <a:gdLst/>
            <a:ahLst/>
            <a:rect l="l" t="t" r="r" b="b"/>
            <a:pathLst>
              <a:path w="6097" h="1652">
                <a:moveTo>
                  <a:pt x="8064" y="14700"/>
                </a:moveTo>
                <a:cubicBezTo>
                  <a:pt x="8042" y="14746"/>
                  <a:pt x="8039" y="14786"/>
                  <a:pt x="8001" y="14827"/>
                </a:cubicBezTo>
                <a:cubicBezTo>
                  <a:pt x="7920" y="14915"/>
                  <a:pt x="7898" y="14970"/>
                  <a:pt x="7874" y="15081"/>
                </a:cubicBezTo>
                <a:cubicBezTo>
                  <a:pt x="7860" y="15147"/>
                  <a:pt x="7814" y="15290"/>
                  <a:pt x="7842" y="15367"/>
                </a:cubicBezTo>
                <a:cubicBezTo>
                  <a:pt x="7865" y="15430"/>
                  <a:pt x="7946" y="15441"/>
                  <a:pt x="8001" y="15430"/>
                </a:cubicBezTo>
                <a:cubicBezTo>
                  <a:pt x="8072" y="15416"/>
                  <a:pt x="8191" y="15297"/>
                  <a:pt x="8223" y="15240"/>
                </a:cubicBezTo>
                <a:cubicBezTo>
                  <a:pt x="8270" y="15157"/>
                  <a:pt x="8311" y="15069"/>
                  <a:pt x="8350" y="14986"/>
                </a:cubicBezTo>
                <a:cubicBezTo>
                  <a:pt x="8384" y="14915"/>
                  <a:pt x="8374" y="14898"/>
                  <a:pt x="8382" y="14827"/>
                </a:cubicBezTo>
                <a:cubicBezTo>
                  <a:pt x="8382" y="14929"/>
                  <a:pt x="8360" y="15016"/>
                  <a:pt x="8350" y="15113"/>
                </a:cubicBezTo>
                <a:cubicBezTo>
                  <a:pt x="8335" y="15270"/>
                  <a:pt x="8318" y="15436"/>
                  <a:pt x="8287" y="15589"/>
                </a:cubicBezTo>
                <a:cubicBezTo>
                  <a:pt x="8259" y="15727"/>
                  <a:pt x="8209" y="15858"/>
                  <a:pt x="8160" y="15970"/>
                </a:cubicBezTo>
                <a:cubicBezTo>
                  <a:pt x="8119" y="16063"/>
                  <a:pt x="8100" y="16147"/>
                  <a:pt x="8001" y="16192"/>
                </a:cubicBezTo>
                <a:cubicBezTo>
                  <a:pt x="7935" y="16222"/>
                  <a:pt x="7877" y="16215"/>
                  <a:pt x="7810" y="16192"/>
                </a:cubicBezTo>
                <a:cubicBezTo>
                  <a:pt x="7722" y="16162"/>
                  <a:pt x="7674" y="16098"/>
                  <a:pt x="7620" y="16034"/>
                </a:cubicBezTo>
                <a:cubicBezTo>
                  <a:pt x="7557" y="15959"/>
                  <a:pt x="7555" y="15987"/>
                  <a:pt x="7588" y="15907"/>
                </a:cubicBezTo>
              </a:path>
              <a:path w="6097" h="1652">
                <a:moveTo>
                  <a:pt x="8604" y="15208"/>
                </a:moveTo>
                <a:cubicBezTo>
                  <a:pt x="8762" y="15146"/>
                  <a:pt x="8678" y="15159"/>
                  <a:pt x="8826" y="15208"/>
                </a:cubicBezTo>
                <a:cubicBezTo>
                  <a:pt x="8910" y="15236"/>
                  <a:pt x="8886" y="15189"/>
                  <a:pt x="8954" y="15240"/>
                </a:cubicBezTo>
              </a:path>
              <a:path w="6097" h="1652">
                <a:moveTo>
                  <a:pt x="9239" y="14700"/>
                </a:moveTo>
                <a:cubicBezTo>
                  <a:pt x="9239" y="14809"/>
                  <a:pt x="9215" y="14854"/>
                  <a:pt x="9176" y="14954"/>
                </a:cubicBezTo>
                <a:cubicBezTo>
                  <a:pt x="9125" y="15085"/>
                  <a:pt x="9124" y="15230"/>
                  <a:pt x="9080" y="15367"/>
                </a:cubicBezTo>
                <a:cubicBezTo>
                  <a:pt x="9054" y="15450"/>
                  <a:pt x="8993" y="15537"/>
                  <a:pt x="8985" y="15621"/>
                </a:cubicBezTo>
                <a:cubicBezTo>
                  <a:pt x="8985" y="15632"/>
                  <a:pt x="8985" y="15642"/>
                  <a:pt x="8985" y="15653"/>
                </a:cubicBezTo>
              </a:path>
              <a:path w="6097" h="1652">
                <a:moveTo>
                  <a:pt x="9588" y="15018"/>
                </a:moveTo>
                <a:cubicBezTo>
                  <a:pt x="9616" y="14983"/>
                  <a:pt x="9704" y="14901"/>
                  <a:pt x="9716" y="14859"/>
                </a:cubicBezTo>
                <a:cubicBezTo>
                  <a:pt x="9733" y="14801"/>
                  <a:pt x="9707" y="14684"/>
                  <a:pt x="9684" y="14637"/>
                </a:cubicBezTo>
                <a:cubicBezTo>
                  <a:pt x="9636" y="14542"/>
                  <a:pt x="9578" y="14594"/>
                  <a:pt x="9525" y="14605"/>
                </a:cubicBezTo>
                <a:cubicBezTo>
                  <a:pt x="9471" y="14617"/>
                  <a:pt x="9413" y="14681"/>
                  <a:pt x="9398" y="14764"/>
                </a:cubicBezTo>
                <a:cubicBezTo>
                  <a:pt x="9369" y="14921"/>
                  <a:pt x="9415" y="15088"/>
                  <a:pt x="9430" y="15240"/>
                </a:cubicBezTo>
                <a:cubicBezTo>
                  <a:pt x="9441" y="15353"/>
                  <a:pt x="9467" y="15594"/>
                  <a:pt x="9398" y="15684"/>
                </a:cubicBezTo>
                <a:cubicBezTo>
                  <a:pt x="9321" y="15684"/>
                  <a:pt x="9337" y="15672"/>
                  <a:pt x="9303" y="15621"/>
                </a:cubicBezTo>
                <a:cubicBezTo>
                  <a:pt x="9249" y="15539"/>
                  <a:pt x="9286" y="15558"/>
                  <a:pt x="9303" y="15462"/>
                </a:cubicBezTo>
                <a:cubicBezTo>
                  <a:pt x="9326" y="15336"/>
                  <a:pt x="9372" y="15345"/>
                  <a:pt x="9430" y="15240"/>
                </a:cubicBezTo>
                <a:cubicBezTo>
                  <a:pt x="9492" y="15127"/>
                  <a:pt x="9527" y="15102"/>
                  <a:pt x="9620" y="15018"/>
                </a:cubicBezTo>
                <a:cubicBezTo>
                  <a:pt x="9669" y="14974"/>
                  <a:pt x="9733" y="14952"/>
                  <a:pt x="9779" y="14922"/>
                </a:cubicBezTo>
                <a:cubicBezTo>
                  <a:pt x="9790" y="14912"/>
                  <a:pt x="9800" y="14901"/>
                  <a:pt x="9811" y="14891"/>
                </a:cubicBezTo>
              </a:path>
              <a:path w="6097" h="1652">
                <a:moveTo>
                  <a:pt x="9811" y="15335"/>
                </a:moveTo>
                <a:cubicBezTo>
                  <a:pt x="9811" y="15278"/>
                  <a:pt x="9922" y="15304"/>
                  <a:pt x="9970" y="15304"/>
                </a:cubicBezTo>
              </a:path>
              <a:path w="6097" h="1652">
                <a:moveTo>
                  <a:pt x="9811" y="15462"/>
                </a:moveTo>
                <a:cubicBezTo>
                  <a:pt x="9839" y="15504"/>
                  <a:pt x="9927" y="15522"/>
                  <a:pt x="10001" y="15526"/>
                </a:cubicBezTo>
                <a:cubicBezTo>
                  <a:pt x="10022" y="15526"/>
                  <a:pt x="10044" y="15526"/>
                  <a:pt x="10065" y="15526"/>
                </a:cubicBezTo>
              </a:path>
              <a:path w="6097" h="1652">
                <a:moveTo>
                  <a:pt x="10446" y="14891"/>
                </a:moveTo>
                <a:cubicBezTo>
                  <a:pt x="10509" y="14891"/>
                  <a:pt x="10573" y="14891"/>
                  <a:pt x="10636" y="14891"/>
                </a:cubicBezTo>
              </a:path>
              <a:path w="6097" h="1652">
                <a:moveTo>
                  <a:pt x="10795" y="14796"/>
                </a:moveTo>
                <a:cubicBezTo>
                  <a:pt x="10847" y="14783"/>
                  <a:pt x="10905" y="14742"/>
                  <a:pt x="10954" y="14732"/>
                </a:cubicBezTo>
                <a:cubicBezTo>
                  <a:pt x="11043" y="14714"/>
                  <a:pt x="11136" y="14744"/>
                  <a:pt x="11176" y="14764"/>
                </a:cubicBezTo>
                <a:cubicBezTo>
                  <a:pt x="11248" y="14800"/>
                  <a:pt x="11193" y="14843"/>
                  <a:pt x="11144" y="14891"/>
                </a:cubicBezTo>
                <a:cubicBezTo>
                  <a:pt x="11085" y="14949"/>
                  <a:pt x="11047" y="15020"/>
                  <a:pt x="10986" y="15081"/>
                </a:cubicBezTo>
                <a:cubicBezTo>
                  <a:pt x="10908" y="15159"/>
                  <a:pt x="10850" y="15269"/>
                  <a:pt x="10795" y="15367"/>
                </a:cubicBezTo>
                <a:cubicBezTo>
                  <a:pt x="10757" y="15434"/>
                  <a:pt x="10763" y="15485"/>
                  <a:pt x="10763" y="15558"/>
                </a:cubicBezTo>
                <a:cubicBezTo>
                  <a:pt x="10763" y="15612"/>
                  <a:pt x="10809" y="15648"/>
                  <a:pt x="10858" y="15653"/>
                </a:cubicBezTo>
                <a:cubicBezTo>
                  <a:pt x="10861" y="15653"/>
                  <a:pt x="10986" y="15621"/>
                  <a:pt x="10986" y="15621"/>
                </a:cubicBezTo>
                <a:cubicBezTo>
                  <a:pt x="11022" y="15576"/>
                  <a:pt x="11029" y="15570"/>
                  <a:pt x="11112" y="15558"/>
                </a:cubicBezTo>
              </a:path>
              <a:path w="6097" h="1652">
                <a:moveTo>
                  <a:pt x="11716" y="14700"/>
                </a:moveTo>
                <a:cubicBezTo>
                  <a:pt x="11647" y="14700"/>
                  <a:pt x="11638" y="14715"/>
                  <a:pt x="11589" y="14764"/>
                </a:cubicBezTo>
                <a:cubicBezTo>
                  <a:pt x="11526" y="14827"/>
                  <a:pt x="11439" y="14940"/>
                  <a:pt x="11398" y="15018"/>
                </a:cubicBezTo>
                <a:cubicBezTo>
                  <a:pt x="11345" y="15119"/>
                  <a:pt x="11316" y="15286"/>
                  <a:pt x="11303" y="15399"/>
                </a:cubicBezTo>
                <a:cubicBezTo>
                  <a:pt x="11290" y="15512"/>
                  <a:pt x="11296" y="15652"/>
                  <a:pt x="11366" y="15748"/>
                </a:cubicBezTo>
                <a:cubicBezTo>
                  <a:pt x="11425" y="15807"/>
                  <a:pt x="11444" y="15823"/>
                  <a:pt x="11462" y="15875"/>
                </a:cubicBezTo>
              </a:path>
              <a:path w="6097" h="1652">
                <a:moveTo>
                  <a:pt x="11779" y="14954"/>
                </a:moveTo>
                <a:cubicBezTo>
                  <a:pt x="11795" y="15019"/>
                  <a:pt x="11851" y="15074"/>
                  <a:pt x="11874" y="15145"/>
                </a:cubicBezTo>
                <a:cubicBezTo>
                  <a:pt x="11918" y="15282"/>
                  <a:pt x="11974" y="15396"/>
                  <a:pt x="12033" y="15526"/>
                </a:cubicBezTo>
                <a:cubicBezTo>
                  <a:pt x="12064" y="15593"/>
                  <a:pt x="12108" y="15633"/>
                  <a:pt x="12160" y="15684"/>
                </a:cubicBezTo>
              </a:path>
              <a:path w="6097" h="1652">
                <a:moveTo>
                  <a:pt x="12160" y="15018"/>
                </a:moveTo>
                <a:cubicBezTo>
                  <a:pt x="12073" y="15040"/>
                  <a:pt x="12059" y="15137"/>
                  <a:pt x="12002" y="15208"/>
                </a:cubicBezTo>
                <a:cubicBezTo>
                  <a:pt x="11923" y="15306"/>
                  <a:pt x="11879" y="15417"/>
                  <a:pt x="11811" y="15526"/>
                </a:cubicBezTo>
                <a:cubicBezTo>
                  <a:pt x="11770" y="15592"/>
                  <a:pt x="11732" y="15657"/>
                  <a:pt x="11684" y="15716"/>
                </a:cubicBezTo>
              </a:path>
              <a:path w="6097" h="1652">
                <a:moveTo>
                  <a:pt x="12478" y="15145"/>
                </a:moveTo>
                <a:cubicBezTo>
                  <a:pt x="12490" y="15227"/>
                  <a:pt x="12510" y="15276"/>
                  <a:pt x="12510" y="15367"/>
                </a:cubicBezTo>
                <a:cubicBezTo>
                  <a:pt x="12510" y="15462"/>
                  <a:pt x="12510" y="15558"/>
                  <a:pt x="12510" y="15653"/>
                </a:cubicBezTo>
              </a:path>
              <a:path w="6097" h="1652">
                <a:moveTo>
                  <a:pt x="12319" y="15367"/>
                </a:moveTo>
                <a:cubicBezTo>
                  <a:pt x="12406" y="15385"/>
                  <a:pt x="12478" y="15399"/>
                  <a:pt x="12573" y="15399"/>
                </a:cubicBezTo>
              </a:path>
              <a:path w="6097" h="1652">
                <a:moveTo>
                  <a:pt x="12890" y="14922"/>
                </a:moveTo>
                <a:cubicBezTo>
                  <a:pt x="12910" y="15000"/>
                  <a:pt x="12905" y="15007"/>
                  <a:pt x="12890" y="15081"/>
                </a:cubicBezTo>
                <a:cubicBezTo>
                  <a:pt x="12875" y="15154"/>
                  <a:pt x="12866" y="15239"/>
                  <a:pt x="12859" y="15304"/>
                </a:cubicBezTo>
                <a:cubicBezTo>
                  <a:pt x="12859" y="15335"/>
                  <a:pt x="12859" y="15346"/>
                  <a:pt x="12859" y="15367"/>
                </a:cubicBezTo>
                <a:cubicBezTo>
                  <a:pt x="12936" y="15367"/>
                  <a:pt x="12977" y="15366"/>
                  <a:pt x="13049" y="15399"/>
                </a:cubicBezTo>
                <a:cubicBezTo>
                  <a:pt x="13132" y="15438"/>
                  <a:pt x="13146" y="15462"/>
                  <a:pt x="13240" y="15462"/>
                </a:cubicBezTo>
                <a:cubicBezTo>
                  <a:pt x="13276" y="15462"/>
                  <a:pt x="13290" y="15459"/>
                  <a:pt x="13303" y="15430"/>
                </a:cubicBezTo>
              </a:path>
              <a:path w="6097" h="1652">
                <a:moveTo>
                  <a:pt x="13208" y="14827"/>
                </a:moveTo>
                <a:cubicBezTo>
                  <a:pt x="13190" y="14918"/>
                  <a:pt x="13152" y="15018"/>
                  <a:pt x="13144" y="15113"/>
                </a:cubicBezTo>
                <a:cubicBezTo>
                  <a:pt x="13127" y="15318"/>
                  <a:pt x="13112" y="15589"/>
                  <a:pt x="13176" y="15780"/>
                </a:cubicBezTo>
              </a:path>
              <a:path w="6097" h="1652">
                <a:moveTo>
                  <a:pt x="13430" y="14605"/>
                </a:moveTo>
                <a:cubicBezTo>
                  <a:pt x="13450" y="14683"/>
                  <a:pt x="13526" y="14747"/>
                  <a:pt x="13557" y="14827"/>
                </a:cubicBezTo>
                <a:cubicBezTo>
                  <a:pt x="13633" y="15024"/>
                  <a:pt x="13647" y="15255"/>
                  <a:pt x="13652" y="15462"/>
                </a:cubicBezTo>
                <a:cubicBezTo>
                  <a:pt x="13656" y="15619"/>
                  <a:pt x="13622" y="15807"/>
                  <a:pt x="13526" y="15938"/>
                </a:cubicBezTo>
                <a:cubicBezTo>
                  <a:pt x="13435" y="16029"/>
                  <a:pt x="13409" y="16057"/>
                  <a:pt x="13335" y="16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Ink 13"/>
          <p:cNvSpPr/>
          <p:nvPr/>
        </p:nvSpPr>
        <p:spPr>
          <a:xfrm>
            <a:off x="5737320" y="1692360"/>
            <a:ext cx="2549520" cy="1189080"/>
          </a:xfrm>
          <a:custGeom>
            <a:avLst/>
            <a:gdLst/>
            <a:ahLst/>
            <a:rect l="l" t="t" r="r" b="b"/>
            <a:pathLst>
              <a:path w="7082" h="3303">
                <a:moveTo>
                  <a:pt x="16542" y="7588"/>
                </a:moveTo>
                <a:cubicBezTo>
                  <a:pt x="16580" y="7632"/>
                  <a:pt x="16598" y="7679"/>
                  <a:pt x="16637" y="7715"/>
                </a:cubicBezTo>
                <a:cubicBezTo>
                  <a:pt x="16689" y="7763"/>
                  <a:pt x="16797" y="7844"/>
                  <a:pt x="16859" y="7874"/>
                </a:cubicBezTo>
                <a:cubicBezTo>
                  <a:pt x="16945" y="7915"/>
                  <a:pt x="17109" y="7958"/>
                  <a:pt x="17208" y="7969"/>
                </a:cubicBezTo>
                <a:cubicBezTo>
                  <a:pt x="17314" y="7980"/>
                  <a:pt x="17421" y="7995"/>
                  <a:pt x="17526" y="8001"/>
                </a:cubicBezTo>
                <a:cubicBezTo>
                  <a:pt x="17814" y="8017"/>
                  <a:pt x="18100" y="7983"/>
                  <a:pt x="18383" y="7969"/>
                </a:cubicBezTo>
                <a:cubicBezTo>
                  <a:pt x="18606" y="7958"/>
                  <a:pt x="18829" y="7948"/>
                  <a:pt x="19050" y="7938"/>
                </a:cubicBezTo>
                <a:cubicBezTo>
                  <a:pt x="19222" y="7931"/>
                  <a:pt x="19388" y="7926"/>
                  <a:pt x="19558" y="7906"/>
                </a:cubicBezTo>
                <a:cubicBezTo>
                  <a:pt x="19746" y="7883"/>
                  <a:pt x="19940" y="7864"/>
                  <a:pt x="20130" y="7842"/>
                </a:cubicBezTo>
                <a:cubicBezTo>
                  <a:pt x="20294" y="7823"/>
                  <a:pt x="20444" y="7777"/>
                  <a:pt x="20606" y="7747"/>
                </a:cubicBezTo>
                <a:cubicBezTo>
                  <a:pt x="20784" y="7714"/>
                  <a:pt x="20968" y="7697"/>
                  <a:pt x="21146" y="7652"/>
                </a:cubicBezTo>
                <a:cubicBezTo>
                  <a:pt x="21295" y="7614"/>
                  <a:pt x="21443" y="7571"/>
                  <a:pt x="21590" y="7525"/>
                </a:cubicBezTo>
                <a:cubicBezTo>
                  <a:pt x="21718" y="7485"/>
                  <a:pt x="21849" y="7475"/>
                  <a:pt x="21971" y="7430"/>
                </a:cubicBezTo>
                <a:cubicBezTo>
                  <a:pt x="22141" y="7367"/>
                  <a:pt x="22355" y="7270"/>
                  <a:pt x="22511" y="7176"/>
                </a:cubicBezTo>
                <a:cubicBezTo>
                  <a:pt x="22603" y="7120"/>
                  <a:pt x="22687" y="7029"/>
                  <a:pt x="22765" y="6953"/>
                </a:cubicBezTo>
                <a:cubicBezTo>
                  <a:pt x="22837" y="6883"/>
                  <a:pt x="22900" y="6826"/>
                  <a:pt x="22955" y="6731"/>
                </a:cubicBezTo>
                <a:cubicBezTo>
                  <a:pt x="22992" y="6666"/>
                  <a:pt x="23016" y="6590"/>
                  <a:pt x="23019" y="6509"/>
                </a:cubicBezTo>
                <a:cubicBezTo>
                  <a:pt x="23022" y="6419"/>
                  <a:pt x="23007" y="6339"/>
                  <a:pt x="22987" y="6255"/>
                </a:cubicBezTo>
                <a:cubicBezTo>
                  <a:pt x="22958" y="6136"/>
                  <a:pt x="22892" y="6036"/>
                  <a:pt x="22828" y="5937"/>
                </a:cubicBezTo>
                <a:cubicBezTo>
                  <a:pt x="22769" y="5846"/>
                  <a:pt x="22690" y="5782"/>
                  <a:pt x="22606" y="5715"/>
                </a:cubicBezTo>
                <a:cubicBezTo>
                  <a:pt x="22534" y="5658"/>
                  <a:pt x="22432" y="5567"/>
                  <a:pt x="22352" y="5524"/>
                </a:cubicBezTo>
                <a:cubicBezTo>
                  <a:pt x="22258" y="5474"/>
                  <a:pt x="22134" y="5434"/>
                  <a:pt x="22034" y="5398"/>
                </a:cubicBezTo>
                <a:cubicBezTo>
                  <a:pt x="21848" y="5331"/>
                  <a:pt x="21680" y="5237"/>
                  <a:pt x="21495" y="5175"/>
                </a:cubicBezTo>
                <a:cubicBezTo>
                  <a:pt x="21282" y="5103"/>
                  <a:pt x="21072" y="5025"/>
                  <a:pt x="20860" y="4953"/>
                </a:cubicBezTo>
                <a:cubicBezTo>
                  <a:pt x="20710" y="4902"/>
                  <a:pt x="20562" y="4893"/>
                  <a:pt x="20415" y="4858"/>
                </a:cubicBezTo>
                <a:cubicBezTo>
                  <a:pt x="20225" y="4812"/>
                  <a:pt x="20039" y="4745"/>
                  <a:pt x="19844" y="4731"/>
                </a:cubicBezTo>
                <a:cubicBezTo>
                  <a:pt x="19683" y="4719"/>
                  <a:pt x="19527" y="4706"/>
                  <a:pt x="19368" y="4699"/>
                </a:cubicBezTo>
                <a:cubicBezTo>
                  <a:pt x="19088" y="4687"/>
                  <a:pt x="18784" y="4677"/>
                  <a:pt x="18510" y="4731"/>
                </a:cubicBezTo>
                <a:cubicBezTo>
                  <a:pt x="18355" y="4761"/>
                  <a:pt x="18182" y="4806"/>
                  <a:pt x="18034" y="4858"/>
                </a:cubicBezTo>
                <a:cubicBezTo>
                  <a:pt x="17884" y="4910"/>
                  <a:pt x="17701" y="4948"/>
                  <a:pt x="17558" y="5016"/>
                </a:cubicBezTo>
                <a:cubicBezTo>
                  <a:pt x="17419" y="5082"/>
                  <a:pt x="17277" y="5162"/>
                  <a:pt x="17145" y="5239"/>
                </a:cubicBezTo>
                <a:cubicBezTo>
                  <a:pt x="17024" y="5309"/>
                  <a:pt x="16877" y="5385"/>
                  <a:pt x="16764" y="5461"/>
                </a:cubicBezTo>
                <a:cubicBezTo>
                  <a:pt x="16651" y="5537"/>
                  <a:pt x="16538" y="5646"/>
                  <a:pt x="16446" y="5747"/>
                </a:cubicBezTo>
                <a:cubicBezTo>
                  <a:pt x="16352" y="5850"/>
                  <a:pt x="16294" y="5952"/>
                  <a:pt x="16224" y="6064"/>
                </a:cubicBezTo>
                <a:cubicBezTo>
                  <a:pt x="16152" y="6180"/>
                  <a:pt x="16091" y="6291"/>
                  <a:pt x="16034" y="6414"/>
                </a:cubicBezTo>
                <a:cubicBezTo>
                  <a:pt x="15995" y="6499"/>
                  <a:pt x="15938" y="6644"/>
                  <a:pt x="15938" y="6731"/>
                </a:cubicBezTo>
                <a:cubicBezTo>
                  <a:pt x="15938" y="6815"/>
                  <a:pt x="15951" y="6934"/>
                  <a:pt x="15970" y="7017"/>
                </a:cubicBezTo>
                <a:cubicBezTo>
                  <a:pt x="15999" y="7146"/>
                  <a:pt x="16086" y="7264"/>
                  <a:pt x="16161" y="7366"/>
                </a:cubicBezTo>
                <a:cubicBezTo>
                  <a:pt x="16251" y="7488"/>
                  <a:pt x="16312" y="7535"/>
                  <a:pt x="16415" y="7620"/>
                </a:cubicBezTo>
                <a:cubicBezTo>
                  <a:pt x="16540" y="7724"/>
                  <a:pt x="16655" y="7763"/>
                  <a:pt x="16796" y="7842"/>
                </a:cubicBezTo>
                <a:cubicBezTo>
                  <a:pt x="16828" y="7863"/>
                  <a:pt x="16859" y="7885"/>
                  <a:pt x="16891" y="7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equation in point slope form through (4, 9) and (-2, -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slope-intercept form of th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, y) (3, 2) slope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5791320" y="3352680"/>
            <a:ext cx="2400120" cy="2387880"/>
          </a:xfrm>
          <a:prstGeom prst="rect">
            <a:avLst/>
          </a:prstGeom>
          <a:ln w="0">
            <a:noFill/>
          </a:ln>
        </p:spPr>
      </p:pic>
      <p:sp>
        <p:nvSpPr>
          <p:cNvPr id="175" name="Line 57"/>
          <p:cNvSpPr/>
          <p:nvPr/>
        </p:nvSpPr>
        <p:spPr>
          <a:xfrm flipV="1">
            <a:off x="6553080" y="3276720"/>
            <a:ext cx="152424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Ink 58"/>
          <p:cNvSpPr/>
          <p:nvPr/>
        </p:nvSpPr>
        <p:spPr>
          <a:xfrm>
            <a:off x="3029040" y="1589040"/>
            <a:ext cx="182520" cy="217440"/>
          </a:xfrm>
          <a:custGeom>
            <a:avLst/>
            <a:gdLst/>
            <a:ahLst/>
            <a:rect l="l" t="t" r="r" b="b"/>
            <a:pathLst>
              <a:path w="509" h="604">
                <a:moveTo>
                  <a:pt x="8414" y="4413"/>
                </a:moveTo>
                <a:cubicBezTo>
                  <a:pt x="8478" y="4445"/>
                  <a:pt x="8491" y="4511"/>
                  <a:pt x="8541" y="4572"/>
                </a:cubicBezTo>
                <a:cubicBezTo>
                  <a:pt x="8604" y="4650"/>
                  <a:pt x="8644" y="4712"/>
                  <a:pt x="8700" y="4794"/>
                </a:cubicBezTo>
                <a:cubicBezTo>
                  <a:pt x="8729" y="4837"/>
                  <a:pt x="8750" y="4826"/>
                  <a:pt x="8795" y="4826"/>
                </a:cubicBezTo>
              </a:path>
              <a:path w="509" h="604">
                <a:moveTo>
                  <a:pt x="8795" y="4508"/>
                </a:moveTo>
                <a:cubicBezTo>
                  <a:pt x="8778" y="4575"/>
                  <a:pt x="8720" y="4615"/>
                  <a:pt x="8668" y="4667"/>
                </a:cubicBezTo>
                <a:cubicBezTo>
                  <a:pt x="8606" y="4729"/>
                  <a:pt x="8563" y="4793"/>
                  <a:pt x="8509" y="4858"/>
                </a:cubicBezTo>
                <a:cubicBezTo>
                  <a:pt x="8480" y="4887"/>
                  <a:pt x="8470" y="4893"/>
                  <a:pt x="8477" y="4921"/>
                </a:cubicBezTo>
              </a:path>
              <a:path w="509" h="604">
                <a:moveTo>
                  <a:pt x="8890" y="4762"/>
                </a:moveTo>
                <a:cubicBezTo>
                  <a:pt x="8941" y="4847"/>
                  <a:pt x="8906" y="4848"/>
                  <a:pt x="8890" y="4921"/>
                </a:cubicBezTo>
                <a:cubicBezTo>
                  <a:pt x="8890" y="4974"/>
                  <a:pt x="8890" y="4984"/>
                  <a:pt x="8890" y="50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Ink 59"/>
          <p:cNvSpPr/>
          <p:nvPr/>
        </p:nvSpPr>
        <p:spPr>
          <a:xfrm>
            <a:off x="3508200" y="1622520"/>
            <a:ext cx="160560" cy="183960"/>
          </a:xfrm>
          <a:custGeom>
            <a:avLst/>
            <a:gdLst/>
            <a:ahLst/>
            <a:rect l="l" t="t" r="r" b="b"/>
            <a:pathLst>
              <a:path w="446" h="509">
                <a:moveTo>
                  <a:pt x="9747" y="4572"/>
                </a:moveTo>
                <a:cubicBezTo>
                  <a:pt x="9760" y="4625"/>
                  <a:pt x="9784" y="4652"/>
                  <a:pt x="9811" y="4699"/>
                </a:cubicBezTo>
                <a:cubicBezTo>
                  <a:pt x="9836" y="4751"/>
                  <a:pt x="9847" y="4759"/>
                  <a:pt x="9842" y="4794"/>
                </a:cubicBezTo>
              </a:path>
              <a:path w="446" h="509">
                <a:moveTo>
                  <a:pt x="10033" y="4508"/>
                </a:moveTo>
                <a:cubicBezTo>
                  <a:pt x="10033" y="4593"/>
                  <a:pt x="10011" y="4654"/>
                  <a:pt x="10001" y="4731"/>
                </a:cubicBezTo>
                <a:cubicBezTo>
                  <a:pt x="9989" y="4822"/>
                  <a:pt x="10001" y="4924"/>
                  <a:pt x="10001" y="5016"/>
                </a:cubicBezTo>
              </a:path>
              <a:path w="446" h="509">
                <a:moveTo>
                  <a:pt x="10192" y="4731"/>
                </a:moveTo>
                <a:cubicBezTo>
                  <a:pt x="10192" y="4816"/>
                  <a:pt x="10192" y="4900"/>
                  <a:pt x="10192" y="49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nk 60"/>
          <p:cNvSpPr/>
          <p:nvPr/>
        </p:nvSpPr>
        <p:spPr>
          <a:xfrm>
            <a:off x="5064120" y="1611360"/>
            <a:ext cx="239760" cy="183960"/>
          </a:xfrm>
          <a:custGeom>
            <a:avLst/>
            <a:gdLst/>
            <a:ahLst/>
            <a:rect l="l" t="t" r="r" b="b"/>
            <a:pathLst>
              <a:path w="668" h="509">
                <a:moveTo>
                  <a:pt x="14097" y="4477"/>
                </a:moveTo>
                <a:cubicBezTo>
                  <a:pt x="14142" y="4536"/>
                  <a:pt x="14136" y="4567"/>
                  <a:pt x="14160" y="4636"/>
                </a:cubicBezTo>
                <a:cubicBezTo>
                  <a:pt x="14190" y="4719"/>
                  <a:pt x="14261" y="4777"/>
                  <a:pt x="14288" y="4858"/>
                </a:cubicBezTo>
                <a:cubicBezTo>
                  <a:pt x="14288" y="4890"/>
                  <a:pt x="14288" y="4900"/>
                  <a:pt x="14319" y="4890"/>
                </a:cubicBezTo>
              </a:path>
              <a:path w="668" h="509">
                <a:moveTo>
                  <a:pt x="14383" y="4477"/>
                </a:moveTo>
                <a:cubicBezTo>
                  <a:pt x="14320" y="4549"/>
                  <a:pt x="14269" y="4615"/>
                  <a:pt x="14224" y="4699"/>
                </a:cubicBezTo>
                <a:cubicBezTo>
                  <a:pt x="14182" y="4777"/>
                  <a:pt x="14097" y="4842"/>
                  <a:pt x="14065" y="4921"/>
                </a:cubicBezTo>
                <a:cubicBezTo>
                  <a:pt x="14065" y="4932"/>
                  <a:pt x="14065" y="4942"/>
                  <a:pt x="14065" y="4953"/>
                </a:cubicBezTo>
              </a:path>
              <a:path w="668" h="509">
                <a:moveTo>
                  <a:pt x="14351" y="4731"/>
                </a:moveTo>
                <a:cubicBezTo>
                  <a:pt x="14400" y="4694"/>
                  <a:pt x="14452" y="4690"/>
                  <a:pt x="14510" y="4667"/>
                </a:cubicBezTo>
                <a:cubicBezTo>
                  <a:pt x="14562" y="4642"/>
                  <a:pt x="14570" y="4631"/>
                  <a:pt x="14605" y="4636"/>
                </a:cubicBezTo>
                <a:cubicBezTo>
                  <a:pt x="14589" y="4713"/>
                  <a:pt x="14549" y="4761"/>
                  <a:pt x="14510" y="4826"/>
                </a:cubicBezTo>
                <a:cubicBezTo>
                  <a:pt x="14478" y="4890"/>
                  <a:pt x="14468" y="4911"/>
                  <a:pt x="14446" y="4953"/>
                </a:cubicBezTo>
                <a:cubicBezTo>
                  <a:pt x="14484" y="4982"/>
                  <a:pt x="14550" y="5008"/>
                  <a:pt x="14605" y="4985"/>
                </a:cubicBezTo>
                <a:cubicBezTo>
                  <a:pt x="14674" y="4956"/>
                  <a:pt x="14639" y="4953"/>
                  <a:pt x="14732" y="49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Ink 61"/>
          <p:cNvSpPr/>
          <p:nvPr/>
        </p:nvSpPr>
        <p:spPr>
          <a:xfrm>
            <a:off x="5543640" y="1646280"/>
            <a:ext cx="182520" cy="171360"/>
          </a:xfrm>
          <a:custGeom>
            <a:avLst/>
            <a:gdLst/>
            <a:ahLst/>
            <a:rect l="l" t="t" r="r" b="b"/>
            <a:pathLst>
              <a:path w="509" h="477">
                <a:moveTo>
                  <a:pt x="15399" y="4572"/>
                </a:moveTo>
                <a:cubicBezTo>
                  <a:pt x="15399" y="4634"/>
                  <a:pt x="15366" y="4794"/>
                  <a:pt x="15430" y="4826"/>
                </a:cubicBezTo>
                <a:cubicBezTo>
                  <a:pt x="15468" y="4845"/>
                  <a:pt x="15505" y="4783"/>
                  <a:pt x="15526" y="4762"/>
                </a:cubicBezTo>
              </a:path>
              <a:path w="509" h="477">
                <a:moveTo>
                  <a:pt x="15621" y="4572"/>
                </a:moveTo>
                <a:cubicBezTo>
                  <a:pt x="15608" y="4635"/>
                  <a:pt x="15578" y="4704"/>
                  <a:pt x="15558" y="4762"/>
                </a:cubicBezTo>
                <a:cubicBezTo>
                  <a:pt x="15531" y="4839"/>
                  <a:pt x="15483" y="4916"/>
                  <a:pt x="15462" y="4985"/>
                </a:cubicBezTo>
                <a:cubicBezTo>
                  <a:pt x="15445" y="5040"/>
                  <a:pt x="15487" y="5029"/>
                  <a:pt x="15430" y="5048"/>
                </a:cubicBezTo>
              </a:path>
              <a:path w="509" h="477">
                <a:moveTo>
                  <a:pt x="15684" y="4699"/>
                </a:moveTo>
                <a:cubicBezTo>
                  <a:pt x="15716" y="4699"/>
                  <a:pt x="15748" y="4699"/>
                  <a:pt x="15780" y="4699"/>
                </a:cubicBezTo>
                <a:cubicBezTo>
                  <a:pt x="15746" y="4733"/>
                  <a:pt x="15672" y="4782"/>
                  <a:pt x="15653" y="4826"/>
                </a:cubicBezTo>
                <a:cubicBezTo>
                  <a:pt x="15631" y="4877"/>
                  <a:pt x="15714" y="4917"/>
                  <a:pt x="15748" y="4921"/>
                </a:cubicBezTo>
                <a:cubicBezTo>
                  <a:pt x="15800" y="4927"/>
                  <a:pt x="15855" y="4921"/>
                  <a:pt x="15907" y="49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Ink 62"/>
          <p:cNvSpPr/>
          <p:nvPr/>
        </p:nvSpPr>
        <p:spPr>
          <a:xfrm>
            <a:off x="1908000" y="2171880"/>
            <a:ext cx="366840" cy="239400"/>
          </a:xfrm>
          <a:custGeom>
            <a:avLst/>
            <a:gdLst/>
            <a:ahLst/>
            <a:rect l="l" t="t" r="r" b="b"/>
            <a:pathLst>
              <a:path w="1017" h="668">
                <a:moveTo>
                  <a:pt x="5366" y="6191"/>
                </a:moveTo>
                <a:cubicBezTo>
                  <a:pt x="5355" y="6191"/>
                  <a:pt x="5345" y="6191"/>
                  <a:pt x="5334" y="6191"/>
                </a:cubicBezTo>
              </a:path>
              <a:path w="1017" h="668">
                <a:moveTo>
                  <a:pt x="5366" y="6191"/>
                </a:moveTo>
                <a:cubicBezTo>
                  <a:pt x="5345" y="6191"/>
                  <a:pt x="5323" y="6191"/>
                  <a:pt x="5302" y="6191"/>
                </a:cubicBezTo>
              </a:path>
              <a:path w="1017" h="668">
                <a:moveTo>
                  <a:pt x="5302" y="6191"/>
                </a:moveTo>
                <a:cubicBezTo>
                  <a:pt x="5389" y="6191"/>
                  <a:pt x="5452" y="6199"/>
                  <a:pt x="5524" y="6223"/>
                </a:cubicBezTo>
                <a:cubicBezTo>
                  <a:pt x="5557" y="6234"/>
                  <a:pt x="5616" y="6223"/>
                  <a:pt x="5652" y="6223"/>
                </a:cubicBezTo>
              </a:path>
              <a:path w="1017" h="668">
                <a:moveTo>
                  <a:pt x="5969" y="6064"/>
                </a:moveTo>
                <a:cubicBezTo>
                  <a:pt x="5969" y="6031"/>
                  <a:pt x="5929" y="6048"/>
                  <a:pt x="5906" y="6096"/>
                </a:cubicBezTo>
                <a:cubicBezTo>
                  <a:pt x="5879" y="6151"/>
                  <a:pt x="5867" y="6236"/>
                  <a:pt x="5842" y="6286"/>
                </a:cubicBezTo>
                <a:cubicBezTo>
                  <a:pt x="5808" y="6353"/>
                  <a:pt x="5810" y="6392"/>
                  <a:pt x="5810" y="6477"/>
                </a:cubicBezTo>
                <a:cubicBezTo>
                  <a:pt x="5810" y="6502"/>
                  <a:pt x="5881" y="6628"/>
                  <a:pt x="5906" y="6636"/>
                </a:cubicBezTo>
                <a:cubicBezTo>
                  <a:pt x="5993" y="6663"/>
                  <a:pt x="6019" y="6651"/>
                  <a:pt x="6096" y="6636"/>
                </a:cubicBezTo>
                <a:cubicBezTo>
                  <a:pt x="6171" y="6621"/>
                  <a:pt x="6245" y="6592"/>
                  <a:pt x="6286" y="6509"/>
                </a:cubicBezTo>
                <a:cubicBezTo>
                  <a:pt x="6308" y="6464"/>
                  <a:pt x="6351" y="6391"/>
                  <a:pt x="6286" y="6350"/>
                </a:cubicBezTo>
                <a:cubicBezTo>
                  <a:pt x="6247" y="6325"/>
                  <a:pt x="6185" y="6360"/>
                  <a:pt x="6160" y="6382"/>
                </a:cubicBezTo>
                <a:cubicBezTo>
                  <a:pt x="6092" y="6443"/>
                  <a:pt x="6097" y="6507"/>
                  <a:pt x="6064" y="6572"/>
                </a:cubicBezTo>
                <a:cubicBezTo>
                  <a:pt x="6032" y="6636"/>
                  <a:pt x="6015" y="6635"/>
                  <a:pt x="6064" y="66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Ink 63"/>
          <p:cNvSpPr/>
          <p:nvPr/>
        </p:nvSpPr>
        <p:spPr>
          <a:xfrm>
            <a:off x="2400480" y="2217600"/>
            <a:ext cx="366480" cy="206640"/>
          </a:xfrm>
          <a:custGeom>
            <a:avLst/>
            <a:gdLst/>
            <a:ahLst/>
            <a:rect l="l" t="t" r="r" b="b"/>
            <a:pathLst>
              <a:path w="1017" h="572">
                <a:moveTo>
                  <a:pt x="6699" y="6382"/>
                </a:moveTo>
                <a:cubicBezTo>
                  <a:pt x="6647" y="6382"/>
                  <a:pt x="6742" y="6382"/>
                  <a:pt x="6794" y="6382"/>
                </a:cubicBezTo>
                <a:cubicBezTo>
                  <a:pt x="6868" y="6382"/>
                  <a:pt x="6943" y="6382"/>
                  <a:pt x="7017" y="6382"/>
                </a:cubicBezTo>
              </a:path>
              <a:path w="1017" h="572">
                <a:moveTo>
                  <a:pt x="7588" y="6414"/>
                </a:moveTo>
                <a:cubicBezTo>
                  <a:pt x="7603" y="6370"/>
                  <a:pt x="7633" y="6375"/>
                  <a:pt x="7652" y="6318"/>
                </a:cubicBezTo>
                <a:cubicBezTo>
                  <a:pt x="7671" y="6260"/>
                  <a:pt x="7644" y="6211"/>
                  <a:pt x="7620" y="6191"/>
                </a:cubicBezTo>
                <a:cubicBezTo>
                  <a:pt x="7562" y="6142"/>
                  <a:pt x="7498" y="6149"/>
                  <a:pt x="7430" y="6191"/>
                </a:cubicBezTo>
                <a:cubicBezTo>
                  <a:pt x="7380" y="6222"/>
                  <a:pt x="7320" y="6296"/>
                  <a:pt x="7302" y="6350"/>
                </a:cubicBezTo>
                <a:cubicBezTo>
                  <a:pt x="7284" y="6403"/>
                  <a:pt x="7361" y="6441"/>
                  <a:pt x="7398" y="6445"/>
                </a:cubicBezTo>
                <a:cubicBezTo>
                  <a:pt x="7480" y="6454"/>
                  <a:pt x="7528" y="6436"/>
                  <a:pt x="7588" y="6382"/>
                </a:cubicBezTo>
                <a:cubicBezTo>
                  <a:pt x="7621" y="6352"/>
                  <a:pt x="7652" y="6318"/>
                  <a:pt x="7684" y="6286"/>
                </a:cubicBezTo>
                <a:cubicBezTo>
                  <a:pt x="7684" y="6354"/>
                  <a:pt x="7663" y="6381"/>
                  <a:pt x="7652" y="6445"/>
                </a:cubicBezTo>
                <a:cubicBezTo>
                  <a:pt x="7634" y="6545"/>
                  <a:pt x="7682" y="6649"/>
                  <a:pt x="7620" y="6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Ink 64"/>
          <p:cNvSpPr/>
          <p:nvPr/>
        </p:nvSpPr>
        <p:spPr>
          <a:xfrm>
            <a:off x="2000160" y="2217600"/>
            <a:ext cx="1474920" cy="560520"/>
          </a:xfrm>
          <a:custGeom>
            <a:avLst/>
            <a:gdLst/>
            <a:ahLst/>
            <a:rect l="l" t="t" r="r" b="b"/>
            <a:pathLst>
              <a:path w="4097" h="1556">
                <a:moveTo>
                  <a:pt x="5715" y="6953"/>
                </a:moveTo>
                <a:cubicBezTo>
                  <a:pt x="5650" y="6953"/>
                  <a:pt x="5755" y="6977"/>
                  <a:pt x="5778" y="6985"/>
                </a:cubicBezTo>
                <a:cubicBezTo>
                  <a:pt x="5795" y="6991"/>
                  <a:pt x="6009" y="6958"/>
                  <a:pt x="6032" y="6953"/>
                </a:cubicBezTo>
                <a:cubicBezTo>
                  <a:pt x="6169" y="6921"/>
                  <a:pt x="6299" y="6922"/>
                  <a:pt x="6445" y="6922"/>
                </a:cubicBezTo>
                <a:cubicBezTo>
                  <a:pt x="6744" y="6922"/>
                  <a:pt x="7041" y="6922"/>
                  <a:pt x="7334" y="6953"/>
                </a:cubicBezTo>
                <a:cubicBezTo>
                  <a:pt x="7431" y="6963"/>
                  <a:pt x="7657" y="6940"/>
                  <a:pt x="7652" y="6953"/>
                </a:cubicBezTo>
                <a:cubicBezTo>
                  <a:pt x="7652" y="6964"/>
                  <a:pt x="7652" y="6974"/>
                  <a:pt x="7652" y="6985"/>
                </a:cubicBezTo>
              </a:path>
              <a:path w="4097" h="1556">
                <a:moveTo>
                  <a:pt x="5556" y="7271"/>
                </a:moveTo>
                <a:cubicBezTo>
                  <a:pt x="5624" y="7271"/>
                  <a:pt x="5646" y="7245"/>
                  <a:pt x="5715" y="7239"/>
                </a:cubicBezTo>
                <a:cubicBezTo>
                  <a:pt x="5747" y="7239"/>
                  <a:pt x="5757" y="7239"/>
                  <a:pt x="5778" y="7239"/>
                </a:cubicBezTo>
              </a:path>
              <a:path w="4097" h="1556">
                <a:moveTo>
                  <a:pt x="6032" y="7144"/>
                </a:moveTo>
                <a:cubicBezTo>
                  <a:pt x="6088" y="7088"/>
                  <a:pt x="6098" y="7103"/>
                  <a:pt x="6160" y="7080"/>
                </a:cubicBezTo>
                <a:cubicBezTo>
                  <a:pt x="6205" y="7064"/>
                  <a:pt x="6283" y="7009"/>
                  <a:pt x="6318" y="7080"/>
                </a:cubicBezTo>
                <a:cubicBezTo>
                  <a:pt x="6347" y="7138"/>
                  <a:pt x="6310" y="7197"/>
                  <a:pt x="6286" y="7239"/>
                </a:cubicBezTo>
                <a:cubicBezTo>
                  <a:pt x="6241" y="7318"/>
                  <a:pt x="6193" y="7365"/>
                  <a:pt x="6128" y="7430"/>
                </a:cubicBezTo>
                <a:cubicBezTo>
                  <a:pt x="6086" y="7472"/>
                  <a:pt x="6045" y="7486"/>
                  <a:pt x="6032" y="7525"/>
                </a:cubicBezTo>
                <a:cubicBezTo>
                  <a:pt x="6042" y="7496"/>
                  <a:pt x="6087" y="7475"/>
                  <a:pt x="6128" y="7461"/>
                </a:cubicBezTo>
                <a:cubicBezTo>
                  <a:pt x="6198" y="7438"/>
                  <a:pt x="6265" y="7475"/>
                  <a:pt x="6318" y="7493"/>
                </a:cubicBezTo>
                <a:cubicBezTo>
                  <a:pt x="6350" y="7493"/>
                  <a:pt x="6361" y="7493"/>
                  <a:pt x="6382" y="7493"/>
                </a:cubicBezTo>
              </a:path>
              <a:path w="4097" h="1556">
                <a:moveTo>
                  <a:pt x="6509" y="7302"/>
                </a:moveTo>
                <a:cubicBezTo>
                  <a:pt x="6554" y="7302"/>
                  <a:pt x="6602" y="7293"/>
                  <a:pt x="6636" y="7271"/>
                </a:cubicBezTo>
                <a:cubicBezTo>
                  <a:pt x="6672" y="7235"/>
                  <a:pt x="6689" y="7224"/>
                  <a:pt x="6731" y="7239"/>
                </a:cubicBezTo>
              </a:path>
              <a:path w="4097" h="1556">
                <a:moveTo>
                  <a:pt x="6922" y="7080"/>
                </a:moveTo>
                <a:cubicBezTo>
                  <a:pt x="6922" y="7158"/>
                  <a:pt x="6949" y="7346"/>
                  <a:pt x="6890" y="7366"/>
                </a:cubicBezTo>
                <a:cubicBezTo>
                  <a:pt x="6939" y="7403"/>
                  <a:pt x="6955" y="7398"/>
                  <a:pt x="7017" y="7398"/>
                </a:cubicBezTo>
                <a:cubicBezTo>
                  <a:pt x="7059" y="7398"/>
                  <a:pt x="7116" y="7442"/>
                  <a:pt x="7144" y="7430"/>
                </a:cubicBezTo>
                <a:cubicBezTo>
                  <a:pt x="7173" y="7401"/>
                  <a:pt x="7179" y="7391"/>
                  <a:pt x="7207" y="7398"/>
                </a:cubicBezTo>
              </a:path>
              <a:path w="4097" h="1556">
                <a:moveTo>
                  <a:pt x="7207" y="7144"/>
                </a:moveTo>
                <a:cubicBezTo>
                  <a:pt x="7207" y="7204"/>
                  <a:pt x="7180" y="7245"/>
                  <a:pt x="7176" y="7302"/>
                </a:cubicBezTo>
                <a:cubicBezTo>
                  <a:pt x="7171" y="7383"/>
                  <a:pt x="7143" y="7694"/>
                  <a:pt x="7207" y="7715"/>
                </a:cubicBezTo>
              </a:path>
              <a:path w="4097" h="1556">
                <a:moveTo>
                  <a:pt x="8001" y="6985"/>
                </a:moveTo>
                <a:cubicBezTo>
                  <a:pt x="8012" y="6985"/>
                  <a:pt x="8022" y="6985"/>
                  <a:pt x="8033" y="6985"/>
                </a:cubicBezTo>
                <a:cubicBezTo>
                  <a:pt x="8050" y="6931"/>
                  <a:pt x="8095" y="6953"/>
                  <a:pt x="8160" y="6953"/>
                </a:cubicBezTo>
                <a:cubicBezTo>
                  <a:pt x="8171" y="6953"/>
                  <a:pt x="8181" y="6953"/>
                  <a:pt x="8192" y="6953"/>
                </a:cubicBezTo>
              </a:path>
              <a:path w="4097" h="1556">
                <a:moveTo>
                  <a:pt x="8001" y="7207"/>
                </a:moveTo>
                <a:cubicBezTo>
                  <a:pt x="8075" y="7252"/>
                  <a:pt x="8075" y="7239"/>
                  <a:pt x="8160" y="7207"/>
                </a:cubicBezTo>
              </a:path>
              <a:path w="4097" h="1556">
                <a:moveTo>
                  <a:pt x="8572" y="6414"/>
                </a:moveTo>
                <a:cubicBezTo>
                  <a:pt x="8667" y="6414"/>
                  <a:pt x="8763" y="6414"/>
                  <a:pt x="8858" y="6414"/>
                </a:cubicBezTo>
              </a:path>
              <a:path w="4097" h="1556">
                <a:moveTo>
                  <a:pt x="9144" y="6160"/>
                </a:moveTo>
                <a:cubicBezTo>
                  <a:pt x="9114" y="6238"/>
                  <a:pt x="9085" y="6302"/>
                  <a:pt x="9080" y="6382"/>
                </a:cubicBezTo>
                <a:cubicBezTo>
                  <a:pt x="9074" y="6484"/>
                  <a:pt x="9056" y="6571"/>
                  <a:pt x="9049" y="6668"/>
                </a:cubicBezTo>
                <a:cubicBezTo>
                  <a:pt x="9045" y="6719"/>
                  <a:pt x="9017" y="6736"/>
                  <a:pt x="9017" y="6794"/>
                </a:cubicBezTo>
              </a:path>
              <a:path w="4097" h="1556">
                <a:moveTo>
                  <a:pt x="9620" y="6223"/>
                </a:moveTo>
                <a:cubicBezTo>
                  <a:pt x="9552" y="6223"/>
                  <a:pt x="9531" y="6249"/>
                  <a:pt x="9462" y="6255"/>
                </a:cubicBezTo>
                <a:cubicBezTo>
                  <a:pt x="9410" y="6259"/>
                  <a:pt x="9355" y="6255"/>
                  <a:pt x="9303" y="6255"/>
                </a:cubicBezTo>
                <a:cubicBezTo>
                  <a:pt x="9303" y="6334"/>
                  <a:pt x="9292" y="6382"/>
                  <a:pt x="9271" y="6445"/>
                </a:cubicBezTo>
                <a:cubicBezTo>
                  <a:pt x="9271" y="6456"/>
                  <a:pt x="9271" y="6466"/>
                  <a:pt x="9271" y="6477"/>
                </a:cubicBezTo>
                <a:cubicBezTo>
                  <a:pt x="9318" y="6465"/>
                  <a:pt x="9359" y="6448"/>
                  <a:pt x="9398" y="6414"/>
                </a:cubicBezTo>
                <a:cubicBezTo>
                  <a:pt x="9475" y="6347"/>
                  <a:pt x="9445" y="6355"/>
                  <a:pt x="9525" y="6382"/>
                </a:cubicBezTo>
                <a:cubicBezTo>
                  <a:pt x="9559" y="6393"/>
                  <a:pt x="9639" y="6431"/>
                  <a:pt x="9652" y="6477"/>
                </a:cubicBezTo>
                <a:cubicBezTo>
                  <a:pt x="9668" y="6534"/>
                  <a:pt x="9655" y="6597"/>
                  <a:pt x="9620" y="6636"/>
                </a:cubicBezTo>
                <a:cubicBezTo>
                  <a:pt x="9591" y="6668"/>
                  <a:pt x="9535" y="6696"/>
                  <a:pt x="9493" y="6699"/>
                </a:cubicBezTo>
                <a:cubicBezTo>
                  <a:pt x="9411" y="6705"/>
                  <a:pt x="9362" y="6731"/>
                  <a:pt x="9271" y="6731"/>
                </a:cubicBezTo>
                <a:cubicBezTo>
                  <a:pt x="9260" y="6731"/>
                  <a:pt x="9250" y="6731"/>
                  <a:pt x="9239" y="6731"/>
                </a:cubicBezTo>
              </a:path>
              <a:path w="4097" h="1556">
                <a:moveTo>
                  <a:pt x="8572" y="7080"/>
                </a:moveTo>
                <a:cubicBezTo>
                  <a:pt x="8640" y="7063"/>
                  <a:pt x="8682" y="7048"/>
                  <a:pt x="8763" y="7048"/>
                </a:cubicBezTo>
                <a:cubicBezTo>
                  <a:pt x="8878" y="7048"/>
                  <a:pt x="8969" y="7021"/>
                  <a:pt x="9080" y="7017"/>
                </a:cubicBezTo>
                <a:cubicBezTo>
                  <a:pt x="9196" y="7013"/>
                  <a:pt x="9291" y="7032"/>
                  <a:pt x="9398" y="7048"/>
                </a:cubicBezTo>
                <a:cubicBezTo>
                  <a:pt x="9457" y="7057"/>
                  <a:pt x="9528" y="7048"/>
                  <a:pt x="9588" y="70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Ink 65"/>
          <p:cNvSpPr/>
          <p:nvPr/>
        </p:nvSpPr>
        <p:spPr>
          <a:xfrm>
            <a:off x="3063960" y="2617920"/>
            <a:ext cx="285840" cy="160200"/>
          </a:xfrm>
          <a:custGeom>
            <a:avLst/>
            <a:gdLst/>
            <a:ahLst/>
            <a:rect l="l" t="t" r="r" b="b"/>
            <a:pathLst>
              <a:path w="795" h="445">
                <a:moveTo>
                  <a:pt x="8509" y="7461"/>
                </a:moveTo>
                <a:cubicBezTo>
                  <a:pt x="8557" y="7426"/>
                  <a:pt x="8575" y="7430"/>
                  <a:pt x="8636" y="7430"/>
                </a:cubicBezTo>
                <a:cubicBezTo>
                  <a:pt x="8668" y="7430"/>
                  <a:pt x="8699" y="7430"/>
                  <a:pt x="8731" y="7430"/>
                </a:cubicBezTo>
              </a:path>
              <a:path w="795" h="445">
                <a:moveTo>
                  <a:pt x="8922" y="7271"/>
                </a:moveTo>
                <a:cubicBezTo>
                  <a:pt x="8858" y="7292"/>
                  <a:pt x="8880" y="7364"/>
                  <a:pt x="8858" y="7430"/>
                </a:cubicBezTo>
                <a:cubicBezTo>
                  <a:pt x="8833" y="7505"/>
                  <a:pt x="8813" y="7545"/>
                  <a:pt x="8858" y="7620"/>
                </a:cubicBezTo>
                <a:cubicBezTo>
                  <a:pt x="8896" y="7684"/>
                  <a:pt x="8950" y="7711"/>
                  <a:pt x="9017" y="7715"/>
                </a:cubicBezTo>
                <a:cubicBezTo>
                  <a:pt x="9109" y="7720"/>
                  <a:pt x="9133" y="7697"/>
                  <a:pt x="9208" y="7652"/>
                </a:cubicBezTo>
                <a:cubicBezTo>
                  <a:pt x="9246" y="7629"/>
                  <a:pt x="9341" y="7593"/>
                  <a:pt x="9303" y="7525"/>
                </a:cubicBezTo>
                <a:cubicBezTo>
                  <a:pt x="9257" y="7443"/>
                  <a:pt x="9190" y="7422"/>
                  <a:pt x="9112" y="7461"/>
                </a:cubicBezTo>
                <a:cubicBezTo>
                  <a:pt x="9035" y="7499"/>
                  <a:pt x="8980" y="7567"/>
                  <a:pt x="8954" y="7652"/>
                </a:cubicBezTo>
                <a:cubicBezTo>
                  <a:pt x="8954" y="7684"/>
                  <a:pt x="8954" y="7694"/>
                  <a:pt x="8954" y="77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Ink 66"/>
          <p:cNvSpPr/>
          <p:nvPr/>
        </p:nvSpPr>
        <p:spPr>
          <a:xfrm>
            <a:off x="3543480" y="2171880"/>
            <a:ext cx="537840" cy="560160"/>
          </a:xfrm>
          <a:custGeom>
            <a:avLst/>
            <a:gdLst/>
            <a:ahLst/>
            <a:rect l="l" t="t" r="r" b="b"/>
            <a:pathLst>
              <a:path w="1494" h="1557">
                <a:moveTo>
                  <a:pt x="9938" y="6890"/>
                </a:moveTo>
                <a:cubicBezTo>
                  <a:pt x="9949" y="6901"/>
                  <a:pt x="9959" y="6911"/>
                  <a:pt x="9970" y="6922"/>
                </a:cubicBezTo>
                <a:cubicBezTo>
                  <a:pt x="10034" y="6883"/>
                  <a:pt x="10081" y="6890"/>
                  <a:pt x="10160" y="6890"/>
                </a:cubicBezTo>
                <a:cubicBezTo>
                  <a:pt x="10171" y="6890"/>
                  <a:pt x="10181" y="6890"/>
                  <a:pt x="10192" y="6890"/>
                </a:cubicBezTo>
              </a:path>
              <a:path w="1494" h="1557">
                <a:moveTo>
                  <a:pt x="9842" y="7207"/>
                </a:moveTo>
                <a:cubicBezTo>
                  <a:pt x="9935" y="7230"/>
                  <a:pt x="9897" y="7233"/>
                  <a:pt x="10001" y="7207"/>
                </a:cubicBezTo>
                <a:cubicBezTo>
                  <a:pt x="10047" y="7195"/>
                  <a:pt x="10113" y="7207"/>
                  <a:pt x="10160" y="7207"/>
                </a:cubicBezTo>
              </a:path>
              <a:path w="1494" h="1557">
                <a:moveTo>
                  <a:pt x="11335" y="6064"/>
                </a:moveTo>
                <a:cubicBezTo>
                  <a:pt x="11319" y="6016"/>
                  <a:pt x="11297" y="6032"/>
                  <a:pt x="11240" y="6032"/>
                </a:cubicBezTo>
                <a:cubicBezTo>
                  <a:pt x="11179" y="6032"/>
                  <a:pt x="11139" y="6058"/>
                  <a:pt x="11081" y="6064"/>
                </a:cubicBezTo>
                <a:cubicBezTo>
                  <a:pt x="11040" y="6068"/>
                  <a:pt x="10996" y="6064"/>
                  <a:pt x="10954" y="6064"/>
                </a:cubicBezTo>
                <a:cubicBezTo>
                  <a:pt x="10954" y="6140"/>
                  <a:pt x="10927" y="6160"/>
                  <a:pt x="10922" y="6223"/>
                </a:cubicBezTo>
                <a:cubicBezTo>
                  <a:pt x="10918" y="6282"/>
                  <a:pt x="10898" y="6383"/>
                  <a:pt x="10922" y="6350"/>
                </a:cubicBezTo>
                <a:cubicBezTo>
                  <a:pt x="10960" y="6297"/>
                  <a:pt x="10988" y="6286"/>
                  <a:pt x="11049" y="6286"/>
                </a:cubicBezTo>
                <a:cubicBezTo>
                  <a:pt x="11118" y="6286"/>
                  <a:pt x="11158" y="6273"/>
                  <a:pt x="11208" y="6318"/>
                </a:cubicBezTo>
                <a:cubicBezTo>
                  <a:pt x="11233" y="6340"/>
                  <a:pt x="11280" y="6445"/>
                  <a:pt x="11271" y="6477"/>
                </a:cubicBezTo>
                <a:cubicBezTo>
                  <a:pt x="11249" y="6555"/>
                  <a:pt x="11238" y="6577"/>
                  <a:pt x="11176" y="6604"/>
                </a:cubicBezTo>
                <a:cubicBezTo>
                  <a:pt x="11117" y="6629"/>
                  <a:pt x="11050" y="6664"/>
                  <a:pt x="10986" y="6668"/>
                </a:cubicBezTo>
                <a:cubicBezTo>
                  <a:pt x="10886" y="6675"/>
                  <a:pt x="10952" y="6657"/>
                  <a:pt x="10890" y="6636"/>
                </a:cubicBezTo>
              </a:path>
              <a:path w="1494" h="1557">
                <a:moveTo>
                  <a:pt x="10636" y="6922"/>
                </a:moveTo>
                <a:cubicBezTo>
                  <a:pt x="10709" y="6922"/>
                  <a:pt x="10760" y="6901"/>
                  <a:pt x="10827" y="6890"/>
                </a:cubicBezTo>
                <a:cubicBezTo>
                  <a:pt x="10925" y="6874"/>
                  <a:pt x="11009" y="6858"/>
                  <a:pt x="11112" y="6858"/>
                </a:cubicBezTo>
                <a:cubicBezTo>
                  <a:pt x="11176" y="6858"/>
                  <a:pt x="11239" y="6858"/>
                  <a:pt x="11303" y="6858"/>
                </a:cubicBezTo>
              </a:path>
              <a:path w="1494" h="1557">
                <a:moveTo>
                  <a:pt x="10827" y="7144"/>
                </a:moveTo>
                <a:cubicBezTo>
                  <a:pt x="10890" y="7128"/>
                  <a:pt x="10948" y="7096"/>
                  <a:pt x="11017" y="7080"/>
                </a:cubicBezTo>
                <a:cubicBezTo>
                  <a:pt x="11053" y="7072"/>
                  <a:pt x="11161" y="7062"/>
                  <a:pt x="11176" y="7112"/>
                </a:cubicBezTo>
                <a:cubicBezTo>
                  <a:pt x="11206" y="7209"/>
                  <a:pt x="11091" y="7249"/>
                  <a:pt x="11049" y="7302"/>
                </a:cubicBezTo>
                <a:cubicBezTo>
                  <a:pt x="10999" y="7365"/>
                  <a:pt x="10950" y="7402"/>
                  <a:pt x="10890" y="7461"/>
                </a:cubicBezTo>
                <a:cubicBezTo>
                  <a:pt x="10848" y="7502"/>
                  <a:pt x="10834" y="7543"/>
                  <a:pt x="10795" y="7556"/>
                </a:cubicBezTo>
                <a:cubicBezTo>
                  <a:pt x="10853" y="7556"/>
                  <a:pt x="10871" y="7531"/>
                  <a:pt x="10922" y="7525"/>
                </a:cubicBezTo>
                <a:cubicBezTo>
                  <a:pt x="10980" y="7519"/>
                  <a:pt x="11048" y="7466"/>
                  <a:pt x="11112" y="7493"/>
                </a:cubicBezTo>
                <a:cubicBezTo>
                  <a:pt x="11160" y="7513"/>
                  <a:pt x="11183" y="7572"/>
                  <a:pt x="11208" y="7588"/>
                </a:cubicBezTo>
                <a:cubicBezTo>
                  <a:pt x="11248" y="7614"/>
                  <a:pt x="11309" y="7575"/>
                  <a:pt x="11335" y="75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Ink 67"/>
          <p:cNvSpPr/>
          <p:nvPr/>
        </p:nvSpPr>
        <p:spPr>
          <a:xfrm>
            <a:off x="2239920" y="3200400"/>
            <a:ext cx="1806480" cy="1006560"/>
          </a:xfrm>
          <a:custGeom>
            <a:avLst/>
            <a:gdLst/>
            <a:ahLst/>
            <a:rect l="l" t="t" r="r" b="b"/>
            <a:pathLst>
              <a:path w="5018" h="2795">
                <a:moveTo>
                  <a:pt x="6382" y="9462"/>
                </a:moveTo>
                <a:lnTo>
                  <a:pt x="6382" y="9462"/>
                </a:lnTo>
              </a:path>
              <a:path w="5018" h="2795">
                <a:moveTo>
                  <a:pt x="6382" y="9462"/>
                </a:moveTo>
                <a:lnTo>
                  <a:pt x="6382" y="9462"/>
                </a:lnTo>
              </a:path>
              <a:path w="5018" h="2795">
                <a:moveTo>
                  <a:pt x="6414" y="9462"/>
                </a:moveTo>
                <a:cubicBezTo>
                  <a:pt x="6387" y="9515"/>
                  <a:pt x="6387" y="9498"/>
                  <a:pt x="6382" y="9588"/>
                </a:cubicBezTo>
                <a:cubicBezTo>
                  <a:pt x="6377" y="9666"/>
                  <a:pt x="6367" y="9764"/>
                  <a:pt x="6350" y="9842"/>
                </a:cubicBezTo>
                <a:cubicBezTo>
                  <a:pt x="6321" y="9974"/>
                  <a:pt x="6318" y="10087"/>
                  <a:pt x="6318" y="10224"/>
                </a:cubicBezTo>
                <a:cubicBezTo>
                  <a:pt x="6318" y="10304"/>
                  <a:pt x="6346" y="10383"/>
                  <a:pt x="6382" y="10446"/>
                </a:cubicBezTo>
                <a:cubicBezTo>
                  <a:pt x="6414" y="10446"/>
                  <a:pt x="6425" y="10446"/>
                  <a:pt x="6414" y="10478"/>
                </a:cubicBezTo>
                <a:cubicBezTo>
                  <a:pt x="6490" y="10430"/>
                  <a:pt x="6534" y="10405"/>
                  <a:pt x="6572" y="10319"/>
                </a:cubicBezTo>
                <a:cubicBezTo>
                  <a:pt x="6654" y="10132"/>
                  <a:pt x="6753" y="9882"/>
                  <a:pt x="6794" y="9684"/>
                </a:cubicBezTo>
                <a:cubicBezTo>
                  <a:pt x="6794" y="9652"/>
                  <a:pt x="6794" y="9641"/>
                  <a:pt x="6794" y="9620"/>
                </a:cubicBezTo>
                <a:cubicBezTo>
                  <a:pt x="6787" y="9699"/>
                  <a:pt x="6766" y="9764"/>
                  <a:pt x="6763" y="9842"/>
                </a:cubicBezTo>
                <a:cubicBezTo>
                  <a:pt x="6757" y="9993"/>
                  <a:pt x="6731" y="10132"/>
                  <a:pt x="6731" y="10287"/>
                </a:cubicBezTo>
                <a:cubicBezTo>
                  <a:pt x="6731" y="10447"/>
                  <a:pt x="6721" y="10636"/>
                  <a:pt x="6699" y="10795"/>
                </a:cubicBezTo>
                <a:cubicBezTo>
                  <a:pt x="6676" y="10966"/>
                  <a:pt x="6626" y="11132"/>
                  <a:pt x="6604" y="11303"/>
                </a:cubicBezTo>
                <a:cubicBezTo>
                  <a:pt x="6588" y="11424"/>
                  <a:pt x="6574" y="11533"/>
                  <a:pt x="6477" y="11620"/>
                </a:cubicBezTo>
                <a:cubicBezTo>
                  <a:pt x="6441" y="11652"/>
                  <a:pt x="6374" y="11712"/>
                  <a:pt x="6318" y="11684"/>
                </a:cubicBezTo>
                <a:cubicBezTo>
                  <a:pt x="6246" y="11648"/>
                  <a:pt x="6227" y="11563"/>
                  <a:pt x="6223" y="11494"/>
                </a:cubicBezTo>
                <a:cubicBezTo>
                  <a:pt x="6217" y="11387"/>
                  <a:pt x="6230" y="11277"/>
                  <a:pt x="6255" y="11176"/>
                </a:cubicBezTo>
                <a:cubicBezTo>
                  <a:pt x="6283" y="11061"/>
                  <a:pt x="6370" y="10920"/>
                  <a:pt x="6445" y="10827"/>
                </a:cubicBezTo>
                <a:cubicBezTo>
                  <a:pt x="6514" y="10742"/>
                  <a:pt x="6604" y="10656"/>
                  <a:pt x="6699" y="10604"/>
                </a:cubicBezTo>
                <a:cubicBezTo>
                  <a:pt x="6781" y="10559"/>
                  <a:pt x="6844" y="10494"/>
                  <a:pt x="6922" y="10446"/>
                </a:cubicBezTo>
                <a:cubicBezTo>
                  <a:pt x="6986" y="10406"/>
                  <a:pt x="7002" y="10377"/>
                  <a:pt x="7048" y="10319"/>
                </a:cubicBezTo>
              </a:path>
              <a:path w="5018" h="2795">
                <a:moveTo>
                  <a:pt x="7144" y="9842"/>
                </a:moveTo>
                <a:cubicBezTo>
                  <a:pt x="7166" y="9778"/>
                  <a:pt x="7210" y="9810"/>
                  <a:pt x="7271" y="9779"/>
                </a:cubicBezTo>
                <a:cubicBezTo>
                  <a:pt x="7350" y="9739"/>
                  <a:pt x="7430" y="9747"/>
                  <a:pt x="7525" y="9747"/>
                </a:cubicBezTo>
                <a:cubicBezTo>
                  <a:pt x="7599" y="9747"/>
                  <a:pt x="7673" y="9747"/>
                  <a:pt x="7747" y="9747"/>
                </a:cubicBezTo>
              </a:path>
              <a:path w="5018" h="2795">
                <a:moveTo>
                  <a:pt x="7302" y="10096"/>
                </a:moveTo>
                <a:cubicBezTo>
                  <a:pt x="7366" y="10112"/>
                  <a:pt x="7384" y="10128"/>
                  <a:pt x="7461" y="10128"/>
                </a:cubicBezTo>
                <a:cubicBezTo>
                  <a:pt x="7553" y="10128"/>
                  <a:pt x="7632" y="10150"/>
                  <a:pt x="7715" y="10160"/>
                </a:cubicBezTo>
                <a:cubicBezTo>
                  <a:pt x="7747" y="10160"/>
                  <a:pt x="7778" y="10160"/>
                  <a:pt x="7810" y="10160"/>
                </a:cubicBezTo>
              </a:path>
              <a:path w="5018" h="2795">
                <a:moveTo>
                  <a:pt x="8128" y="9080"/>
                </a:moveTo>
                <a:cubicBezTo>
                  <a:pt x="8128" y="9025"/>
                  <a:pt x="8136" y="9016"/>
                  <a:pt x="8160" y="8985"/>
                </a:cubicBezTo>
                <a:cubicBezTo>
                  <a:pt x="8184" y="8953"/>
                  <a:pt x="8309" y="8885"/>
                  <a:pt x="8350" y="8890"/>
                </a:cubicBezTo>
                <a:cubicBezTo>
                  <a:pt x="8408" y="8897"/>
                  <a:pt x="8471" y="8929"/>
                  <a:pt x="8477" y="8985"/>
                </a:cubicBezTo>
                <a:cubicBezTo>
                  <a:pt x="8486" y="9067"/>
                  <a:pt x="8463" y="9084"/>
                  <a:pt x="8414" y="9144"/>
                </a:cubicBezTo>
                <a:cubicBezTo>
                  <a:pt x="8381" y="9184"/>
                  <a:pt x="8300" y="9224"/>
                  <a:pt x="8255" y="9239"/>
                </a:cubicBezTo>
                <a:cubicBezTo>
                  <a:pt x="8244" y="9239"/>
                  <a:pt x="8234" y="9239"/>
                  <a:pt x="8223" y="9239"/>
                </a:cubicBezTo>
                <a:cubicBezTo>
                  <a:pt x="8267" y="9207"/>
                  <a:pt x="8320" y="9161"/>
                  <a:pt x="8382" y="9176"/>
                </a:cubicBezTo>
                <a:cubicBezTo>
                  <a:pt x="8470" y="9197"/>
                  <a:pt x="8540" y="9207"/>
                  <a:pt x="8572" y="9303"/>
                </a:cubicBezTo>
                <a:cubicBezTo>
                  <a:pt x="8587" y="9349"/>
                  <a:pt x="8564" y="9465"/>
                  <a:pt x="8541" y="9493"/>
                </a:cubicBezTo>
                <a:cubicBezTo>
                  <a:pt x="8515" y="9526"/>
                  <a:pt x="8426" y="9525"/>
                  <a:pt x="8382" y="9525"/>
                </a:cubicBezTo>
                <a:cubicBezTo>
                  <a:pt x="8292" y="9525"/>
                  <a:pt x="8198" y="9546"/>
                  <a:pt x="8128" y="9493"/>
                </a:cubicBezTo>
              </a:path>
              <a:path w="5018" h="2795">
                <a:moveTo>
                  <a:pt x="8033" y="9747"/>
                </a:moveTo>
                <a:cubicBezTo>
                  <a:pt x="7951" y="9747"/>
                  <a:pt x="8144" y="9718"/>
                  <a:pt x="8160" y="9716"/>
                </a:cubicBezTo>
                <a:cubicBezTo>
                  <a:pt x="8283" y="9700"/>
                  <a:pt x="8396" y="9729"/>
                  <a:pt x="8509" y="9747"/>
                </a:cubicBezTo>
                <a:cubicBezTo>
                  <a:pt x="8566" y="9747"/>
                  <a:pt x="8583" y="9743"/>
                  <a:pt x="8604" y="9779"/>
                </a:cubicBezTo>
              </a:path>
              <a:path w="5018" h="2795">
                <a:moveTo>
                  <a:pt x="8128" y="10096"/>
                </a:moveTo>
                <a:cubicBezTo>
                  <a:pt x="8165" y="10069"/>
                  <a:pt x="8245" y="10012"/>
                  <a:pt x="8287" y="10001"/>
                </a:cubicBezTo>
                <a:cubicBezTo>
                  <a:pt x="8323" y="9991"/>
                  <a:pt x="8461" y="9980"/>
                  <a:pt x="8477" y="10033"/>
                </a:cubicBezTo>
                <a:cubicBezTo>
                  <a:pt x="8499" y="10106"/>
                  <a:pt x="8461" y="10174"/>
                  <a:pt x="8414" y="10224"/>
                </a:cubicBezTo>
                <a:cubicBezTo>
                  <a:pt x="8355" y="10287"/>
                  <a:pt x="8299" y="10341"/>
                  <a:pt x="8255" y="10414"/>
                </a:cubicBezTo>
                <a:cubicBezTo>
                  <a:pt x="8222" y="10470"/>
                  <a:pt x="8205" y="10496"/>
                  <a:pt x="8160" y="10541"/>
                </a:cubicBezTo>
                <a:cubicBezTo>
                  <a:pt x="8264" y="10541"/>
                  <a:pt x="8349" y="10556"/>
                  <a:pt x="8446" y="10573"/>
                </a:cubicBezTo>
                <a:cubicBezTo>
                  <a:pt x="8506" y="10584"/>
                  <a:pt x="8589" y="10586"/>
                  <a:pt x="8604" y="10541"/>
                </a:cubicBezTo>
              </a:path>
              <a:path w="5018" h="2795">
                <a:moveTo>
                  <a:pt x="8795" y="9716"/>
                </a:moveTo>
                <a:cubicBezTo>
                  <a:pt x="8874" y="9736"/>
                  <a:pt x="8902" y="9783"/>
                  <a:pt x="8954" y="9842"/>
                </a:cubicBezTo>
                <a:cubicBezTo>
                  <a:pt x="9067" y="9971"/>
                  <a:pt x="9173" y="10114"/>
                  <a:pt x="9271" y="10255"/>
                </a:cubicBezTo>
                <a:cubicBezTo>
                  <a:pt x="9303" y="10301"/>
                  <a:pt x="9371" y="10483"/>
                  <a:pt x="9462" y="10446"/>
                </a:cubicBezTo>
                <a:cubicBezTo>
                  <a:pt x="9490" y="10417"/>
                  <a:pt x="9500" y="10411"/>
                  <a:pt x="9493" y="10382"/>
                </a:cubicBezTo>
              </a:path>
              <a:path w="5018" h="2795">
                <a:moveTo>
                  <a:pt x="9398" y="9747"/>
                </a:moveTo>
                <a:cubicBezTo>
                  <a:pt x="9345" y="9782"/>
                  <a:pt x="9352" y="9897"/>
                  <a:pt x="9303" y="9970"/>
                </a:cubicBezTo>
                <a:cubicBezTo>
                  <a:pt x="9222" y="10091"/>
                  <a:pt x="9134" y="10232"/>
                  <a:pt x="9049" y="10350"/>
                </a:cubicBezTo>
                <a:cubicBezTo>
                  <a:pt x="8979" y="10447"/>
                  <a:pt x="8905" y="10547"/>
                  <a:pt x="8826" y="10636"/>
                </a:cubicBezTo>
              </a:path>
              <a:path w="5018" h="2795">
                <a:moveTo>
                  <a:pt x="9716" y="10065"/>
                </a:moveTo>
                <a:cubicBezTo>
                  <a:pt x="9784" y="10065"/>
                  <a:pt x="9804" y="10037"/>
                  <a:pt x="9874" y="10033"/>
                </a:cubicBezTo>
                <a:cubicBezTo>
                  <a:pt x="9976" y="10027"/>
                  <a:pt x="10062" y="10009"/>
                  <a:pt x="10160" y="10001"/>
                </a:cubicBezTo>
                <a:cubicBezTo>
                  <a:pt x="10191" y="9999"/>
                  <a:pt x="10224" y="10001"/>
                  <a:pt x="10255" y="10001"/>
                </a:cubicBezTo>
              </a:path>
              <a:path w="5018" h="2795">
                <a:moveTo>
                  <a:pt x="10382" y="9652"/>
                </a:moveTo>
                <a:cubicBezTo>
                  <a:pt x="10393" y="9565"/>
                  <a:pt x="10432" y="9475"/>
                  <a:pt x="10478" y="9398"/>
                </a:cubicBezTo>
                <a:cubicBezTo>
                  <a:pt x="10501" y="9359"/>
                  <a:pt x="10622" y="9282"/>
                  <a:pt x="10668" y="9271"/>
                </a:cubicBezTo>
                <a:cubicBezTo>
                  <a:pt x="10717" y="9260"/>
                  <a:pt x="10818" y="9226"/>
                  <a:pt x="10858" y="9271"/>
                </a:cubicBezTo>
                <a:cubicBezTo>
                  <a:pt x="10897" y="9315"/>
                  <a:pt x="10873" y="9441"/>
                  <a:pt x="10858" y="9493"/>
                </a:cubicBezTo>
                <a:cubicBezTo>
                  <a:pt x="10825" y="9604"/>
                  <a:pt x="10717" y="9702"/>
                  <a:pt x="10668" y="9811"/>
                </a:cubicBezTo>
                <a:cubicBezTo>
                  <a:pt x="10600" y="9963"/>
                  <a:pt x="10489" y="10021"/>
                  <a:pt x="10414" y="10160"/>
                </a:cubicBezTo>
                <a:cubicBezTo>
                  <a:pt x="10359" y="10262"/>
                  <a:pt x="10287" y="10318"/>
                  <a:pt x="10224" y="10414"/>
                </a:cubicBezTo>
                <a:cubicBezTo>
                  <a:pt x="10198" y="10466"/>
                  <a:pt x="10200" y="10488"/>
                  <a:pt x="10160" y="10478"/>
                </a:cubicBezTo>
                <a:cubicBezTo>
                  <a:pt x="10202" y="10426"/>
                  <a:pt x="10204" y="10370"/>
                  <a:pt x="10287" y="10350"/>
                </a:cubicBezTo>
                <a:cubicBezTo>
                  <a:pt x="10345" y="10336"/>
                  <a:pt x="10439" y="10336"/>
                  <a:pt x="10478" y="10382"/>
                </a:cubicBezTo>
                <a:cubicBezTo>
                  <a:pt x="10540" y="10457"/>
                  <a:pt x="10557" y="10481"/>
                  <a:pt x="10636" y="10541"/>
                </a:cubicBezTo>
                <a:cubicBezTo>
                  <a:pt x="10682" y="10575"/>
                  <a:pt x="10797" y="10671"/>
                  <a:pt x="10858" y="10668"/>
                </a:cubicBezTo>
                <a:cubicBezTo>
                  <a:pt x="10939" y="10664"/>
                  <a:pt x="11060" y="10565"/>
                  <a:pt x="11112" y="10509"/>
                </a:cubicBezTo>
                <a:cubicBezTo>
                  <a:pt x="11176" y="10414"/>
                  <a:pt x="11197" y="10382"/>
                  <a:pt x="11240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Ink 68"/>
          <p:cNvSpPr/>
          <p:nvPr/>
        </p:nvSpPr>
        <p:spPr>
          <a:xfrm>
            <a:off x="6377040" y="1646280"/>
            <a:ext cx="1635120" cy="593640"/>
          </a:xfrm>
          <a:custGeom>
            <a:avLst/>
            <a:gdLst/>
            <a:ahLst/>
            <a:rect l="l" t="t" r="r" b="b"/>
            <a:pathLst>
              <a:path w="4542" h="1652">
                <a:moveTo>
                  <a:pt x="17716" y="4921"/>
                </a:moveTo>
                <a:cubicBezTo>
                  <a:pt x="17758" y="4991"/>
                  <a:pt x="17748" y="5057"/>
                  <a:pt x="17748" y="5144"/>
                </a:cubicBezTo>
                <a:cubicBezTo>
                  <a:pt x="17748" y="5228"/>
                  <a:pt x="17775" y="5289"/>
                  <a:pt x="17780" y="5366"/>
                </a:cubicBezTo>
                <a:cubicBezTo>
                  <a:pt x="17783" y="5405"/>
                  <a:pt x="17778" y="5502"/>
                  <a:pt x="17812" y="5524"/>
                </a:cubicBezTo>
                <a:cubicBezTo>
                  <a:pt x="17844" y="5524"/>
                  <a:pt x="17855" y="5524"/>
                  <a:pt x="17844" y="5556"/>
                </a:cubicBezTo>
                <a:cubicBezTo>
                  <a:pt x="17889" y="5511"/>
                  <a:pt x="17917" y="5481"/>
                  <a:pt x="17939" y="5429"/>
                </a:cubicBezTo>
                <a:cubicBezTo>
                  <a:pt x="17976" y="5341"/>
                  <a:pt x="17997" y="5241"/>
                  <a:pt x="18002" y="5144"/>
                </a:cubicBezTo>
                <a:cubicBezTo>
                  <a:pt x="18002" y="5086"/>
                  <a:pt x="17998" y="5069"/>
                  <a:pt x="18034" y="5048"/>
                </a:cubicBezTo>
                <a:cubicBezTo>
                  <a:pt x="18034" y="4964"/>
                  <a:pt x="18056" y="5175"/>
                  <a:pt x="18066" y="5207"/>
                </a:cubicBezTo>
                <a:cubicBezTo>
                  <a:pt x="18093" y="5293"/>
                  <a:pt x="18106" y="5375"/>
                  <a:pt x="18129" y="5461"/>
                </a:cubicBezTo>
                <a:cubicBezTo>
                  <a:pt x="18161" y="5583"/>
                  <a:pt x="18161" y="5682"/>
                  <a:pt x="18161" y="5810"/>
                </a:cubicBezTo>
                <a:cubicBezTo>
                  <a:pt x="18161" y="5909"/>
                  <a:pt x="18138" y="6006"/>
                  <a:pt x="18098" y="6096"/>
                </a:cubicBezTo>
                <a:cubicBezTo>
                  <a:pt x="18072" y="6155"/>
                  <a:pt x="18020" y="6250"/>
                  <a:pt x="17939" y="6223"/>
                </a:cubicBezTo>
                <a:cubicBezTo>
                  <a:pt x="17868" y="6199"/>
                  <a:pt x="17848" y="6084"/>
                  <a:pt x="17812" y="6032"/>
                </a:cubicBezTo>
                <a:cubicBezTo>
                  <a:pt x="17779" y="5985"/>
                  <a:pt x="17777" y="5954"/>
                  <a:pt x="17748" y="5906"/>
                </a:cubicBezTo>
              </a:path>
              <a:path w="4542" h="1652">
                <a:moveTo>
                  <a:pt x="18320" y="5302"/>
                </a:moveTo>
                <a:cubicBezTo>
                  <a:pt x="18369" y="5265"/>
                  <a:pt x="18385" y="5270"/>
                  <a:pt x="18447" y="5270"/>
                </a:cubicBezTo>
                <a:cubicBezTo>
                  <a:pt x="18510" y="5270"/>
                  <a:pt x="18574" y="5270"/>
                  <a:pt x="18637" y="5270"/>
                </a:cubicBezTo>
              </a:path>
              <a:path w="4542" h="1652">
                <a:moveTo>
                  <a:pt x="19145" y="5048"/>
                </a:moveTo>
                <a:cubicBezTo>
                  <a:pt x="19096" y="5031"/>
                  <a:pt x="19092" y="4976"/>
                  <a:pt x="19050" y="4921"/>
                </a:cubicBezTo>
                <a:cubicBezTo>
                  <a:pt x="19028" y="4893"/>
                  <a:pt x="18959" y="4870"/>
                  <a:pt x="18923" y="4890"/>
                </a:cubicBezTo>
                <a:cubicBezTo>
                  <a:pt x="18851" y="4929"/>
                  <a:pt x="18831" y="5008"/>
                  <a:pt x="18828" y="5080"/>
                </a:cubicBezTo>
                <a:cubicBezTo>
                  <a:pt x="18824" y="5161"/>
                  <a:pt x="18818" y="5277"/>
                  <a:pt x="18891" y="5334"/>
                </a:cubicBezTo>
                <a:cubicBezTo>
                  <a:pt x="18923" y="5334"/>
                  <a:pt x="18934" y="5334"/>
                  <a:pt x="18955" y="5334"/>
                </a:cubicBezTo>
                <a:cubicBezTo>
                  <a:pt x="18968" y="5280"/>
                  <a:pt x="18991" y="5231"/>
                  <a:pt x="19018" y="5175"/>
                </a:cubicBezTo>
                <a:cubicBezTo>
                  <a:pt x="19049" y="5110"/>
                  <a:pt x="19044" y="4971"/>
                  <a:pt x="19082" y="4921"/>
                </a:cubicBezTo>
                <a:cubicBezTo>
                  <a:pt x="19093" y="4921"/>
                  <a:pt x="19103" y="4921"/>
                  <a:pt x="19114" y="4921"/>
                </a:cubicBezTo>
                <a:cubicBezTo>
                  <a:pt x="19097" y="4989"/>
                  <a:pt x="19082" y="5030"/>
                  <a:pt x="19082" y="5112"/>
                </a:cubicBezTo>
                <a:cubicBezTo>
                  <a:pt x="19082" y="5216"/>
                  <a:pt x="19108" y="5299"/>
                  <a:pt x="19114" y="5398"/>
                </a:cubicBezTo>
                <a:cubicBezTo>
                  <a:pt x="19118" y="5469"/>
                  <a:pt x="19141" y="5521"/>
                  <a:pt x="19145" y="5588"/>
                </a:cubicBezTo>
                <a:cubicBezTo>
                  <a:pt x="19145" y="5641"/>
                  <a:pt x="19145" y="5651"/>
                  <a:pt x="19145" y="5683"/>
                </a:cubicBezTo>
              </a:path>
              <a:path w="4542" h="1652">
                <a:moveTo>
                  <a:pt x="19368" y="5239"/>
                </a:moveTo>
                <a:cubicBezTo>
                  <a:pt x="19440" y="5239"/>
                  <a:pt x="19467" y="5227"/>
                  <a:pt x="19526" y="5207"/>
                </a:cubicBezTo>
                <a:cubicBezTo>
                  <a:pt x="19577" y="5190"/>
                  <a:pt x="19610" y="5204"/>
                  <a:pt x="19622" y="5239"/>
                </a:cubicBezTo>
              </a:path>
              <a:path w="4542" h="1652">
                <a:moveTo>
                  <a:pt x="19431" y="5429"/>
                </a:moveTo>
                <a:cubicBezTo>
                  <a:pt x="19431" y="5440"/>
                  <a:pt x="19431" y="5450"/>
                  <a:pt x="19431" y="5461"/>
                </a:cubicBezTo>
                <a:cubicBezTo>
                  <a:pt x="19489" y="5461"/>
                  <a:pt x="19506" y="5435"/>
                  <a:pt x="19558" y="5429"/>
                </a:cubicBezTo>
                <a:cubicBezTo>
                  <a:pt x="19569" y="5429"/>
                  <a:pt x="19579" y="5429"/>
                  <a:pt x="19590" y="5429"/>
                </a:cubicBezTo>
              </a:path>
              <a:path w="4542" h="1652">
                <a:moveTo>
                  <a:pt x="20256" y="4604"/>
                </a:moveTo>
                <a:cubicBezTo>
                  <a:pt x="20216" y="4614"/>
                  <a:pt x="20134" y="4647"/>
                  <a:pt x="20098" y="4667"/>
                </a:cubicBezTo>
                <a:cubicBezTo>
                  <a:pt x="20027" y="4707"/>
                  <a:pt x="20047" y="4686"/>
                  <a:pt x="19971" y="4667"/>
                </a:cubicBezTo>
                <a:cubicBezTo>
                  <a:pt x="19971" y="4748"/>
                  <a:pt x="19959" y="4792"/>
                  <a:pt x="19939" y="4858"/>
                </a:cubicBezTo>
                <a:cubicBezTo>
                  <a:pt x="19939" y="4900"/>
                  <a:pt x="19939" y="4921"/>
                  <a:pt x="19939" y="4953"/>
                </a:cubicBezTo>
                <a:cubicBezTo>
                  <a:pt x="19984" y="4938"/>
                  <a:pt x="19976" y="4884"/>
                  <a:pt x="20034" y="4858"/>
                </a:cubicBezTo>
                <a:cubicBezTo>
                  <a:pt x="20079" y="4838"/>
                  <a:pt x="20131" y="4864"/>
                  <a:pt x="20161" y="4890"/>
                </a:cubicBezTo>
                <a:cubicBezTo>
                  <a:pt x="20232" y="4953"/>
                  <a:pt x="20225" y="4986"/>
                  <a:pt x="20225" y="5080"/>
                </a:cubicBezTo>
                <a:cubicBezTo>
                  <a:pt x="20225" y="5120"/>
                  <a:pt x="20169" y="5190"/>
                  <a:pt x="20130" y="5207"/>
                </a:cubicBezTo>
                <a:cubicBezTo>
                  <a:pt x="20083" y="5228"/>
                  <a:pt x="20034" y="5199"/>
                  <a:pt x="20002" y="5175"/>
                </a:cubicBezTo>
              </a:path>
              <a:path w="4542" h="1652">
                <a:moveTo>
                  <a:pt x="19876" y="5334"/>
                </a:moveTo>
                <a:cubicBezTo>
                  <a:pt x="19952" y="5334"/>
                  <a:pt x="20003" y="5321"/>
                  <a:pt x="20066" y="5302"/>
                </a:cubicBezTo>
                <a:cubicBezTo>
                  <a:pt x="20136" y="5281"/>
                  <a:pt x="20190" y="5328"/>
                  <a:pt x="20256" y="5334"/>
                </a:cubicBezTo>
                <a:cubicBezTo>
                  <a:pt x="20288" y="5334"/>
                  <a:pt x="20299" y="5334"/>
                  <a:pt x="20320" y="5334"/>
                </a:cubicBezTo>
              </a:path>
              <a:path w="4542" h="1652">
                <a:moveTo>
                  <a:pt x="20034" y="5524"/>
                </a:moveTo>
                <a:cubicBezTo>
                  <a:pt x="20046" y="5488"/>
                  <a:pt x="20079" y="5467"/>
                  <a:pt x="20130" y="5461"/>
                </a:cubicBezTo>
                <a:cubicBezTo>
                  <a:pt x="20166" y="5461"/>
                  <a:pt x="20179" y="5458"/>
                  <a:pt x="20193" y="5429"/>
                </a:cubicBezTo>
                <a:cubicBezTo>
                  <a:pt x="20236" y="5461"/>
                  <a:pt x="20282" y="5448"/>
                  <a:pt x="20288" y="5493"/>
                </a:cubicBezTo>
                <a:cubicBezTo>
                  <a:pt x="20296" y="5559"/>
                  <a:pt x="20229" y="5692"/>
                  <a:pt x="20193" y="5747"/>
                </a:cubicBezTo>
                <a:cubicBezTo>
                  <a:pt x="20166" y="5788"/>
                  <a:pt x="20127" y="5832"/>
                  <a:pt x="20098" y="5842"/>
                </a:cubicBezTo>
                <a:cubicBezTo>
                  <a:pt x="20171" y="5824"/>
                  <a:pt x="20153" y="5834"/>
                  <a:pt x="20225" y="5842"/>
                </a:cubicBezTo>
                <a:cubicBezTo>
                  <a:pt x="20297" y="5850"/>
                  <a:pt x="20268" y="5817"/>
                  <a:pt x="20320" y="5810"/>
                </a:cubicBezTo>
                <a:cubicBezTo>
                  <a:pt x="20331" y="5810"/>
                  <a:pt x="20341" y="5810"/>
                  <a:pt x="20352" y="5810"/>
                </a:cubicBezTo>
              </a:path>
              <a:path w="4542" h="1652">
                <a:moveTo>
                  <a:pt x="20796" y="4572"/>
                </a:moveTo>
                <a:cubicBezTo>
                  <a:pt x="20727" y="4642"/>
                  <a:pt x="20702" y="4698"/>
                  <a:pt x="20669" y="4794"/>
                </a:cubicBezTo>
                <a:cubicBezTo>
                  <a:pt x="20618" y="4944"/>
                  <a:pt x="20571" y="5051"/>
                  <a:pt x="20542" y="5207"/>
                </a:cubicBezTo>
                <a:cubicBezTo>
                  <a:pt x="20514" y="5358"/>
                  <a:pt x="20501" y="5502"/>
                  <a:pt x="20542" y="5652"/>
                </a:cubicBezTo>
                <a:cubicBezTo>
                  <a:pt x="20565" y="5735"/>
                  <a:pt x="20623" y="5841"/>
                  <a:pt x="20701" y="5874"/>
                </a:cubicBezTo>
                <a:cubicBezTo>
                  <a:pt x="20744" y="5892"/>
                  <a:pt x="20768" y="5863"/>
                  <a:pt x="20796" y="5842"/>
                </a:cubicBezTo>
              </a:path>
              <a:path w="4542" h="1652">
                <a:moveTo>
                  <a:pt x="20796" y="5080"/>
                </a:moveTo>
                <a:cubicBezTo>
                  <a:pt x="20861" y="5145"/>
                  <a:pt x="20855" y="5187"/>
                  <a:pt x="20892" y="5270"/>
                </a:cubicBezTo>
                <a:cubicBezTo>
                  <a:pt x="20927" y="5350"/>
                  <a:pt x="20974" y="5420"/>
                  <a:pt x="21018" y="5493"/>
                </a:cubicBezTo>
                <a:cubicBezTo>
                  <a:pt x="21054" y="5553"/>
                  <a:pt x="21082" y="5598"/>
                  <a:pt x="21146" y="5620"/>
                </a:cubicBezTo>
                <a:cubicBezTo>
                  <a:pt x="21156" y="5620"/>
                  <a:pt x="21167" y="5620"/>
                  <a:pt x="21177" y="5620"/>
                </a:cubicBezTo>
              </a:path>
              <a:path w="4542" h="1652">
                <a:moveTo>
                  <a:pt x="21114" y="5048"/>
                </a:moveTo>
                <a:cubicBezTo>
                  <a:pt x="21083" y="5069"/>
                  <a:pt x="21015" y="5238"/>
                  <a:pt x="20987" y="5302"/>
                </a:cubicBezTo>
                <a:cubicBezTo>
                  <a:pt x="20934" y="5421"/>
                  <a:pt x="20853" y="5516"/>
                  <a:pt x="20828" y="5652"/>
                </a:cubicBezTo>
                <a:cubicBezTo>
                  <a:pt x="20828" y="5709"/>
                  <a:pt x="20832" y="5726"/>
                  <a:pt x="20796" y="5747"/>
                </a:cubicBezTo>
              </a:path>
              <a:path w="4542" h="1652">
                <a:moveTo>
                  <a:pt x="21241" y="5334"/>
                </a:moveTo>
                <a:cubicBezTo>
                  <a:pt x="21329" y="5334"/>
                  <a:pt x="21380" y="5323"/>
                  <a:pt x="21463" y="5302"/>
                </a:cubicBezTo>
                <a:cubicBezTo>
                  <a:pt x="21474" y="5302"/>
                  <a:pt x="21484" y="5302"/>
                  <a:pt x="21495" y="5302"/>
                </a:cubicBezTo>
              </a:path>
              <a:path w="4542" h="1652">
                <a:moveTo>
                  <a:pt x="21685" y="4953"/>
                </a:moveTo>
                <a:cubicBezTo>
                  <a:pt x="21685" y="5052"/>
                  <a:pt x="21668" y="5112"/>
                  <a:pt x="21654" y="5207"/>
                </a:cubicBezTo>
                <a:cubicBezTo>
                  <a:pt x="21642" y="5287"/>
                  <a:pt x="21654" y="5380"/>
                  <a:pt x="21654" y="5461"/>
                </a:cubicBezTo>
                <a:cubicBezTo>
                  <a:pt x="21679" y="5436"/>
                  <a:pt x="21738" y="5347"/>
                  <a:pt x="21780" y="5366"/>
                </a:cubicBezTo>
                <a:cubicBezTo>
                  <a:pt x="21860" y="5402"/>
                  <a:pt x="21824" y="5375"/>
                  <a:pt x="21908" y="5366"/>
                </a:cubicBezTo>
                <a:cubicBezTo>
                  <a:pt x="21944" y="5366"/>
                  <a:pt x="21957" y="5363"/>
                  <a:pt x="21971" y="5334"/>
                </a:cubicBezTo>
              </a:path>
              <a:path w="4542" h="1652">
                <a:moveTo>
                  <a:pt x="21939" y="4985"/>
                </a:moveTo>
                <a:cubicBezTo>
                  <a:pt x="21888" y="5002"/>
                  <a:pt x="21908" y="5048"/>
                  <a:pt x="21908" y="5112"/>
                </a:cubicBezTo>
                <a:cubicBezTo>
                  <a:pt x="21908" y="5302"/>
                  <a:pt x="21908" y="5493"/>
                  <a:pt x="21908" y="5683"/>
                </a:cubicBezTo>
              </a:path>
              <a:path w="4542" h="1652">
                <a:moveTo>
                  <a:pt x="21908" y="4572"/>
                </a:moveTo>
                <a:lnTo>
                  <a:pt x="21908" y="4572"/>
                </a:lnTo>
              </a:path>
              <a:path w="4542" h="1652">
                <a:moveTo>
                  <a:pt x="21908" y="4572"/>
                </a:moveTo>
                <a:cubicBezTo>
                  <a:pt x="21929" y="4583"/>
                  <a:pt x="21950" y="4593"/>
                  <a:pt x="21971" y="4604"/>
                </a:cubicBezTo>
              </a:path>
              <a:path w="4542" h="1652">
                <a:moveTo>
                  <a:pt x="21971" y="4604"/>
                </a:moveTo>
                <a:cubicBezTo>
                  <a:pt x="22035" y="4684"/>
                  <a:pt x="22050" y="4770"/>
                  <a:pt x="22098" y="4858"/>
                </a:cubicBezTo>
                <a:cubicBezTo>
                  <a:pt x="22170" y="4991"/>
                  <a:pt x="22186" y="5066"/>
                  <a:pt x="22225" y="5207"/>
                </a:cubicBezTo>
                <a:cubicBezTo>
                  <a:pt x="22255" y="5316"/>
                  <a:pt x="22274" y="5385"/>
                  <a:pt x="22225" y="5493"/>
                </a:cubicBezTo>
                <a:cubicBezTo>
                  <a:pt x="22191" y="5569"/>
                  <a:pt x="22148" y="5649"/>
                  <a:pt x="22098" y="5715"/>
                </a:cubicBezTo>
                <a:cubicBezTo>
                  <a:pt x="22069" y="5744"/>
                  <a:pt x="22063" y="5755"/>
                  <a:pt x="22034" y="5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Ink 69"/>
          <p:cNvSpPr/>
          <p:nvPr/>
        </p:nvSpPr>
        <p:spPr>
          <a:xfrm>
            <a:off x="6400800" y="2320920"/>
            <a:ext cx="1738440" cy="604800"/>
          </a:xfrm>
          <a:custGeom>
            <a:avLst/>
            <a:gdLst/>
            <a:ahLst/>
            <a:rect l="l" t="t" r="r" b="b"/>
            <a:pathLst>
              <a:path w="4827" h="1684">
                <a:moveTo>
                  <a:pt x="17875" y="6699"/>
                </a:moveTo>
                <a:cubicBezTo>
                  <a:pt x="17923" y="6715"/>
                  <a:pt x="17907" y="6737"/>
                  <a:pt x="17907" y="6794"/>
                </a:cubicBezTo>
                <a:cubicBezTo>
                  <a:pt x="17907" y="6896"/>
                  <a:pt x="17879" y="6981"/>
                  <a:pt x="17875" y="7080"/>
                </a:cubicBezTo>
                <a:cubicBezTo>
                  <a:pt x="17870" y="7204"/>
                  <a:pt x="17878" y="7323"/>
                  <a:pt x="17907" y="7430"/>
                </a:cubicBezTo>
                <a:cubicBezTo>
                  <a:pt x="17923" y="7487"/>
                  <a:pt x="17944" y="7510"/>
                  <a:pt x="18002" y="7525"/>
                </a:cubicBezTo>
                <a:cubicBezTo>
                  <a:pt x="18068" y="7508"/>
                  <a:pt x="18113" y="7439"/>
                  <a:pt x="18129" y="7366"/>
                </a:cubicBezTo>
                <a:cubicBezTo>
                  <a:pt x="18151" y="7263"/>
                  <a:pt x="18178" y="7154"/>
                  <a:pt x="18193" y="7048"/>
                </a:cubicBezTo>
                <a:cubicBezTo>
                  <a:pt x="18203" y="6977"/>
                  <a:pt x="18193" y="6898"/>
                  <a:pt x="18193" y="6826"/>
                </a:cubicBezTo>
                <a:cubicBezTo>
                  <a:pt x="18240" y="6891"/>
                  <a:pt x="18247" y="7001"/>
                  <a:pt x="18256" y="7080"/>
                </a:cubicBezTo>
                <a:cubicBezTo>
                  <a:pt x="18270" y="7197"/>
                  <a:pt x="18284" y="7315"/>
                  <a:pt x="18288" y="7430"/>
                </a:cubicBezTo>
                <a:cubicBezTo>
                  <a:pt x="18293" y="7555"/>
                  <a:pt x="18270" y="7664"/>
                  <a:pt x="18256" y="7779"/>
                </a:cubicBezTo>
                <a:cubicBezTo>
                  <a:pt x="18245" y="7865"/>
                  <a:pt x="18234" y="7996"/>
                  <a:pt x="18161" y="8064"/>
                </a:cubicBezTo>
                <a:cubicBezTo>
                  <a:pt x="18102" y="8119"/>
                  <a:pt x="18046" y="8128"/>
                  <a:pt x="17970" y="8128"/>
                </a:cubicBezTo>
                <a:cubicBezTo>
                  <a:pt x="17879" y="8128"/>
                  <a:pt x="17857" y="8075"/>
                  <a:pt x="17812" y="8001"/>
                </a:cubicBezTo>
                <a:cubicBezTo>
                  <a:pt x="17786" y="7949"/>
                  <a:pt x="17775" y="7941"/>
                  <a:pt x="17780" y="7906"/>
                </a:cubicBezTo>
              </a:path>
              <a:path w="4827" h="1684">
                <a:moveTo>
                  <a:pt x="18510" y="6953"/>
                </a:moveTo>
                <a:cubicBezTo>
                  <a:pt x="18527" y="7021"/>
                  <a:pt x="18542" y="7062"/>
                  <a:pt x="18542" y="7144"/>
                </a:cubicBezTo>
                <a:cubicBezTo>
                  <a:pt x="18542" y="7269"/>
                  <a:pt x="18555" y="7377"/>
                  <a:pt x="18574" y="7493"/>
                </a:cubicBezTo>
                <a:cubicBezTo>
                  <a:pt x="18574" y="7514"/>
                  <a:pt x="18574" y="7535"/>
                  <a:pt x="18574" y="7556"/>
                </a:cubicBezTo>
              </a:path>
              <a:path w="4827" h="1684">
                <a:moveTo>
                  <a:pt x="18383" y="7302"/>
                </a:moveTo>
                <a:cubicBezTo>
                  <a:pt x="18401" y="7250"/>
                  <a:pt x="18446" y="7271"/>
                  <a:pt x="18510" y="7271"/>
                </a:cubicBezTo>
                <a:cubicBezTo>
                  <a:pt x="18569" y="7271"/>
                  <a:pt x="18671" y="7256"/>
                  <a:pt x="18732" y="7239"/>
                </a:cubicBezTo>
                <a:cubicBezTo>
                  <a:pt x="18753" y="7228"/>
                  <a:pt x="18775" y="7218"/>
                  <a:pt x="18796" y="7207"/>
                </a:cubicBezTo>
              </a:path>
              <a:path w="4827" h="1684">
                <a:moveTo>
                  <a:pt x="18955" y="6763"/>
                </a:moveTo>
                <a:cubicBezTo>
                  <a:pt x="18917" y="6862"/>
                  <a:pt x="18911" y="6944"/>
                  <a:pt x="18891" y="7048"/>
                </a:cubicBezTo>
                <a:cubicBezTo>
                  <a:pt x="18862" y="7201"/>
                  <a:pt x="18860" y="7337"/>
                  <a:pt x="18860" y="7493"/>
                </a:cubicBezTo>
                <a:cubicBezTo>
                  <a:pt x="18860" y="7553"/>
                  <a:pt x="18868" y="7645"/>
                  <a:pt x="18923" y="7652"/>
                </a:cubicBezTo>
                <a:cubicBezTo>
                  <a:pt x="18990" y="7660"/>
                  <a:pt x="19034" y="7633"/>
                  <a:pt x="19082" y="7588"/>
                </a:cubicBezTo>
                <a:cubicBezTo>
                  <a:pt x="19158" y="7517"/>
                  <a:pt x="19219" y="7404"/>
                  <a:pt x="19240" y="7302"/>
                </a:cubicBezTo>
                <a:cubicBezTo>
                  <a:pt x="19256" y="7225"/>
                  <a:pt x="19224" y="7175"/>
                  <a:pt x="19209" y="7112"/>
                </a:cubicBezTo>
                <a:cubicBezTo>
                  <a:pt x="19119" y="7130"/>
                  <a:pt x="19070" y="7194"/>
                  <a:pt x="19018" y="7271"/>
                </a:cubicBezTo>
                <a:cubicBezTo>
                  <a:pt x="18965" y="7350"/>
                  <a:pt x="18944" y="7468"/>
                  <a:pt x="18923" y="7556"/>
                </a:cubicBezTo>
                <a:cubicBezTo>
                  <a:pt x="18911" y="7609"/>
                  <a:pt x="18951" y="7611"/>
                  <a:pt x="18986" y="7620"/>
                </a:cubicBezTo>
              </a:path>
              <a:path w="4827" h="1684">
                <a:moveTo>
                  <a:pt x="19368" y="7048"/>
                </a:moveTo>
                <a:cubicBezTo>
                  <a:pt x="19397" y="7027"/>
                  <a:pt x="19451" y="6994"/>
                  <a:pt x="19494" y="7017"/>
                </a:cubicBezTo>
                <a:cubicBezTo>
                  <a:pt x="19543" y="7044"/>
                  <a:pt x="19532" y="7048"/>
                  <a:pt x="19590" y="7048"/>
                </a:cubicBezTo>
              </a:path>
              <a:path w="4827" h="1684">
                <a:moveTo>
                  <a:pt x="19336" y="7334"/>
                </a:moveTo>
                <a:cubicBezTo>
                  <a:pt x="19424" y="7334"/>
                  <a:pt x="19475" y="7323"/>
                  <a:pt x="19558" y="7302"/>
                </a:cubicBezTo>
                <a:cubicBezTo>
                  <a:pt x="19569" y="7302"/>
                  <a:pt x="19579" y="7302"/>
                  <a:pt x="19590" y="7302"/>
                </a:cubicBezTo>
              </a:path>
              <a:path w="4827" h="1684">
                <a:moveTo>
                  <a:pt x="20225" y="6509"/>
                </a:moveTo>
                <a:cubicBezTo>
                  <a:pt x="20179" y="6543"/>
                  <a:pt x="20127" y="6566"/>
                  <a:pt x="20066" y="6572"/>
                </a:cubicBezTo>
                <a:cubicBezTo>
                  <a:pt x="20004" y="6578"/>
                  <a:pt x="19938" y="6572"/>
                  <a:pt x="19876" y="6572"/>
                </a:cubicBezTo>
                <a:cubicBezTo>
                  <a:pt x="19876" y="6659"/>
                  <a:pt x="19866" y="6721"/>
                  <a:pt x="19844" y="6794"/>
                </a:cubicBezTo>
                <a:cubicBezTo>
                  <a:pt x="19824" y="6860"/>
                  <a:pt x="19898" y="6828"/>
                  <a:pt x="19907" y="6826"/>
                </a:cubicBezTo>
                <a:cubicBezTo>
                  <a:pt x="19954" y="6814"/>
                  <a:pt x="19944" y="6782"/>
                  <a:pt x="20002" y="6763"/>
                </a:cubicBezTo>
                <a:cubicBezTo>
                  <a:pt x="20038" y="6763"/>
                  <a:pt x="20052" y="6760"/>
                  <a:pt x="20066" y="6731"/>
                </a:cubicBezTo>
                <a:cubicBezTo>
                  <a:pt x="20110" y="6764"/>
                  <a:pt x="20157" y="6763"/>
                  <a:pt x="20161" y="6826"/>
                </a:cubicBezTo>
                <a:cubicBezTo>
                  <a:pt x="20166" y="6904"/>
                  <a:pt x="20182" y="6990"/>
                  <a:pt x="20130" y="7048"/>
                </a:cubicBezTo>
                <a:cubicBezTo>
                  <a:pt x="20093" y="7090"/>
                  <a:pt x="20056" y="7138"/>
                  <a:pt x="20002" y="7144"/>
                </a:cubicBezTo>
                <a:cubicBezTo>
                  <a:pt x="19971" y="7144"/>
                  <a:pt x="19960" y="7144"/>
                  <a:pt x="19939" y="7144"/>
                </a:cubicBezTo>
              </a:path>
              <a:path w="4827" h="1684">
                <a:moveTo>
                  <a:pt x="19844" y="7239"/>
                </a:moveTo>
                <a:cubicBezTo>
                  <a:pt x="19833" y="7239"/>
                  <a:pt x="19823" y="7239"/>
                  <a:pt x="19812" y="7239"/>
                </a:cubicBezTo>
                <a:cubicBezTo>
                  <a:pt x="19885" y="7239"/>
                  <a:pt x="19944" y="7219"/>
                  <a:pt x="20002" y="7207"/>
                </a:cubicBezTo>
                <a:cubicBezTo>
                  <a:pt x="20069" y="7193"/>
                  <a:pt x="20133" y="7156"/>
                  <a:pt x="20193" y="7144"/>
                </a:cubicBezTo>
                <a:cubicBezTo>
                  <a:pt x="20246" y="7144"/>
                  <a:pt x="20256" y="7144"/>
                  <a:pt x="20288" y="7144"/>
                </a:cubicBezTo>
              </a:path>
              <a:path w="4827" h="1684">
                <a:moveTo>
                  <a:pt x="20002" y="7430"/>
                </a:moveTo>
                <a:cubicBezTo>
                  <a:pt x="20037" y="7402"/>
                  <a:pt x="20120" y="7314"/>
                  <a:pt x="20161" y="7302"/>
                </a:cubicBezTo>
                <a:cubicBezTo>
                  <a:pt x="20176" y="7298"/>
                  <a:pt x="20324" y="7287"/>
                  <a:pt x="20320" y="7334"/>
                </a:cubicBezTo>
                <a:cubicBezTo>
                  <a:pt x="20318" y="7364"/>
                  <a:pt x="20267" y="7503"/>
                  <a:pt x="20256" y="7525"/>
                </a:cubicBezTo>
                <a:cubicBezTo>
                  <a:pt x="20229" y="7581"/>
                  <a:pt x="20168" y="7622"/>
                  <a:pt x="20161" y="7684"/>
                </a:cubicBezTo>
                <a:cubicBezTo>
                  <a:pt x="20161" y="7694"/>
                  <a:pt x="20161" y="7705"/>
                  <a:pt x="20161" y="7715"/>
                </a:cubicBezTo>
                <a:cubicBezTo>
                  <a:pt x="20194" y="7715"/>
                  <a:pt x="20273" y="7706"/>
                  <a:pt x="20288" y="7684"/>
                </a:cubicBezTo>
                <a:cubicBezTo>
                  <a:pt x="20288" y="7652"/>
                  <a:pt x="20288" y="7641"/>
                  <a:pt x="20320" y="7652"/>
                </a:cubicBezTo>
              </a:path>
              <a:path w="4827" h="1684">
                <a:moveTo>
                  <a:pt x="20860" y="6477"/>
                </a:moveTo>
                <a:cubicBezTo>
                  <a:pt x="20860" y="6427"/>
                  <a:pt x="20817" y="6491"/>
                  <a:pt x="20796" y="6540"/>
                </a:cubicBezTo>
                <a:cubicBezTo>
                  <a:pt x="20735" y="6681"/>
                  <a:pt x="20677" y="6801"/>
                  <a:pt x="20638" y="6953"/>
                </a:cubicBezTo>
                <a:cubicBezTo>
                  <a:pt x="20599" y="7104"/>
                  <a:pt x="20548" y="7242"/>
                  <a:pt x="20542" y="7398"/>
                </a:cubicBezTo>
                <a:cubicBezTo>
                  <a:pt x="20539" y="7491"/>
                  <a:pt x="20559" y="7634"/>
                  <a:pt x="20606" y="7715"/>
                </a:cubicBezTo>
                <a:cubicBezTo>
                  <a:pt x="20644" y="7781"/>
                  <a:pt x="20713" y="7779"/>
                  <a:pt x="20764" y="7810"/>
                </a:cubicBezTo>
                <a:cubicBezTo>
                  <a:pt x="20828" y="7848"/>
                  <a:pt x="20766" y="7831"/>
                  <a:pt x="20828" y="7810"/>
                </a:cubicBezTo>
              </a:path>
              <a:path w="4827" h="1684">
                <a:moveTo>
                  <a:pt x="20892" y="7017"/>
                </a:moveTo>
                <a:cubicBezTo>
                  <a:pt x="20905" y="7071"/>
                  <a:pt x="20929" y="7120"/>
                  <a:pt x="20955" y="7176"/>
                </a:cubicBezTo>
                <a:cubicBezTo>
                  <a:pt x="21009" y="7290"/>
                  <a:pt x="21060" y="7433"/>
                  <a:pt x="21146" y="7525"/>
                </a:cubicBezTo>
                <a:cubicBezTo>
                  <a:pt x="21174" y="7555"/>
                  <a:pt x="21244" y="7654"/>
                  <a:pt x="21304" y="7620"/>
                </a:cubicBezTo>
                <a:cubicBezTo>
                  <a:pt x="21315" y="7609"/>
                  <a:pt x="21325" y="7599"/>
                  <a:pt x="21336" y="7588"/>
                </a:cubicBezTo>
              </a:path>
              <a:path w="4827" h="1684">
                <a:moveTo>
                  <a:pt x="21209" y="7017"/>
                </a:moveTo>
                <a:cubicBezTo>
                  <a:pt x="21163" y="7108"/>
                  <a:pt x="21112" y="7205"/>
                  <a:pt x="21082" y="7302"/>
                </a:cubicBezTo>
                <a:cubicBezTo>
                  <a:pt x="21041" y="7432"/>
                  <a:pt x="21014" y="7560"/>
                  <a:pt x="20955" y="7684"/>
                </a:cubicBezTo>
                <a:cubicBezTo>
                  <a:pt x="20944" y="7705"/>
                  <a:pt x="20934" y="7726"/>
                  <a:pt x="20923" y="7747"/>
                </a:cubicBezTo>
              </a:path>
              <a:path w="4827" h="1684">
                <a:moveTo>
                  <a:pt x="21590" y="7017"/>
                </a:moveTo>
                <a:cubicBezTo>
                  <a:pt x="21612" y="7102"/>
                  <a:pt x="21595" y="7134"/>
                  <a:pt x="21590" y="7239"/>
                </a:cubicBezTo>
                <a:cubicBezTo>
                  <a:pt x="21585" y="7338"/>
                  <a:pt x="21558" y="7424"/>
                  <a:pt x="21558" y="7525"/>
                </a:cubicBezTo>
                <a:cubicBezTo>
                  <a:pt x="21558" y="7546"/>
                  <a:pt x="21558" y="7567"/>
                  <a:pt x="21558" y="7588"/>
                </a:cubicBezTo>
              </a:path>
              <a:path w="4827" h="1684">
                <a:moveTo>
                  <a:pt x="21431" y="7302"/>
                </a:moveTo>
                <a:cubicBezTo>
                  <a:pt x="21431" y="7292"/>
                  <a:pt x="21431" y="7281"/>
                  <a:pt x="21431" y="7271"/>
                </a:cubicBezTo>
                <a:cubicBezTo>
                  <a:pt x="21489" y="7257"/>
                  <a:pt x="21537" y="7235"/>
                  <a:pt x="21590" y="7207"/>
                </a:cubicBezTo>
                <a:cubicBezTo>
                  <a:pt x="21611" y="7197"/>
                  <a:pt x="21633" y="7186"/>
                  <a:pt x="21654" y="7176"/>
                </a:cubicBezTo>
              </a:path>
              <a:path w="4827" h="1684">
                <a:moveTo>
                  <a:pt x="21876" y="6953"/>
                </a:moveTo>
                <a:cubicBezTo>
                  <a:pt x="21876" y="6882"/>
                  <a:pt x="21873" y="6836"/>
                  <a:pt x="21939" y="6794"/>
                </a:cubicBezTo>
                <a:cubicBezTo>
                  <a:pt x="21990" y="6762"/>
                  <a:pt x="22075" y="6744"/>
                  <a:pt x="22098" y="6826"/>
                </a:cubicBezTo>
                <a:cubicBezTo>
                  <a:pt x="22130" y="6939"/>
                  <a:pt x="22071" y="7043"/>
                  <a:pt x="22034" y="7144"/>
                </a:cubicBezTo>
                <a:cubicBezTo>
                  <a:pt x="22003" y="7226"/>
                  <a:pt x="21978" y="7358"/>
                  <a:pt x="21939" y="7430"/>
                </a:cubicBezTo>
                <a:cubicBezTo>
                  <a:pt x="21929" y="7440"/>
                  <a:pt x="21918" y="7451"/>
                  <a:pt x="21908" y="7461"/>
                </a:cubicBezTo>
                <a:cubicBezTo>
                  <a:pt x="21971" y="7461"/>
                  <a:pt x="21983" y="7447"/>
                  <a:pt x="22034" y="7430"/>
                </a:cubicBezTo>
                <a:cubicBezTo>
                  <a:pt x="22093" y="7411"/>
                  <a:pt x="22142" y="7448"/>
                  <a:pt x="22193" y="7461"/>
                </a:cubicBezTo>
                <a:cubicBezTo>
                  <a:pt x="22248" y="7474"/>
                  <a:pt x="22307" y="7469"/>
                  <a:pt x="22320" y="7430"/>
                </a:cubicBezTo>
              </a:path>
              <a:path w="4827" h="1684">
                <a:moveTo>
                  <a:pt x="22225" y="6445"/>
                </a:moveTo>
                <a:cubicBezTo>
                  <a:pt x="22293" y="6479"/>
                  <a:pt x="22307" y="6563"/>
                  <a:pt x="22352" y="6636"/>
                </a:cubicBezTo>
                <a:cubicBezTo>
                  <a:pt x="22420" y="6747"/>
                  <a:pt x="22465" y="6863"/>
                  <a:pt x="22511" y="6985"/>
                </a:cubicBezTo>
                <a:cubicBezTo>
                  <a:pt x="22568" y="7138"/>
                  <a:pt x="22583" y="7249"/>
                  <a:pt x="22574" y="7398"/>
                </a:cubicBezTo>
                <a:cubicBezTo>
                  <a:pt x="22565" y="7538"/>
                  <a:pt x="22560" y="7704"/>
                  <a:pt x="22447" y="7810"/>
                </a:cubicBezTo>
                <a:cubicBezTo>
                  <a:pt x="22426" y="7821"/>
                  <a:pt x="22405" y="7831"/>
                  <a:pt x="22384" y="7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Ink 70"/>
          <p:cNvSpPr/>
          <p:nvPr/>
        </p:nvSpPr>
        <p:spPr>
          <a:xfrm>
            <a:off x="6732720" y="4011480"/>
            <a:ext cx="685800" cy="971640"/>
          </a:xfrm>
          <a:custGeom>
            <a:avLst/>
            <a:gdLst/>
            <a:ahLst/>
            <a:rect l="l" t="t" r="r" b="b"/>
            <a:pathLst>
              <a:path w="1906" h="2700">
                <a:moveTo>
                  <a:pt x="19431" y="13716"/>
                </a:moveTo>
                <a:cubicBezTo>
                  <a:pt x="19407" y="13788"/>
                  <a:pt x="19403" y="13726"/>
                  <a:pt x="19431" y="13811"/>
                </a:cubicBezTo>
                <a:cubicBezTo>
                  <a:pt x="19446" y="13856"/>
                  <a:pt x="19440" y="13843"/>
                  <a:pt x="19494" y="13843"/>
                </a:cubicBezTo>
                <a:cubicBezTo>
                  <a:pt x="19494" y="13779"/>
                  <a:pt x="19506" y="13733"/>
                  <a:pt x="19463" y="13684"/>
                </a:cubicBezTo>
                <a:cubicBezTo>
                  <a:pt x="19401" y="13613"/>
                  <a:pt x="19399" y="13700"/>
                  <a:pt x="19399" y="13748"/>
                </a:cubicBezTo>
                <a:cubicBezTo>
                  <a:pt x="19399" y="13780"/>
                  <a:pt x="19399" y="13811"/>
                  <a:pt x="19399" y="13843"/>
                </a:cubicBezTo>
                <a:cubicBezTo>
                  <a:pt x="19462" y="13827"/>
                  <a:pt x="19463" y="13813"/>
                  <a:pt x="19463" y="13748"/>
                </a:cubicBezTo>
                <a:cubicBezTo>
                  <a:pt x="19463" y="13683"/>
                  <a:pt x="19448" y="13673"/>
                  <a:pt x="19431" y="13621"/>
                </a:cubicBezTo>
                <a:cubicBezTo>
                  <a:pt x="19431" y="13610"/>
                  <a:pt x="19431" y="13600"/>
                  <a:pt x="19431" y="13589"/>
                </a:cubicBezTo>
                <a:cubicBezTo>
                  <a:pt x="19395" y="13601"/>
                  <a:pt x="19381" y="13661"/>
                  <a:pt x="19368" y="13716"/>
                </a:cubicBezTo>
                <a:cubicBezTo>
                  <a:pt x="19355" y="13770"/>
                  <a:pt x="19396" y="13771"/>
                  <a:pt x="19431" y="13780"/>
                </a:cubicBezTo>
              </a:path>
              <a:path w="1906" h="2700">
                <a:moveTo>
                  <a:pt x="20510" y="12065"/>
                </a:moveTo>
                <a:cubicBezTo>
                  <a:pt x="20510" y="12054"/>
                  <a:pt x="20510" y="12044"/>
                  <a:pt x="20510" y="12033"/>
                </a:cubicBezTo>
              </a:path>
              <a:path w="1906" h="2700">
                <a:moveTo>
                  <a:pt x="20510" y="12065"/>
                </a:moveTo>
                <a:cubicBezTo>
                  <a:pt x="20500" y="12076"/>
                  <a:pt x="20489" y="12086"/>
                  <a:pt x="20479" y="12097"/>
                </a:cubicBezTo>
              </a:path>
              <a:path w="1906" h="2700">
                <a:moveTo>
                  <a:pt x="20479" y="12097"/>
                </a:moveTo>
                <a:cubicBezTo>
                  <a:pt x="20467" y="12113"/>
                  <a:pt x="20414" y="12197"/>
                  <a:pt x="20447" y="12224"/>
                </a:cubicBezTo>
                <a:cubicBezTo>
                  <a:pt x="20458" y="12224"/>
                  <a:pt x="20468" y="12224"/>
                  <a:pt x="20479" y="12224"/>
                </a:cubicBezTo>
                <a:cubicBezTo>
                  <a:pt x="20501" y="12216"/>
                  <a:pt x="20557" y="12167"/>
                  <a:pt x="20574" y="12128"/>
                </a:cubicBezTo>
                <a:cubicBezTo>
                  <a:pt x="20581" y="12113"/>
                  <a:pt x="20609" y="12009"/>
                  <a:pt x="20606" y="12002"/>
                </a:cubicBezTo>
                <a:cubicBezTo>
                  <a:pt x="20577" y="11973"/>
                  <a:pt x="20571" y="11962"/>
                  <a:pt x="20542" y="11970"/>
                </a:cubicBezTo>
                <a:cubicBezTo>
                  <a:pt x="20542" y="12038"/>
                  <a:pt x="20516" y="12059"/>
                  <a:pt x="20510" y="12128"/>
                </a:cubicBezTo>
                <a:cubicBezTo>
                  <a:pt x="20510" y="12164"/>
                  <a:pt x="20513" y="12178"/>
                  <a:pt x="20542" y="12192"/>
                </a:cubicBezTo>
                <a:cubicBezTo>
                  <a:pt x="20554" y="12142"/>
                  <a:pt x="20574" y="12122"/>
                  <a:pt x="20574" y="12065"/>
                </a:cubicBezTo>
              </a:path>
              <a:path w="1906" h="2700">
                <a:moveTo>
                  <a:pt x="19431" y="13780"/>
                </a:moveTo>
                <a:lnTo>
                  <a:pt x="19431" y="13780"/>
                </a:lnTo>
              </a:path>
              <a:path w="1906" h="2700">
                <a:moveTo>
                  <a:pt x="19431" y="13780"/>
                </a:moveTo>
                <a:cubicBezTo>
                  <a:pt x="19431" y="13769"/>
                  <a:pt x="19431" y="13759"/>
                  <a:pt x="19431" y="13748"/>
                </a:cubicBezTo>
              </a:path>
              <a:path w="1906" h="2700">
                <a:moveTo>
                  <a:pt x="19431" y="13748"/>
                </a:moveTo>
                <a:cubicBezTo>
                  <a:pt x="19431" y="13187"/>
                  <a:pt x="19431" y="12626"/>
                  <a:pt x="19431" y="12065"/>
                </a:cubicBezTo>
                <a:cubicBezTo>
                  <a:pt x="19499" y="12065"/>
                  <a:pt x="19537" y="12044"/>
                  <a:pt x="19590" y="12033"/>
                </a:cubicBezTo>
                <a:cubicBezTo>
                  <a:pt x="19639" y="12023"/>
                  <a:pt x="19671" y="12009"/>
                  <a:pt x="19717" y="12002"/>
                </a:cubicBezTo>
                <a:cubicBezTo>
                  <a:pt x="19833" y="11983"/>
                  <a:pt x="19962" y="11991"/>
                  <a:pt x="20066" y="11970"/>
                </a:cubicBezTo>
                <a:cubicBezTo>
                  <a:pt x="20188" y="11946"/>
                  <a:pt x="20344" y="11971"/>
                  <a:pt x="20447" y="12002"/>
                </a:cubicBezTo>
                <a:cubicBezTo>
                  <a:pt x="20458" y="12002"/>
                  <a:pt x="20468" y="12002"/>
                  <a:pt x="20479" y="12002"/>
                </a:cubicBezTo>
              </a:path>
              <a:path w="1906" h="2700">
                <a:moveTo>
                  <a:pt x="18701" y="12859"/>
                </a:moveTo>
                <a:cubicBezTo>
                  <a:pt x="18713" y="12810"/>
                  <a:pt x="18729" y="12771"/>
                  <a:pt x="18764" y="12732"/>
                </a:cubicBezTo>
                <a:cubicBezTo>
                  <a:pt x="18804" y="12687"/>
                  <a:pt x="18792" y="12644"/>
                  <a:pt x="18860" y="12636"/>
                </a:cubicBezTo>
                <a:cubicBezTo>
                  <a:pt x="18926" y="12629"/>
                  <a:pt x="18908" y="12600"/>
                  <a:pt x="18955" y="12636"/>
                </a:cubicBezTo>
                <a:cubicBezTo>
                  <a:pt x="19008" y="12676"/>
                  <a:pt x="18986" y="12766"/>
                  <a:pt x="18986" y="12827"/>
                </a:cubicBezTo>
                <a:cubicBezTo>
                  <a:pt x="18986" y="12896"/>
                  <a:pt x="18963" y="12990"/>
                  <a:pt x="18923" y="13049"/>
                </a:cubicBezTo>
                <a:cubicBezTo>
                  <a:pt x="18893" y="13094"/>
                  <a:pt x="18899" y="13100"/>
                  <a:pt x="18860" y="13113"/>
                </a:cubicBezTo>
                <a:cubicBezTo>
                  <a:pt x="18860" y="13061"/>
                  <a:pt x="18867" y="13011"/>
                  <a:pt x="18923" y="12986"/>
                </a:cubicBezTo>
                <a:cubicBezTo>
                  <a:pt x="18968" y="12966"/>
                  <a:pt x="19020" y="12992"/>
                  <a:pt x="19050" y="13018"/>
                </a:cubicBezTo>
                <a:cubicBezTo>
                  <a:pt x="19098" y="13060"/>
                  <a:pt x="19082" y="13114"/>
                  <a:pt x="19082" y="13176"/>
                </a:cubicBezTo>
                <a:cubicBezTo>
                  <a:pt x="19082" y="13268"/>
                  <a:pt x="19061" y="13287"/>
                  <a:pt x="19018" y="13367"/>
                </a:cubicBezTo>
                <a:cubicBezTo>
                  <a:pt x="18997" y="13406"/>
                  <a:pt x="18941" y="13511"/>
                  <a:pt x="18891" y="13526"/>
                </a:cubicBezTo>
                <a:cubicBezTo>
                  <a:pt x="18835" y="13542"/>
                  <a:pt x="18771" y="13529"/>
                  <a:pt x="18732" y="13494"/>
                </a:cubicBezTo>
                <a:cubicBezTo>
                  <a:pt x="18677" y="13444"/>
                  <a:pt x="18701" y="13372"/>
                  <a:pt x="18701" y="13303"/>
                </a:cubicBezTo>
              </a:path>
              <a:path w="1906" h="2700">
                <a:moveTo>
                  <a:pt x="19812" y="11398"/>
                </a:moveTo>
                <a:cubicBezTo>
                  <a:pt x="19827" y="11353"/>
                  <a:pt x="19872" y="11357"/>
                  <a:pt x="19907" y="11303"/>
                </a:cubicBezTo>
                <a:cubicBezTo>
                  <a:pt x="19974" y="11199"/>
                  <a:pt x="19972" y="11223"/>
                  <a:pt x="20066" y="11176"/>
                </a:cubicBezTo>
                <a:cubicBezTo>
                  <a:pt x="20138" y="11140"/>
                  <a:pt x="20154" y="11188"/>
                  <a:pt x="20161" y="11271"/>
                </a:cubicBezTo>
                <a:cubicBezTo>
                  <a:pt x="20167" y="11348"/>
                  <a:pt x="20099" y="11456"/>
                  <a:pt x="20066" y="11525"/>
                </a:cubicBezTo>
                <a:cubicBezTo>
                  <a:pt x="20031" y="11598"/>
                  <a:pt x="20016" y="11693"/>
                  <a:pt x="19971" y="11748"/>
                </a:cubicBezTo>
                <a:cubicBezTo>
                  <a:pt x="19960" y="11758"/>
                  <a:pt x="19950" y="11769"/>
                  <a:pt x="19939" y="11779"/>
                </a:cubicBezTo>
                <a:cubicBezTo>
                  <a:pt x="19989" y="11767"/>
                  <a:pt x="20009" y="11748"/>
                  <a:pt x="20066" y="11748"/>
                </a:cubicBezTo>
                <a:cubicBezTo>
                  <a:pt x="20138" y="11748"/>
                  <a:pt x="20155" y="11716"/>
                  <a:pt x="20225" y="11716"/>
                </a:cubicBezTo>
                <a:cubicBezTo>
                  <a:pt x="20308" y="11716"/>
                  <a:pt x="20307" y="11717"/>
                  <a:pt x="20384" y="11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Ink 71"/>
          <p:cNvSpPr/>
          <p:nvPr/>
        </p:nvSpPr>
        <p:spPr>
          <a:xfrm>
            <a:off x="8161200" y="3143160"/>
            <a:ext cx="811440" cy="2092320"/>
          </a:xfrm>
          <a:custGeom>
            <a:avLst/>
            <a:gdLst/>
            <a:ahLst/>
            <a:rect l="l" t="t" r="r" b="b"/>
            <a:pathLst>
              <a:path w="2255" h="5812">
                <a:moveTo>
                  <a:pt x="23050" y="9652"/>
                </a:moveTo>
                <a:cubicBezTo>
                  <a:pt x="23063" y="9753"/>
                  <a:pt x="23082" y="9830"/>
                  <a:pt x="23082" y="9938"/>
                </a:cubicBezTo>
                <a:cubicBezTo>
                  <a:pt x="23082" y="10082"/>
                  <a:pt x="23088" y="10225"/>
                  <a:pt x="23050" y="10350"/>
                </a:cubicBezTo>
                <a:cubicBezTo>
                  <a:pt x="23050" y="10361"/>
                  <a:pt x="23050" y="10371"/>
                  <a:pt x="23050" y="10382"/>
                </a:cubicBezTo>
                <a:cubicBezTo>
                  <a:pt x="23050" y="10218"/>
                  <a:pt x="23045" y="10066"/>
                  <a:pt x="23082" y="9906"/>
                </a:cubicBezTo>
                <a:cubicBezTo>
                  <a:pt x="23119" y="9746"/>
                  <a:pt x="23155" y="9666"/>
                  <a:pt x="23209" y="9525"/>
                </a:cubicBezTo>
                <a:cubicBezTo>
                  <a:pt x="23226" y="9481"/>
                  <a:pt x="23217" y="9493"/>
                  <a:pt x="23273" y="9493"/>
                </a:cubicBezTo>
                <a:cubicBezTo>
                  <a:pt x="23313" y="9588"/>
                  <a:pt x="23332" y="9673"/>
                  <a:pt x="23336" y="9779"/>
                </a:cubicBezTo>
                <a:cubicBezTo>
                  <a:pt x="23339" y="9867"/>
                  <a:pt x="23336" y="10183"/>
                  <a:pt x="23336" y="10160"/>
                </a:cubicBezTo>
                <a:cubicBezTo>
                  <a:pt x="23336" y="10016"/>
                  <a:pt x="23336" y="9888"/>
                  <a:pt x="23368" y="9747"/>
                </a:cubicBezTo>
                <a:cubicBezTo>
                  <a:pt x="23389" y="9653"/>
                  <a:pt x="23406" y="9425"/>
                  <a:pt x="23495" y="9366"/>
                </a:cubicBezTo>
                <a:cubicBezTo>
                  <a:pt x="23527" y="9366"/>
                  <a:pt x="23537" y="9366"/>
                  <a:pt x="23558" y="9366"/>
                </a:cubicBezTo>
                <a:cubicBezTo>
                  <a:pt x="23591" y="9497"/>
                  <a:pt x="23590" y="9611"/>
                  <a:pt x="23590" y="9747"/>
                </a:cubicBezTo>
                <a:cubicBezTo>
                  <a:pt x="23590" y="9914"/>
                  <a:pt x="23597" y="10068"/>
                  <a:pt x="23622" y="10224"/>
                </a:cubicBezTo>
                <a:cubicBezTo>
                  <a:pt x="23627" y="10256"/>
                  <a:pt x="23627" y="10391"/>
                  <a:pt x="23654" y="10382"/>
                </a:cubicBezTo>
                <a:cubicBezTo>
                  <a:pt x="23686" y="10350"/>
                  <a:pt x="23696" y="10340"/>
                  <a:pt x="23717" y="10319"/>
                </a:cubicBezTo>
              </a:path>
              <a:path w="2255" h="5812">
                <a:moveTo>
                  <a:pt x="23844" y="9716"/>
                </a:moveTo>
                <a:cubicBezTo>
                  <a:pt x="23844" y="9705"/>
                  <a:pt x="23844" y="9695"/>
                  <a:pt x="23844" y="9684"/>
                </a:cubicBezTo>
                <a:cubicBezTo>
                  <a:pt x="23899" y="9684"/>
                  <a:pt x="23893" y="9697"/>
                  <a:pt x="23908" y="9652"/>
                </a:cubicBezTo>
                <a:cubicBezTo>
                  <a:pt x="23940" y="9652"/>
                  <a:pt x="23950" y="9652"/>
                  <a:pt x="23971" y="9652"/>
                </a:cubicBezTo>
              </a:path>
              <a:path w="2255" h="5812">
                <a:moveTo>
                  <a:pt x="23876" y="10001"/>
                </a:moveTo>
                <a:cubicBezTo>
                  <a:pt x="23887" y="10001"/>
                  <a:pt x="23897" y="10001"/>
                  <a:pt x="23908" y="10001"/>
                </a:cubicBezTo>
                <a:cubicBezTo>
                  <a:pt x="23921" y="9964"/>
                  <a:pt x="23962" y="9947"/>
                  <a:pt x="24003" y="9906"/>
                </a:cubicBezTo>
                <a:cubicBezTo>
                  <a:pt x="24014" y="9895"/>
                  <a:pt x="24024" y="9885"/>
                  <a:pt x="24035" y="9874"/>
                </a:cubicBezTo>
              </a:path>
              <a:path w="2255" h="5812">
                <a:moveTo>
                  <a:pt x="24130" y="9080"/>
                </a:moveTo>
                <a:cubicBezTo>
                  <a:pt x="24132" y="9070"/>
                  <a:pt x="24159" y="8957"/>
                  <a:pt x="24162" y="8954"/>
                </a:cubicBezTo>
                <a:cubicBezTo>
                  <a:pt x="24214" y="8913"/>
                  <a:pt x="24243" y="8912"/>
                  <a:pt x="24289" y="8922"/>
                </a:cubicBezTo>
                <a:cubicBezTo>
                  <a:pt x="24349" y="8936"/>
                  <a:pt x="24326" y="9004"/>
                  <a:pt x="24289" y="9049"/>
                </a:cubicBezTo>
                <a:cubicBezTo>
                  <a:pt x="24243" y="9106"/>
                  <a:pt x="24252" y="9150"/>
                  <a:pt x="24194" y="9208"/>
                </a:cubicBezTo>
                <a:cubicBezTo>
                  <a:pt x="24183" y="9218"/>
                  <a:pt x="24173" y="9229"/>
                  <a:pt x="24162" y="9239"/>
                </a:cubicBezTo>
                <a:cubicBezTo>
                  <a:pt x="24178" y="9176"/>
                  <a:pt x="24193" y="9176"/>
                  <a:pt x="24257" y="9176"/>
                </a:cubicBezTo>
                <a:cubicBezTo>
                  <a:pt x="24289" y="9176"/>
                  <a:pt x="24299" y="9176"/>
                  <a:pt x="24320" y="9176"/>
                </a:cubicBezTo>
                <a:cubicBezTo>
                  <a:pt x="24328" y="9230"/>
                  <a:pt x="24377" y="9307"/>
                  <a:pt x="24352" y="9366"/>
                </a:cubicBezTo>
                <a:cubicBezTo>
                  <a:pt x="24325" y="9431"/>
                  <a:pt x="24297" y="9491"/>
                  <a:pt x="24257" y="9557"/>
                </a:cubicBezTo>
                <a:cubicBezTo>
                  <a:pt x="24210" y="9634"/>
                  <a:pt x="24231" y="9655"/>
                  <a:pt x="24162" y="9620"/>
                </a:cubicBezTo>
              </a:path>
              <a:path w="2255" h="5812">
                <a:moveTo>
                  <a:pt x="24606" y="8731"/>
                </a:moveTo>
                <a:cubicBezTo>
                  <a:pt x="24606" y="8837"/>
                  <a:pt x="24612" y="8917"/>
                  <a:pt x="24574" y="9017"/>
                </a:cubicBezTo>
                <a:cubicBezTo>
                  <a:pt x="24517" y="9169"/>
                  <a:pt x="24505" y="9307"/>
                  <a:pt x="24479" y="9462"/>
                </a:cubicBezTo>
                <a:cubicBezTo>
                  <a:pt x="24452" y="9619"/>
                  <a:pt x="24415" y="9785"/>
                  <a:pt x="24384" y="9938"/>
                </a:cubicBezTo>
                <a:cubicBezTo>
                  <a:pt x="24363" y="10043"/>
                  <a:pt x="24325" y="10157"/>
                  <a:pt x="24289" y="10255"/>
                </a:cubicBezTo>
              </a:path>
              <a:path w="2255" h="5812">
                <a:moveTo>
                  <a:pt x="24511" y="9684"/>
                </a:moveTo>
                <a:cubicBezTo>
                  <a:pt x="24527" y="9662"/>
                  <a:pt x="24562" y="9565"/>
                  <a:pt x="24574" y="9557"/>
                </a:cubicBezTo>
                <a:cubicBezTo>
                  <a:pt x="24606" y="9557"/>
                  <a:pt x="24617" y="9557"/>
                  <a:pt x="24638" y="9557"/>
                </a:cubicBezTo>
                <a:cubicBezTo>
                  <a:pt x="24638" y="9630"/>
                  <a:pt x="24617" y="9680"/>
                  <a:pt x="24606" y="9747"/>
                </a:cubicBezTo>
                <a:cubicBezTo>
                  <a:pt x="24590" y="9841"/>
                  <a:pt x="24531" y="9910"/>
                  <a:pt x="24511" y="10001"/>
                </a:cubicBezTo>
                <a:cubicBezTo>
                  <a:pt x="24495" y="10071"/>
                  <a:pt x="24468" y="10098"/>
                  <a:pt x="24448" y="10160"/>
                </a:cubicBezTo>
                <a:cubicBezTo>
                  <a:pt x="24448" y="10171"/>
                  <a:pt x="24448" y="10181"/>
                  <a:pt x="24448" y="10192"/>
                </a:cubicBezTo>
                <a:cubicBezTo>
                  <a:pt x="24476" y="10143"/>
                  <a:pt x="24479" y="10126"/>
                  <a:pt x="24479" y="10065"/>
                </a:cubicBezTo>
                <a:cubicBezTo>
                  <a:pt x="24543" y="10065"/>
                  <a:pt x="24554" y="10079"/>
                  <a:pt x="24606" y="10096"/>
                </a:cubicBezTo>
                <a:cubicBezTo>
                  <a:pt x="24633" y="10105"/>
                  <a:pt x="24656" y="10154"/>
                  <a:pt x="24702" y="10128"/>
                </a:cubicBezTo>
                <a:cubicBezTo>
                  <a:pt x="24759" y="10096"/>
                  <a:pt x="24778" y="10076"/>
                  <a:pt x="24797" y="10001"/>
                </a:cubicBezTo>
                <a:cubicBezTo>
                  <a:pt x="24797" y="9991"/>
                  <a:pt x="24797" y="9980"/>
                  <a:pt x="24797" y="9970"/>
                </a:cubicBezTo>
              </a:path>
              <a:path w="2255" h="5812">
                <a:moveTo>
                  <a:pt x="23209" y="10986"/>
                </a:moveTo>
                <a:cubicBezTo>
                  <a:pt x="23159" y="11003"/>
                  <a:pt x="23178" y="11049"/>
                  <a:pt x="23178" y="11112"/>
                </a:cubicBezTo>
                <a:cubicBezTo>
                  <a:pt x="23178" y="11370"/>
                  <a:pt x="23174" y="11623"/>
                  <a:pt x="23146" y="11874"/>
                </a:cubicBezTo>
                <a:cubicBezTo>
                  <a:pt x="23142" y="11908"/>
                  <a:pt x="23112" y="12220"/>
                  <a:pt x="23114" y="12224"/>
                </a:cubicBezTo>
                <a:cubicBezTo>
                  <a:pt x="23125" y="12224"/>
                  <a:pt x="23135" y="12224"/>
                  <a:pt x="23146" y="12224"/>
                </a:cubicBezTo>
                <a:cubicBezTo>
                  <a:pt x="23119" y="12184"/>
                  <a:pt x="23146" y="12156"/>
                  <a:pt x="23146" y="12065"/>
                </a:cubicBezTo>
                <a:cubicBezTo>
                  <a:pt x="23146" y="11980"/>
                  <a:pt x="23184" y="11859"/>
                  <a:pt x="23209" y="11779"/>
                </a:cubicBezTo>
                <a:cubicBezTo>
                  <a:pt x="23228" y="11719"/>
                  <a:pt x="23274" y="11607"/>
                  <a:pt x="23304" y="11557"/>
                </a:cubicBezTo>
                <a:cubicBezTo>
                  <a:pt x="23330" y="11514"/>
                  <a:pt x="23386" y="11467"/>
                  <a:pt x="23432" y="11462"/>
                </a:cubicBezTo>
                <a:cubicBezTo>
                  <a:pt x="23464" y="11458"/>
                  <a:pt x="23539" y="11498"/>
                  <a:pt x="23558" y="11525"/>
                </a:cubicBezTo>
                <a:cubicBezTo>
                  <a:pt x="23596" y="11580"/>
                  <a:pt x="23617" y="11654"/>
                  <a:pt x="23622" y="11716"/>
                </a:cubicBezTo>
                <a:cubicBezTo>
                  <a:pt x="23629" y="11801"/>
                  <a:pt x="23626" y="11870"/>
                  <a:pt x="23590" y="11938"/>
                </a:cubicBezTo>
                <a:cubicBezTo>
                  <a:pt x="23549" y="12014"/>
                  <a:pt x="23477" y="12087"/>
                  <a:pt x="23400" y="12128"/>
                </a:cubicBezTo>
                <a:cubicBezTo>
                  <a:pt x="23360" y="12150"/>
                  <a:pt x="23257" y="12180"/>
                  <a:pt x="23209" y="12192"/>
                </a:cubicBezTo>
                <a:cubicBezTo>
                  <a:pt x="23183" y="12199"/>
                  <a:pt x="23095" y="12153"/>
                  <a:pt x="23082" y="12128"/>
                </a:cubicBezTo>
                <a:cubicBezTo>
                  <a:pt x="23075" y="12114"/>
                  <a:pt x="23111" y="12021"/>
                  <a:pt x="23114" y="12002"/>
                </a:cubicBezTo>
              </a:path>
              <a:path w="2255" h="5812">
                <a:moveTo>
                  <a:pt x="23876" y="11620"/>
                </a:moveTo>
                <a:cubicBezTo>
                  <a:pt x="23908" y="11620"/>
                  <a:pt x="23939" y="11620"/>
                  <a:pt x="23971" y="11620"/>
                </a:cubicBezTo>
              </a:path>
              <a:path w="2255" h="5812">
                <a:moveTo>
                  <a:pt x="23844" y="11240"/>
                </a:moveTo>
                <a:cubicBezTo>
                  <a:pt x="23886" y="11240"/>
                  <a:pt x="23929" y="11240"/>
                  <a:pt x="23971" y="11240"/>
                </a:cubicBezTo>
                <a:cubicBezTo>
                  <a:pt x="23987" y="11192"/>
                  <a:pt x="24009" y="11208"/>
                  <a:pt x="24066" y="11208"/>
                </a:cubicBezTo>
                <a:cubicBezTo>
                  <a:pt x="24098" y="11208"/>
                  <a:pt x="24109" y="11208"/>
                  <a:pt x="24130" y="11208"/>
                </a:cubicBezTo>
              </a:path>
              <a:path w="2255" h="5812">
                <a:moveTo>
                  <a:pt x="23908" y="11557"/>
                </a:moveTo>
                <a:cubicBezTo>
                  <a:pt x="23982" y="11557"/>
                  <a:pt x="24056" y="11557"/>
                  <a:pt x="24130" y="11557"/>
                </a:cubicBezTo>
              </a:path>
              <a:path w="2255" h="5812">
                <a:moveTo>
                  <a:pt x="24257" y="11112"/>
                </a:moveTo>
                <a:cubicBezTo>
                  <a:pt x="24228" y="11141"/>
                  <a:pt x="24217" y="11147"/>
                  <a:pt x="24225" y="11176"/>
                </a:cubicBezTo>
                <a:cubicBezTo>
                  <a:pt x="24290" y="11176"/>
                  <a:pt x="24300" y="11162"/>
                  <a:pt x="24352" y="11144"/>
                </a:cubicBezTo>
                <a:cubicBezTo>
                  <a:pt x="24397" y="11129"/>
                  <a:pt x="24410" y="11118"/>
                  <a:pt x="24448" y="11081"/>
                </a:cubicBezTo>
              </a:path>
              <a:path w="2255" h="5812">
                <a:moveTo>
                  <a:pt x="24606" y="10890"/>
                </a:moveTo>
                <a:cubicBezTo>
                  <a:pt x="24606" y="10835"/>
                  <a:pt x="24613" y="10814"/>
                  <a:pt x="24670" y="10795"/>
                </a:cubicBezTo>
                <a:cubicBezTo>
                  <a:pt x="24728" y="10776"/>
                  <a:pt x="24746" y="10802"/>
                  <a:pt x="24765" y="10827"/>
                </a:cubicBezTo>
                <a:cubicBezTo>
                  <a:pt x="24810" y="10886"/>
                  <a:pt x="24797" y="10938"/>
                  <a:pt x="24797" y="11017"/>
                </a:cubicBezTo>
                <a:cubicBezTo>
                  <a:pt x="24797" y="11116"/>
                  <a:pt x="24744" y="11214"/>
                  <a:pt x="24702" y="11303"/>
                </a:cubicBezTo>
                <a:cubicBezTo>
                  <a:pt x="24666" y="11379"/>
                  <a:pt x="24632" y="11474"/>
                  <a:pt x="24606" y="11557"/>
                </a:cubicBezTo>
                <a:cubicBezTo>
                  <a:pt x="24593" y="11599"/>
                  <a:pt x="24600" y="11640"/>
                  <a:pt x="24574" y="11589"/>
                </a:cubicBezTo>
                <a:cubicBezTo>
                  <a:pt x="24654" y="11589"/>
                  <a:pt x="24699" y="11598"/>
                  <a:pt x="24765" y="11620"/>
                </a:cubicBezTo>
                <a:cubicBezTo>
                  <a:pt x="24829" y="11641"/>
                  <a:pt x="24871" y="11599"/>
                  <a:pt x="24892" y="11589"/>
                </a:cubicBezTo>
                <a:cubicBezTo>
                  <a:pt x="24937" y="11567"/>
                  <a:pt x="24924" y="11556"/>
                  <a:pt x="24924" y="11494"/>
                </a:cubicBezTo>
                <a:cubicBezTo>
                  <a:pt x="24924" y="11427"/>
                  <a:pt x="24923" y="11404"/>
                  <a:pt x="24892" y="11366"/>
                </a:cubicBezTo>
              </a:path>
              <a:path w="2255" h="5812">
                <a:moveTo>
                  <a:pt x="22701" y="13272"/>
                </a:moveTo>
                <a:cubicBezTo>
                  <a:pt x="22691" y="13272"/>
                  <a:pt x="22680" y="13272"/>
                  <a:pt x="22670" y="13272"/>
                </a:cubicBezTo>
                <a:cubicBezTo>
                  <a:pt x="22683" y="13310"/>
                  <a:pt x="22722" y="13316"/>
                  <a:pt x="22733" y="13367"/>
                </a:cubicBezTo>
                <a:cubicBezTo>
                  <a:pt x="22748" y="13437"/>
                  <a:pt x="22776" y="13464"/>
                  <a:pt x="22796" y="13526"/>
                </a:cubicBezTo>
                <a:cubicBezTo>
                  <a:pt x="22813" y="13578"/>
                  <a:pt x="22808" y="13668"/>
                  <a:pt x="22828" y="13716"/>
                </a:cubicBezTo>
                <a:cubicBezTo>
                  <a:pt x="22840" y="13745"/>
                  <a:pt x="22846" y="13817"/>
                  <a:pt x="22860" y="13843"/>
                </a:cubicBezTo>
                <a:cubicBezTo>
                  <a:pt x="22889" y="13872"/>
                  <a:pt x="22899" y="13878"/>
                  <a:pt x="22892" y="13906"/>
                </a:cubicBezTo>
              </a:path>
              <a:path w="2255" h="5812">
                <a:moveTo>
                  <a:pt x="23082" y="12954"/>
                </a:moveTo>
                <a:cubicBezTo>
                  <a:pt x="23082" y="13038"/>
                  <a:pt x="23064" y="13106"/>
                  <a:pt x="23050" y="13176"/>
                </a:cubicBezTo>
                <a:cubicBezTo>
                  <a:pt x="23032" y="13268"/>
                  <a:pt x="23041" y="13365"/>
                  <a:pt x="23019" y="13462"/>
                </a:cubicBezTo>
                <a:cubicBezTo>
                  <a:pt x="22993" y="13578"/>
                  <a:pt x="22960" y="13687"/>
                  <a:pt x="22955" y="13811"/>
                </a:cubicBezTo>
                <a:cubicBezTo>
                  <a:pt x="22950" y="13935"/>
                  <a:pt x="22906" y="14040"/>
                  <a:pt x="22892" y="14160"/>
                </a:cubicBezTo>
                <a:cubicBezTo>
                  <a:pt x="22880" y="14266"/>
                  <a:pt x="22852" y="14345"/>
                  <a:pt x="22828" y="14446"/>
                </a:cubicBezTo>
                <a:cubicBezTo>
                  <a:pt x="22814" y="14505"/>
                  <a:pt x="22854" y="14523"/>
                  <a:pt x="22796" y="14542"/>
                </a:cubicBezTo>
              </a:path>
              <a:path w="2255" h="5812">
                <a:moveTo>
                  <a:pt x="23114" y="12922"/>
                </a:moveTo>
                <a:cubicBezTo>
                  <a:pt x="23066" y="12934"/>
                  <a:pt x="23017" y="12971"/>
                  <a:pt x="22987" y="13018"/>
                </a:cubicBezTo>
                <a:cubicBezTo>
                  <a:pt x="22932" y="13103"/>
                  <a:pt x="22900" y="13179"/>
                  <a:pt x="22860" y="13272"/>
                </a:cubicBezTo>
                <a:cubicBezTo>
                  <a:pt x="22819" y="13367"/>
                  <a:pt x="22796" y="13465"/>
                  <a:pt x="22765" y="13557"/>
                </a:cubicBezTo>
                <a:cubicBezTo>
                  <a:pt x="22743" y="13624"/>
                  <a:pt x="22733" y="13621"/>
                  <a:pt x="22733" y="13684"/>
                </a:cubicBezTo>
                <a:cubicBezTo>
                  <a:pt x="22771" y="13634"/>
                  <a:pt x="22787" y="13581"/>
                  <a:pt x="22828" y="13526"/>
                </a:cubicBezTo>
                <a:cubicBezTo>
                  <a:pt x="22869" y="13471"/>
                  <a:pt x="22933" y="13374"/>
                  <a:pt x="22987" y="13335"/>
                </a:cubicBezTo>
                <a:cubicBezTo>
                  <a:pt x="23039" y="13309"/>
                  <a:pt x="23047" y="13298"/>
                  <a:pt x="23082" y="13303"/>
                </a:cubicBezTo>
                <a:cubicBezTo>
                  <a:pt x="23142" y="13383"/>
                  <a:pt x="23111" y="13461"/>
                  <a:pt x="23082" y="13557"/>
                </a:cubicBezTo>
                <a:cubicBezTo>
                  <a:pt x="23033" y="13721"/>
                  <a:pt x="22964" y="13858"/>
                  <a:pt x="22892" y="14002"/>
                </a:cubicBezTo>
                <a:cubicBezTo>
                  <a:pt x="22866" y="14055"/>
                  <a:pt x="22813" y="14140"/>
                  <a:pt x="22796" y="14192"/>
                </a:cubicBezTo>
                <a:cubicBezTo>
                  <a:pt x="22770" y="14269"/>
                  <a:pt x="22773" y="14250"/>
                  <a:pt x="22796" y="14319"/>
                </a:cubicBezTo>
                <a:cubicBezTo>
                  <a:pt x="22796" y="14355"/>
                  <a:pt x="22799" y="14369"/>
                  <a:pt x="22828" y="14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Ink 72"/>
          <p:cNvSpPr/>
          <p:nvPr/>
        </p:nvSpPr>
        <p:spPr>
          <a:xfrm>
            <a:off x="949320" y="4618080"/>
            <a:ext cx="503280" cy="252360"/>
          </a:xfrm>
          <a:custGeom>
            <a:avLst/>
            <a:gdLst/>
            <a:ahLst/>
            <a:rect l="l" t="t" r="r" b="b"/>
            <a:pathLst>
              <a:path w="1398" h="700">
                <a:moveTo>
                  <a:pt x="2699" y="12954"/>
                </a:moveTo>
                <a:cubicBezTo>
                  <a:pt x="2734" y="13002"/>
                  <a:pt x="2761" y="13059"/>
                  <a:pt x="2794" y="13113"/>
                </a:cubicBezTo>
                <a:cubicBezTo>
                  <a:pt x="2834" y="13179"/>
                  <a:pt x="2869" y="13246"/>
                  <a:pt x="2921" y="13303"/>
                </a:cubicBezTo>
                <a:cubicBezTo>
                  <a:pt x="2932" y="13314"/>
                  <a:pt x="2942" y="13324"/>
                  <a:pt x="2953" y="13335"/>
                </a:cubicBezTo>
              </a:path>
              <a:path w="1398" h="700">
                <a:moveTo>
                  <a:pt x="2889" y="12986"/>
                </a:moveTo>
                <a:cubicBezTo>
                  <a:pt x="2889" y="13036"/>
                  <a:pt x="2882" y="13104"/>
                  <a:pt x="2858" y="13144"/>
                </a:cubicBezTo>
                <a:cubicBezTo>
                  <a:pt x="2816" y="13214"/>
                  <a:pt x="2708" y="13317"/>
                  <a:pt x="2635" y="13335"/>
                </a:cubicBezTo>
              </a:path>
              <a:path w="1398" h="700">
                <a:moveTo>
                  <a:pt x="3016" y="13240"/>
                </a:moveTo>
                <a:cubicBezTo>
                  <a:pt x="3016" y="13272"/>
                  <a:pt x="3016" y="13303"/>
                  <a:pt x="3016" y="13335"/>
                </a:cubicBezTo>
                <a:cubicBezTo>
                  <a:pt x="2984" y="13335"/>
                  <a:pt x="2973" y="13335"/>
                  <a:pt x="2984" y="13367"/>
                </a:cubicBezTo>
              </a:path>
              <a:path w="1398" h="700">
                <a:moveTo>
                  <a:pt x="3683" y="12827"/>
                </a:moveTo>
                <a:cubicBezTo>
                  <a:pt x="3631" y="12844"/>
                  <a:pt x="3625" y="12887"/>
                  <a:pt x="3620" y="12954"/>
                </a:cubicBezTo>
                <a:cubicBezTo>
                  <a:pt x="3613" y="13046"/>
                  <a:pt x="3595" y="13061"/>
                  <a:pt x="3620" y="13144"/>
                </a:cubicBezTo>
                <a:cubicBezTo>
                  <a:pt x="3643" y="13219"/>
                  <a:pt x="3665" y="13233"/>
                  <a:pt x="3746" y="13240"/>
                </a:cubicBezTo>
                <a:cubicBezTo>
                  <a:pt x="3818" y="13246"/>
                  <a:pt x="3840" y="13159"/>
                  <a:pt x="3874" y="13113"/>
                </a:cubicBezTo>
                <a:cubicBezTo>
                  <a:pt x="3902" y="13076"/>
                  <a:pt x="3905" y="12939"/>
                  <a:pt x="3905" y="12986"/>
                </a:cubicBezTo>
                <a:cubicBezTo>
                  <a:pt x="3905" y="13065"/>
                  <a:pt x="3880" y="13102"/>
                  <a:pt x="3874" y="13176"/>
                </a:cubicBezTo>
                <a:cubicBezTo>
                  <a:pt x="3868" y="13247"/>
                  <a:pt x="3842" y="13291"/>
                  <a:pt x="3842" y="13367"/>
                </a:cubicBezTo>
                <a:cubicBezTo>
                  <a:pt x="3842" y="13413"/>
                  <a:pt x="3862" y="13500"/>
                  <a:pt x="3810" y="13526"/>
                </a:cubicBezTo>
                <a:cubicBezTo>
                  <a:pt x="3764" y="13549"/>
                  <a:pt x="3755" y="13521"/>
                  <a:pt x="3746" y="13494"/>
                </a:cubicBezTo>
              </a:path>
              <a:path w="1398" h="700">
                <a:moveTo>
                  <a:pt x="4032" y="13272"/>
                </a:moveTo>
                <a:cubicBezTo>
                  <a:pt x="4032" y="13337"/>
                  <a:pt x="4009" y="13365"/>
                  <a:pt x="4000" y="13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Ink 73"/>
          <p:cNvSpPr/>
          <p:nvPr/>
        </p:nvSpPr>
        <p:spPr>
          <a:xfrm>
            <a:off x="857160" y="5349960"/>
            <a:ext cx="1143000" cy="833400"/>
          </a:xfrm>
          <a:custGeom>
            <a:avLst/>
            <a:gdLst/>
            <a:ahLst/>
            <a:rect l="l" t="t" r="r" b="b"/>
            <a:pathLst>
              <a:path w="3176" h="2319">
                <a:moveTo>
                  <a:pt x="2858" y="15113"/>
                </a:moveTo>
                <a:cubicBezTo>
                  <a:pt x="2900" y="15099"/>
                  <a:pt x="2897" y="15068"/>
                  <a:pt x="2953" y="15050"/>
                </a:cubicBezTo>
                <a:cubicBezTo>
                  <a:pt x="2994" y="15036"/>
                  <a:pt x="3038" y="15033"/>
                  <a:pt x="3080" y="15018"/>
                </a:cubicBezTo>
                <a:cubicBezTo>
                  <a:pt x="3148" y="14993"/>
                  <a:pt x="3168" y="14986"/>
                  <a:pt x="3238" y="14986"/>
                </a:cubicBezTo>
                <a:cubicBezTo>
                  <a:pt x="3270" y="14986"/>
                  <a:pt x="3302" y="14986"/>
                  <a:pt x="3334" y="14986"/>
                </a:cubicBezTo>
                <a:cubicBezTo>
                  <a:pt x="3334" y="15042"/>
                  <a:pt x="3322" y="15096"/>
                  <a:pt x="3302" y="15145"/>
                </a:cubicBezTo>
                <a:cubicBezTo>
                  <a:pt x="3272" y="15220"/>
                  <a:pt x="3223" y="15303"/>
                  <a:pt x="3175" y="15367"/>
                </a:cubicBezTo>
                <a:cubicBezTo>
                  <a:pt x="3141" y="15412"/>
                  <a:pt x="3071" y="15475"/>
                  <a:pt x="3048" y="15526"/>
                </a:cubicBezTo>
                <a:cubicBezTo>
                  <a:pt x="3020" y="15588"/>
                  <a:pt x="2999" y="15596"/>
                  <a:pt x="3016" y="15589"/>
                </a:cubicBezTo>
                <a:cubicBezTo>
                  <a:pt x="3148" y="15536"/>
                  <a:pt x="3357" y="15610"/>
                  <a:pt x="3461" y="15558"/>
                </a:cubicBezTo>
                <a:cubicBezTo>
                  <a:pt x="3492" y="15558"/>
                  <a:pt x="3503" y="15558"/>
                  <a:pt x="3492" y="15526"/>
                </a:cubicBezTo>
              </a:path>
              <a:path w="3176" h="2319">
                <a:moveTo>
                  <a:pt x="3683" y="15240"/>
                </a:moveTo>
                <a:cubicBezTo>
                  <a:pt x="3723" y="15210"/>
                  <a:pt x="3798" y="15167"/>
                  <a:pt x="3842" y="15145"/>
                </a:cubicBezTo>
                <a:cubicBezTo>
                  <a:pt x="3888" y="15122"/>
                  <a:pt x="3887" y="15151"/>
                  <a:pt x="3937" y="15113"/>
                </a:cubicBezTo>
              </a:path>
              <a:path w="3176" h="2319">
                <a:moveTo>
                  <a:pt x="4254" y="14891"/>
                </a:moveTo>
                <a:cubicBezTo>
                  <a:pt x="4220" y="14902"/>
                  <a:pt x="4204" y="14966"/>
                  <a:pt x="4191" y="15018"/>
                </a:cubicBezTo>
                <a:cubicBezTo>
                  <a:pt x="4164" y="15127"/>
                  <a:pt x="4205" y="15246"/>
                  <a:pt x="4223" y="15335"/>
                </a:cubicBezTo>
                <a:cubicBezTo>
                  <a:pt x="4240" y="15419"/>
                  <a:pt x="4228" y="15430"/>
                  <a:pt x="4318" y="15430"/>
                </a:cubicBezTo>
                <a:cubicBezTo>
                  <a:pt x="4384" y="15430"/>
                  <a:pt x="4432" y="15349"/>
                  <a:pt x="4477" y="15304"/>
                </a:cubicBezTo>
                <a:cubicBezTo>
                  <a:pt x="4569" y="15212"/>
                  <a:pt x="4563" y="15092"/>
                  <a:pt x="4636" y="14986"/>
                </a:cubicBezTo>
                <a:cubicBezTo>
                  <a:pt x="4669" y="14938"/>
                  <a:pt x="4667" y="14919"/>
                  <a:pt x="4667" y="14859"/>
                </a:cubicBezTo>
                <a:cubicBezTo>
                  <a:pt x="4741" y="14884"/>
                  <a:pt x="4678" y="14932"/>
                  <a:pt x="4667" y="14986"/>
                </a:cubicBezTo>
                <a:cubicBezTo>
                  <a:pt x="4645" y="15093"/>
                  <a:pt x="4647" y="15228"/>
                  <a:pt x="4636" y="15335"/>
                </a:cubicBezTo>
                <a:cubicBezTo>
                  <a:pt x="4625" y="15441"/>
                  <a:pt x="4636" y="15551"/>
                  <a:pt x="4604" y="15653"/>
                </a:cubicBezTo>
                <a:cubicBezTo>
                  <a:pt x="4587" y="15708"/>
                  <a:pt x="4536" y="15817"/>
                  <a:pt x="4477" y="15843"/>
                </a:cubicBezTo>
                <a:cubicBezTo>
                  <a:pt x="4433" y="15862"/>
                  <a:pt x="4345" y="15848"/>
                  <a:pt x="4318" y="15812"/>
                </a:cubicBezTo>
                <a:cubicBezTo>
                  <a:pt x="4307" y="15791"/>
                  <a:pt x="4297" y="15769"/>
                  <a:pt x="4286" y="15748"/>
                </a:cubicBezTo>
              </a:path>
              <a:path w="3176" h="2319">
                <a:moveTo>
                  <a:pt x="4985" y="16066"/>
                </a:moveTo>
                <a:cubicBezTo>
                  <a:pt x="4922" y="16045"/>
                  <a:pt x="4901" y="16037"/>
                  <a:pt x="4826" y="16034"/>
                </a:cubicBezTo>
                <a:cubicBezTo>
                  <a:pt x="4507" y="16020"/>
                  <a:pt x="4187" y="16040"/>
                  <a:pt x="3874" y="16066"/>
                </a:cubicBezTo>
                <a:cubicBezTo>
                  <a:pt x="3710" y="16080"/>
                  <a:pt x="3559" y="16039"/>
                  <a:pt x="3397" y="16034"/>
                </a:cubicBezTo>
                <a:cubicBezTo>
                  <a:pt x="3233" y="16029"/>
                  <a:pt x="3075" y="16047"/>
                  <a:pt x="2921" y="16066"/>
                </a:cubicBezTo>
                <a:cubicBezTo>
                  <a:pt x="2822" y="16078"/>
                  <a:pt x="2720" y="16113"/>
                  <a:pt x="2635" y="16129"/>
                </a:cubicBezTo>
                <a:cubicBezTo>
                  <a:pt x="2580" y="16139"/>
                  <a:pt x="2495" y="16138"/>
                  <a:pt x="2445" y="16161"/>
                </a:cubicBezTo>
                <a:cubicBezTo>
                  <a:pt x="2406" y="16178"/>
                  <a:pt x="2443" y="16163"/>
                  <a:pt x="2413" y="16192"/>
                </a:cubicBezTo>
              </a:path>
              <a:path w="3176" h="2319">
                <a:moveTo>
                  <a:pt x="2889" y="16320"/>
                </a:moveTo>
                <a:cubicBezTo>
                  <a:pt x="2953" y="16320"/>
                  <a:pt x="2964" y="16334"/>
                  <a:pt x="3016" y="16351"/>
                </a:cubicBezTo>
                <a:cubicBezTo>
                  <a:pt x="3080" y="16372"/>
                  <a:pt x="3087" y="16359"/>
                  <a:pt x="3143" y="16415"/>
                </a:cubicBezTo>
                <a:cubicBezTo>
                  <a:pt x="3193" y="16465"/>
                  <a:pt x="3213" y="16509"/>
                  <a:pt x="3175" y="16574"/>
                </a:cubicBezTo>
                <a:cubicBezTo>
                  <a:pt x="3146" y="16624"/>
                  <a:pt x="3069" y="16683"/>
                  <a:pt x="3016" y="16700"/>
                </a:cubicBezTo>
                <a:cubicBezTo>
                  <a:pt x="2982" y="16711"/>
                  <a:pt x="2925" y="16700"/>
                  <a:pt x="2889" y="16700"/>
                </a:cubicBezTo>
                <a:cubicBezTo>
                  <a:pt x="2969" y="16681"/>
                  <a:pt x="2942" y="16676"/>
                  <a:pt x="3016" y="16700"/>
                </a:cubicBezTo>
                <a:cubicBezTo>
                  <a:pt x="3072" y="16718"/>
                  <a:pt x="3089" y="16764"/>
                  <a:pt x="3112" y="16796"/>
                </a:cubicBezTo>
                <a:cubicBezTo>
                  <a:pt x="3146" y="16842"/>
                  <a:pt x="3169" y="16893"/>
                  <a:pt x="3175" y="16954"/>
                </a:cubicBezTo>
                <a:cubicBezTo>
                  <a:pt x="3179" y="16994"/>
                  <a:pt x="3138" y="17053"/>
                  <a:pt x="3112" y="17082"/>
                </a:cubicBezTo>
                <a:cubicBezTo>
                  <a:pt x="3083" y="17115"/>
                  <a:pt x="3025" y="17140"/>
                  <a:pt x="2984" y="17145"/>
                </a:cubicBezTo>
                <a:cubicBezTo>
                  <a:pt x="2925" y="17152"/>
                  <a:pt x="2910" y="17119"/>
                  <a:pt x="2858" y="17113"/>
                </a:cubicBezTo>
                <a:cubicBezTo>
                  <a:pt x="2817" y="17108"/>
                  <a:pt x="2801" y="17091"/>
                  <a:pt x="2762" y="17082"/>
                </a:cubicBezTo>
              </a:path>
              <a:path w="3176" h="2319">
                <a:moveTo>
                  <a:pt x="3366" y="16796"/>
                </a:moveTo>
                <a:cubicBezTo>
                  <a:pt x="3399" y="16788"/>
                  <a:pt x="3451" y="16741"/>
                  <a:pt x="3492" y="16764"/>
                </a:cubicBezTo>
                <a:cubicBezTo>
                  <a:pt x="3521" y="16793"/>
                  <a:pt x="3527" y="16804"/>
                  <a:pt x="3556" y="16796"/>
                </a:cubicBezTo>
              </a:path>
              <a:path w="3176" h="2319">
                <a:moveTo>
                  <a:pt x="4191" y="16383"/>
                </a:moveTo>
                <a:cubicBezTo>
                  <a:pt x="4148" y="16383"/>
                  <a:pt x="3909" y="16349"/>
                  <a:pt x="3905" y="16351"/>
                </a:cubicBezTo>
                <a:cubicBezTo>
                  <a:pt x="3900" y="16353"/>
                  <a:pt x="3853" y="16438"/>
                  <a:pt x="3842" y="16446"/>
                </a:cubicBezTo>
                <a:cubicBezTo>
                  <a:pt x="3792" y="16483"/>
                  <a:pt x="3773" y="16533"/>
                  <a:pt x="3746" y="16574"/>
                </a:cubicBezTo>
                <a:cubicBezTo>
                  <a:pt x="3720" y="16613"/>
                  <a:pt x="3641" y="16648"/>
                  <a:pt x="3683" y="16669"/>
                </a:cubicBezTo>
                <a:cubicBezTo>
                  <a:pt x="3741" y="16698"/>
                  <a:pt x="3703" y="16677"/>
                  <a:pt x="3778" y="16669"/>
                </a:cubicBezTo>
                <a:cubicBezTo>
                  <a:pt x="3803" y="16666"/>
                  <a:pt x="3882" y="16650"/>
                  <a:pt x="3905" y="16637"/>
                </a:cubicBezTo>
                <a:cubicBezTo>
                  <a:pt x="3959" y="16607"/>
                  <a:pt x="3976" y="16599"/>
                  <a:pt x="4032" y="16637"/>
                </a:cubicBezTo>
                <a:cubicBezTo>
                  <a:pt x="4092" y="16677"/>
                  <a:pt x="4077" y="16770"/>
                  <a:pt x="4096" y="16828"/>
                </a:cubicBezTo>
                <a:cubicBezTo>
                  <a:pt x="4114" y="16881"/>
                  <a:pt x="4154" y="16956"/>
                  <a:pt x="4128" y="17018"/>
                </a:cubicBezTo>
                <a:cubicBezTo>
                  <a:pt x="4109" y="17062"/>
                  <a:pt x="4087" y="17153"/>
                  <a:pt x="4032" y="17177"/>
                </a:cubicBezTo>
                <a:cubicBezTo>
                  <a:pt x="3981" y="17200"/>
                  <a:pt x="3922" y="17150"/>
                  <a:pt x="3874" y="17145"/>
                </a:cubicBezTo>
                <a:cubicBezTo>
                  <a:pt x="3791" y="17137"/>
                  <a:pt x="3778" y="17078"/>
                  <a:pt x="3715" y="17050"/>
                </a:cubicBezTo>
                <a:cubicBezTo>
                  <a:pt x="3683" y="17050"/>
                  <a:pt x="3672" y="17050"/>
                  <a:pt x="3683" y="17018"/>
                </a:cubicBezTo>
              </a:path>
              <a:path w="3176" h="2319">
                <a:moveTo>
                  <a:pt x="5270" y="15907"/>
                </a:moveTo>
                <a:cubicBezTo>
                  <a:pt x="5319" y="15858"/>
                  <a:pt x="5330" y="15843"/>
                  <a:pt x="5398" y="15843"/>
                </a:cubicBezTo>
                <a:cubicBezTo>
                  <a:pt x="5469" y="15843"/>
                  <a:pt x="5501" y="15862"/>
                  <a:pt x="5556" y="15907"/>
                </a:cubicBezTo>
              </a:path>
              <a:path w="3176" h="2319">
                <a:moveTo>
                  <a:pt x="5334" y="16288"/>
                </a:moveTo>
                <a:cubicBezTo>
                  <a:pt x="5416" y="16288"/>
                  <a:pt x="5477" y="16310"/>
                  <a:pt x="5556" y="163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Ink 74"/>
          <p:cNvSpPr/>
          <p:nvPr/>
        </p:nvSpPr>
        <p:spPr>
          <a:xfrm>
            <a:off x="1954080" y="4664160"/>
            <a:ext cx="184320" cy="193680"/>
          </a:xfrm>
          <a:custGeom>
            <a:avLst/>
            <a:gdLst/>
            <a:ahLst/>
            <a:rect l="l" t="t" r="r" b="b"/>
            <a:pathLst>
              <a:path w="509" h="541">
                <a:moveTo>
                  <a:pt x="5493" y="12954"/>
                </a:moveTo>
                <a:cubicBezTo>
                  <a:pt x="5482" y="12954"/>
                  <a:pt x="5472" y="12954"/>
                  <a:pt x="5461" y="12954"/>
                </a:cubicBezTo>
                <a:cubicBezTo>
                  <a:pt x="5471" y="12995"/>
                  <a:pt x="5506" y="13077"/>
                  <a:pt x="5524" y="13113"/>
                </a:cubicBezTo>
                <a:cubicBezTo>
                  <a:pt x="5565" y="13194"/>
                  <a:pt x="5646" y="13242"/>
                  <a:pt x="5683" y="13335"/>
                </a:cubicBezTo>
                <a:cubicBezTo>
                  <a:pt x="5708" y="13408"/>
                  <a:pt x="5718" y="13417"/>
                  <a:pt x="5715" y="13462"/>
                </a:cubicBezTo>
              </a:path>
              <a:path w="509" h="541">
                <a:moveTo>
                  <a:pt x="5683" y="13113"/>
                </a:moveTo>
                <a:cubicBezTo>
                  <a:pt x="5666" y="13180"/>
                  <a:pt x="5636" y="13165"/>
                  <a:pt x="5588" y="13208"/>
                </a:cubicBezTo>
                <a:cubicBezTo>
                  <a:pt x="5555" y="13237"/>
                  <a:pt x="5442" y="13315"/>
                  <a:pt x="5429" y="13335"/>
                </a:cubicBezTo>
                <a:cubicBezTo>
                  <a:pt x="5429" y="13346"/>
                  <a:pt x="5429" y="13356"/>
                  <a:pt x="5429" y="13367"/>
                </a:cubicBezTo>
              </a:path>
              <a:path w="509" h="541">
                <a:moveTo>
                  <a:pt x="5715" y="13303"/>
                </a:moveTo>
                <a:cubicBezTo>
                  <a:pt x="5778" y="13303"/>
                  <a:pt x="5790" y="13289"/>
                  <a:pt x="5842" y="13272"/>
                </a:cubicBezTo>
                <a:cubicBezTo>
                  <a:pt x="5853" y="13272"/>
                  <a:pt x="5863" y="13272"/>
                  <a:pt x="5874" y="13272"/>
                </a:cubicBezTo>
                <a:cubicBezTo>
                  <a:pt x="5874" y="13336"/>
                  <a:pt x="5862" y="13324"/>
                  <a:pt x="5842" y="13367"/>
                </a:cubicBezTo>
                <a:cubicBezTo>
                  <a:pt x="5817" y="13420"/>
                  <a:pt x="5791" y="13444"/>
                  <a:pt x="5778" y="13494"/>
                </a:cubicBezTo>
                <a:cubicBezTo>
                  <a:pt x="5831" y="13494"/>
                  <a:pt x="5884" y="13494"/>
                  <a:pt x="5937" y="13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Ink 75"/>
          <p:cNvSpPr/>
          <p:nvPr/>
        </p:nvSpPr>
        <p:spPr>
          <a:xfrm>
            <a:off x="2320920" y="4664160"/>
            <a:ext cx="239760" cy="206280"/>
          </a:xfrm>
          <a:custGeom>
            <a:avLst/>
            <a:gdLst/>
            <a:ahLst/>
            <a:rect l="l" t="t" r="r" b="b"/>
            <a:pathLst>
              <a:path w="668" h="573">
                <a:moveTo>
                  <a:pt x="6445" y="12954"/>
                </a:moveTo>
                <a:cubicBezTo>
                  <a:pt x="6457" y="13004"/>
                  <a:pt x="6477" y="13024"/>
                  <a:pt x="6477" y="13081"/>
                </a:cubicBezTo>
                <a:cubicBezTo>
                  <a:pt x="6477" y="13139"/>
                  <a:pt x="6510" y="13212"/>
                  <a:pt x="6572" y="13240"/>
                </a:cubicBezTo>
                <a:cubicBezTo>
                  <a:pt x="6604" y="13240"/>
                  <a:pt x="6615" y="13240"/>
                  <a:pt x="6636" y="13240"/>
                </a:cubicBezTo>
              </a:path>
              <a:path w="668" h="573">
                <a:moveTo>
                  <a:pt x="6763" y="12986"/>
                </a:moveTo>
                <a:cubicBezTo>
                  <a:pt x="6763" y="13049"/>
                  <a:pt x="6741" y="13097"/>
                  <a:pt x="6731" y="13144"/>
                </a:cubicBezTo>
                <a:cubicBezTo>
                  <a:pt x="6710" y="13248"/>
                  <a:pt x="6719" y="13271"/>
                  <a:pt x="6668" y="13367"/>
                </a:cubicBezTo>
                <a:cubicBezTo>
                  <a:pt x="6632" y="13435"/>
                  <a:pt x="6659" y="13516"/>
                  <a:pt x="6572" y="13526"/>
                </a:cubicBezTo>
                <a:cubicBezTo>
                  <a:pt x="6540" y="13526"/>
                  <a:pt x="6529" y="13526"/>
                  <a:pt x="6540" y="13494"/>
                </a:cubicBezTo>
              </a:path>
              <a:path w="668" h="573">
                <a:moveTo>
                  <a:pt x="6794" y="13240"/>
                </a:moveTo>
                <a:cubicBezTo>
                  <a:pt x="6844" y="13253"/>
                  <a:pt x="6875" y="13288"/>
                  <a:pt x="6922" y="13303"/>
                </a:cubicBezTo>
                <a:cubicBezTo>
                  <a:pt x="6966" y="13317"/>
                  <a:pt x="7094" y="13335"/>
                  <a:pt x="7048" y="13335"/>
                </a:cubicBezTo>
                <a:cubicBezTo>
                  <a:pt x="6984" y="13335"/>
                  <a:pt x="6973" y="13350"/>
                  <a:pt x="6922" y="13367"/>
                </a:cubicBezTo>
                <a:cubicBezTo>
                  <a:pt x="6878" y="13382"/>
                  <a:pt x="6864" y="13465"/>
                  <a:pt x="6922" y="13494"/>
                </a:cubicBezTo>
                <a:cubicBezTo>
                  <a:pt x="6947" y="13507"/>
                  <a:pt x="7022" y="13524"/>
                  <a:pt x="7048" y="13526"/>
                </a:cubicBezTo>
                <a:cubicBezTo>
                  <a:pt x="7069" y="13526"/>
                  <a:pt x="7091" y="13526"/>
                  <a:pt x="7112" y="13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Ink 76"/>
          <p:cNvSpPr/>
          <p:nvPr/>
        </p:nvSpPr>
        <p:spPr>
          <a:xfrm>
            <a:off x="2549520" y="5383080"/>
            <a:ext cx="560520" cy="470160"/>
          </a:xfrm>
          <a:custGeom>
            <a:avLst/>
            <a:gdLst/>
            <a:ahLst/>
            <a:rect l="l" t="t" r="r" b="b"/>
            <a:pathLst>
              <a:path w="1557" h="1303">
                <a:moveTo>
                  <a:pt x="7080" y="15748"/>
                </a:moveTo>
                <a:cubicBezTo>
                  <a:pt x="7080" y="15737"/>
                  <a:pt x="7080" y="15727"/>
                  <a:pt x="7080" y="15716"/>
                </a:cubicBezTo>
                <a:cubicBezTo>
                  <a:pt x="7178" y="15716"/>
                  <a:pt x="7243" y="15725"/>
                  <a:pt x="7334" y="15748"/>
                </a:cubicBezTo>
                <a:cubicBezTo>
                  <a:pt x="7345" y="15748"/>
                  <a:pt x="7355" y="15748"/>
                  <a:pt x="7366" y="15748"/>
                </a:cubicBezTo>
              </a:path>
              <a:path w="1557" h="1303">
                <a:moveTo>
                  <a:pt x="7080" y="16097"/>
                </a:moveTo>
                <a:cubicBezTo>
                  <a:pt x="7154" y="16097"/>
                  <a:pt x="7228" y="16097"/>
                  <a:pt x="7302" y="16097"/>
                </a:cubicBezTo>
              </a:path>
              <a:path w="1557" h="1303">
                <a:moveTo>
                  <a:pt x="7906" y="15272"/>
                </a:moveTo>
                <a:cubicBezTo>
                  <a:pt x="7922" y="15225"/>
                  <a:pt x="7948" y="15239"/>
                  <a:pt x="7969" y="15208"/>
                </a:cubicBezTo>
                <a:cubicBezTo>
                  <a:pt x="8021" y="15133"/>
                  <a:pt x="8036" y="15134"/>
                  <a:pt x="8096" y="15081"/>
                </a:cubicBezTo>
                <a:cubicBezTo>
                  <a:pt x="8149" y="15034"/>
                  <a:pt x="8201" y="15018"/>
                  <a:pt x="8255" y="14986"/>
                </a:cubicBezTo>
                <a:cubicBezTo>
                  <a:pt x="8271" y="14976"/>
                  <a:pt x="8355" y="14920"/>
                  <a:pt x="8382" y="14954"/>
                </a:cubicBezTo>
                <a:cubicBezTo>
                  <a:pt x="8406" y="14984"/>
                  <a:pt x="8414" y="14995"/>
                  <a:pt x="8414" y="15050"/>
                </a:cubicBezTo>
                <a:cubicBezTo>
                  <a:pt x="8414" y="15168"/>
                  <a:pt x="8403" y="15230"/>
                  <a:pt x="8350" y="15335"/>
                </a:cubicBezTo>
                <a:cubicBezTo>
                  <a:pt x="8301" y="15433"/>
                  <a:pt x="8280" y="15564"/>
                  <a:pt x="8223" y="15653"/>
                </a:cubicBezTo>
                <a:cubicBezTo>
                  <a:pt x="8165" y="15745"/>
                  <a:pt x="8122" y="15842"/>
                  <a:pt x="8064" y="15938"/>
                </a:cubicBezTo>
                <a:cubicBezTo>
                  <a:pt x="8016" y="16017"/>
                  <a:pt x="7952" y="16084"/>
                  <a:pt x="7906" y="16161"/>
                </a:cubicBezTo>
                <a:cubicBezTo>
                  <a:pt x="7886" y="16195"/>
                  <a:pt x="7877" y="16221"/>
                  <a:pt x="7842" y="16256"/>
                </a:cubicBezTo>
                <a:cubicBezTo>
                  <a:pt x="7881" y="16243"/>
                  <a:pt x="7913" y="16247"/>
                  <a:pt x="7969" y="16224"/>
                </a:cubicBezTo>
                <a:cubicBezTo>
                  <a:pt x="8043" y="16193"/>
                  <a:pt x="8102" y="16192"/>
                  <a:pt x="8192" y="16192"/>
                </a:cubicBezTo>
                <a:cubicBezTo>
                  <a:pt x="8280" y="16192"/>
                  <a:pt x="8333" y="16205"/>
                  <a:pt x="8414" y="16224"/>
                </a:cubicBezTo>
                <a:cubicBezTo>
                  <a:pt x="8516" y="16248"/>
                  <a:pt x="8505" y="16249"/>
                  <a:pt x="8604" y="16224"/>
                </a:cubicBezTo>
                <a:cubicBezTo>
                  <a:pt x="8615" y="16224"/>
                  <a:pt x="8625" y="16224"/>
                  <a:pt x="8636" y="162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Ink 77"/>
          <p:cNvSpPr/>
          <p:nvPr/>
        </p:nvSpPr>
        <p:spPr>
          <a:xfrm>
            <a:off x="2000160" y="5326200"/>
            <a:ext cx="435240" cy="1006200"/>
          </a:xfrm>
          <a:custGeom>
            <a:avLst/>
            <a:gdLst/>
            <a:ahLst/>
            <a:rect l="l" t="t" r="r" b="b"/>
            <a:pathLst>
              <a:path w="1208" h="2795">
                <a:moveTo>
                  <a:pt x="6636" y="16256"/>
                </a:moveTo>
                <a:cubicBezTo>
                  <a:pt x="6570" y="16306"/>
                  <a:pt x="6555" y="16265"/>
                  <a:pt x="6477" y="16288"/>
                </a:cubicBezTo>
                <a:cubicBezTo>
                  <a:pt x="6376" y="16318"/>
                  <a:pt x="6266" y="16345"/>
                  <a:pt x="6160" y="16351"/>
                </a:cubicBezTo>
                <a:cubicBezTo>
                  <a:pt x="6097" y="16354"/>
                  <a:pt x="5965" y="16360"/>
                  <a:pt x="5906" y="16383"/>
                </a:cubicBezTo>
                <a:cubicBezTo>
                  <a:pt x="5853" y="16404"/>
                  <a:pt x="5795" y="16410"/>
                  <a:pt x="5747" y="16446"/>
                </a:cubicBezTo>
              </a:path>
              <a:path w="1208" h="2795">
                <a:moveTo>
                  <a:pt x="5842" y="16923"/>
                </a:moveTo>
                <a:cubicBezTo>
                  <a:pt x="5892" y="16935"/>
                  <a:pt x="5913" y="16954"/>
                  <a:pt x="5969" y="16954"/>
                </a:cubicBezTo>
                <a:cubicBezTo>
                  <a:pt x="6001" y="16954"/>
                  <a:pt x="6011" y="16954"/>
                  <a:pt x="6032" y="16954"/>
                </a:cubicBezTo>
              </a:path>
              <a:path w="1208" h="2795">
                <a:moveTo>
                  <a:pt x="6286" y="16859"/>
                </a:moveTo>
                <a:cubicBezTo>
                  <a:pt x="6302" y="16813"/>
                  <a:pt x="6360" y="16829"/>
                  <a:pt x="6382" y="16796"/>
                </a:cubicBezTo>
                <a:cubicBezTo>
                  <a:pt x="6393" y="16780"/>
                  <a:pt x="6449" y="16719"/>
                  <a:pt x="6477" y="16700"/>
                </a:cubicBezTo>
                <a:cubicBezTo>
                  <a:pt x="6567" y="16640"/>
                  <a:pt x="6627" y="16736"/>
                  <a:pt x="6668" y="16764"/>
                </a:cubicBezTo>
                <a:cubicBezTo>
                  <a:pt x="6698" y="16784"/>
                  <a:pt x="6725" y="16802"/>
                  <a:pt x="6731" y="16859"/>
                </a:cubicBezTo>
                <a:cubicBezTo>
                  <a:pt x="6733" y="16876"/>
                  <a:pt x="6657" y="16957"/>
                  <a:pt x="6636" y="16986"/>
                </a:cubicBezTo>
                <a:cubicBezTo>
                  <a:pt x="6596" y="17039"/>
                  <a:pt x="6531" y="17081"/>
                  <a:pt x="6477" y="17113"/>
                </a:cubicBezTo>
                <a:cubicBezTo>
                  <a:pt x="6400" y="17159"/>
                  <a:pt x="6327" y="17218"/>
                  <a:pt x="6255" y="17272"/>
                </a:cubicBezTo>
                <a:cubicBezTo>
                  <a:pt x="6215" y="17302"/>
                  <a:pt x="6202" y="17325"/>
                  <a:pt x="6191" y="17367"/>
                </a:cubicBezTo>
                <a:cubicBezTo>
                  <a:pt x="6265" y="17313"/>
                  <a:pt x="6264" y="17346"/>
                  <a:pt x="6350" y="17367"/>
                </a:cubicBezTo>
                <a:cubicBezTo>
                  <a:pt x="6421" y="17384"/>
                  <a:pt x="6428" y="17440"/>
                  <a:pt x="6477" y="17494"/>
                </a:cubicBezTo>
                <a:cubicBezTo>
                  <a:pt x="6515" y="17536"/>
                  <a:pt x="6514" y="17570"/>
                  <a:pt x="6572" y="17590"/>
                </a:cubicBezTo>
                <a:cubicBezTo>
                  <a:pt x="6635" y="17611"/>
                  <a:pt x="6708" y="17579"/>
                  <a:pt x="6763" y="17558"/>
                </a:cubicBezTo>
              </a:path>
              <a:path w="1208" h="2795">
                <a:moveTo>
                  <a:pt x="5556" y="15208"/>
                </a:moveTo>
                <a:cubicBezTo>
                  <a:pt x="5596" y="15238"/>
                  <a:pt x="5662" y="15291"/>
                  <a:pt x="5715" y="15304"/>
                </a:cubicBezTo>
                <a:cubicBezTo>
                  <a:pt x="5772" y="15304"/>
                  <a:pt x="5788" y="15300"/>
                  <a:pt x="5810" y="15335"/>
                </a:cubicBezTo>
              </a:path>
              <a:path w="1208" h="2795">
                <a:moveTo>
                  <a:pt x="6064" y="14859"/>
                </a:moveTo>
                <a:cubicBezTo>
                  <a:pt x="6064" y="14951"/>
                  <a:pt x="6043" y="15029"/>
                  <a:pt x="6032" y="15113"/>
                </a:cubicBezTo>
                <a:cubicBezTo>
                  <a:pt x="6022" y="15192"/>
                  <a:pt x="6003" y="15294"/>
                  <a:pt x="5969" y="15367"/>
                </a:cubicBezTo>
                <a:cubicBezTo>
                  <a:pt x="5945" y="15418"/>
                  <a:pt x="5937" y="15402"/>
                  <a:pt x="5937" y="15462"/>
                </a:cubicBezTo>
                <a:cubicBezTo>
                  <a:pt x="5996" y="15462"/>
                  <a:pt x="6012" y="15436"/>
                  <a:pt x="6064" y="15430"/>
                </a:cubicBezTo>
                <a:cubicBezTo>
                  <a:pt x="6118" y="15424"/>
                  <a:pt x="6177" y="15443"/>
                  <a:pt x="6223" y="15462"/>
                </a:cubicBezTo>
                <a:cubicBezTo>
                  <a:pt x="6264" y="15479"/>
                  <a:pt x="6330" y="15555"/>
                  <a:pt x="6382" y="15526"/>
                </a:cubicBezTo>
                <a:cubicBezTo>
                  <a:pt x="6393" y="15515"/>
                  <a:pt x="6403" y="15505"/>
                  <a:pt x="6414" y="15494"/>
                </a:cubicBezTo>
              </a:path>
              <a:path w="1208" h="2795">
                <a:moveTo>
                  <a:pt x="6509" y="14796"/>
                </a:moveTo>
                <a:cubicBezTo>
                  <a:pt x="6452" y="14810"/>
                  <a:pt x="6423" y="14855"/>
                  <a:pt x="6414" y="14922"/>
                </a:cubicBezTo>
                <a:cubicBezTo>
                  <a:pt x="6395" y="15065"/>
                  <a:pt x="6357" y="15193"/>
                  <a:pt x="6318" y="15335"/>
                </a:cubicBezTo>
                <a:cubicBezTo>
                  <a:pt x="6272" y="15504"/>
                  <a:pt x="6207" y="15648"/>
                  <a:pt x="6160" y="15812"/>
                </a:cubicBezTo>
                <a:cubicBezTo>
                  <a:pt x="6149" y="15854"/>
                  <a:pt x="6139" y="15896"/>
                  <a:pt x="6128" y="15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Ink 78"/>
          <p:cNvSpPr/>
          <p:nvPr/>
        </p:nvSpPr>
        <p:spPr>
          <a:xfrm>
            <a:off x="3508200" y="5154480"/>
            <a:ext cx="1327320" cy="949320"/>
          </a:xfrm>
          <a:custGeom>
            <a:avLst/>
            <a:gdLst/>
            <a:ahLst/>
            <a:rect l="l" t="t" r="r" b="b"/>
            <a:pathLst>
              <a:path w="3684" h="2636">
                <a:moveTo>
                  <a:pt x="10382" y="15145"/>
                </a:moveTo>
                <a:cubicBezTo>
                  <a:pt x="10371" y="15145"/>
                  <a:pt x="10361" y="15145"/>
                  <a:pt x="10350" y="15145"/>
                </a:cubicBezTo>
                <a:cubicBezTo>
                  <a:pt x="10414" y="15145"/>
                  <a:pt x="10477" y="15145"/>
                  <a:pt x="10541" y="15145"/>
                </a:cubicBezTo>
                <a:cubicBezTo>
                  <a:pt x="10557" y="15097"/>
                  <a:pt x="10579" y="15113"/>
                  <a:pt x="10636" y="15113"/>
                </a:cubicBezTo>
                <a:cubicBezTo>
                  <a:pt x="10672" y="15113"/>
                  <a:pt x="10686" y="15116"/>
                  <a:pt x="10700" y="15145"/>
                </a:cubicBezTo>
              </a:path>
              <a:path w="3684" h="2636">
                <a:moveTo>
                  <a:pt x="10382" y="15240"/>
                </a:moveTo>
                <a:lnTo>
                  <a:pt x="10382" y="15240"/>
                </a:lnTo>
              </a:path>
              <a:path w="3684" h="2636">
                <a:moveTo>
                  <a:pt x="10382" y="15240"/>
                </a:moveTo>
                <a:cubicBezTo>
                  <a:pt x="10382" y="15229"/>
                  <a:pt x="10382" y="15219"/>
                  <a:pt x="10382" y="15208"/>
                </a:cubicBezTo>
              </a:path>
              <a:path w="3684" h="2636">
                <a:moveTo>
                  <a:pt x="10382" y="15208"/>
                </a:moveTo>
                <a:cubicBezTo>
                  <a:pt x="10424" y="15180"/>
                  <a:pt x="10409" y="15136"/>
                  <a:pt x="10478" y="15113"/>
                </a:cubicBezTo>
                <a:cubicBezTo>
                  <a:pt x="10552" y="15088"/>
                  <a:pt x="10639" y="15130"/>
                  <a:pt x="10668" y="15145"/>
                </a:cubicBezTo>
                <a:cubicBezTo>
                  <a:pt x="10726" y="15174"/>
                  <a:pt x="10732" y="15203"/>
                  <a:pt x="10732" y="15272"/>
                </a:cubicBezTo>
                <a:cubicBezTo>
                  <a:pt x="10732" y="15348"/>
                  <a:pt x="10712" y="15401"/>
                  <a:pt x="10700" y="15462"/>
                </a:cubicBezTo>
                <a:cubicBezTo>
                  <a:pt x="10683" y="15545"/>
                  <a:pt x="10673" y="15614"/>
                  <a:pt x="10636" y="15684"/>
                </a:cubicBezTo>
                <a:cubicBezTo>
                  <a:pt x="10605" y="15742"/>
                  <a:pt x="10581" y="15798"/>
                  <a:pt x="10541" y="15843"/>
                </a:cubicBezTo>
                <a:cubicBezTo>
                  <a:pt x="10506" y="15882"/>
                  <a:pt x="10462" y="15923"/>
                  <a:pt x="10446" y="15970"/>
                </a:cubicBezTo>
                <a:cubicBezTo>
                  <a:pt x="10431" y="16015"/>
                  <a:pt x="10409" y="16088"/>
                  <a:pt x="10382" y="16034"/>
                </a:cubicBezTo>
                <a:cubicBezTo>
                  <a:pt x="10438" y="16034"/>
                  <a:pt x="10447" y="16026"/>
                  <a:pt x="10478" y="16002"/>
                </a:cubicBezTo>
                <a:cubicBezTo>
                  <a:pt x="10526" y="15965"/>
                  <a:pt x="10542" y="15970"/>
                  <a:pt x="10604" y="15970"/>
                </a:cubicBezTo>
                <a:cubicBezTo>
                  <a:pt x="10618" y="15970"/>
                  <a:pt x="10677" y="15989"/>
                  <a:pt x="10700" y="16002"/>
                </a:cubicBezTo>
                <a:cubicBezTo>
                  <a:pt x="10743" y="16026"/>
                  <a:pt x="10781" y="16077"/>
                  <a:pt x="10827" y="16097"/>
                </a:cubicBezTo>
                <a:cubicBezTo>
                  <a:pt x="10876" y="16119"/>
                  <a:pt x="10858" y="16058"/>
                  <a:pt x="10858" y="16034"/>
                </a:cubicBezTo>
              </a:path>
              <a:path w="3684" h="2636">
                <a:moveTo>
                  <a:pt x="11017" y="15526"/>
                </a:moveTo>
                <a:cubicBezTo>
                  <a:pt x="11017" y="15515"/>
                  <a:pt x="11017" y="15505"/>
                  <a:pt x="11017" y="15494"/>
                </a:cubicBezTo>
                <a:cubicBezTo>
                  <a:pt x="11082" y="15494"/>
                  <a:pt x="11092" y="15480"/>
                  <a:pt x="11144" y="15462"/>
                </a:cubicBezTo>
                <a:cubicBezTo>
                  <a:pt x="11168" y="15454"/>
                  <a:pt x="11214" y="15462"/>
                  <a:pt x="11240" y="15462"/>
                </a:cubicBezTo>
              </a:path>
              <a:path w="3684" h="2636">
                <a:moveTo>
                  <a:pt x="11462" y="14986"/>
                </a:moveTo>
                <a:cubicBezTo>
                  <a:pt x="11482" y="15025"/>
                  <a:pt x="11494" y="15026"/>
                  <a:pt x="11494" y="15113"/>
                </a:cubicBezTo>
                <a:cubicBezTo>
                  <a:pt x="11494" y="15338"/>
                  <a:pt x="11424" y="15718"/>
                  <a:pt x="11525" y="15907"/>
                </a:cubicBezTo>
                <a:cubicBezTo>
                  <a:pt x="11525" y="15943"/>
                  <a:pt x="11528" y="15956"/>
                  <a:pt x="11557" y="15970"/>
                </a:cubicBezTo>
                <a:cubicBezTo>
                  <a:pt x="11577" y="15950"/>
                  <a:pt x="11623" y="15919"/>
                  <a:pt x="11652" y="15875"/>
                </a:cubicBezTo>
                <a:cubicBezTo>
                  <a:pt x="11705" y="15793"/>
                  <a:pt x="11693" y="15680"/>
                  <a:pt x="11716" y="15589"/>
                </a:cubicBezTo>
                <a:cubicBezTo>
                  <a:pt x="11744" y="15478"/>
                  <a:pt x="11748" y="15387"/>
                  <a:pt x="11748" y="15272"/>
                </a:cubicBezTo>
                <a:cubicBezTo>
                  <a:pt x="11748" y="15206"/>
                  <a:pt x="11749" y="15183"/>
                  <a:pt x="11779" y="15145"/>
                </a:cubicBezTo>
                <a:cubicBezTo>
                  <a:pt x="11787" y="15209"/>
                  <a:pt x="11791" y="15305"/>
                  <a:pt x="11811" y="15367"/>
                </a:cubicBezTo>
                <a:cubicBezTo>
                  <a:pt x="11847" y="15479"/>
                  <a:pt x="11870" y="15595"/>
                  <a:pt x="11874" y="15716"/>
                </a:cubicBezTo>
                <a:cubicBezTo>
                  <a:pt x="11882" y="15939"/>
                  <a:pt x="11906" y="16201"/>
                  <a:pt x="11843" y="16415"/>
                </a:cubicBezTo>
                <a:cubicBezTo>
                  <a:pt x="11815" y="16511"/>
                  <a:pt x="11785" y="16568"/>
                  <a:pt x="11716" y="16637"/>
                </a:cubicBezTo>
                <a:cubicBezTo>
                  <a:pt x="11681" y="16672"/>
                  <a:pt x="11635" y="16690"/>
                  <a:pt x="11589" y="16700"/>
                </a:cubicBezTo>
                <a:cubicBezTo>
                  <a:pt x="11498" y="16720"/>
                  <a:pt x="11467" y="16638"/>
                  <a:pt x="11430" y="16574"/>
                </a:cubicBezTo>
              </a:path>
              <a:path w="3684" h="2636">
                <a:moveTo>
                  <a:pt x="12097" y="15335"/>
                </a:moveTo>
                <a:cubicBezTo>
                  <a:pt x="12147" y="15323"/>
                  <a:pt x="12178" y="15287"/>
                  <a:pt x="12224" y="15272"/>
                </a:cubicBezTo>
                <a:cubicBezTo>
                  <a:pt x="12266" y="15258"/>
                  <a:pt x="12312" y="15253"/>
                  <a:pt x="12351" y="15240"/>
                </a:cubicBezTo>
                <a:cubicBezTo>
                  <a:pt x="12361" y="15240"/>
                  <a:pt x="12372" y="15240"/>
                  <a:pt x="12382" y="15240"/>
                </a:cubicBezTo>
              </a:path>
              <a:path w="3684" h="2636">
                <a:moveTo>
                  <a:pt x="12192" y="15653"/>
                </a:moveTo>
                <a:cubicBezTo>
                  <a:pt x="12181" y="15653"/>
                  <a:pt x="12171" y="15653"/>
                  <a:pt x="12160" y="15653"/>
                </a:cubicBezTo>
                <a:cubicBezTo>
                  <a:pt x="12191" y="15645"/>
                  <a:pt x="12260" y="15636"/>
                  <a:pt x="12287" y="15621"/>
                </a:cubicBezTo>
                <a:cubicBezTo>
                  <a:pt x="12336" y="15594"/>
                  <a:pt x="12371" y="15569"/>
                  <a:pt x="12414" y="15526"/>
                </a:cubicBezTo>
              </a:path>
              <a:path w="3684" h="2636">
                <a:moveTo>
                  <a:pt x="12541" y="14986"/>
                </a:moveTo>
                <a:cubicBezTo>
                  <a:pt x="12552" y="14986"/>
                  <a:pt x="12562" y="14986"/>
                  <a:pt x="12573" y="14986"/>
                </a:cubicBezTo>
                <a:cubicBezTo>
                  <a:pt x="12590" y="14935"/>
                  <a:pt x="12588" y="14973"/>
                  <a:pt x="12605" y="14922"/>
                </a:cubicBezTo>
                <a:cubicBezTo>
                  <a:pt x="12679" y="14922"/>
                  <a:pt x="12673" y="14897"/>
                  <a:pt x="12732" y="14859"/>
                </a:cubicBezTo>
                <a:cubicBezTo>
                  <a:pt x="12753" y="14848"/>
                  <a:pt x="12774" y="14838"/>
                  <a:pt x="12795" y="14827"/>
                </a:cubicBezTo>
              </a:path>
              <a:path w="3684" h="2636">
                <a:moveTo>
                  <a:pt x="12986" y="14478"/>
                </a:moveTo>
                <a:cubicBezTo>
                  <a:pt x="13019" y="14489"/>
                  <a:pt x="13046" y="14502"/>
                  <a:pt x="13049" y="14542"/>
                </a:cubicBezTo>
                <a:cubicBezTo>
                  <a:pt x="13058" y="14665"/>
                  <a:pt x="13038" y="14776"/>
                  <a:pt x="13018" y="14891"/>
                </a:cubicBezTo>
                <a:cubicBezTo>
                  <a:pt x="13005" y="14967"/>
                  <a:pt x="13007" y="15017"/>
                  <a:pt x="12986" y="15081"/>
                </a:cubicBezTo>
                <a:cubicBezTo>
                  <a:pt x="12977" y="15109"/>
                  <a:pt x="12986" y="15183"/>
                  <a:pt x="12986" y="15208"/>
                </a:cubicBezTo>
                <a:cubicBezTo>
                  <a:pt x="13039" y="15130"/>
                  <a:pt x="13047" y="15158"/>
                  <a:pt x="13113" y="15113"/>
                </a:cubicBezTo>
                <a:cubicBezTo>
                  <a:pt x="13163" y="15079"/>
                  <a:pt x="13176" y="15081"/>
                  <a:pt x="13240" y="15081"/>
                </a:cubicBezTo>
                <a:cubicBezTo>
                  <a:pt x="13313" y="15081"/>
                  <a:pt x="13343" y="15091"/>
                  <a:pt x="13398" y="15050"/>
                </a:cubicBezTo>
              </a:path>
              <a:path w="3684" h="2636">
                <a:moveTo>
                  <a:pt x="13398" y="14319"/>
                </a:moveTo>
                <a:cubicBezTo>
                  <a:pt x="13376" y="14412"/>
                  <a:pt x="13382" y="14500"/>
                  <a:pt x="13367" y="14605"/>
                </a:cubicBezTo>
                <a:cubicBezTo>
                  <a:pt x="13336" y="14818"/>
                  <a:pt x="13335" y="15022"/>
                  <a:pt x="13335" y="15240"/>
                </a:cubicBezTo>
                <a:cubicBezTo>
                  <a:pt x="13335" y="15456"/>
                  <a:pt x="13362" y="15661"/>
                  <a:pt x="13367" y="15875"/>
                </a:cubicBezTo>
                <a:cubicBezTo>
                  <a:pt x="13367" y="15917"/>
                  <a:pt x="13367" y="15960"/>
                  <a:pt x="13367" y="16002"/>
                </a:cubicBezTo>
              </a:path>
              <a:path w="3684" h="2636">
                <a:moveTo>
                  <a:pt x="9747" y="16669"/>
                </a:moveTo>
                <a:cubicBezTo>
                  <a:pt x="9747" y="16658"/>
                  <a:pt x="9747" y="16648"/>
                  <a:pt x="9747" y="16637"/>
                </a:cubicBezTo>
                <a:cubicBezTo>
                  <a:pt x="9812" y="16637"/>
                  <a:pt x="9822" y="16623"/>
                  <a:pt x="9874" y="16605"/>
                </a:cubicBezTo>
                <a:cubicBezTo>
                  <a:pt x="9885" y="16605"/>
                  <a:pt x="9895" y="16605"/>
                  <a:pt x="9906" y="16605"/>
                </a:cubicBezTo>
              </a:path>
              <a:path w="3684" h="2636">
                <a:moveTo>
                  <a:pt x="10160" y="16510"/>
                </a:moveTo>
                <a:cubicBezTo>
                  <a:pt x="10174" y="16454"/>
                  <a:pt x="10212" y="16426"/>
                  <a:pt x="10255" y="16383"/>
                </a:cubicBezTo>
                <a:cubicBezTo>
                  <a:pt x="10287" y="16350"/>
                  <a:pt x="10338" y="16325"/>
                  <a:pt x="10382" y="16320"/>
                </a:cubicBezTo>
                <a:cubicBezTo>
                  <a:pt x="10393" y="16320"/>
                  <a:pt x="10403" y="16320"/>
                  <a:pt x="10414" y="16320"/>
                </a:cubicBezTo>
                <a:cubicBezTo>
                  <a:pt x="10414" y="16442"/>
                  <a:pt x="10396" y="16555"/>
                  <a:pt x="10382" y="16669"/>
                </a:cubicBezTo>
                <a:cubicBezTo>
                  <a:pt x="10371" y="16755"/>
                  <a:pt x="10358" y="16841"/>
                  <a:pt x="10350" y="16923"/>
                </a:cubicBezTo>
                <a:cubicBezTo>
                  <a:pt x="10346" y="16962"/>
                  <a:pt x="10374" y="16918"/>
                  <a:pt x="10414" y="16891"/>
                </a:cubicBezTo>
                <a:cubicBezTo>
                  <a:pt x="10444" y="16871"/>
                  <a:pt x="10507" y="16806"/>
                  <a:pt x="10541" y="16796"/>
                </a:cubicBezTo>
                <a:cubicBezTo>
                  <a:pt x="10639" y="16768"/>
                  <a:pt x="10615" y="16785"/>
                  <a:pt x="10700" y="16700"/>
                </a:cubicBezTo>
              </a:path>
              <a:path w="3684" h="2636">
                <a:moveTo>
                  <a:pt x="12541" y="16097"/>
                </a:moveTo>
                <a:cubicBezTo>
                  <a:pt x="12552" y="16097"/>
                  <a:pt x="12562" y="16097"/>
                  <a:pt x="12573" y="16097"/>
                </a:cubicBezTo>
                <a:cubicBezTo>
                  <a:pt x="12585" y="16061"/>
                  <a:pt x="12645" y="16020"/>
                  <a:pt x="12700" y="16002"/>
                </a:cubicBezTo>
                <a:cubicBezTo>
                  <a:pt x="12746" y="15987"/>
                  <a:pt x="12778" y="15966"/>
                  <a:pt x="12827" y="15938"/>
                </a:cubicBezTo>
              </a:path>
              <a:path w="3684" h="2636">
                <a:moveTo>
                  <a:pt x="12986" y="15938"/>
                </a:moveTo>
                <a:cubicBezTo>
                  <a:pt x="12986" y="15898"/>
                  <a:pt x="12997" y="15854"/>
                  <a:pt x="13018" y="15843"/>
                </a:cubicBezTo>
                <a:cubicBezTo>
                  <a:pt x="13069" y="15817"/>
                  <a:pt x="13066" y="15772"/>
                  <a:pt x="13113" y="15748"/>
                </a:cubicBezTo>
                <a:cubicBezTo>
                  <a:pt x="13146" y="15731"/>
                  <a:pt x="13206" y="15774"/>
                  <a:pt x="13208" y="15780"/>
                </a:cubicBezTo>
                <a:cubicBezTo>
                  <a:pt x="13233" y="15872"/>
                  <a:pt x="13180" y="15975"/>
                  <a:pt x="13176" y="16066"/>
                </a:cubicBezTo>
                <a:cubicBezTo>
                  <a:pt x="13172" y="16158"/>
                  <a:pt x="13127" y="16232"/>
                  <a:pt x="13113" y="16320"/>
                </a:cubicBezTo>
                <a:cubicBezTo>
                  <a:pt x="13112" y="16328"/>
                  <a:pt x="13088" y="16486"/>
                  <a:pt x="13081" y="16478"/>
                </a:cubicBezTo>
                <a:cubicBezTo>
                  <a:pt x="13068" y="16465"/>
                  <a:pt x="13154" y="16393"/>
                  <a:pt x="13176" y="16383"/>
                </a:cubicBezTo>
                <a:cubicBezTo>
                  <a:pt x="13233" y="16358"/>
                  <a:pt x="13265" y="16351"/>
                  <a:pt x="13335" y="16351"/>
                </a:cubicBezTo>
                <a:cubicBezTo>
                  <a:pt x="13367" y="16351"/>
                  <a:pt x="13398" y="16351"/>
                  <a:pt x="13430" y="16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Ink 79"/>
          <p:cNvSpPr/>
          <p:nvPr/>
        </p:nvSpPr>
        <p:spPr>
          <a:xfrm>
            <a:off x="4264200" y="5337000"/>
            <a:ext cx="1611000" cy="1338480"/>
          </a:xfrm>
          <a:custGeom>
            <a:avLst/>
            <a:gdLst/>
            <a:ahLst/>
            <a:rect l="l" t="t" r="r" b="b"/>
            <a:pathLst>
              <a:path w="4478" h="3716">
                <a:moveTo>
                  <a:pt x="11874" y="17304"/>
                </a:moveTo>
                <a:cubicBezTo>
                  <a:pt x="11864" y="17304"/>
                  <a:pt x="11853" y="17304"/>
                  <a:pt x="11843" y="17304"/>
                </a:cubicBezTo>
                <a:cubicBezTo>
                  <a:pt x="11885" y="17289"/>
                  <a:pt x="11882" y="17259"/>
                  <a:pt x="11938" y="17240"/>
                </a:cubicBezTo>
                <a:cubicBezTo>
                  <a:pt x="11971" y="17229"/>
                  <a:pt x="12030" y="17240"/>
                  <a:pt x="12065" y="17240"/>
                </a:cubicBezTo>
              </a:path>
              <a:path w="4478" h="3716">
                <a:moveTo>
                  <a:pt x="12382" y="16923"/>
                </a:moveTo>
                <a:cubicBezTo>
                  <a:pt x="12382" y="17006"/>
                  <a:pt x="12361" y="17069"/>
                  <a:pt x="12351" y="17145"/>
                </a:cubicBezTo>
                <a:cubicBezTo>
                  <a:pt x="12337" y="17247"/>
                  <a:pt x="12382" y="17354"/>
                  <a:pt x="12382" y="17462"/>
                </a:cubicBezTo>
                <a:cubicBezTo>
                  <a:pt x="12382" y="17547"/>
                  <a:pt x="12424" y="17587"/>
                  <a:pt x="12446" y="17653"/>
                </a:cubicBezTo>
                <a:cubicBezTo>
                  <a:pt x="12446" y="17664"/>
                  <a:pt x="12446" y="17674"/>
                  <a:pt x="12446" y="17685"/>
                </a:cubicBezTo>
                <a:cubicBezTo>
                  <a:pt x="12492" y="17673"/>
                  <a:pt x="12536" y="17664"/>
                  <a:pt x="12541" y="17621"/>
                </a:cubicBezTo>
                <a:cubicBezTo>
                  <a:pt x="12548" y="17566"/>
                  <a:pt x="12595" y="17512"/>
                  <a:pt x="12605" y="17462"/>
                </a:cubicBezTo>
                <a:cubicBezTo>
                  <a:pt x="12620" y="17385"/>
                  <a:pt x="12636" y="17320"/>
                  <a:pt x="12636" y="17240"/>
                </a:cubicBezTo>
                <a:cubicBezTo>
                  <a:pt x="12636" y="17166"/>
                  <a:pt x="12636" y="17092"/>
                  <a:pt x="12636" y="17018"/>
                </a:cubicBezTo>
                <a:cubicBezTo>
                  <a:pt x="12672" y="17030"/>
                  <a:pt x="12694" y="17061"/>
                  <a:pt x="12700" y="17113"/>
                </a:cubicBezTo>
                <a:cubicBezTo>
                  <a:pt x="12707" y="17175"/>
                  <a:pt x="12715" y="17275"/>
                  <a:pt x="12732" y="17336"/>
                </a:cubicBezTo>
                <a:cubicBezTo>
                  <a:pt x="12755" y="17417"/>
                  <a:pt x="12769" y="17512"/>
                  <a:pt x="12795" y="17590"/>
                </a:cubicBezTo>
                <a:cubicBezTo>
                  <a:pt x="12831" y="17698"/>
                  <a:pt x="12827" y="17791"/>
                  <a:pt x="12827" y="17907"/>
                </a:cubicBezTo>
                <a:cubicBezTo>
                  <a:pt x="12827" y="17979"/>
                  <a:pt x="12831" y="18067"/>
                  <a:pt x="12795" y="18129"/>
                </a:cubicBezTo>
                <a:cubicBezTo>
                  <a:pt x="12782" y="18152"/>
                  <a:pt x="12712" y="18199"/>
                  <a:pt x="12700" y="18193"/>
                </a:cubicBezTo>
                <a:cubicBezTo>
                  <a:pt x="12642" y="18164"/>
                  <a:pt x="12643" y="18155"/>
                  <a:pt x="12605" y="18098"/>
                </a:cubicBezTo>
              </a:path>
              <a:path w="4478" h="3716">
                <a:moveTo>
                  <a:pt x="12890" y="17018"/>
                </a:moveTo>
                <a:cubicBezTo>
                  <a:pt x="12951" y="17003"/>
                  <a:pt x="12963" y="16947"/>
                  <a:pt x="13018" y="16923"/>
                </a:cubicBezTo>
                <a:cubicBezTo>
                  <a:pt x="13070" y="16900"/>
                  <a:pt x="13111" y="16891"/>
                  <a:pt x="13176" y="16891"/>
                </a:cubicBezTo>
                <a:cubicBezTo>
                  <a:pt x="13208" y="16891"/>
                  <a:pt x="13219" y="16891"/>
                  <a:pt x="13208" y="16923"/>
                </a:cubicBezTo>
              </a:path>
              <a:path w="4478" h="3716">
                <a:moveTo>
                  <a:pt x="13049" y="17304"/>
                </a:moveTo>
                <a:cubicBezTo>
                  <a:pt x="13108" y="17304"/>
                  <a:pt x="13124" y="17278"/>
                  <a:pt x="13176" y="17272"/>
                </a:cubicBezTo>
                <a:cubicBezTo>
                  <a:pt x="13221" y="17272"/>
                  <a:pt x="13244" y="17266"/>
                  <a:pt x="13272" y="17240"/>
                </a:cubicBezTo>
              </a:path>
              <a:path w="4478" h="3716">
                <a:moveTo>
                  <a:pt x="13430" y="16796"/>
                </a:moveTo>
                <a:cubicBezTo>
                  <a:pt x="13430" y="16785"/>
                  <a:pt x="13430" y="16775"/>
                  <a:pt x="13430" y="16764"/>
                </a:cubicBezTo>
                <a:cubicBezTo>
                  <a:pt x="13499" y="16764"/>
                  <a:pt x="13513" y="16734"/>
                  <a:pt x="13557" y="16700"/>
                </a:cubicBezTo>
                <a:cubicBezTo>
                  <a:pt x="13597" y="16669"/>
                  <a:pt x="13612" y="16668"/>
                  <a:pt x="13652" y="16637"/>
                </a:cubicBezTo>
              </a:path>
              <a:path w="4478" h="3716">
                <a:moveTo>
                  <a:pt x="13811" y="16256"/>
                </a:moveTo>
                <a:cubicBezTo>
                  <a:pt x="13811" y="16350"/>
                  <a:pt x="13784" y="16416"/>
                  <a:pt x="13780" y="16510"/>
                </a:cubicBezTo>
                <a:cubicBezTo>
                  <a:pt x="13774" y="16629"/>
                  <a:pt x="13748" y="16736"/>
                  <a:pt x="13748" y="16859"/>
                </a:cubicBezTo>
                <a:cubicBezTo>
                  <a:pt x="13748" y="16974"/>
                  <a:pt x="13775" y="17065"/>
                  <a:pt x="13780" y="17177"/>
                </a:cubicBezTo>
                <a:cubicBezTo>
                  <a:pt x="13783" y="17238"/>
                  <a:pt x="13812" y="17291"/>
                  <a:pt x="13843" y="17336"/>
                </a:cubicBezTo>
                <a:cubicBezTo>
                  <a:pt x="13854" y="17346"/>
                  <a:pt x="13864" y="17357"/>
                  <a:pt x="13875" y="17367"/>
                </a:cubicBezTo>
                <a:cubicBezTo>
                  <a:pt x="13920" y="17367"/>
                  <a:pt x="13968" y="17358"/>
                  <a:pt x="14002" y="17336"/>
                </a:cubicBezTo>
                <a:cubicBezTo>
                  <a:pt x="14048" y="17306"/>
                  <a:pt x="14117" y="17230"/>
                  <a:pt x="14129" y="17177"/>
                </a:cubicBezTo>
                <a:cubicBezTo>
                  <a:pt x="14148" y="17099"/>
                  <a:pt x="14160" y="17042"/>
                  <a:pt x="14160" y="16954"/>
                </a:cubicBezTo>
                <a:cubicBezTo>
                  <a:pt x="14160" y="16880"/>
                  <a:pt x="14148" y="16854"/>
                  <a:pt x="14129" y="16796"/>
                </a:cubicBezTo>
                <a:cubicBezTo>
                  <a:pt x="14129" y="16764"/>
                  <a:pt x="14129" y="16753"/>
                  <a:pt x="14097" y="16764"/>
                </a:cubicBezTo>
                <a:cubicBezTo>
                  <a:pt x="14068" y="16802"/>
                  <a:pt x="14011" y="16872"/>
                  <a:pt x="14002" y="16923"/>
                </a:cubicBezTo>
                <a:cubicBezTo>
                  <a:pt x="13980" y="17045"/>
                  <a:pt x="14000" y="17201"/>
                  <a:pt x="14034" y="17304"/>
                </a:cubicBezTo>
                <a:cubicBezTo>
                  <a:pt x="14034" y="17315"/>
                  <a:pt x="14034" y="17325"/>
                  <a:pt x="14034" y="17336"/>
                </a:cubicBezTo>
              </a:path>
              <a:path w="4478" h="3716">
                <a:moveTo>
                  <a:pt x="12224" y="17907"/>
                </a:moveTo>
                <a:cubicBezTo>
                  <a:pt x="12235" y="17907"/>
                  <a:pt x="12245" y="17907"/>
                  <a:pt x="12256" y="17907"/>
                </a:cubicBezTo>
                <a:cubicBezTo>
                  <a:pt x="12266" y="17877"/>
                  <a:pt x="12309" y="17858"/>
                  <a:pt x="12351" y="17844"/>
                </a:cubicBezTo>
                <a:cubicBezTo>
                  <a:pt x="12397" y="17829"/>
                  <a:pt x="12469" y="17789"/>
                  <a:pt x="12510" y="17780"/>
                </a:cubicBezTo>
                <a:cubicBezTo>
                  <a:pt x="12577" y="17765"/>
                  <a:pt x="12609" y="17773"/>
                  <a:pt x="12668" y="17748"/>
                </a:cubicBezTo>
                <a:cubicBezTo>
                  <a:pt x="12727" y="17723"/>
                  <a:pt x="12749" y="17719"/>
                  <a:pt x="12795" y="17685"/>
                </a:cubicBezTo>
              </a:path>
              <a:path w="4478" h="3716">
                <a:moveTo>
                  <a:pt x="12287" y="18193"/>
                </a:moveTo>
                <a:cubicBezTo>
                  <a:pt x="12287" y="18182"/>
                  <a:pt x="12287" y="18172"/>
                  <a:pt x="12287" y="18161"/>
                </a:cubicBezTo>
                <a:cubicBezTo>
                  <a:pt x="12337" y="18148"/>
                  <a:pt x="12371" y="18129"/>
                  <a:pt x="12414" y="18098"/>
                </a:cubicBezTo>
              </a:path>
              <a:path w="4478" h="3716">
                <a:moveTo>
                  <a:pt x="12573" y="17875"/>
                </a:moveTo>
                <a:cubicBezTo>
                  <a:pt x="12573" y="17959"/>
                  <a:pt x="12595" y="18022"/>
                  <a:pt x="12605" y="18098"/>
                </a:cubicBezTo>
                <a:cubicBezTo>
                  <a:pt x="12621" y="18219"/>
                  <a:pt x="12645" y="18328"/>
                  <a:pt x="12668" y="18447"/>
                </a:cubicBezTo>
                <a:cubicBezTo>
                  <a:pt x="12668" y="18492"/>
                  <a:pt x="12674" y="18514"/>
                  <a:pt x="12700" y="18542"/>
                </a:cubicBezTo>
              </a:path>
              <a:path w="4478" h="3716">
                <a:moveTo>
                  <a:pt x="13462" y="17685"/>
                </a:moveTo>
                <a:cubicBezTo>
                  <a:pt x="13473" y="17685"/>
                  <a:pt x="13483" y="17685"/>
                  <a:pt x="13494" y="17685"/>
                </a:cubicBezTo>
                <a:cubicBezTo>
                  <a:pt x="13509" y="17639"/>
                  <a:pt x="13539" y="17642"/>
                  <a:pt x="13589" y="17621"/>
                </a:cubicBezTo>
                <a:cubicBezTo>
                  <a:pt x="13653" y="17594"/>
                  <a:pt x="13733" y="17564"/>
                  <a:pt x="13780" y="17526"/>
                </a:cubicBezTo>
                <a:cubicBezTo>
                  <a:pt x="13838" y="17479"/>
                  <a:pt x="13903" y="17481"/>
                  <a:pt x="13970" y="17431"/>
                </a:cubicBezTo>
                <a:cubicBezTo>
                  <a:pt x="14015" y="17398"/>
                  <a:pt x="14041" y="17378"/>
                  <a:pt x="14097" y="17367"/>
                </a:cubicBezTo>
              </a:path>
              <a:path w="4478" h="3716">
                <a:moveTo>
                  <a:pt x="13621" y="17970"/>
                </a:moveTo>
                <a:cubicBezTo>
                  <a:pt x="13621" y="17960"/>
                  <a:pt x="13621" y="17949"/>
                  <a:pt x="13621" y="17939"/>
                </a:cubicBezTo>
                <a:cubicBezTo>
                  <a:pt x="13683" y="17939"/>
                  <a:pt x="13699" y="17944"/>
                  <a:pt x="13748" y="17907"/>
                </a:cubicBezTo>
              </a:path>
              <a:path w="4478" h="3716">
                <a:moveTo>
                  <a:pt x="13938" y="17685"/>
                </a:moveTo>
                <a:cubicBezTo>
                  <a:pt x="13984" y="17745"/>
                  <a:pt x="13993" y="17861"/>
                  <a:pt x="14002" y="17939"/>
                </a:cubicBezTo>
                <a:cubicBezTo>
                  <a:pt x="14015" y="18056"/>
                  <a:pt x="14027" y="18169"/>
                  <a:pt x="14034" y="18288"/>
                </a:cubicBezTo>
              </a:path>
              <a:path w="4478" h="3716">
                <a:moveTo>
                  <a:pt x="14446" y="16320"/>
                </a:moveTo>
                <a:cubicBezTo>
                  <a:pt x="14446" y="16432"/>
                  <a:pt x="14475" y="16526"/>
                  <a:pt x="14478" y="16637"/>
                </a:cubicBezTo>
                <a:cubicBezTo>
                  <a:pt x="14481" y="16741"/>
                  <a:pt x="14501" y="16890"/>
                  <a:pt x="14542" y="16986"/>
                </a:cubicBezTo>
                <a:cubicBezTo>
                  <a:pt x="14570" y="17052"/>
                  <a:pt x="14623" y="17081"/>
                  <a:pt x="14668" y="17113"/>
                </a:cubicBezTo>
                <a:cubicBezTo>
                  <a:pt x="14706" y="17038"/>
                  <a:pt x="14700" y="16989"/>
                  <a:pt x="14700" y="16891"/>
                </a:cubicBezTo>
                <a:cubicBezTo>
                  <a:pt x="14700" y="16751"/>
                  <a:pt x="14668" y="16620"/>
                  <a:pt x="14668" y="16478"/>
                </a:cubicBezTo>
                <a:cubicBezTo>
                  <a:pt x="14668" y="16401"/>
                  <a:pt x="14644" y="16334"/>
                  <a:pt x="14637" y="16256"/>
                </a:cubicBezTo>
                <a:cubicBezTo>
                  <a:pt x="14698" y="16308"/>
                  <a:pt x="14691" y="16324"/>
                  <a:pt x="14732" y="16415"/>
                </a:cubicBezTo>
                <a:cubicBezTo>
                  <a:pt x="14784" y="16530"/>
                  <a:pt x="14789" y="16670"/>
                  <a:pt x="14827" y="16796"/>
                </a:cubicBezTo>
                <a:cubicBezTo>
                  <a:pt x="14868" y="16933"/>
                  <a:pt x="14866" y="17070"/>
                  <a:pt x="14891" y="17208"/>
                </a:cubicBezTo>
                <a:cubicBezTo>
                  <a:pt x="14917" y="17351"/>
                  <a:pt x="14922" y="17475"/>
                  <a:pt x="14922" y="17621"/>
                </a:cubicBezTo>
                <a:cubicBezTo>
                  <a:pt x="14922" y="17703"/>
                  <a:pt x="14908" y="17815"/>
                  <a:pt x="14859" y="17875"/>
                </a:cubicBezTo>
                <a:cubicBezTo>
                  <a:pt x="14822" y="17921"/>
                  <a:pt x="14832" y="17951"/>
                  <a:pt x="14764" y="17939"/>
                </a:cubicBezTo>
                <a:cubicBezTo>
                  <a:pt x="14700" y="17907"/>
                  <a:pt x="14679" y="17897"/>
                  <a:pt x="14668" y="17844"/>
                </a:cubicBezTo>
              </a:path>
              <a:path w="4478" h="3716">
                <a:moveTo>
                  <a:pt x="14922" y="16256"/>
                </a:moveTo>
                <a:cubicBezTo>
                  <a:pt x="14990" y="16256"/>
                  <a:pt x="15001" y="16241"/>
                  <a:pt x="15050" y="16192"/>
                </a:cubicBezTo>
                <a:cubicBezTo>
                  <a:pt x="15107" y="16135"/>
                  <a:pt x="15165" y="16053"/>
                  <a:pt x="15240" y="16034"/>
                </a:cubicBezTo>
              </a:path>
              <a:path w="4478" h="3716">
                <a:moveTo>
                  <a:pt x="15081" y="16478"/>
                </a:moveTo>
                <a:cubicBezTo>
                  <a:pt x="15071" y="16478"/>
                  <a:pt x="15060" y="16478"/>
                  <a:pt x="15050" y="16478"/>
                </a:cubicBezTo>
                <a:cubicBezTo>
                  <a:pt x="15117" y="16478"/>
                  <a:pt x="15128" y="16463"/>
                  <a:pt x="15176" y="16415"/>
                </a:cubicBezTo>
                <a:cubicBezTo>
                  <a:pt x="15232" y="16359"/>
                  <a:pt x="15225" y="16362"/>
                  <a:pt x="15304" y="16351"/>
                </a:cubicBezTo>
              </a:path>
              <a:path w="4478" h="3716">
                <a:moveTo>
                  <a:pt x="15430" y="15558"/>
                </a:moveTo>
                <a:cubicBezTo>
                  <a:pt x="15394" y="15657"/>
                  <a:pt x="15399" y="15735"/>
                  <a:pt x="15399" y="15843"/>
                </a:cubicBezTo>
                <a:cubicBezTo>
                  <a:pt x="15399" y="16028"/>
                  <a:pt x="15406" y="16203"/>
                  <a:pt x="15430" y="16383"/>
                </a:cubicBezTo>
                <a:cubicBezTo>
                  <a:pt x="15439" y="16452"/>
                  <a:pt x="15453" y="16565"/>
                  <a:pt x="15526" y="16605"/>
                </a:cubicBezTo>
                <a:cubicBezTo>
                  <a:pt x="15555" y="16621"/>
                  <a:pt x="15612" y="16652"/>
                  <a:pt x="15653" y="16637"/>
                </a:cubicBezTo>
                <a:cubicBezTo>
                  <a:pt x="15693" y="16623"/>
                  <a:pt x="15797" y="16594"/>
                  <a:pt x="15812" y="16542"/>
                </a:cubicBezTo>
                <a:cubicBezTo>
                  <a:pt x="15842" y="16436"/>
                  <a:pt x="15875" y="16339"/>
                  <a:pt x="15875" y="16224"/>
                </a:cubicBezTo>
                <a:cubicBezTo>
                  <a:pt x="15875" y="16143"/>
                  <a:pt x="15889" y="16072"/>
                  <a:pt x="15843" y="16002"/>
                </a:cubicBezTo>
                <a:cubicBezTo>
                  <a:pt x="15815" y="15973"/>
                  <a:pt x="15809" y="15962"/>
                  <a:pt x="15780" y="15970"/>
                </a:cubicBezTo>
                <a:cubicBezTo>
                  <a:pt x="15750" y="16010"/>
                  <a:pt x="15697" y="16076"/>
                  <a:pt x="15684" y="16129"/>
                </a:cubicBezTo>
                <a:cubicBezTo>
                  <a:pt x="15666" y="16204"/>
                  <a:pt x="15657" y="16307"/>
                  <a:pt x="15653" y="16383"/>
                </a:cubicBezTo>
                <a:cubicBezTo>
                  <a:pt x="15649" y="16455"/>
                  <a:pt x="15684" y="16503"/>
                  <a:pt x="15684" y="16574"/>
                </a:cubicBezTo>
              </a:path>
              <a:path w="4478" h="3716">
                <a:moveTo>
                  <a:pt x="15018" y="17272"/>
                </a:moveTo>
                <a:cubicBezTo>
                  <a:pt x="15082" y="17268"/>
                  <a:pt x="15123" y="17256"/>
                  <a:pt x="15176" y="17240"/>
                </a:cubicBezTo>
                <a:cubicBezTo>
                  <a:pt x="15241" y="17220"/>
                  <a:pt x="15328" y="17186"/>
                  <a:pt x="15399" y="17177"/>
                </a:cubicBezTo>
                <a:cubicBezTo>
                  <a:pt x="15513" y="17162"/>
                  <a:pt x="15580" y="17137"/>
                  <a:pt x="15684" y="17082"/>
                </a:cubicBezTo>
                <a:cubicBezTo>
                  <a:pt x="15797" y="17022"/>
                  <a:pt x="15880" y="16949"/>
                  <a:pt x="15970" y="16859"/>
                </a:cubicBezTo>
                <a:cubicBezTo>
                  <a:pt x="16059" y="16770"/>
                  <a:pt x="16138" y="16626"/>
                  <a:pt x="16192" y="16510"/>
                </a:cubicBezTo>
                <a:cubicBezTo>
                  <a:pt x="16265" y="16354"/>
                  <a:pt x="16314" y="16172"/>
                  <a:pt x="16320" y="16002"/>
                </a:cubicBezTo>
                <a:cubicBezTo>
                  <a:pt x="16325" y="15860"/>
                  <a:pt x="16327" y="15725"/>
                  <a:pt x="16288" y="15589"/>
                </a:cubicBezTo>
                <a:cubicBezTo>
                  <a:pt x="16236" y="15407"/>
                  <a:pt x="16168" y="15211"/>
                  <a:pt x="16066" y="15050"/>
                </a:cubicBezTo>
                <a:cubicBezTo>
                  <a:pt x="16013" y="14967"/>
                  <a:pt x="15905" y="14890"/>
                  <a:pt x="15812" y="14859"/>
                </a:cubicBezTo>
                <a:cubicBezTo>
                  <a:pt x="15701" y="14822"/>
                  <a:pt x="15605" y="14825"/>
                  <a:pt x="15494" y="14859"/>
                </a:cubicBezTo>
                <a:cubicBezTo>
                  <a:pt x="15402" y="14887"/>
                  <a:pt x="15257" y="14935"/>
                  <a:pt x="15176" y="14986"/>
                </a:cubicBezTo>
                <a:cubicBezTo>
                  <a:pt x="15049" y="15066"/>
                  <a:pt x="14962" y="15196"/>
                  <a:pt x="14859" y="15304"/>
                </a:cubicBezTo>
                <a:cubicBezTo>
                  <a:pt x="14750" y="15418"/>
                  <a:pt x="14661" y="15522"/>
                  <a:pt x="14573" y="15653"/>
                </a:cubicBezTo>
                <a:cubicBezTo>
                  <a:pt x="14488" y="15781"/>
                  <a:pt x="14375" y="15923"/>
                  <a:pt x="14319" y="16066"/>
                </a:cubicBezTo>
                <a:cubicBezTo>
                  <a:pt x="14259" y="16219"/>
                  <a:pt x="14210" y="16386"/>
                  <a:pt x="14160" y="16542"/>
                </a:cubicBezTo>
                <a:cubicBezTo>
                  <a:pt x="14117" y="16676"/>
                  <a:pt x="14083" y="16876"/>
                  <a:pt x="14097" y="17018"/>
                </a:cubicBezTo>
                <a:cubicBezTo>
                  <a:pt x="14108" y="17124"/>
                  <a:pt x="14119" y="17239"/>
                  <a:pt x="14160" y="17336"/>
                </a:cubicBezTo>
                <a:cubicBezTo>
                  <a:pt x="14202" y="17434"/>
                  <a:pt x="14271" y="17496"/>
                  <a:pt x="14351" y="17558"/>
                </a:cubicBezTo>
                <a:cubicBezTo>
                  <a:pt x="14433" y="17621"/>
                  <a:pt x="14472" y="17614"/>
                  <a:pt x="14573" y="17621"/>
                </a:cubicBezTo>
                <a:cubicBezTo>
                  <a:pt x="14660" y="17627"/>
                  <a:pt x="14715" y="17608"/>
                  <a:pt x="14796" y="17590"/>
                </a:cubicBezTo>
                <a:cubicBezTo>
                  <a:pt x="14892" y="17568"/>
                  <a:pt x="14988" y="17534"/>
                  <a:pt x="15081" y="17494"/>
                </a:cubicBezTo>
                <a:cubicBezTo>
                  <a:pt x="15188" y="17447"/>
                  <a:pt x="15297" y="17406"/>
                  <a:pt x="15399" y="17367"/>
                </a:cubicBezTo>
                <a:cubicBezTo>
                  <a:pt x="15420" y="17357"/>
                  <a:pt x="15441" y="17346"/>
                  <a:pt x="15462" y="173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Ink 80"/>
          <p:cNvSpPr/>
          <p:nvPr/>
        </p:nvSpPr>
        <p:spPr>
          <a:xfrm>
            <a:off x="777960" y="5222880"/>
            <a:ext cx="1679400" cy="549360"/>
          </a:xfrm>
          <a:custGeom>
            <a:avLst/>
            <a:gdLst/>
            <a:ahLst/>
            <a:rect l="l" t="t" r="r" b="b"/>
            <a:pathLst>
              <a:path w="4668" h="1525">
                <a:moveTo>
                  <a:pt x="2635" y="15748"/>
                </a:moveTo>
                <a:cubicBezTo>
                  <a:pt x="2729" y="15748"/>
                  <a:pt x="2804" y="15770"/>
                  <a:pt x="2889" y="15780"/>
                </a:cubicBezTo>
                <a:cubicBezTo>
                  <a:pt x="2954" y="15787"/>
                  <a:pt x="3021" y="15805"/>
                  <a:pt x="3080" y="15812"/>
                </a:cubicBezTo>
                <a:cubicBezTo>
                  <a:pt x="3368" y="15844"/>
                  <a:pt x="3687" y="15824"/>
                  <a:pt x="3969" y="15843"/>
                </a:cubicBezTo>
                <a:cubicBezTo>
                  <a:pt x="4065" y="15849"/>
                  <a:pt x="4167" y="15868"/>
                  <a:pt x="4254" y="15875"/>
                </a:cubicBezTo>
                <a:cubicBezTo>
                  <a:pt x="4361" y="15883"/>
                  <a:pt x="4470" y="15879"/>
                  <a:pt x="4572" y="15907"/>
                </a:cubicBezTo>
                <a:cubicBezTo>
                  <a:pt x="4680" y="15937"/>
                  <a:pt x="4780" y="15976"/>
                  <a:pt x="4890" y="16002"/>
                </a:cubicBezTo>
                <a:cubicBezTo>
                  <a:pt x="4984" y="16024"/>
                  <a:pt x="5077" y="16031"/>
                  <a:pt x="5175" y="16034"/>
                </a:cubicBezTo>
                <a:cubicBezTo>
                  <a:pt x="5432" y="16043"/>
                  <a:pt x="5692" y="16027"/>
                  <a:pt x="5937" y="16002"/>
                </a:cubicBezTo>
                <a:cubicBezTo>
                  <a:pt x="6047" y="15991"/>
                  <a:pt x="6147" y="15989"/>
                  <a:pt x="6255" y="15970"/>
                </a:cubicBezTo>
                <a:cubicBezTo>
                  <a:pt x="6362" y="15951"/>
                  <a:pt x="6508" y="15920"/>
                  <a:pt x="6604" y="15875"/>
                </a:cubicBezTo>
                <a:cubicBezTo>
                  <a:pt x="6671" y="15844"/>
                  <a:pt x="6761" y="15750"/>
                  <a:pt x="6794" y="15684"/>
                </a:cubicBezTo>
                <a:cubicBezTo>
                  <a:pt x="6832" y="15607"/>
                  <a:pt x="6823" y="15486"/>
                  <a:pt x="6826" y="15399"/>
                </a:cubicBezTo>
                <a:cubicBezTo>
                  <a:pt x="6830" y="15275"/>
                  <a:pt x="6818" y="15166"/>
                  <a:pt x="6794" y="15050"/>
                </a:cubicBezTo>
                <a:cubicBezTo>
                  <a:pt x="6778" y="14971"/>
                  <a:pt x="6693" y="14827"/>
                  <a:pt x="6636" y="14764"/>
                </a:cubicBezTo>
                <a:cubicBezTo>
                  <a:pt x="6580" y="14702"/>
                  <a:pt x="6463" y="14637"/>
                  <a:pt x="6382" y="14605"/>
                </a:cubicBezTo>
                <a:cubicBezTo>
                  <a:pt x="6320" y="14581"/>
                  <a:pt x="6195" y="14550"/>
                  <a:pt x="6128" y="14542"/>
                </a:cubicBezTo>
                <a:cubicBezTo>
                  <a:pt x="5609" y="14476"/>
                  <a:pt x="4989" y="14517"/>
                  <a:pt x="4477" y="14573"/>
                </a:cubicBezTo>
                <a:cubicBezTo>
                  <a:pt x="4354" y="14586"/>
                  <a:pt x="4224" y="14542"/>
                  <a:pt x="4096" y="14542"/>
                </a:cubicBezTo>
                <a:cubicBezTo>
                  <a:pt x="3869" y="14542"/>
                  <a:pt x="3650" y="14535"/>
                  <a:pt x="3429" y="14510"/>
                </a:cubicBezTo>
                <a:cubicBezTo>
                  <a:pt x="3226" y="14487"/>
                  <a:pt x="3017" y="14529"/>
                  <a:pt x="2826" y="14542"/>
                </a:cubicBezTo>
                <a:cubicBezTo>
                  <a:pt x="2706" y="14550"/>
                  <a:pt x="2650" y="14561"/>
                  <a:pt x="2540" y="14605"/>
                </a:cubicBezTo>
                <a:cubicBezTo>
                  <a:pt x="2461" y="14637"/>
                  <a:pt x="2348" y="14670"/>
                  <a:pt x="2286" y="14732"/>
                </a:cubicBezTo>
                <a:cubicBezTo>
                  <a:pt x="2238" y="14780"/>
                  <a:pt x="2213" y="14863"/>
                  <a:pt x="2191" y="14922"/>
                </a:cubicBezTo>
                <a:cubicBezTo>
                  <a:pt x="2165" y="14992"/>
                  <a:pt x="2147" y="15035"/>
                  <a:pt x="2159" y="15113"/>
                </a:cubicBezTo>
                <a:cubicBezTo>
                  <a:pt x="2169" y="15178"/>
                  <a:pt x="2194" y="15220"/>
                  <a:pt x="2222" y="15272"/>
                </a:cubicBezTo>
                <a:cubicBezTo>
                  <a:pt x="2272" y="15365"/>
                  <a:pt x="2362" y="15458"/>
                  <a:pt x="2445" y="15526"/>
                </a:cubicBezTo>
                <a:cubicBezTo>
                  <a:pt x="2511" y="15579"/>
                  <a:pt x="2596" y="15606"/>
                  <a:pt x="2667" y="15653"/>
                </a:cubicBezTo>
                <a:cubicBezTo>
                  <a:pt x="2764" y="15716"/>
                  <a:pt x="2872" y="15841"/>
                  <a:pt x="2984" y="15875"/>
                </a:cubicBezTo>
                <a:cubicBezTo>
                  <a:pt x="3061" y="15898"/>
                  <a:pt x="3147" y="15869"/>
                  <a:pt x="3207" y="15843"/>
                </a:cubicBezTo>
                <a:cubicBezTo>
                  <a:pt x="3217" y="15833"/>
                  <a:pt x="3228" y="15822"/>
                  <a:pt x="3238" y="158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is steep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lope of line 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lope of line 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all….</a:t>
            </a:r>
            <a:br>
              <a:rPr sz="3600"/>
            </a:br>
            <a:br>
              <a:rPr sz="1400"/>
            </a:b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lop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describes the steepness of a li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3429000" cy="3411360"/>
          </a:xfrm>
          <a:prstGeom prst="rect">
            <a:avLst/>
          </a:prstGeom>
          <a:ln w="0">
            <a:noFill/>
          </a:ln>
        </p:spPr>
      </p:pic>
      <p:sp>
        <p:nvSpPr>
          <p:cNvPr id="45" name="Line 65"/>
          <p:cNvSpPr/>
          <p:nvPr/>
        </p:nvSpPr>
        <p:spPr>
          <a:xfrm>
            <a:off x="4952880" y="2209680"/>
            <a:ext cx="304812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6"/>
          <p:cNvSpPr/>
          <p:nvPr/>
        </p:nvSpPr>
        <p:spPr>
          <a:xfrm>
            <a:off x="502920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7"/>
          <p:cNvSpPr/>
          <p:nvPr/>
        </p:nvSpPr>
        <p:spPr>
          <a:xfrm flipH="1">
            <a:off x="6019560" y="2209680"/>
            <a:ext cx="1066680" cy="335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8"/>
          <p:cNvSpPr/>
          <p:nvPr/>
        </p:nvSpPr>
        <p:spPr>
          <a:xfrm>
            <a:off x="5791320" y="5486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nk 69"/>
          <p:cNvSpPr/>
          <p:nvPr/>
        </p:nvSpPr>
        <p:spPr>
          <a:xfrm>
            <a:off x="2685960" y="2468520"/>
            <a:ext cx="411120" cy="573120"/>
          </a:xfrm>
          <a:custGeom>
            <a:avLst/>
            <a:gdLst/>
            <a:ahLst/>
            <a:rect l="l" t="t" r="r" b="b"/>
            <a:pathLst>
              <a:path w="1144" h="1589">
                <a:moveTo>
                  <a:pt x="7779" y="6922"/>
                </a:moveTo>
                <a:cubicBezTo>
                  <a:pt x="7795" y="6969"/>
                  <a:pt x="7810" y="6949"/>
                  <a:pt x="7810" y="7017"/>
                </a:cubicBezTo>
                <a:cubicBezTo>
                  <a:pt x="7810" y="7100"/>
                  <a:pt x="7838" y="7158"/>
                  <a:pt x="7842" y="7239"/>
                </a:cubicBezTo>
                <a:cubicBezTo>
                  <a:pt x="7848" y="7369"/>
                  <a:pt x="7874" y="7484"/>
                  <a:pt x="7874" y="7620"/>
                </a:cubicBezTo>
                <a:cubicBezTo>
                  <a:pt x="7874" y="7676"/>
                  <a:pt x="7870" y="8360"/>
                  <a:pt x="7842" y="8350"/>
                </a:cubicBezTo>
                <a:cubicBezTo>
                  <a:pt x="7842" y="8339"/>
                  <a:pt x="7842" y="8329"/>
                  <a:pt x="7842" y="8318"/>
                </a:cubicBezTo>
              </a:path>
              <a:path w="1144" h="1589">
                <a:moveTo>
                  <a:pt x="7461" y="6890"/>
                </a:moveTo>
                <a:cubicBezTo>
                  <a:pt x="7490" y="6876"/>
                  <a:pt x="7508" y="6836"/>
                  <a:pt x="7588" y="6858"/>
                </a:cubicBezTo>
                <a:cubicBezTo>
                  <a:pt x="7678" y="6883"/>
                  <a:pt x="7753" y="6918"/>
                  <a:pt x="7842" y="6953"/>
                </a:cubicBezTo>
                <a:cubicBezTo>
                  <a:pt x="7959" y="6999"/>
                  <a:pt x="8055" y="7059"/>
                  <a:pt x="8160" y="7112"/>
                </a:cubicBezTo>
                <a:cubicBezTo>
                  <a:pt x="8271" y="7168"/>
                  <a:pt x="8396" y="7230"/>
                  <a:pt x="8477" y="7334"/>
                </a:cubicBezTo>
                <a:cubicBezTo>
                  <a:pt x="8538" y="7413"/>
                  <a:pt x="8587" y="7556"/>
                  <a:pt x="8604" y="7652"/>
                </a:cubicBezTo>
                <a:cubicBezTo>
                  <a:pt x="8620" y="7739"/>
                  <a:pt x="8561" y="7898"/>
                  <a:pt x="8509" y="7969"/>
                </a:cubicBezTo>
                <a:cubicBezTo>
                  <a:pt x="8425" y="8084"/>
                  <a:pt x="8324" y="8192"/>
                  <a:pt x="8192" y="8255"/>
                </a:cubicBezTo>
                <a:cubicBezTo>
                  <a:pt x="8061" y="8318"/>
                  <a:pt x="7927" y="8394"/>
                  <a:pt x="7779" y="8414"/>
                </a:cubicBezTo>
                <a:cubicBezTo>
                  <a:pt x="7682" y="8414"/>
                  <a:pt x="7648" y="8415"/>
                  <a:pt x="7588" y="8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Ink 70"/>
          <p:cNvSpPr/>
          <p:nvPr/>
        </p:nvSpPr>
        <p:spPr>
          <a:xfrm>
            <a:off x="2206800" y="3554280"/>
            <a:ext cx="571320" cy="641520"/>
          </a:xfrm>
          <a:custGeom>
            <a:avLst/>
            <a:gdLst/>
            <a:ahLst/>
            <a:rect l="l" t="t" r="r" b="b"/>
            <a:pathLst>
              <a:path w="1588" h="1779">
                <a:moveTo>
                  <a:pt x="6128" y="10350"/>
                </a:moveTo>
                <a:cubicBezTo>
                  <a:pt x="6128" y="10340"/>
                  <a:pt x="6128" y="10329"/>
                  <a:pt x="6128" y="10319"/>
                </a:cubicBezTo>
                <a:cubicBezTo>
                  <a:pt x="6244" y="10319"/>
                  <a:pt x="6346" y="10320"/>
                  <a:pt x="6445" y="10287"/>
                </a:cubicBezTo>
                <a:cubicBezTo>
                  <a:pt x="6456" y="10287"/>
                  <a:pt x="6466" y="10287"/>
                  <a:pt x="6477" y="10287"/>
                </a:cubicBezTo>
              </a:path>
              <a:path w="1588" h="1779">
                <a:moveTo>
                  <a:pt x="6890" y="9970"/>
                </a:moveTo>
                <a:cubicBezTo>
                  <a:pt x="6890" y="10030"/>
                  <a:pt x="6868" y="10051"/>
                  <a:pt x="6858" y="10096"/>
                </a:cubicBezTo>
                <a:cubicBezTo>
                  <a:pt x="6841" y="10176"/>
                  <a:pt x="6848" y="10272"/>
                  <a:pt x="6826" y="10350"/>
                </a:cubicBezTo>
                <a:cubicBezTo>
                  <a:pt x="6803" y="10433"/>
                  <a:pt x="6794" y="10484"/>
                  <a:pt x="6794" y="10573"/>
                </a:cubicBezTo>
                <a:cubicBezTo>
                  <a:pt x="6794" y="10628"/>
                  <a:pt x="6801" y="10543"/>
                  <a:pt x="6826" y="10509"/>
                </a:cubicBezTo>
              </a:path>
              <a:path w="1588" h="1779">
                <a:moveTo>
                  <a:pt x="7334" y="9874"/>
                </a:moveTo>
                <a:cubicBezTo>
                  <a:pt x="7355" y="9917"/>
                  <a:pt x="7381" y="9921"/>
                  <a:pt x="7366" y="10001"/>
                </a:cubicBezTo>
                <a:cubicBezTo>
                  <a:pt x="7349" y="10095"/>
                  <a:pt x="7302" y="10194"/>
                  <a:pt x="7271" y="10287"/>
                </a:cubicBezTo>
                <a:cubicBezTo>
                  <a:pt x="7224" y="10429"/>
                  <a:pt x="7161" y="10565"/>
                  <a:pt x="7112" y="10700"/>
                </a:cubicBezTo>
                <a:cubicBezTo>
                  <a:pt x="7065" y="10829"/>
                  <a:pt x="7001" y="11008"/>
                  <a:pt x="6985" y="11144"/>
                </a:cubicBezTo>
                <a:cubicBezTo>
                  <a:pt x="6967" y="11295"/>
                  <a:pt x="6949" y="11426"/>
                  <a:pt x="6858" y="11557"/>
                </a:cubicBezTo>
                <a:cubicBezTo>
                  <a:pt x="6858" y="11589"/>
                  <a:pt x="6858" y="11600"/>
                  <a:pt x="6826" y="11589"/>
                </a:cubicBezTo>
              </a:path>
              <a:path w="1588" h="1779">
                <a:moveTo>
                  <a:pt x="7271" y="10858"/>
                </a:moveTo>
                <a:cubicBezTo>
                  <a:pt x="7324" y="10805"/>
                  <a:pt x="7378" y="10767"/>
                  <a:pt x="7430" y="10732"/>
                </a:cubicBezTo>
                <a:cubicBezTo>
                  <a:pt x="7445" y="10722"/>
                  <a:pt x="7530" y="10666"/>
                  <a:pt x="7556" y="10700"/>
                </a:cubicBezTo>
                <a:cubicBezTo>
                  <a:pt x="7580" y="10731"/>
                  <a:pt x="7588" y="10740"/>
                  <a:pt x="7588" y="10795"/>
                </a:cubicBezTo>
                <a:cubicBezTo>
                  <a:pt x="7588" y="10850"/>
                  <a:pt x="7520" y="10932"/>
                  <a:pt x="7493" y="10986"/>
                </a:cubicBezTo>
                <a:cubicBezTo>
                  <a:pt x="7448" y="11076"/>
                  <a:pt x="7378" y="11156"/>
                  <a:pt x="7334" y="11240"/>
                </a:cubicBezTo>
                <a:cubicBezTo>
                  <a:pt x="7287" y="11329"/>
                  <a:pt x="7276" y="11417"/>
                  <a:pt x="7207" y="11494"/>
                </a:cubicBezTo>
                <a:cubicBezTo>
                  <a:pt x="7193" y="11510"/>
                  <a:pt x="7135" y="11616"/>
                  <a:pt x="7176" y="11557"/>
                </a:cubicBezTo>
                <a:cubicBezTo>
                  <a:pt x="7199" y="11524"/>
                  <a:pt x="7246" y="11497"/>
                  <a:pt x="7271" y="11494"/>
                </a:cubicBezTo>
                <a:cubicBezTo>
                  <a:pt x="7336" y="11486"/>
                  <a:pt x="7354" y="11513"/>
                  <a:pt x="7398" y="11557"/>
                </a:cubicBezTo>
                <a:cubicBezTo>
                  <a:pt x="7423" y="11582"/>
                  <a:pt x="7485" y="11648"/>
                  <a:pt x="7493" y="11652"/>
                </a:cubicBezTo>
                <a:cubicBezTo>
                  <a:pt x="7549" y="11680"/>
                  <a:pt x="7612" y="11633"/>
                  <a:pt x="7652" y="11620"/>
                </a:cubicBezTo>
                <a:cubicBezTo>
                  <a:pt x="7685" y="11609"/>
                  <a:pt x="7706" y="11547"/>
                  <a:pt x="7715" y="11494"/>
                </a:cubicBezTo>
                <a:cubicBezTo>
                  <a:pt x="7715" y="11473"/>
                  <a:pt x="7715" y="11451"/>
                  <a:pt x="7715" y="11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Ink 71"/>
          <p:cNvSpPr/>
          <p:nvPr/>
        </p:nvSpPr>
        <p:spPr>
          <a:xfrm>
            <a:off x="2057400" y="4960800"/>
            <a:ext cx="971640" cy="835200"/>
          </a:xfrm>
          <a:custGeom>
            <a:avLst/>
            <a:gdLst/>
            <a:ahLst/>
            <a:rect l="l" t="t" r="r" b="b"/>
            <a:pathLst>
              <a:path w="2700" h="2318">
                <a:moveTo>
                  <a:pt x="6255" y="13938"/>
                </a:moveTo>
                <a:cubicBezTo>
                  <a:pt x="6244" y="13938"/>
                  <a:pt x="6234" y="13938"/>
                  <a:pt x="6223" y="13938"/>
                </a:cubicBezTo>
              </a:path>
              <a:path w="2700" h="2318">
                <a:moveTo>
                  <a:pt x="6255" y="13938"/>
                </a:moveTo>
                <a:cubicBezTo>
                  <a:pt x="6244" y="13970"/>
                  <a:pt x="6234" y="14002"/>
                  <a:pt x="6223" y="14034"/>
                </a:cubicBezTo>
              </a:path>
              <a:path w="2700" h="2318">
                <a:moveTo>
                  <a:pt x="6223" y="14034"/>
                </a:moveTo>
                <a:cubicBezTo>
                  <a:pt x="6234" y="14023"/>
                  <a:pt x="6244" y="14013"/>
                  <a:pt x="6255" y="14002"/>
                </a:cubicBezTo>
              </a:path>
              <a:path w="2700" h="2318">
                <a:moveTo>
                  <a:pt x="6255" y="14002"/>
                </a:moveTo>
                <a:cubicBezTo>
                  <a:pt x="6272" y="13934"/>
                  <a:pt x="6302" y="13937"/>
                  <a:pt x="6350" y="13906"/>
                </a:cubicBezTo>
                <a:cubicBezTo>
                  <a:pt x="6433" y="13852"/>
                  <a:pt x="6435" y="13789"/>
                  <a:pt x="6540" y="13780"/>
                </a:cubicBezTo>
                <a:cubicBezTo>
                  <a:pt x="6582" y="13777"/>
                  <a:pt x="6626" y="13780"/>
                  <a:pt x="6668" y="13780"/>
                </a:cubicBezTo>
                <a:cubicBezTo>
                  <a:pt x="6668" y="13859"/>
                  <a:pt x="6655" y="13895"/>
                  <a:pt x="6636" y="13970"/>
                </a:cubicBezTo>
                <a:cubicBezTo>
                  <a:pt x="6621" y="14031"/>
                  <a:pt x="6573" y="14072"/>
                  <a:pt x="6540" y="14097"/>
                </a:cubicBezTo>
                <a:cubicBezTo>
                  <a:pt x="6506" y="14123"/>
                  <a:pt x="6420" y="14129"/>
                  <a:pt x="6477" y="14129"/>
                </a:cubicBezTo>
                <a:cubicBezTo>
                  <a:pt x="6553" y="14129"/>
                  <a:pt x="6542" y="14165"/>
                  <a:pt x="6604" y="14192"/>
                </a:cubicBezTo>
                <a:cubicBezTo>
                  <a:pt x="6639" y="14208"/>
                  <a:pt x="6662" y="14233"/>
                  <a:pt x="6668" y="14288"/>
                </a:cubicBezTo>
                <a:cubicBezTo>
                  <a:pt x="6671" y="14319"/>
                  <a:pt x="6622" y="14419"/>
                  <a:pt x="6604" y="14446"/>
                </a:cubicBezTo>
                <a:cubicBezTo>
                  <a:pt x="6573" y="14492"/>
                  <a:pt x="6519" y="14575"/>
                  <a:pt x="6477" y="14605"/>
                </a:cubicBezTo>
                <a:cubicBezTo>
                  <a:pt x="6412" y="14652"/>
                  <a:pt x="6350" y="14657"/>
                  <a:pt x="6286" y="14700"/>
                </a:cubicBezTo>
                <a:cubicBezTo>
                  <a:pt x="6236" y="14734"/>
                  <a:pt x="6223" y="14732"/>
                  <a:pt x="6160" y="14732"/>
                </a:cubicBezTo>
                <a:cubicBezTo>
                  <a:pt x="6107" y="14732"/>
                  <a:pt x="6128" y="14682"/>
                  <a:pt x="6128" y="14637"/>
                </a:cubicBezTo>
              </a:path>
              <a:path w="2700" h="2318">
                <a:moveTo>
                  <a:pt x="5715" y="14954"/>
                </a:moveTo>
                <a:cubicBezTo>
                  <a:pt x="5789" y="14954"/>
                  <a:pt x="5847" y="14934"/>
                  <a:pt x="5906" y="14922"/>
                </a:cubicBezTo>
                <a:cubicBezTo>
                  <a:pt x="5993" y="14904"/>
                  <a:pt x="6068" y="14891"/>
                  <a:pt x="6160" y="14891"/>
                </a:cubicBezTo>
                <a:cubicBezTo>
                  <a:pt x="6249" y="14891"/>
                  <a:pt x="6320" y="14859"/>
                  <a:pt x="6414" y="14859"/>
                </a:cubicBezTo>
                <a:cubicBezTo>
                  <a:pt x="6502" y="14859"/>
                  <a:pt x="6567" y="14876"/>
                  <a:pt x="6636" y="14891"/>
                </a:cubicBezTo>
                <a:cubicBezTo>
                  <a:pt x="6725" y="14910"/>
                  <a:pt x="6679" y="14885"/>
                  <a:pt x="6731" y="14954"/>
                </a:cubicBezTo>
              </a:path>
              <a:path w="2700" h="2318">
                <a:moveTo>
                  <a:pt x="6128" y="15335"/>
                </a:moveTo>
                <a:cubicBezTo>
                  <a:pt x="6128" y="15410"/>
                  <a:pt x="6148" y="15467"/>
                  <a:pt x="6160" y="15526"/>
                </a:cubicBezTo>
                <a:cubicBezTo>
                  <a:pt x="6187" y="15662"/>
                  <a:pt x="6149" y="15813"/>
                  <a:pt x="6128" y="15938"/>
                </a:cubicBezTo>
                <a:cubicBezTo>
                  <a:pt x="6120" y="15988"/>
                  <a:pt x="6128" y="16046"/>
                  <a:pt x="6128" y="16097"/>
                </a:cubicBezTo>
              </a:path>
              <a:path w="2700" h="2318">
                <a:moveTo>
                  <a:pt x="7017" y="14732"/>
                </a:moveTo>
                <a:cubicBezTo>
                  <a:pt x="7071" y="14691"/>
                  <a:pt x="7104" y="14700"/>
                  <a:pt x="7176" y="14700"/>
                </a:cubicBezTo>
                <a:cubicBezTo>
                  <a:pt x="7250" y="14700"/>
                  <a:pt x="7324" y="14700"/>
                  <a:pt x="7398" y="14700"/>
                </a:cubicBezTo>
              </a:path>
              <a:path w="2700" h="2318">
                <a:moveTo>
                  <a:pt x="7017" y="15208"/>
                </a:moveTo>
                <a:cubicBezTo>
                  <a:pt x="7006" y="15208"/>
                  <a:pt x="6996" y="15208"/>
                  <a:pt x="6985" y="15208"/>
                </a:cubicBezTo>
                <a:cubicBezTo>
                  <a:pt x="7053" y="15208"/>
                  <a:pt x="7075" y="15234"/>
                  <a:pt x="7144" y="15240"/>
                </a:cubicBezTo>
                <a:cubicBezTo>
                  <a:pt x="7206" y="15245"/>
                  <a:pt x="7271" y="15240"/>
                  <a:pt x="7334" y="15240"/>
                </a:cubicBezTo>
              </a:path>
              <a:path w="2700" h="2318">
                <a:moveTo>
                  <a:pt x="7652" y="14288"/>
                </a:moveTo>
                <a:cubicBezTo>
                  <a:pt x="7694" y="14288"/>
                  <a:pt x="7675" y="14301"/>
                  <a:pt x="7715" y="14288"/>
                </a:cubicBezTo>
                <a:cubicBezTo>
                  <a:pt x="7757" y="14275"/>
                  <a:pt x="7800" y="14271"/>
                  <a:pt x="7842" y="14256"/>
                </a:cubicBezTo>
                <a:cubicBezTo>
                  <a:pt x="7920" y="14228"/>
                  <a:pt x="7953" y="14197"/>
                  <a:pt x="8033" y="14192"/>
                </a:cubicBezTo>
                <a:cubicBezTo>
                  <a:pt x="8107" y="14188"/>
                  <a:pt x="8126" y="14197"/>
                  <a:pt x="8160" y="14224"/>
                </a:cubicBezTo>
                <a:cubicBezTo>
                  <a:pt x="8197" y="14254"/>
                  <a:pt x="8202" y="14304"/>
                  <a:pt x="8192" y="14351"/>
                </a:cubicBezTo>
                <a:cubicBezTo>
                  <a:pt x="8174" y="14430"/>
                  <a:pt x="8136" y="14448"/>
                  <a:pt x="8096" y="14510"/>
                </a:cubicBezTo>
                <a:cubicBezTo>
                  <a:pt x="8064" y="14559"/>
                  <a:pt x="8047" y="14617"/>
                  <a:pt x="8001" y="14637"/>
                </a:cubicBezTo>
                <a:cubicBezTo>
                  <a:pt x="7990" y="14637"/>
                  <a:pt x="7980" y="14637"/>
                  <a:pt x="7969" y="14637"/>
                </a:cubicBezTo>
                <a:cubicBezTo>
                  <a:pt x="7999" y="14607"/>
                  <a:pt x="7982" y="14588"/>
                  <a:pt x="8033" y="14573"/>
                </a:cubicBezTo>
                <a:cubicBezTo>
                  <a:pt x="8078" y="14560"/>
                  <a:pt x="8126" y="14590"/>
                  <a:pt x="8160" y="14605"/>
                </a:cubicBezTo>
                <a:cubicBezTo>
                  <a:pt x="8220" y="14632"/>
                  <a:pt x="8280" y="14640"/>
                  <a:pt x="8318" y="14700"/>
                </a:cubicBezTo>
                <a:cubicBezTo>
                  <a:pt x="8362" y="14769"/>
                  <a:pt x="8351" y="14856"/>
                  <a:pt x="8382" y="14922"/>
                </a:cubicBezTo>
                <a:cubicBezTo>
                  <a:pt x="8432" y="15029"/>
                  <a:pt x="8395" y="15089"/>
                  <a:pt x="8382" y="15208"/>
                </a:cubicBezTo>
                <a:cubicBezTo>
                  <a:pt x="8372" y="15293"/>
                  <a:pt x="8359" y="15427"/>
                  <a:pt x="8287" y="15494"/>
                </a:cubicBezTo>
                <a:cubicBezTo>
                  <a:pt x="8230" y="15548"/>
                  <a:pt x="8134" y="15586"/>
                  <a:pt x="8064" y="15621"/>
                </a:cubicBezTo>
                <a:cubicBezTo>
                  <a:pt x="8009" y="15649"/>
                  <a:pt x="7904" y="15703"/>
                  <a:pt x="7842" y="15684"/>
                </a:cubicBezTo>
                <a:cubicBezTo>
                  <a:pt x="7815" y="15676"/>
                  <a:pt x="7725" y="15622"/>
                  <a:pt x="7715" y="15589"/>
                </a:cubicBezTo>
                <a:cubicBezTo>
                  <a:pt x="7705" y="15554"/>
                  <a:pt x="7729" y="15480"/>
                  <a:pt x="7747" y="15462"/>
                </a:cubicBezTo>
                <a:cubicBezTo>
                  <a:pt x="7775" y="15434"/>
                  <a:pt x="7861" y="15421"/>
                  <a:pt x="7906" y="15430"/>
                </a:cubicBezTo>
                <a:cubicBezTo>
                  <a:pt x="7986" y="15446"/>
                  <a:pt x="8053" y="15511"/>
                  <a:pt x="8096" y="15558"/>
                </a:cubicBezTo>
                <a:cubicBezTo>
                  <a:pt x="8134" y="15595"/>
                  <a:pt x="8149" y="15614"/>
                  <a:pt x="8160" y="156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Ink 72"/>
          <p:cNvSpPr/>
          <p:nvPr/>
        </p:nvSpPr>
        <p:spPr>
          <a:xfrm>
            <a:off x="5189400" y="2435400"/>
            <a:ext cx="892440" cy="547560"/>
          </a:xfrm>
          <a:custGeom>
            <a:avLst/>
            <a:gdLst/>
            <a:ahLst/>
            <a:rect l="l" t="t" r="r" b="b"/>
            <a:pathLst>
              <a:path w="2478" h="1525">
                <a:moveTo>
                  <a:pt x="15176" y="6826"/>
                </a:moveTo>
                <a:cubicBezTo>
                  <a:pt x="15203" y="6785"/>
                  <a:pt x="15155" y="6750"/>
                  <a:pt x="15145" y="6763"/>
                </a:cubicBezTo>
                <a:cubicBezTo>
                  <a:pt x="15129" y="6784"/>
                  <a:pt x="15094" y="6818"/>
                  <a:pt x="15081" y="6858"/>
                </a:cubicBezTo>
                <a:cubicBezTo>
                  <a:pt x="15081" y="6900"/>
                  <a:pt x="15081" y="6921"/>
                  <a:pt x="15081" y="6953"/>
                </a:cubicBezTo>
                <a:cubicBezTo>
                  <a:pt x="15155" y="6953"/>
                  <a:pt x="15181" y="6938"/>
                  <a:pt x="15208" y="6858"/>
                </a:cubicBezTo>
                <a:cubicBezTo>
                  <a:pt x="15225" y="6807"/>
                  <a:pt x="15211" y="6774"/>
                  <a:pt x="15176" y="6763"/>
                </a:cubicBezTo>
                <a:cubicBezTo>
                  <a:pt x="15164" y="6811"/>
                  <a:pt x="15134" y="6851"/>
                  <a:pt x="15113" y="6890"/>
                </a:cubicBezTo>
                <a:cubicBezTo>
                  <a:pt x="15102" y="6901"/>
                  <a:pt x="15092" y="6911"/>
                  <a:pt x="15081" y="6922"/>
                </a:cubicBezTo>
                <a:cubicBezTo>
                  <a:pt x="15114" y="6922"/>
                  <a:pt x="15193" y="6913"/>
                  <a:pt x="15208" y="6890"/>
                </a:cubicBezTo>
                <a:cubicBezTo>
                  <a:pt x="15218" y="6876"/>
                  <a:pt x="15208" y="6812"/>
                  <a:pt x="15208" y="6794"/>
                </a:cubicBezTo>
                <a:cubicBezTo>
                  <a:pt x="15185" y="6728"/>
                  <a:pt x="15154" y="6785"/>
                  <a:pt x="15113" y="6826"/>
                </a:cubicBezTo>
                <a:cubicBezTo>
                  <a:pt x="15071" y="6868"/>
                  <a:pt x="15051" y="6906"/>
                  <a:pt x="15081" y="6922"/>
                </a:cubicBezTo>
              </a:path>
              <a:path w="2478" h="1525">
                <a:moveTo>
                  <a:pt x="16732" y="7588"/>
                </a:moveTo>
                <a:cubicBezTo>
                  <a:pt x="16732" y="7577"/>
                  <a:pt x="16732" y="7567"/>
                  <a:pt x="16732" y="7556"/>
                </a:cubicBezTo>
              </a:path>
              <a:path w="2478" h="1525">
                <a:moveTo>
                  <a:pt x="16732" y="7588"/>
                </a:moveTo>
                <a:lnTo>
                  <a:pt x="16732" y="7588"/>
                </a:lnTo>
              </a:path>
              <a:path w="2478" h="1525">
                <a:moveTo>
                  <a:pt x="16732" y="7525"/>
                </a:moveTo>
                <a:cubicBezTo>
                  <a:pt x="16718" y="7567"/>
                  <a:pt x="16687" y="7564"/>
                  <a:pt x="16669" y="7620"/>
                </a:cubicBezTo>
                <a:cubicBezTo>
                  <a:pt x="16656" y="7660"/>
                  <a:pt x="16667" y="7689"/>
                  <a:pt x="16700" y="7715"/>
                </a:cubicBezTo>
                <a:cubicBezTo>
                  <a:pt x="16744" y="7749"/>
                  <a:pt x="16793" y="7645"/>
                  <a:pt x="16796" y="7620"/>
                </a:cubicBezTo>
                <a:cubicBezTo>
                  <a:pt x="16796" y="7609"/>
                  <a:pt x="16796" y="7599"/>
                  <a:pt x="16796" y="7588"/>
                </a:cubicBezTo>
                <a:cubicBezTo>
                  <a:pt x="16796" y="7577"/>
                  <a:pt x="16796" y="7567"/>
                  <a:pt x="16796" y="7556"/>
                </a:cubicBezTo>
                <a:cubicBezTo>
                  <a:pt x="16740" y="7556"/>
                  <a:pt x="16731" y="7564"/>
                  <a:pt x="16700" y="7588"/>
                </a:cubicBezTo>
                <a:cubicBezTo>
                  <a:pt x="16648" y="7628"/>
                  <a:pt x="16637" y="7654"/>
                  <a:pt x="16637" y="7715"/>
                </a:cubicBezTo>
                <a:cubicBezTo>
                  <a:pt x="16637" y="7726"/>
                  <a:pt x="16637" y="7736"/>
                  <a:pt x="16637" y="7747"/>
                </a:cubicBezTo>
                <a:cubicBezTo>
                  <a:pt x="16671" y="7747"/>
                  <a:pt x="16749" y="7737"/>
                  <a:pt x="16764" y="7715"/>
                </a:cubicBezTo>
                <a:cubicBezTo>
                  <a:pt x="16787" y="7681"/>
                  <a:pt x="16796" y="7634"/>
                  <a:pt x="16796" y="7588"/>
                </a:cubicBezTo>
                <a:cubicBezTo>
                  <a:pt x="16796" y="7577"/>
                  <a:pt x="16796" y="7567"/>
                  <a:pt x="16796" y="7556"/>
                </a:cubicBezTo>
                <a:cubicBezTo>
                  <a:pt x="16728" y="7556"/>
                  <a:pt x="16718" y="7571"/>
                  <a:pt x="16669" y="7620"/>
                </a:cubicBezTo>
                <a:cubicBezTo>
                  <a:pt x="16621" y="7669"/>
                  <a:pt x="16629" y="7707"/>
                  <a:pt x="16700" y="7715"/>
                </a:cubicBezTo>
                <a:cubicBezTo>
                  <a:pt x="16764" y="7722"/>
                  <a:pt x="16781" y="7710"/>
                  <a:pt x="16796" y="7652"/>
                </a:cubicBezTo>
              </a:path>
              <a:path w="2478" h="1525">
                <a:moveTo>
                  <a:pt x="15145" y="6890"/>
                </a:moveTo>
                <a:cubicBezTo>
                  <a:pt x="15145" y="7005"/>
                  <a:pt x="15146" y="7109"/>
                  <a:pt x="15113" y="7207"/>
                </a:cubicBezTo>
                <a:cubicBezTo>
                  <a:pt x="15087" y="7283"/>
                  <a:pt x="15091" y="7634"/>
                  <a:pt x="15145" y="7652"/>
                </a:cubicBezTo>
              </a:path>
              <a:path w="2478" h="1525">
                <a:moveTo>
                  <a:pt x="15113" y="7652"/>
                </a:moveTo>
                <a:cubicBezTo>
                  <a:pt x="15177" y="7652"/>
                  <a:pt x="15188" y="7637"/>
                  <a:pt x="15240" y="7620"/>
                </a:cubicBezTo>
                <a:cubicBezTo>
                  <a:pt x="15472" y="7543"/>
                  <a:pt x="15900" y="7613"/>
                  <a:pt x="16129" y="7652"/>
                </a:cubicBezTo>
                <a:cubicBezTo>
                  <a:pt x="16219" y="7667"/>
                  <a:pt x="16379" y="7672"/>
                  <a:pt x="16446" y="7620"/>
                </a:cubicBezTo>
                <a:cubicBezTo>
                  <a:pt x="16500" y="7647"/>
                  <a:pt x="16520" y="7647"/>
                  <a:pt x="16574" y="7620"/>
                </a:cubicBezTo>
                <a:cubicBezTo>
                  <a:pt x="16589" y="7632"/>
                  <a:pt x="16674" y="7685"/>
                  <a:pt x="16700" y="7652"/>
                </a:cubicBezTo>
                <a:cubicBezTo>
                  <a:pt x="16700" y="7641"/>
                  <a:pt x="16700" y="7631"/>
                  <a:pt x="16700" y="7620"/>
                </a:cubicBezTo>
              </a:path>
              <a:path w="2478" h="1525">
                <a:moveTo>
                  <a:pt x="14414" y="7334"/>
                </a:moveTo>
                <a:cubicBezTo>
                  <a:pt x="14425" y="7334"/>
                  <a:pt x="14435" y="7334"/>
                  <a:pt x="14446" y="7334"/>
                </a:cubicBezTo>
                <a:cubicBezTo>
                  <a:pt x="14462" y="7382"/>
                  <a:pt x="14485" y="7366"/>
                  <a:pt x="14542" y="7366"/>
                </a:cubicBezTo>
                <a:cubicBezTo>
                  <a:pt x="14584" y="7366"/>
                  <a:pt x="14626" y="7366"/>
                  <a:pt x="14668" y="7366"/>
                </a:cubicBezTo>
              </a:path>
              <a:path w="2478" h="1525">
                <a:moveTo>
                  <a:pt x="14859" y="7112"/>
                </a:moveTo>
                <a:cubicBezTo>
                  <a:pt x="14859" y="7178"/>
                  <a:pt x="14843" y="7217"/>
                  <a:pt x="14827" y="7271"/>
                </a:cubicBezTo>
                <a:cubicBezTo>
                  <a:pt x="14793" y="7382"/>
                  <a:pt x="14827" y="7566"/>
                  <a:pt x="14827" y="7684"/>
                </a:cubicBezTo>
              </a:path>
              <a:path w="2478" h="1525">
                <a:moveTo>
                  <a:pt x="15780" y="8001"/>
                </a:moveTo>
                <a:cubicBezTo>
                  <a:pt x="15793" y="7949"/>
                  <a:pt x="15816" y="7913"/>
                  <a:pt x="15875" y="7906"/>
                </a:cubicBezTo>
                <a:cubicBezTo>
                  <a:pt x="15961" y="7896"/>
                  <a:pt x="15950" y="7917"/>
                  <a:pt x="15938" y="7969"/>
                </a:cubicBezTo>
                <a:cubicBezTo>
                  <a:pt x="15927" y="8019"/>
                  <a:pt x="15933" y="8084"/>
                  <a:pt x="15907" y="8128"/>
                </a:cubicBezTo>
                <a:cubicBezTo>
                  <a:pt x="15872" y="8186"/>
                  <a:pt x="15796" y="8239"/>
                  <a:pt x="15748" y="8287"/>
                </a:cubicBezTo>
                <a:cubicBezTo>
                  <a:pt x="15760" y="8251"/>
                  <a:pt x="15791" y="8229"/>
                  <a:pt x="15843" y="8223"/>
                </a:cubicBezTo>
                <a:cubicBezTo>
                  <a:pt x="15890" y="8218"/>
                  <a:pt x="15915" y="8255"/>
                  <a:pt x="15970" y="8255"/>
                </a:cubicBezTo>
                <a:cubicBezTo>
                  <a:pt x="16022" y="8255"/>
                  <a:pt x="16007" y="8205"/>
                  <a:pt x="16034" y="8192"/>
                </a:cubicBezTo>
                <a:cubicBezTo>
                  <a:pt x="16045" y="8192"/>
                  <a:pt x="16055" y="8192"/>
                  <a:pt x="16066" y="8192"/>
                </a:cubicBezTo>
              </a:path>
              <a:path w="2478" h="1525">
                <a:moveTo>
                  <a:pt x="15145" y="6858"/>
                </a:moveTo>
                <a:lnTo>
                  <a:pt x="15145" y="6858"/>
                </a:lnTo>
              </a:path>
              <a:path w="2478" h="1525">
                <a:moveTo>
                  <a:pt x="15176" y="6953"/>
                </a:moveTo>
                <a:cubicBezTo>
                  <a:pt x="15176" y="7168"/>
                  <a:pt x="15207" y="7428"/>
                  <a:pt x="15145" y="7620"/>
                </a:cubicBezTo>
                <a:cubicBezTo>
                  <a:pt x="15142" y="7628"/>
                  <a:pt x="15145" y="7739"/>
                  <a:pt x="15145" y="7652"/>
                </a:cubicBezTo>
                <a:cubicBezTo>
                  <a:pt x="15145" y="7587"/>
                  <a:pt x="15130" y="7577"/>
                  <a:pt x="15113" y="7525"/>
                </a:cubicBezTo>
                <a:cubicBezTo>
                  <a:pt x="15043" y="7316"/>
                  <a:pt x="15218" y="6941"/>
                  <a:pt x="15081" y="6763"/>
                </a:cubicBezTo>
                <a:cubicBezTo>
                  <a:pt x="15081" y="6831"/>
                  <a:pt x="15107" y="6853"/>
                  <a:pt x="15113" y="6922"/>
                </a:cubicBezTo>
                <a:cubicBezTo>
                  <a:pt x="15123" y="7037"/>
                  <a:pt x="15097" y="7129"/>
                  <a:pt x="15081" y="7239"/>
                </a:cubicBezTo>
                <a:cubicBezTo>
                  <a:pt x="15065" y="7353"/>
                  <a:pt x="15080" y="7455"/>
                  <a:pt x="15050" y="7556"/>
                </a:cubicBezTo>
                <a:cubicBezTo>
                  <a:pt x="15033" y="7613"/>
                  <a:pt x="15091" y="7668"/>
                  <a:pt x="15018" y="7620"/>
                </a:cubicBezTo>
              </a:path>
              <a:path w="2478" h="1525">
                <a:moveTo>
                  <a:pt x="15081" y="7715"/>
                </a:moveTo>
                <a:cubicBezTo>
                  <a:pt x="15131" y="7703"/>
                  <a:pt x="15152" y="7684"/>
                  <a:pt x="15208" y="7684"/>
                </a:cubicBezTo>
                <a:cubicBezTo>
                  <a:pt x="15271" y="7684"/>
                  <a:pt x="15284" y="7698"/>
                  <a:pt x="15335" y="7715"/>
                </a:cubicBezTo>
                <a:cubicBezTo>
                  <a:pt x="15369" y="7726"/>
                  <a:pt x="15416" y="7684"/>
                  <a:pt x="15462" y="7684"/>
                </a:cubicBezTo>
                <a:cubicBezTo>
                  <a:pt x="15589" y="7684"/>
                  <a:pt x="15716" y="7684"/>
                  <a:pt x="15843" y="7684"/>
                </a:cubicBezTo>
                <a:cubicBezTo>
                  <a:pt x="15862" y="7738"/>
                  <a:pt x="15900" y="7702"/>
                  <a:pt x="15843" y="7684"/>
                </a:cubicBezTo>
                <a:cubicBezTo>
                  <a:pt x="15875" y="7684"/>
                  <a:pt x="15906" y="7684"/>
                  <a:pt x="15938" y="7684"/>
                </a:cubicBezTo>
                <a:cubicBezTo>
                  <a:pt x="15954" y="7636"/>
                  <a:pt x="15977" y="7652"/>
                  <a:pt x="16034" y="7652"/>
                </a:cubicBezTo>
                <a:cubicBezTo>
                  <a:pt x="16092" y="7652"/>
                  <a:pt x="16120" y="7620"/>
                  <a:pt x="16192" y="7620"/>
                </a:cubicBezTo>
                <a:cubicBezTo>
                  <a:pt x="16309" y="7620"/>
                  <a:pt x="16401" y="7615"/>
                  <a:pt x="16510" y="7588"/>
                </a:cubicBezTo>
                <a:cubicBezTo>
                  <a:pt x="16622" y="7560"/>
                  <a:pt x="16774" y="7588"/>
                  <a:pt x="16891" y="7588"/>
                </a:cubicBezTo>
                <a:cubicBezTo>
                  <a:pt x="16859" y="7588"/>
                  <a:pt x="16848" y="7588"/>
                  <a:pt x="16859" y="7620"/>
                </a:cubicBezTo>
              </a:path>
              <a:path w="2478" h="1525">
                <a:moveTo>
                  <a:pt x="15145" y="6794"/>
                </a:moveTo>
                <a:lnTo>
                  <a:pt x="15145" y="6794"/>
                </a:lnTo>
              </a:path>
              <a:path w="2478" h="1525">
                <a:moveTo>
                  <a:pt x="15145" y="7620"/>
                </a:moveTo>
                <a:lnTo>
                  <a:pt x="15145" y="7620"/>
                </a:lnTo>
              </a:path>
              <a:path w="2478" h="1525">
                <a:moveTo>
                  <a:pt x="15145" y="7620"/>
                </a:moveTo>
                <a:cubicBezTo>
                  <a:pt x="15145" y="7631"/>
                  <a:pt x="15145" y="7641"/>
                  <a:pt x="15145" y="7652"/>
                </a:cubicBezTo>
              </a:path>
              <a:path w="2478" h="1525">
                <a:moveTo>
                  <a:pt x="15145" y="7652"/>
                </a:moveTo>
                <a:cubicBezTo>
                  <a:pt x="15145" y="7641"/>
                  <a:pt x="15145" y="7631"/>
                  <a:pt x="15145" y="7620"/>
                </a:cubicBezTo>
                <a:cubicBezTo>
                  <a:pt x="15131" y="7663"/>
                  <a:pt x="15099" y="7652"/>
                  <a:pt x="15145" y="7652"/>
                </a:cubicBezTo>
                <a:cubicBezTo>
                  <a:pt x="15102" y="7638"/>
                  <a:pt x="15113" y="7606"/>
                  <a:pt x="15113" y="7652"/>
                </a:cubicBezTo>
                <a:cubicBezTo>
                  <a:pt x="15163" y="7639"/>
                  <a:pt x="15183" y="7620"/>
                  <a:pt x="15240" y="7620"/>
                </a:cubicBezTo>
                <a:cubicBezTo>
                  <a:pt x="15256" y="7572"/>
                  <a:pt x="15278" y="7588"/>
                  <a:pt x="15335" y="7588"/>
                </a:cubicBezTo>
                <a:cubicBezTo>
                  <a:pt x="15505" y="7588"/>
                  <a:pt x="15694" y="7570"/>
                  <a:pt x="15843" y="7620"/>
                </a:cubicBezTo>
                <a:cubicBezTo>
                  <a:pt x="15875" y="7620"/>
                  <a:pt x="15886" y="7620"/>
                  <a:pt x="15875" y="7652"/>
                </a:cubicBezTo>
                <a:cubicBezTo>
                  <a:pt x="15875" y="7620"/>
                  <a:pt x="15875" y="7609"/>
                  <a:pt x="15875" y="7652"/>
                </a:cubicBezTo>
                <a:cubicBezTo>
                  <a:pt x="15891" y="7604"/>
                  <a:pt x="15913" y="7620"/>
                  <a:pt x="15970" y="7620"/>
                </a:cubicBezTo>
                <a:cubicBezTo>
                  <a:pt x="16011" y="7620"/>
                  <a:pt x="16071" y="7576"/>
                  <a:pt x="16097" y="7588"/>
                </a:cubicBezTo>
                <a:cubicBezTo>
                  <a:pt x="16151" y="7612"/>
                  <a:pt x="16158" y="7620"/>
                  <a:pt x="16224" y="7620"/>
                </a:cubicBezTo>
                <a:cubicBezTo>
                  <a:pt x="16331" y="7620"/>
                  <a:pt x="16419" y="7625"/>
                  <a:pt x="16510" y="7652"/>
                </a:cubicBezTo>
                <a:cubicBezTo>
                  <a:pt x="16558" y="7666"/>
                  <a:pt x="16598" y="7680"/>
                  <a:pt x="16637" y="7715"/>
                </a:cubicBezTo>
                <a:cubicBezTo>
                  <a:pt x="16652" y="7728"/>
                  <a:pt x="16738" y="7779"/>
                  <a:pt x="16764" y="7747"/>
                </a:cubicBezTo>
                <a:cubicBezTo>
                  <a:pt x="16764" y="7736"/>
                  <a:pt x="16764" y="7726"/>
                  <a:pt x="16764" y="77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Ink 73"/>
          <p:cNvSpPr/>
          <p:nvPr/>
        </p:nvSpPr>
        <p:spPr>
          <a:xfrm>
            <a:off x="6321600" y="2664000"/>
            <a:ext cx="560160" cy="1233360"/>
          </a:xfrm>
          <a:custGeom>
            <a:avLst/>
            <a:gdLst/>
            <a:ahLst/>
            <a:rect l="l" t="t" r="r" b="b"/>
            <a:pathLst>
              <a:path w="1557" h="3430">
                <a:moveTo>
                  <a:pt x="18224" y="10700"/>
                </a:moveTo>
                <a:cubicBezTo>
                  <a:pt x="18180" y="10685"/>
                  <a:pt x="18193" y="10690"/>
                  <a:pt x="18193" y="10636"/>
                </a:cubicBezTo>
                <a:cubicBezTo>
                  <a:pt x="18193" y="10690"/>
                  <a:pt x="18170" y="10788"/>
                  <a:pt x="18224" y="10795"/>
                </a:cubicBezTo>
                <a:cubicBezTo>
                  <a:pt x="18319" y="10807"/>
                  <a:pt x="18257" y="10724"/>
                  <a:pt x="18288" y="10700"/>
                </a:cubicBezTo>
                <a:cubicBezTo>
                  <a:pt x="18344" y="10655"/>
                  <a:pt x="18296" y="10702"/>
                  <a:pt x="18288" y="10636"/>
                </a:cubicBezTo>
                <a:cubicBezTo>
                  <a:pt x="18282" y="10587"/>
                  <a:pt x="18272" y="10604"/>
                  <a:pt x="18224" y="10604"/>
                </a:cubicBezTo>
                <a:cubicBezTo>
                  <a:pt x="18224" y="10671"/>
                  <a:pt x="18201" y="10777"/>
                  <a:pt x="18256" y="10795"/>
                </a:cubicBezTo>
                <a:cubicBezTo>
                  <a:pt x="18293" y="10746"/>
                  <a:pt x="18288" y="10730"/>
                  <a:pt x="18288" y="10668"/>
                </a:cubicBezTo>
                <a:cubicBezTo>
                  <a:pt x="18288" y="10616"/>
                  <a:pt x="18272" y="10652"/>
                  <a:pt x="18256" y="10604"/>
                </a:cubicBezTo>
                <a:cubicBezTo>
                  <a:pt x="18165" y="10604"/>
                  <a:pt x="18224" y="10612"/>
                  <a:pt x="18193" y="10668"/>
                </a:cubicBezTo>
                <a:cubicBezTo>
                  <a:pt x="18150" y="10746"/>
                  <a:pt x="18184" y="10714"/>
                  <a:pt x="18193" y="10795"/>
                </a:cubicBezTo>
                <a:cubicBezTo>
                  <a:pt x="18199" y="10845"/>
                  <a:pt x="18250" y="10844"/>
                  <a:pt x="18256" y="10795"/>
                </a:cubicBezTo>
                <a:cubicBezTo>
                  <a:pt x="18261" y="10754"/>
                  <a:pt x="18278" y="10739"/>
                  <a:pt x="18288" y="10700"/>
                </a:cubicBezTo>
              </a:path>
              <a:path w="1557" h="3430">
                <a:moveTo>
                  <a:pt x="18986" y="8350"/>
                </a:moveTo>
                <a:cubicBezTo>
                  <a:pt x="18929" y="8379"/>
                  <a:pt x="18923" y="8409"/>
                  <a:pt x="18923" y="8477"/>
                </a:cubicBezTo>
                <a:cubicBezTo>
                  <a:pt x="18923" y="8513"/>
                  <a:pt x="18926" y="8527"/>
                  <a:pt x="18955" y="8541"/>
                </a:cubicBezTo>
                <a:cubicBezTo>
                  <a:pt x="19017" y="8525"/>
                  <a:pt x="19018" y="8467"/>
                  <a:pt x="19050" y="8446"/>
                </a:cubicBezTo>
                <a:cubicBezTo>
                  <a:pt x="19092" y="8419"/>
                  <a:pt x="19098" y="8404"/>
                  <a:pt x="19050" y="8350"/>
                </a:cubicBezTo>
                <a:cubicBezTo>
                  <a:pt x="19021" y="8321"/>
                  <a:pt x="19015" y="8310"/>
                  <a:pt x="18986" y="8318"/>
                </a:cubicBezTo>
                <a:cubicBezTo>
                  <a:pt x="18974" y="8367"/>
                  <a:pt x="18930" y="8416"/>
                  <a:pt x="18955" y="8477"/>
                </a:cubicBezTo>
                <a:cubicBezTo>
                  <a:pt x="18983" y="8506"/>
                  <a:pt x="18993" y="8512"/>
                  <a:pt x="18986" y="8541"/>
                </a:cubicBezTo>
                <a:cubicBezTo>
                  <a:pt x="19032" y="8529"/>
                  <a:pt x="19077" y="8520"/>
                  <a:pt x="19082" y="8477"/>
                </a:cubicBezTo>
                <a:cubicBezTo>
                  <a:pt x="19093" y="8393"/>
                  <a:pt x="19108" y="8429"/>
                  <a:pt x="19082" y="8350"/>
                </a:cubicBezTo>
                <a:cubicBezTo>
                  <a:pt x="19082" y="8318"/>
                  <a:pt x="19082" y="8308"/>
                  <a:pt x="19082" y="8287"/>
                </a:cubicBezTo>
                <a:cubicBezTo>
                  <a:pt x="19012" y="8287"/>
                  <a:pt x="19006" y="8301"/>
                  <a:pt x="18986" y="8382"/>
                </a:cubicBezTo>
                <a:cubicBezTo>
                  <a:pt x="18970" y="8445"/>
                  <a:pt x="18998" y="8464"/>
                  <a:pt x="19050" y="8477"/>
                </a:cubicBezTo>
              </a:path>
              <a:path w="1557" h="3430">
                <a:moveTo>
                  <a:pt x="18193" y="10795"/>
                </a:moveTo>
                <a:cubicBezTo>
                  <a:pt x="18193" y="10549"/>
                  <a:pt x="18193" y="10291"/>
                  <a:pt x="18161" y="10065"/>
                </a:cubicBezTo>
                <a:cubicBezTo>
                  <a:pt x="18129" y="9845"/>
                  <a:pt x="18033" y="8450"/>
                  <a:pt x="18193" y="8350"/>
                </a:cubicBezTo>
                <a:cubicBezTo>
                  <a:pt x="18229" y="8328"/>
                  <a:pt x="18439" y="8325"/>
                  <a:pt x="18478" y="8318"/>
                </a:cubicBezTo>
                <a:cubicBezTo>
                  <a:pt x="18605" y="8297"/>
                  <a:pt x="18848" y="8305"/>
                  <a:pt x="18923" y="8350"/>
                </a:cubicBezTo>
                <a:cubicBezTo>
                  <a:pt x="18976" y="8330"/>
                  <a:pt x="18988" y="8326"/>
                  <a:pt x="19050" y="8318"/>
                </a:cubicBezTo>
              </a:path>
              <a:path w="1557" h="3430">
                <a:moveTo>
                  <a:pt x="18193" y="10668"/>
                </a:moveTo>
                <a:lnTo>
                  <a:pt x="18193" y="10668"/>
                </a:lnTo>
              </a:path>
              <a:path w="1557" h="3430">
                <a:moveTo>
                  <a:pt x="18193" y="10668"/>
                </a:moveTo>
                <a:lnTo>
                  <a:pt x="18193" y="10668"/>
                </a:lnTo>
                <a:lnTo>
                  <a:pt x="18193" y="10668"/>
                </a:lnTo>
              </a:path>
              <a:path w="1557" h="3430">
                <a:moveTo>
                  <a:pt x="18193" y="9970"/>
                </a:moveTo>
                <a:cubicBezTo>
                  <a:pt x="18161" y="9970"/>
                  <a:pt x="18150" y="9970"/>
                  <a:pt x="18161" y="9938"/>
                </a:cubicBezTo>
              </a:path>
              <a:path w="1557" h="3430">
                <a:moveTo>
                  <a:pt x="17590" y="9144"/>
                </a:moveTo>
                <a:cubicBezTo>
                  <a:pt x="17606" y="9043"/>
                  <a:pt x="17612" y="9098"/>
                  <a:pt x="17685" y="9049"/>
                </a:cubicBezTo>
                <a:cubicBezTo>
                  <a:pt x="17727" y="9021"/>
                  <a:pt x="17789" y="9001"/>
                  <a:pt x="17812" y="9080"/>
                </a:cubicBezTo>
                <a:cubicBezTo>
                  <a:pt x="17828" y="9137"/>
                  <a:pt x="17815" y="9200"/>
                  <a:pt x="17780" y="9239"/>
                </a:cubicBezTo>
                <a:cubicBezTo>
                  <a:pt x="17749" y="9274"/>
                  <a:pt x="17760" y="9349"/>
                  <a:pt x="17716" y="9334"/>
                </a:cubicBezTo>
                <a:cubicBezTo>
                  <a:pt x="17706" y="9324"/>
                  <a:pt x="17695" y="9313"/>
                  <a:pt x="17685" y="9303"/>
                </a:cubicBezTo>
                <a:cubicBezTo>
                  <a:pt x="17756" y="9303"/>
                  <a:pt x="17728" y="9278"/>
                  <a:pt x="17780" y="9271"/>
                </a:cubicBezTo>
                <a:cubicBezTo>
                  <a:pt x="17855" y="9262"/>
                  <a:pt x="17845" y="9346"/>
                  <a:pt x="17875" y="9366"/>
                </a:cubicBezTo>
                <a:cubicBezTo>
                  <a:pt x="17914" y="9392"/>
                  <a:pt x="17931" y="9450"/>
                  <a:pt x="17907" y="9525"/>
                </a:cubicBezTo>
                <a:cubicBezTo>
                  <a:pt x="17890" y="9578"/>
                  <a:pt x="17866" y="9673"/>
                  <a:pt x="17844" y="9716"/>
                </a:cubicBezTo>
                <a:cubicBezTo>
                  <a:pt x="17828" y="9749"/>
                  <a:pt x="17747" y="9775"/>
                  <a:pt x="17716" y="9779"/>
                </a:cubicBezTo>
                <a:cubicBezTo>
                  <a:pt x="17666" y="9785"/>
                  <a:pt x="17613" y="9768"/>
                  <a:pt x="17590" y="9716"/>
                </a:cubicBezTo>
                <a:cubicBezTo>
                  <a:pt x="17568" y="9666"/>
                  <a:pt x="17573" y="9622"/>
                  <a:pt x="17590" y="9588"/>
                </a:cubicBezTo>
              </a:path>
              <a:path w="1557" h="3430">
                <a:moveTo>
                  <a:pt x="18161" y="8446"/>
                </a:moveTo>
                <a:cubicBezTo>
                  <a:pt x="18172" y="8446"/>
                  <a:pt x="18182" y="8446"/>
                  <a:pt x="18193" y="8446"/>
                </a:cubicBezTo>
              </a:path>
              <a:path w="1557" h="3430">
                <a:moveTo>
                  <a:pt x="18574" y="7398"/>
                </a:moveTo>
                <a:cubicBezTo>
                  <a:pt x="18620" y="7458"/>
                  <a:pt x="18606" y="7507"/>
                  <a:pt x="18606" y="7588"/>
                </a:cubicBezTo>
                <a:cubicBezTo>
                  <a:pt x="18606" y="7679"/>
                  <a:pt x="18579" y="7728"/>
                  <a:pt x="18574" y="7810"/>
                </a:cubicBezTo>
                <a:cubicBezTo>
                  <a:pt x="18569" y="7892"/>
                  <a:pt x="18552" y="7953"/>
                  <a:pt x="18542" y="80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Ink 74"/>
          <p:cNvSpPr/>
          <p:nvPr/>
        </p:nvSpPr>
        <p:spPr>
          <a:xfrm>
            <a:off x="6240600" y="4651200"/>
            <a:ext cx="69840" cy="81000"/>
          </a:xfrm>
          <a:custGeom>
            <a:avLst/>
            <a:gdLst/>
            <a:ahLst/>
            <a:rect l="l" t="t" r="r" b="b"/>
            <a:pathLst>
              <a:path w="191" h="223">
                <a:moveTo>
                  <a:pt x="17462" y="13018"/>
                </a:moveTo>
                <a:cubicBezTo>
                  <a:pt x="17504" y="12962"/>
                  <a:pt x="17504" y="12978"/>
                  <a:pt x="17462" y="12922"/>
                </a:cubicBezTo>
                <a:cubicBezTo>
                  <a:pt x="17450" y="12972"/>
                  <a:pt x="17431" y="12993"/>
                  <a:pt x="17431" y="13049"/>
                </a:cubicBezTo>
                <a:cubicBezTo>
                  <a:pt x="17431" y="13123"/>
                  <a:pt x="17487" y="13028"/>
                  <a:pt x="17494" y="13018"/>
                </a:cubicBezTo>
                <a:cubicBezTo>
                  <a:pt x="17523" y="12989"/>
                  <a:pt x="17534" y="12983"/>
                  <a:pt x="17526" y="12954"/>
                </a:cubicBezTo>
                <a:cubicBezTo>
                  <a:pt x="17474" y="12954"/>
                  <a:pt x="17424" y="12961"/>
                  <a:pt x="17399" y="13018"/>
                </a:cubicBezTo>
                <a:cubicBezTo>
                  <a:pt x="17380" y="13061"/>
                  <a:pt x="17367" y="13047"/>
                  <a:pt x="17367" y="13113"/>
                </a:cubicBezTo>
                <a:cubicBezTo>
                  <a:pt x="17438" y="13136"/>
                  <a:pt x="17379" y="13140"/>
                  <a:pt x="17462" y="13113"/>
                </a:cubicBezTo>
                <a:cubicBezTo>
                  <a:pt x="17510" y="13097"/>
                  <a:pt x="17494" y="13075"/>
                  <a:pt x="17494" y="13018"/>
                </a:cubicBezTo>
                <a:cubicBezTo>
                  <a:pt x="17494" y="12952"/>
                  <a:pt x="17498" y="12954"/>
                  <a:pt x="17431" y="12954"/>
                </a:cubicBezTo>
                <a:cubicBezTo>
                  <a:pt x="17399" y="12954"/>
                  <a:pt x="17368" y="12954"/>
                  <a:pt x="17336" y="12954"/>
                </a:cubicBezTo>
                <a:cubicBezTo>
                  <a:pt x="17345" y="12992"/>
                  <a:pt x="17358" y="13012"/>
                  <a:pt x="17367" y="13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slope of the line through the following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(4, 7)  N (-8, -1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(6, 5) S (15,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value of x for the line where m =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, 5) (x,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Ink 5"/>
          <p:cNvSpPr/>
          <p:nvPr/>
        </p:nvSpPr>
        <p:spPr>
          <a:xfrm>
            <a:off x="3772080" y="2136600"/>
            <a:ext cx="1382400" cy="606600"/>
          </a:xfrm>
          <a:custGeom>
            <a:avLst/>
            <a:gdLst/>
            <a:ahLst/>
            <a:rect l="l" t="t" r="r" b="b"/>
            <a:pathLst>
              <a:path w="3842" h="1684">
                <a:moveTo>
                  <a:pt x="11081" y="5937"/>
                </a:moveTo>
                <a:cubicBezTo>
                  <a:pt x="11081" y="6010"/>
                  <a:pt x="11060" y="6061"/>
                  <a:pt x="11049" y="6128"/>
                </a:cubicBezTo>
                <a:cubicBezTo>
                  <a:pt x="11031" y="6233"/>
                  <a:pt x="11024" y="6341"/>
                  <a:pt x="10986" y="6445"/>
                </a:cubicBezTo>
                <a:cubicBezTo>
                  <a:pt x="10956" y="6528"/>
                  <a:pt x="10921" y="6672"/>
                  <a:pt x="10954" y="6763"/>
                </a:cubicBezTo>
                <a:cubicBezTo>
                  <a:pt x="10967" y="6800"/>
                  <a:pt x="11044" y="6860"/>
                  <a:pt x="11081" y="6858"/>
                </a:cubicBezTo>
                <a:cubicBezTo>
                  <a:pt x="11134" y="6855"/>
                  <a:pt x="11280" y="6739"/>
                  <a:pt x="11303" y="6699"/>
                </a:cubicBezTo>
                <a:cubicBezTo>
                  <a:pt x="11395" y="6543"/>
                  <a:pt x="11409" y="6326"/>
                  <a:pt x="11462" y="6160"/>
                </a:cubicBezTo>
                <a:cubicBezTo>
                  <a:pt x="11490" y="6104"/>
                  <a:pt x="11507" y="6076"/>
                  <a:pt x="11462" y="6128"/>
                </a:cubicBezTo>
                <a:cubicBezTo>
                  <a:pt x="11462" y="6259"/>
                  <a:pt x="11434" y="6379"/>
                  <a:pt x="11430" y="6509"/>
                </a:cubicBezTo>
                <a:cubicBezTo>
                  <a:pt x="11425" y="6662"/>
                  <a:pt x="11421" y="6834"/>
                  <a:pt x="11398" y="6985"/>
                </a:cubicBezTo>
                <a:cubicBezTo>
                  <a:pt x="11375" y="7138"/>
                  <a:pt x="11299" y="7280"/>
                  <a:pt x="11271" y="7430"/>
                </a:cubicBezTo>
                <a:cubicBezTo>
                  <a:pt x="11261" y="7486"/>
                  <a:pt x="11216" y="7599"/>
                  <a:pt x="11144" y="7620"/>
                </a:cubicBezTo>
                <a:cubicBezTo>
                  <a:pt x="11068" y="7642"/>
                  <a:pt x="11007" y="7603"/>
                  <a:pt x="10954" y="7556"/>
                </a:cubicBezTo>
                <a:cubicBezTo>
                  <a:pt x="10916" y="7519"/>
                  <a:pt x="10901" y="7500"/>
                  <a:pt x="10890" y="7461"/>
                </a:cubicBezTo>
              </a:path>
              <a:path w="3842" h="1684">
                <a:moveTo>
                  <a:pt x="11716" y="6794"/>
                </a:moveTo>
                <a:cubicBezTo>
                  <a:pt x="11716" y="6763"/>
                  <a:pt x="11716" y="6752"/>
                  <a:pt x="11684" y="6763"/>
                </a:cubicBezTo>
                <a:cubicBezTo>
                  <a:pt x="11732" y="6715"/>
                  <a:pt x="11743" y="6699"/>
                  <a:pt x="11811" y="6699"/>
                </a:cubicBezTo>
                <a:cubicBezTo>
                  <a:pt x="11888" y="6699"/>
                  <a:pt x="11871" y="6712"/>
                  <a:pt x="11906" y="6763"/>
                </a:cubicBezTo>
                <a:cubicBezTo>
                  <a:pt x="11965" y="6851"/>
                  <a:pt x="11922" y="6891"/>
                  <a:pt x="11906" y="6985"/>
                </a:cubicBezTo>
                <a:cubicBezTo>
                  <a:pt x="11894" y="7054"/>
                  <a:pt x="11872" y="7148"/>
                  <a:pt x="11843" y="7207"/>
                </a:cubicBezTo>
                <a:cubicBezTo>
                  <a:pt x="11834" y="7224"/>
                  <a:pt x="11736" y="7331"/>
                  <a:pt x="11779" y="7271"/>
                </a:cubicBezTo>
                <a:cubicBezTo>
                  <a:pt x="11810" y="7228"/>
                  <a:pt x="11846" y="7228"/>
                  <a:pt x="11874" y="7207"/>
                </a:cubicBezTo>
                <a:cubicBezTo>
                  <a:pt x="11949" y="7152"/>
                  <a:pt x="11966" y="7189"/>
                  <a:pt x="12002" y="7207"/>
                </a:cubicBezTo>
                <a:cubicBezTo>
                  <a:pt x="12029" y="7220"/>
                  <a:pt x="12100" y="7236"/>
                  <a:pt x="12128" y="7239"/>
                </a:cubicBezTo>
                <a:cubicBezTo>
                  <a:pt x="12169" y="7244"/>
                  <a:pt x="12214" y="7239"/>
                  <a:pt x="12256" y="7239"/>
                </a:cubicBezTo>
              </a:path>
              <a:path w="3842" h="1684">
                <a:moveTo>
                  <a:pt x="12478" y="6604"/>
                </a:moveTo>
                <a:cubicBezTo>
                  <a:pt x="12550" y="6531"/>
                  <a:pt x="12546" y="6566"/>
                  <a:pt x="12636" y="6540"/>
                </a:cubicBezTo>
                <a:cubicBezTo>
                  <a:pt x="12709" y="6519"/>
                  <a:pt x="12785" y="6489"/>
                  <a:pt x="12859" y="6477"/>
                </a:cubicBezTo>
                <a:cubicBezTo>
                  <a:pt x="12880" y="6477"/>
                  <a:pt x="12901" y="6477"/>
                  <a:pt x="12922" y="6477"/>
                </a:cubicBezTo>
              </a:path>
              <a:path w="3842" h="1684">
                <a:moveTo>
                  <a:pt x="13113" y="6064"/>
                </a:moveTo>
                <a:cubicBezTo>
                  <a:pt x="13101" y="6162"/>
                  <a:pt x="13061" y="6251"/>
                  <a:pt x="13049" y="6350"/>
                </a:cubicBezTo>
                <a:cubicBezTo>
                  <a:pt x="13034" y="6475"/>
                  <a:pt x="13023" y="6606"/>
                  <a:pt x="13018" y="6731"/>
                </a:cubicBezTo>
                <a:cubicBezTo>
                  <a:pt x="13014" y="6836"/>
                  <a:pt x="13044" y="6907"/>
                  <a:pt x="13113" y="6985"/>
                </a:cubicBezTo>
                <a:cubicBezTo>
                  <a:pt x="13144" y="7017"/>
                  <a:pt x="13154" y="7028"/>
                  <a:pt x="13176" y="7048"/>
                </a:cubicBezTo>
                <a:cubicBezTo>
                  <a:pt x="13266" y="7031"/>
                  <a:pt x="13315" y="6968"/>
                  <a:pt x="13367" y="6890"/>
                </a:cubicBezTo>
                <a:cubicBezTo>
                  <a:pt x="13448" y="6768"/>
                  <a:pt x="13453" y="6584"/>
                  <a:pt x="13494" y="6445"/>
                </a:cubicBezTo>
                <a:cubicBezTo>
                  <a:pt x="13526" y="6335"/>
                  <a:pt x="13526" y="6242"/>
                  <a:pt x="13526" y="6128"/>
                </a:cubicBezTo>
                <a:cubicBezTo>
                  <a:pt x="13526" y="6117"/>
                  <a:pt x="13526" y="6107"/>
                  <a:pt x="13526" y="6096"/>
                </a:cubicBezTo>
                <a:cubicBezTo>
                  <a:pt x="13509" y="6180"/>
                  <a:pt x="13511" y="6265"/>
                  <a:pt x="13494" y="6350"/>
                </a:cubicBezTo>
                <a:cubicBezTo>
                  <a:pt x="13468" y="6482"/>
                  <a:pt x="13440" y="6625"/>
                  <a:pt x="13462" y="6763"/>
                </a:cubicBezTo>
                <a:cubicBezTo>
                  <a:pt x="13488" y="6927"/>
                  <a:pt x="13480" y="7016"/>
                  <a:pt x="13462" y="7176"/>
                </a:cubicBezTo>
                <a:cubicBezTo>
                  <a:pt x="13451" y="7277"/>
                  <a:pt x="13434" y="7375"/>
                  <a:pt x="13367" y="7461"/>
                </a:cubicBezTo>
                <a:cubicBezTo>
                  <a:pt x="13294" y="7555"/>
                  <a:pt x="13231" y="7539"/>
                  <a:pt x="13144" y="7525"/>
                </a:cubicBezTo>
                <a:cubicBezTo>
                  <a:pt x="13066" y="7512"/>
                  <a:pt x="13081" y="7469"/>
                  <a:pt x="13081" y="7398"/>
                </a:cubicBezTo>
              </a:path>
              <a:path w="3842" h="1684">
                <a:moveTo>
                  <a:pt x="13780" y="6794"/>
                </a:moveTo>
                <a:cubicBezTo>
                  <a:pt x="13799" y="6874"/>
                  <a:pt x="13795" y="6850"/>
                  <a:pt x="13780" y="6922"/>
                </a:cubicBezTo>
                <a:cubicBezTo>
                  <a:pt x="13761" y="7013"/>
                  <a:pt x="13775" y="7095"/>
                  <a:pt x="13748" y="7176"/>
                </a:cubicBezTo>
                <a:cubicBezTo>
                  <a:pt x="13748" y="7186"/>
                  <a:pt x="13748" y="7197"/>
                  <a:pt x="13748" y="7207"/>
                </a:cubicBezTo>
              </a:path>
              <a:path w="3842" h="1684">
                <a:moveTo>
                  <a:pt x="10478" y="7556"/>
                </a:moveTo>
                <a:cubicBezTo>
                  <a:pt x="10550" y="7556"/>
                  <a:pt x="10601" y="7536"/>
                  <a:pt x="10668" y="7525"/>
                </a:cubicBezTo>
                <a:cubicBezTo>
                  <a:pt x="10803" y="7503"/>
                  <a:pt x="10944" y="7472"/>
                  <a:pt x="11081" y="7461"/>
                </a:cubicBezTo>
                <a:cubicBezTo>
                  <a:pt x="11291" y="7443"/>
                  <a:pt x="11506" y="7450"/>
                  <a:pt x="11716" y="7430"/>
                </a:cubicBezTo>
                <a:cubicBezTo>
                  <a:pt x="11972" y="7406"/>
                  <a:pt x="12219" y="7398"/>
                  <a:pt x="12478" y="7398"/>
                </a:cubicBezTo>
                <a:cubicBezTo>
                  <a:pt x="12809" y="7398"/>
                  <a:pt x="13134" y="7412"/>
                  <a:pt x="13462" y="7430"/>
                </a:cubicBezTo>
                <a:cubicBezTo>
                  <a:pt x="13673" y="7442"/>
                  <a:pt x="13890" y="7422"/>
                  <a:pt x="14097" y="7461"/>
                </a:cubicBezTo>
                <a:cubicBezTo>
                  <a:pt x="14168" y="7474"/>
                  <a:pt x="14251" y="7507"/>
                  <a:pt x="14319" y="7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Ink 6"/>
          <p:cNvSpPr/>
          <p:nvPr/>
        </p:nvSpPr>
        <p:spPr>
          <a:xfrm>
            <a:off x="2754360" y="2732040"/>
            <a:ext cx="309600" cy="228600"/>
          </a:xfrm>
          <a:custGeom>
            <a:avLst/>
            <a:gdLst/>
            <a:ahLst/>
            <a:rect l="l" t="t" r="r" b="b"/>
            <a:pathLst>
              <a:path w="858" h="636">
                <a:moveTo>
                  <a:pt x="7779" y="7588"/>
                </a:moveTo>
                <a:cubicBezTo>
                  <a:pt x="7792" y="7654"/>
                  <a:pt x="7812" y="7717"/>
                  <a:pt x="7842" y="7779"/>
                </a:cubicBezTo>
                <a:cubicBezTo>
                  <a:pt x="7888" y="7875"/>
                  <a:pt x="7929" y="7955"/>
                  <a:pt x="8001" y="8033"/>
                </a:cubicBezTo>
                <a:cubicBezTo>
                  <a:pt x="8043" y="8078"/>
                  <a:pt x="8106" y="8115"/>
                  <a:pt x="8160" y="8128"/>
                </a:cubicBezTo>
              </a:path>
              <a:path w="858" h="636">
                <a:moveTo>
                  <a:pt x="8096" y="7588"/>
                </a:moveTo>
                <a:cubicBezTo>
                  <a:pt x="8061" y="7670"/>
                  <a:pt x="8027" y="7740"/>
                  <a:pt x="7969" y="7810"/>
                </a:cubicBezTo>
                <a:cubicBezTo>
                  <a:pt x="7897" y="7897"/>
                  <a:pt x="7809" y="7970"/>
                  <a:pt x="7747" y="8064"/>
                </a:cubicBezTo>
                <a:cubicBezTo>
                  <a:pt x="7704" y="8128"/>
                  <a:pt x="7720" y="8143"/>
                  <a:pt x="7652" y="8160"/>
                </a:cubicBezTo>
              </a:path>
              <a:path w="858" h="636">
                <a:moveTo>
                  <a:pt x="8128" y="7969"/>
                </a:moveTo>
                <a:cubicBezTo>
                  <a:pt x="8175" y="7935"/>
                  <a:pt x="8191" y="7930"/>
                  <a:pt x="8223" y="7906"/>
                </a:cubicBezTo>
                <a:cubicBezTo>
                  <a:pt x="8258" y="7879"/>
                  <a:pt x="8318" y="7841"/>
                  <a:pt x="8350" y="7906"/>
                </a:cubicBezTo>
                <a:cubicBezTo>
                  <a:pt x="8368" y="7941"/>
                  <a:pt x="8309" y="8069"/>
                  <a:pt x="8287" y="8096"/>
                </a:cubicBezTo>
                <a:cubicBezTo>
                  <a:pt x="8253" y="8138"/>
                  <a:pt x="8226" y="8181"/>
                  <a:pt x="8192" y="8223"/>
                </a:cubicBezTo>
                <a:cubicBezTo>
                  <a:pt x="8262" y="8223"/>
                  <a:pt x="8236" y="8196"/>
                  <a:pt x="8287" y="8192"/>
                </a:cubicBezTo>
                <a:cubicBezTo>
                  <a:pt x="8366" y="8186"/>
                  <a:pt x="8381" y="8216"/>
                  <a:pt x="8446" y="8223"/>
                </a:cubicBezTo>
                <a:cubicBezTo>
                  <a:pt x="8477" y="8223"/>
                  <a:pt x="8488" y="8223"/>
                  <a:pt x="8509" y="82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Ink 7"/>
          <p:cNvSpPr/>
          <p:nvPr/>
        </p:nvSpPr>
        <p:spPr>
          <a:xfrm>
            <a:off x="3303720" y="2778120"/>
            <a:ext cx="250560" cy="250920"/>
          </a:xfrm>
          <a:custGeom>
            <a:avLst/>
            <a:gdLst/>
            <a:ahLst/>
            <a:rect l="l" t="t" r="r" b="b"/>
            <a:pathLst>
              <a:path w="699" h="700">
                <a:moveTo>
                  <a:pt x="9176" y="7715"/>
                </a:moveTo>
                <a:cubicBezTo>
                  <a:pt x="9187" y="7772"/>
                  <a:pt x="9192" y="7850"/>
                  <a:pt x="9208" y="7906"/>
                </a:cubicBezTo>
                <a:cubicBezTo>
                  <a:pt x="9223" y="7959"/>
                  <a:pt x="9251" y="8067"/>
                  <a:pt x="9303" y="8096"/>
                </a:cubicBezTo>
                <a:cubicBezTo>
                  <a:pt x="9332" y="8112"/>
                  <a:pt x="9350" y="8054"/>
                  <a:pt x="9366" y="8033"/>
                </a:cubicBezTo>
              </a:path>
              <a:path w="699" h="700">
                <a:moveTo>
                  <a:pt x="9525" y="7747"/>
                </a:moveTo>
                <a:cubicBezTo>
                  <a:pt x="9541" y="7755"/>
                  <a:pt x="9545" y="7813"/>
                  <a:pt x="9525" y="7874"/>
                </a:cubicBezTo>
                <a:cubicBezTo>
                  <a:pt x="9497" y="7958"/>
                  <a:pt x="9489" y="8047"/>
                  <a:pt x="9462" y="8128"/>
                </a:cubicBezTo>
                <a:cubicBezTo>
                  <a:pt x="9439" y="8197"/>
                  <a:pt x="9411" y="8279"/>
                  <a:pt x="9398" y="8350"/>
                </a:cubicBezTo>
                <a:cubicBezTo>
                  <a:pt x="9380" y="8454"/>
                  <a:pt x="9380" y="8412"/>
                  <a:pt x="9334" y="8350"/>
                </a:cubicBezTo>
              </a:path>
              <a:path w="699" h="700">
                <a:moveTo>
                  <a:pt x="9652" y="8001"/>
                </a:moveTo>
                <a:cubicBezTo>
                  <a:pt x="9697" y="7967"/>
                  <a:pt x="9692" y="7969"/>
                  <a:pt x="9747" y="7969"/>
                </a:cubicBezTo>
                <a:cubicBezTo>
                  <a:pt x="9747" y="8015"/>
                  <a:pt x="9739" y="8062"/>
                  <a:pt x="9716" y="8096"/>
                </a:cubicBezTo>
                <a:cubicBezTo>
                  <a:pt x="9677" y="8155"/>
                  <a:pt x="9652" y="8182"/>
                  <a:pt x="9652" y="8255"/>
                </a:cubicBezTo>
                <a:cubicBezTo>
                  <a:pt x="9711" y="8255"/>
                  <a:pt x="9727" y="8229"/>
                  <a:pt x="9779" y="8223"/>
                </a:cubicBezTo>
                <a:cubicBezTo>
                  <a:pt x="9810" y="8220"/>
                  <a:pt x="9843" y="8223"/>
                  <a:pt x="9874" y="82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Ink 8"/>
          <p:cNvSpPr/>
          <p:nvPr/>
        </p:nvSpPr>
        <p:spPr>
          <a:xfrm>
            <a:off x="4022640" y="2743200"/>
            <a:ext cx="892440" cy="366840"/>
          </a:xfrm>
          <a:custGeom>
            <a:avLst/>
            <a:gdLst/>
            <a:ahLst/>
            <a:rect l="l" t="t" r="r" b="b"/>
            <a:pathLst>
              <a:path w="2477" h="1017">
                <a:moveTo>
                  <a:pt x="11303" y="7779"/>
                </a:moveTo>
                <a:cubicBezTo>
                  <a:pt x="11292" y="7779"/>
                  <a:pt x="11282" y="7779"/>
                  <a:pt x="11271" y="7779"/>
                </a:cubicBezTo>
                <a:cubicBezTo>
                  <a:pt x="11307" y="7826"/>
                  <a:pt x="11333" y="7884"/>
                  <a:pt x="11366" y="7938"/>
                </a:cubicBezTo>
                <a:cubicBezTo>
                  <a:pt x="11413" y="8017"/>
                  <a:pt x="11457" y="8133"/>
                  <a:pt x="11525" y="8192"/>
                </a:cubicBezTo>
                <a:cubicBezTo>
                  <a:pt x="11580" y="8239"/>
                  <a:pt x="11645" y="8322"/>
                  <a:pt x="11716" y="8350"/>
                </a:cubicBezTo>
                <a:cubicBezTo>
                  <a:pt x="11748" y="8350"/>
                  <a:pt x="11758" y="8350"/>
                  <a:pt x="11779" y="8350"/>
                </a:cubicBezTo>
              </a:path>
              <a:path w="2477" h="1017">
                <a:moveTo>
                  <a:pt x="11716" y="7620"/>
                </a:moveTo>
                <a:cubicBezTo>
                  <a:pt x="11700" y="7699"/>
                  <a:pt x="11656" y="7768"/>
                  <a:pt x="11620" y="7842"/>
                </a:cubicBezTo>
                <a:cubicBezTo>
                  <a:pt x="11560" y="7963"/>
                  <a:pt x="11468" y="8047"/>
                  <a:pt x="11398" y="8160"/>
                </a:cubicBezTo>
                <a:cubicBezTo>
                  <a:pt x="11357" y="8226"/>
                  <a:pt x="11297" y="8363"/>
                  <a:pt x="11240" y="8414"/>
                </a:cubicBezTo>
                <a:cubicBezTo>
                  <a:pt x="11204" y="8414"/>
                  <a:pt x="11190" y="8417"/>
                  <a:pt x="11176" y="8446"/>
                </a:cubicBezTo>
              </a:path>
              <a:path w="2477" h="1017">
                <a:moveTo>
                  <a:pt x="11748" y="8064"/>
                </a:moveTo>
                <a:cubicBezTo>
                  <a:pt x="11788" y="8034"/>
                  <a:pt x="11884" y="8055"/>
                  <a:pt x="11906" y="8033"/>
                </a:cubicBezTo>
                <a:cubicBezTo>
                  <a:pt x="11938" y="8001"/>
                  <a:pt x="11933" y="8001"/>
                  <a:pt x="12002" y="8001"/>
                </a:cubicBezTo>
                <a:cubicBezTo>
                  <a:pt x="12002" y="8066"/>
                  <a:pt x="12011" y="8108"/>
                  <a:pt x="11970" y="8160"/>
                </a:cubicBezTo>
                <a:cubicBezTo>
                  <a:pt x="11938" y="8200"/>
                  <a:pt x="11893" y="8271"/>
                  <a:pt x="11874" y="8318"/>
                </a:cubicBezTo>
                <a:cubicBezTo>
                  <a:pt x="11861" y="8350"/>
                  <a:pt x="11851" y="8379"/>
                  <a:pt x="11843" y="8414"/>
                </a:cubicBezTo>
                <a:cubicBezTo>
                  <a:pt x="11907" y="8414"/>
                  <a:pt x="11918" y="8399"/>
                  <a:pt x="11970" y="8382"/>
                </a:cubicBezTo>
                <a:cubicBezTo>
                  <a:pt x="12004" y="8371"/>
                  <a:pt x="12051" y="8414"/>
                  <a:pt x="12097" y="8414"/>
                </a:cubicBezTo>
                <a:cubicBezTo>
                  <a:pt x="12128" y="8414"/>
                  <a:pt x="12139" y="8414"/>
                  <a:pt x="12160" y="8414"/>
                </a:cubicBezTo>
              </a:path>
              <a:path w="2477" h="1017">
                <a:moveTo>
                  <a:pt x="12351" y="8128"/>
                </a:moveTo>
                <a:cubicBezTo>
                  <a:pt x="12407" y="8114"/>
                  <a:pt x="12447" y="8080"/>
                  <a:pt x="12510" y="8064"/>
                </a:cubicBezTo>
                <a:cubicBezTo>
                  <a:pt x="12581" y="8046"/>
                  <a:pt x="12660" y="8013"/>
                  <a:pt x="12732" y="8001"/>
                </a:cubicBezTo>
                <a:cubicBezTo>
                  <a:pt x="12753" y="8001"/>
                  <a:pt x="12774" y="8001"/>
                  <a:pt x="12795" y="8001"/>
                </a:cubicBezTo>
              </a:path>
              <a:path w="2477" h="1017">
                <a:moveTo>
                  <a:pt x="12859" y="7747"/>
                </a:moveTo>
                <a:cubicBezTo>
                  <a:pt x="12873" y="7820"/>
                  <a:pt x="12901" y="7854"/>
                  <a:pt x="12954" y="7906"/>
                </a:cubicBezTo>
                <a:cubicBezTo>
                  <a:pt x="13025" y="7976"/>
                  <a:pt x="13118" y="8048"/>
                  <a:pt x="13176" y="8128"/>
                </a:cubicBezTo>
                <a:cubicBezTo>
                  <a:pt x="13220" y="8189"/>
                  <a:pt x="13295" y="8282"/>
                  <a:pt x="13367" y="8318"/>
                </a:cubicBezTo>
                <a:cubicBezTo>
                  <a:pt x="13398" y="8318"/>
                  <a:pt x="13409" y="8318"/>
                  <a:pt x="13430" y="8318"/>
                </a:cubicBezTo>
              </a:path>
              <a:path w="2477" h="1017">
                <a:moveTo>
                  <a:pt x="13526" y="7652"/>
                </a:moveTo>
                <a:cubicBezTo>
                  <a:pt x="13465" y="7713"/>
                  <a:pt x="13427" y="7779"/>
                  <a:pt x="13367" y="7842"/>
                </a:cubicBezTo>
                <a:cubicBezTo>
                  <a:pt x="13278" y="7936"/>
                  <a:pt x="13216" y="8051"/>
                  <a:pt x="13144" y="8160"/>
                </a:cubicBezTo>
                <a:cubicBezTo>
                  <a:pt x="13088" y="8245"/>
                  <a:pt x="12997" y="8381"/>
                  <a:pt x="12922" y="8446"/>
                </a:cubicBezTo>
                <a:cubicBezTo>
                  <a:pt x="12870" y="8471"/>
                  <a:pt x="12849" y="8469"/>
                  <a:pt x="12859" y="8509"/>
                </a:cubicBezTo>
              </a:path>
              <a:path w="2477" h="1017">
                <a:moveTo>
                  <a:pt x="13589" y="8160"/>
                </a:moveTo>
                <a:cubicBezTo>
                  <a:pt x="13660" y="8195"/>
                  <a:pt x="13652" y="8237"/>
                  <a:pt x="13652" y="8318"/>
                </a:cubicBezTo>
                <a:cubicBezTo>
                  <a:pt x="13652" y="8427"/>
                  <a:pt x="13611" y="8473"/>
                  <a:pt x="13589" y="8572"/>
                </a:cubicBezTo>
                <a:cubicBezTo>
                  <a:pt x="13589" y="8593"/>
                  <a:pt x="13589" y="8615"/>
                  <a:pt x="13589" y="8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Ink 9"/>
          <p:cNvSpPr/>
          <p:nvPr/>
        </p:nvSpPr>
        <p:spPr>
          <a:xfrm>
            <a:off x="1703520" y="3176640"/>
            <a:ext cx="2697120" cy="880920"/>
          </a:xfrm>
          <a:custGeom>
            <a:avLst/>
            <a:gdLst/>
            <a:ahLst/>
            <a:rect l="l" t="t" r="r" b="b"/>
            <a:pathLst>
              <a:path w="7494" h="2446">
                <a:moveTo>
                  <a:pt x="4731" y="9493"/>
                </a:moveTo>
                <a:cubicBezTo>
                  <a:pt x="4788" y="9493"/>
                  <a:pt x="4807" y="9468"/>
                  <a:pt x="4858" y="9462"/>
                </a:cubicBezTo>
                <a:cubicBezTo>
                  <a:pt x="4869" y="9462"/>
                  <a:pt x="4879" y="9462"/>
                  <a:pt x="4890" y="9462"/>
                </a:cubicBezTo>
                <a:cubicBezTo>
                  <a:pt x="4906" y="9509"/>
                  <a:pt x="4929" y="9493"/>
                  <a:pt x="4985" y="9493"/>
                </a:cubicBezTo>
              </a:path>
              <a:path w="7494" h="2446">
                <a:moveTo>
                  <a:pt x="5239" y="9303"/>
                </a:moveTo>
                <a:cubicBezTo>
                  <a:pt x="5239" y="9376"/>
                  <a:pt x="5219" y="9435"/>
                  <a:pt x="5207" y="9493"/>
                </a:cubicBezTo>
                <a:cubicBezTo>
                  <a:pt x="5193" y="9563"/>
                  <a:pt x="5194" y="9622"/>
                  <a:pt x="5175" y="9684"/>
                </a:cubicBezTo>
                <a:cubicBezTo>
                  <a:pt x="5157" y="9743"/>
                  <a:pt x="5156" y="9781"/>
                  <a:pt x="5207" y="9747"/>
                </a:cubicBezTo>
              </a:path>
              <a:path w="7494" h="2446">
                <a:moveTo>
                  <a:pt x="5429" y="9366"/>
                </a:moveTo>
                <a:cubicBezTo>
                  <a:pt x="5395" y="9425"/>
                  <a:pt x="5392" y="9492"/>
                  <a:pt x="5366" y="9557"/>
                </a:cubicBezTo>
                <a:cubicBezTo>
                  <a:pt x="5348" y="9602"/>
                  <a:pt x="5314" y="9681"/>
                  <a:pt x="5366" y="9716"/>
                </a:cubicBezTo>
                <a:cubicBezTo>
                  <a:pt x="5413" y="9747"/>
                  <a:pt x="5447" y="9757"/>
                  <a:pt x="5493" y="9716"/>
                </a:cubicBezTo>
                <a:cubicBezTo>
                  <a:pt x="5553" y="9662"/>
                  <a:pt x="5583" y="9636"/>
                  <a:pt x="5588" y="9557"/>
                </a:cubicBezTo>
                <a:cubicBezTo>
                  <a:pt x="5591" y="9513"/>
                  <a:pt x="5588" y="9392"/>
                  <a:pt x="5556" y="9366"/>
                </a:cubicBezTo>
                <a:cubicBezTo>
                  <a:pt x="5540" y="9353"/>
                  <a:pt x="5451" y="9366"/>
                  <a:pt x="5429" y="9366"/>
                </a:cubicBezTo>
              </a:path>
              <a:path w="7494" h="2446">
                <a:moveTo>
                  <a:pt x="5715" y="9525"/>
                </a:moveTo>
                <a:cubicBezTo>
                  <a:pt x="5810" y="9525"/>
                  <a:pt x="5906" y="9525"/>
                  <a:pt x="6001" y="9525"/>
                </a:cubicBezTo>
              </a:path>
              <a:path w="7494" h="2446">
                <a:moveTo>
                  <a:pt x="6128" y="9303"/>
                </a:moveTo>
                <a:cubicBezTo>
                  <a:pt x="6128" y="9292"/>
                  <a:pt x="6128" y="9282"/>
                  <a:pt x="6128" y="9271"/>
                </a:cubicBezTo>
                <a:cubicBezTo>
                  <a:pt x="6235" y="9271"/>
                  <a:pt x="6323" y="9270"/>
                  <a:pt x="6414" y="9239"/>
                </a:cubicBezTo>
                <a:cubicBezTo>
                  <a:pt x="6424" y="9239"/>
                  <a:pt x="6435" y="9239"/>
                  <a:pt x="6445" y="9239"/>
                </a:cubicBezTo>
                <a:cubicBezTo>
                  <a:pt x="6445" y="9326"/>
                  <a:pt x="6431" y="9375"/>
                  <a:pt x="6414" y="9462"/>
                </a:cubicBezTo>
                <a:cubicBezTo>
                  <a:pt x="6402" y="9523"/>
                  <a:pt x="6387" y="9557"/>
                  <a:pt x="6382" y="9620"/>
                </a:cubicBezTo>
                <a:cubicBezTo>
                  <a:pt x="6377" y="9676"/>
                  <a:pt x="6363" y="9697"/>
                  <a:pt x="6350" y="9747"/>
                </a:cubicBezTo>
              </a:path>
              <a:path w="7494" h="2446">
                <a:moveTo>
                  <a:pt x="4826" y="10001"/>
                </a:moveTo>
                <a:cubicBezTo>
                  <a:pt x="5177" y="10001"/>
                  <a:pt x="5530" y="10007"/>
                  <a:pt x="5874" y="9970"/>
                </a:cubicBezTo>
                <a:cubicBezTo>
                  <a:pt x="5975" y="9959"/>
                  <a:pt x="6447" y="10028"/>
                  <a:pt x="6477" y="9938"/>
                </a:cubicBezTo>
              </a:path>
              <a:path w="7494" h="2446">
                <a:moveTo>
                  <a:pt x="4953" y="10319"/>
                </a:moveTo>
                <a:cubicBezTo>
                  <a:pt x="5001" y="10354"/>
                  <a:pt x="5019" y="10350"/>
                  <a:pt x="5080" y="10350"/>
                </a:cubicBezTo>
                <a:cubicBezTo>
                  <a:pt x="5122" y="10350"/>
                  <a:pt x="5165" y="10350"/>
                  <a:pt x="5207" y="10350"/>
                </a:cubicBezTo>
              </a:path>
              <a:path w="7494" h="2446">
                <a:moveTo>
                  <a:pt x="5493" y="10255"/>
                </a:moveTo>
                <a:cubicBezTo>
                  <a:pt x="5529" y="10255"/>
                  <a:pt x="5542" y="10252"/>
                  <a:pt x="5556" y="10224"/>
                </a:cubicBezTo>
                <a:cubicBezTo>
                  <a:pt x="5533" y="10133"/>
                  <a:pt x="5521" y="10172"/>
                  <a:pt x="5461" y="10192"/>
                </a:cubicBezTo>
                <a:cubicBezTo>
                  <a:pt x="5425" y="10204"/>
                  <a:pt x="5367" y="10229"/>
                  <a:pt x="5398" y="10287"/>
                </a:cubicBezTo>
                <a:cubicBezTo>
                  <a:pt x="5423" y="10332"/>
                  <a:pt x="5474" y="10356"/>
                  <a:pt x="5493" y="10382"/>
                </a:cubicBezTo>
                <a:cubicBezTo>
                  <a:pt x="5533" y="10437"/>
                  <a:pt x="5550" y="10469"/>
                  <a:pt x="5556" y="10541"/>
                </a:cubicBezTo>
                <a:cubicBezTo>
                  <a:pt x="5559" y="10575"/>
                  <a:pt x="5522" y="10600"/>
                  <a:pt x="5493" y="10604"/>
                </a:cubicBezTo>
                <a:cubicBezTo>
                  <a:pt x="5454" y="10609"/>
                  <a:pt x="5407" y="10591"/>
                  <a:pt x="5398" y="10573"/>
                </a:cubicBezTo>
                <a:cubicBezTo>
                  <a:pt x="5392" y="10560"/>
                  <a:pt x="5341" y="10466"/>
                  <a:pt x="5366" y="10446"/>
                </a:cubicBezTo>
                <a:cubicBezTo>
                  <a:pt x="5380" y="10435"/>
                  <a:pt x="5427" y="10360"/>
                  <a:pt x="5461" y="10350"/>
                </a:cubicBezTo>
                <a:cubicBezTo>
                  <a:pt x="5515" y="10334"/>
                  <a:pt x="5540" y="10346"/>
                  <a:pt x="5588" y="10319"/>
                </a:cubicBezTo>
                <a:cubicBezTo>
                  <a:pt x="5599" y="10308"/>
                  <a:pt x="5609" y="10298"/>
                  <a:pt x="5620" y="10287"/>
                </a:cubicBezTo>
              </a:path>
              <a:path w="7494" h="2446">
                <a:moveTo>
                  <a:pt x="5747" y="10350"/>
                </a:moveTo>
                <a:cubicBezTo>
                  <a:pt x="5810" y="10350"/>
                  <a:pt x="5823" y="10336"/>
                  <a:pt x="5874" y="10319"/>
                </a:cubicBezTo>
                <a:cubicBezTo>
                  <a:pt x="5898" y="10311"/>
                  <a:pt x="5943" y="10319"/>
                  <a:pt x="5969" y="10319"/>
                </a:cubicBezTo>
              </a:path>
              <a:path w="7494" h="2446">
                <a:moveTo>
                  <a:pt x="6128" y="10128"/>
                </a:moveTo>
                <a:cubicBezTo>
                  <a:pt x="6128" y="10218"/>
                  <a:pt x="6135" y="10276"/>
                  <a:pt x="6160" y="10350"/>
                </a:cubicBezTo>
                <a:cubicBezTo>
                  <a:pt x="6160" y="10361"/>
                  <a:pt x="6160" y="10371"/>
                  <a:pt x="6160" y="10382"/>
                </a:cubicBezTo>
                <a:cubicBezTo>
                  <a:pt x="6236" y="10382"/>
                  <a:pt x="6426" y="10410"/>
                  <a:pt x="6445" y="10350"/>
                </a:cubicBezTo>
              </a:path>
              <a:path w="7494" h="2446">
                <a:moveTo>
                  <a:pt x="6318" y="10096"/>
                </a:moveTo>
                <a:cubicBezTo>
                  <a:pt x="6318" y="10154"/>
                  <a:pt x="6314" y="10585"/>
                  <a:pt x="6350" y="10573"/>
                </a:cubicBezTo>
                <a:cubicBezTo>
                  <a:pt x="6350" y="10562"/>
                  <a:pt x="6350" y="10552"/>
                  <a:pt x="6350" y="10541"/>
                </a:cubicBezTo>
              </a:path>
              <a:path w="7494" h="2446">
                <a:moveTo>
                  <a:pt x="6858" y="9938"/>
                </a:moveTo>
                <a:cubicBezTo>
                  <a:pt x="6869" y="9938"/>
                  <a:pt x="6879" y="9938"/>
                  <a:pt x="6890" y="9938"/>
                </a:cubicBezTo>
                <a:cubicBezTo>
                  <a:pt x="6913" y="9869"/>
                  <a:pt x="6930" y="9937"/>
                  <a:pt x="6985" y="9906"/>
                </a:cubicBezTo>
                <a:cubicBezTo>
                  <a:pt x="7038" y="9876"/>
                  <a:pt x="7047" y="9874"/>
                  <a:pt x="7112" y="9874"/>
                </a:cubicBezTo>
                <a:cubicBezTo>
                  <a:pt x="7123" y="9874"/>
                  <a:pt x="7133" y="9874"/>
                  <a:pt x="7144" y="9874"/>
                </a:cubicBezTo>
              </a:path>
              <a:path w="7494" h="2446">
                <a:moveTo>
                  <a:pt x="6890" y="10128"/>
                </a:moveTo>
                <a:cubicBezTo>
                  <a:pt x="6956" y="10128"/>
                  <a:pt x="6995" y="10112"/>
                  <a:pt x="7048" y="10096"/>
                </a:cubicBezTo>
                <a:cubicBezTo>
                  <a:pt x="7110" y="10077"/>
                  <a:pt x="7163" y="10094"/>
                  <a:pt x="7207" y="10128"/>
                </a:cubicBezTo>
              </a:path>
              <a:path w="7494" h="2446">
                <a:moveTo>
                  <a:pt x="7398" y="9525"/>
                </a:moveTo>
                <a:cubicBezTo>
                  <a:pt x="7466" y="9525"/>
                  <a:pt x="7503" y="9533"/>
                  <a:pt x="7556" y="9493"/>
                </a:cubicBezTo>
              </a:path>
              <a:path w="7494" h="2446">
                <a:moveTo>
                  <a:pt x="7779" y="9334"/>
                </a:moveTo>
                <a:cubicBezTo>
                  <a:pt x="7779" y="9345"/>
                  <a:pt x="7779" y="9355"/>
                  <a:pt x="7779" y="9366"/>
                </a:cubicBezTo>
                <a:cubicBezTo>
                  <a:pt x="7844" y="9388"/>
                  <a:pt x="7786" y="9426"/>
                  <a:pt x="7779" y="9493"/>
                </a:cubicBezTo>
                <a:cubicBezTo>
                  <a:pt x="7768" y="9607"/>
                  <a:pt x="7779" y="9727"/>
                  <a:pt x="7779" y="9842"/>
                </a:cubicBezTo>
              </a:path>
              <a:path w="7494" h="2446">
                <a:moveTo>
                  <a:pt x="8001" y="9398"/>
                </a:moveTo>
                <a:cubicBezTo>
                  <a:pt x="8001" y="9387"/>
                  <a:pt x="8001" y="9377"/>
                  <a:pt x="8001" y="9366"/>
                </a:cubicBezTo>
                <a:cubicBezTo>
                  <a:pt x="8128" y="9366"/>
                  <a:pt x="8255" y="9366"/>
                  <a:pt x="8382" y="9366"/>
                </a:cubicBezTo>
                <a:cubicBezTo>
                  <a:pt x="8382" y="9435"/>
                  <a:pt x="8356" y="9468"/>
                  <a:pt x="8350" y="9525"/>
                </a:cubicBezTo>
                <a:cubicBezTo>
                  <a:pt x="8344" y="9583"/>
                  <a:pt x="8318" y="9623"/>
                  <a:pt x="8318" y="9684"/>
                </a:cubicBezTo>
                <a:cubicBezTo>
                  <a:pt x="8318" y="9741"/>
                  <a:pt x="8287" y="9782"/>
                  <a:pt x="8287" y="9842"/>
                </a:cubicBezTo>
                <a:cubicBezTo>
                  <a:pt x="8287" y="9853"/>
                  <a:pt x="8287" y="9863"/>
                  <a:pt x="8287" y="9874"/>
                </a:cubicBezTo>
              </a:path>
              <a:path w="7494" h="2446">
                <a:moveTo>
                  <a:pt x="7556" y="10033"/>
                </a:moveTo>
                <a:cubicBezTo>
                  <a:pt x="7615" y="10033"/>
                  <a:pt x="7632" y="10005"/>
                  <a:pt x="7684" y="10001"/>
                </a:cubicBezTo>
                <a:cubicBezTo>
                  <a:pt x="7773" y="9995"/>
                  <a:pt x="7855" y="9981"/>
                  <a:pt x="7938" y="9970"/>
                </a:cubicBezTo>
                <a:cubicBezTo>
                  <a:pt x="8054" y="9955"/>
                  <a:pt x="8145" y="9986"/>
                  <a:pt x="8255" y="10001"/>
                </a:cubicBezTo>
                <a:cubicBezTo>
                  <a:pt x="8341" y="10013"/>
                  <a:pt x="8424" y="10026"/>
                  <a:pt x="8509" y="10033"/>
                </a:cubicBezTo>
                <a:cubicBezTo>
                  <a:pt x="8573" y="10038"/>
                  <a:pt x="8588" y="10065"/>
                  <a:pt x="8604" y="10033"/>
                </a:cubicBezTo>
              </a:path>
              <a:path w="7494" h="2446">
                <a:moveTo>
                  <a:pt x="7366" y="10255"/>
                </a:moveTo>
                <a:cubicBezTo>
                  <a:pt x="7416" y="10267"/>
                  <a:pt x="7436" y="10287"/>
                  <a:pt x="7493" y="10287"/>
                </a:cubicBezTo>
                <a:cubicBezTo>
                  <a:pt x="7535" y="10287"/>
                  <a:pt x="7578" y="10287"/>
                  <a:pt x="7620" y="10287"/>
                </a:cubicBezTo>
              </a:path>
              <a:path w="7494" h="2446">
                <a:moveTo>
                  <a:pt x="7874" y="10128"/>
                </a:moveTo>
                <a:cubicBezTo>
                  <a:pt x="7874" y="10235"/>
                  <a:pt x="7865" y="10314"/>
                  <a:pt x="7842" y="10414"/>
                </a:cubicBezTo>
                <a:cubicBezTo>
                  <a:pt x="7820" y="10508"/>
                  <a:pt x="7842" y="10634"/>
                  <a:pt x="7842" y="10732"/>
                </a:cubicBezTo>
              </a:path>
              <a:path w="7494" h="2446">
                <a:moveTo>
                  <a:pt x="8033" y="10319"/>
                </a:moveTo>
                <a:cubicBezTo>
                  <a:pt x="8078" y="10303"/>
                  <a:pt x="8064" y="10245"/>
                  <a:pt x="8096" y="10224"/>
                </a:cubicBezTo>
                <a:cubicBezTo>
                  <a:pt x="8135" y="10199"/>
                  <a:pt x="8209" y="10143"/>
                  <a:pt x="8255" y="10128"/>
                </a:cubicBezTo>
                <a:cubicBezTo>
                  <a:pt x="8322" y="10106"/>
                  <a:pt x="8318" y="10186"/>
                  <a:pt x="8318" y="10224"/>
                </a:cubicBezTo>
                <a:cubicBezTo>
                  <a:pt x="8318" y="10297"/>
                  <a:pt x="8291" y="10322"/>
                  <a:pt x="8255" y="10382"/>
                </a:cubicBezTo>
                <a:cubicBezTo>
                  <a:pt x="8220" y="10441"/>
                  <a:pt x="8153" y="10513"/>
                  <a:pt x="8128" y="10573"/>
                </a:cubicBezTo>
                <a:cubicBezTo>
                  <a:pt x="8103" y="10635"/>
                  <a:pt x="8039" y="10678"/>
                  <a:pt x="8064" y="10668"/>
                </a:cubicBezTo>
                <a:cubicBezTo>
                  <a:pt x="8109" y="10650"/>
                  <a:pt x="8138" y="10636"/>
                  <a:pt x="8192" y="10636"/>
                </a:cubicBezTo>
                <a:cubicBezTo>
                  <a:pt x="8238" y="10636"/>
                  <a:pt x="8284" y="10645"/>
                  <a:pt x="8318" y="10668"/>
                </a:cubicBezTo>
                <a:cubicBezTo>
                  <a:pt x="8392" y="10718"/>
                  <a:pt x="8374" y="10692"/>
                  <a:pt x="8446" y="10668"/>
                </a:cubicBezTo>
                <a:cubicBezTo>
                  <a:pt x="8482" y="10668"/>
                  <a:pt x="8495" y="10665"/>
                  <a:pt x="8509" y="10636"/>
                </a:cubicBezTo>
              </a:path>
              <a:path w="7494" h="2446">
                <a:moveTo>
                  <a:pt x="8858" y="10001"/>
                </a:moveTo>
                <a:cubicBezTo>
                  <a:pt x="8930" y="9949"/>
                  <a:pt x="8910" y="9996"/>
                  <a:pt x="8985" y="10001"/>
                </a:cubicBezTo>
                <a:cubicBezTo>
                  <a:pt x="9069" y="10007"/>
                  <a:pt x="9174" y="10018"/>
                  <a:pt x="9239" y="9970"/>
                </a:cubicBezTo>
              </a:path>
              <a:path w="7494" h="2446">
                <a:moveTo>
                  <a:pt x="8890" y="10224"/>
                </a:moveTo>
                <a:cubicBezTo>
                  <a:pt x="8890" y="10234"/>
                  <a:pt x="8890" y="10245"/>
                  <a:pt x="8890" y="10255"/>
                </a:cubicBezTo>
                <a:cubicBezTo>
                  <a:pt x="8974" y="10255"/>
                  <a:pt x="9042" y="10273"/>
                  <a:pt x="9112" y="10287"/>
                </a:cubicBezTo>
                <a:cubicBezTo>
                  <a:pt x="9165" y="10287"/>
                  <a:pt x="9176" y="10287"/>
                  <a:pt x="9208" y="10287"/>
                </a:cubicBezTo>
              </a:path>
              <a:path w="7494" h="2446">
                <a:moveTo>
                  <a:pt x="10096" y="9208"/>
                </a:moveTo>
                <a:cubicBezTo>
                  <a:pt x="10049" y="9224"/>
                  <a:pt x="10065" y="9247"/>
                  <a:pt x="10065" y="9303"/>
                </a:cubicBezTo>
                <a:cubicBezTo>
                  <a:pt x="10065" y="9369"/>
                  <a:pt x="10033" y="9443"/>
                  <a:pt x="10033" y="9525"/>
                </a:cubicBezTo>
                <a:cubicBezTo>
                  <a:pt x="10033" y="9694"/>
                  <a:pt x="10033" y="9864"/>
                  <a:pt x="10033" y="10033"/>
                </a:cubicBezTo>
              </a:path>
              <a:path w="7494" h="2446">
                <a:moveTo>
                  <a:pt x="10160" y="9366"/>
                </a:moveTo>
                <a:cubicBezTo>
                  <a:pt x="10169" y="9394"/>
                  <a:pt x="10210" y="9424"/>
                  <a:pt x="10255" y="9398"/>
                </a:cubicBezTo>
                <a:cubicBezTo>
                  <a:pt x="10318" y="9363"/>
                  <a:pt x="10333" y="9366"/>
                  <a:pt x="10414" y="9366"/>
                </a:cubicBezTo>
                <a:cubicBezTo>
                  <a:pt x="10467" y="9366"/>
                  <a:pt x="10520" y="9366"/>
                  <a:pt x="10573" y="9366"/>
                </a:cubicBezTo>
                <a:cubicBezTo>
                  <a:pt x="10560" y="9446"/>
                  <a:pt x="10528" y="9513"/>
                  <a:pt x="10509" y="9588"/>
                </a:cubicBezTo>
                <a:cubicBezTo>
                  <a:pt x="10491" y="9658"/>
                  <a:pt x="10478" y="9720"/>
                  <a:pt x="10446" y="9779"/>
                </a:cubicBezTo>
                <a:cubicBezTo>
                  <a:pt x="10422" y="9824"/>
                  <a:pt x="10396" y="9895"/>
                  <a:pt x="10382" y="9938"/>
                </a:cubicBezTo>
                <a:cubicBezTo>
                  <a:pt x="10382" y="9970"/>
                  <a:pt x="10382" y="9981"/>
                  <a:pt x="10382" y="9938"/>
                </a:cubicBezTo>
              </a:path>
              <a:path w="7494" h="2446">
                <a:moveTo>
                  <a:pt x="10827" y="9208"/>
                </a:moveTo>
                <a:cubicBezTo>
                  <a:pt x="10827" y="9280"/>
                  <a:pt x="10811" y="9331"/>
                  <a:pt x="10795" y="9398"/>
                </a:cubicBezTo>
                <a:cubicBezTo>
                  <a:pt x="10751" y="9581"/>
                  <a:pt x="10701" y="9755"/>
                  <a:pt x="10668" y="9938"/>
                </a:cubicBezTo>
                <a:cubicBezTo>
                  <a:pt x="10632" y="10137"/>
                  <a:pt x="10583" y="10346"/>
                  <a:pt x="10541" y="10541"/>
                </a:cubicBezTo>
                <a:cubicBezTo>
                  <a:pt x="10522" y="10628"/>
                  <a:pt x="10509" y="10779"/>
                  <a:pt x="10478" y="10858"/>
                </a:cubicBezTo>
                <a:cubicBezTo>
                  <a:pt x="10446" y="10890"/>
                  <a:pt x="10435" y="10901"/>
                  <a:pt x="10478" y="10858"/>
                </a:cubicBezTo>
              </a:path>
              <a:path w="7494" h="2446">
                <a:moveTo>
                  <a:pt x="10795" y="10033"/>
                </a:moveTo>
                <a:cubicBezTo>
                  <a:pt x="10795" y="10124"/>
                  <a:pt x="10768" y="10162"/>
                  <a:pt x="10763" y="10255"/>
                </a:cubicBezTo>
                <a:cubicBezTo>
                  <a:pt x="10758" y="10348"/>
                  <a:pt x="10746" y="10422"/>
                  <a:pt x="10732" y="10509"/>
                </a:cubicBezTo>
                <a:cubicBezTo>
                  <a:pt x="10723" y="10564"/>
                  <a:pt x="10732" y="10812"/>
                  <a:pt x="10732" y="10763"/>
                </a:cubicBezTo>
                <a:cubicBezTo>
                  <a:pt x="10732" y="10753"/>
                  <a:pt x="10732" y="10742"/>
                  <a:pt x="10732" y="10732"/>
                </a:cubicBezTo>
              </a:path>
              <a:path w="7494" h="2446">
                <a:moveTo>
                  <a:pt x="10954" y="10065"/>
                </a:moveTo>
                <a:cubicBezTo>
                  <a:pt x="10964" y="10035"/>
                  <a:pt x="10994" y="10005"/>
                  <a:pt x="11017" y="9970"/>
                </a:cubicBezTo>
                <a:cubicBezTo>
                  <a:pt x="11053" y="9916"/>
                  <a:pt x="11085" y="9906"/>
                  <a:pt x="11144" y="9906"/>
                </a:cubicBezTo>
                <a:cubicBezTo>
                  <a:pt x="11225" y="9906"/>
                  <a:pt x="11208" y="9971"/>
                  <a:pt x="11208" y="10033"/>
                </a:cubicBezTo>
                <a:cubicBezTo>
                  <a:pt x="11208" y="10136"/>
                  <a:pt x="11181" y="10252"/>
                  <a:pt x="11144" y="10350"/>
                </a:cubicBezTo>
                <a:cubicBezTo>
                  <a:pt x="11110" y="10439"/>
                  <a:pt x="11081" y="10533"/>
                  <a:pt x="11017" y="10604"/>
                </a:cubicBezTo>
                <a:cubicBezTo>
                  <a:pt x="10952" y="10676"/>
                  <a:pt x="11037" y="10578"/>
                  <a:pt x="11081" y="10573"/>
                </a:cubicBezTo>
                <a:cubicBezTo>
                  <a:pt x="11144" y="10566"/>
                  <a:pt x="11158" y="10588"/>
                  <a:pt x="11208" y="10604"/>
                </a:cubicBezTo>
                <a:cubicBezTo>
                  <a:pt x="11276" y="10626"/>
                  <a:pt x="11304" y="10640"/>
                  <a:pt x="11366" y="10668"/>
                </a:cubicBezTo>
                <a:cubicBezTo>
                  <a:pt x="11402" y="10668"/>
                  <a:pt x="11416" y="10671"/>
                  <a:pt x="11430" y="10700"/>
                </a:cubicBezTo>
              </a:path>
              <a:path w="7494" h="2446">
                <a:moveTo>
                  <a:pt x="10096" y="11112"/>
                </a:moveTo>
                <a:cubicBezTo>
                  <a:pt x="10135" y="11138"/>
                  <a:pt x="10115" y="11131"/>
                  <a:pt x="10160" y="11144"/>
                </a:cubicBezTo>
                <a:cubicBezTo>
                  <a:pt x="10227" y="11163"/>
                  <a:pt x="10270" y="11174"/>
                  <a:pt x="10350" y="11176"/>
                </a:cubicBezTo>
                <a:cubicBezTo>
                  <a:pt x="10475" y="11180"/>
                  <a:pt x="10583" y="11165"/>
                  <a:pt x="10700" y="11144"/>
                </a:cubicBezTo>
                <a:cubicBezTo>
                  <a:pt x="10819" y="11122"/>
                  <a:pt x="10931" y="11088"/>
                  <a:pt x="11049" y="11049"/>
                </a:cubicBezTo>
                <a:cubicBezTo>
                  <a:pt x="11216" y="10993"/>
                  <a:pt x="11367" y="10928"/>
                  <a:pt x="11525" y="10858"/>
                </a:cubicBezTo>
                <a:cubicBezTo>
                  <a:pt x="11628" y="10812"/>
                  <a:pt x="11794" y="10743"/>
                  <a:pt x="11874" y="10668"/>
                </a:cubicBezTo>
                <a:cubicBezTo>
                  <a:pt x="11969" y="10578"/>
                  <a:pt x="12041" y="10499"/>
                  <a:pt x="12097" y="10382"/>
                </a:cubicBezTo>
                <a:cubicBezTo>
                  <a:pt x="12139" y="10295"/>
                  <a:pt x="12207" y="10190"/>
                  <a:pt x="12224" y="10096"/>
                </a:cubicBezTo>
                <a:cubicBezTo>
                  <a:pt x="12241" y="10005"/>
                  <a:pt x="12216" y="9864"/>
                  <a:pt x="12192" y="9779"/>
                </a:cubicBezTo>
                <a:cubicBezTo>
                  <a:pt x="12162" y="9673"/>
                  <a:pt x="12102" y="9568"/>
                  <a:pt x="12065" y="9462"/>
                </a:cubicBezTo>
                <a:cubicBezTo>
                  <a:pt x="12034" y="9371"/>
                  <a:pt x="11955" y="9272"/>
                  <a:pt x="11874" y="9208"/>
                </a:cubicBezTo>
                <a:cubicBezTo>
                  <a:pt x="11769" y="9124"/>
                  <a:pt x="11682" y="9032"/>
                  <a:pt x="11557" y="8985"/>
                </a:cubicBezTo>
                <a:cubicBezTo>
                  <a:pt x="11450" y="8944"/>
                  <a:pt x="11322" y="8872"/>
                  <a:pt x="11208" y="8858"/>
                </a:cubicBezTo>
                <a:cubicBezTo>
                  <a:pt x="11069" y="8840"/>
                  <a:pt x="10937" y="8826"/>
                  <a:pt x="10795" y="8826"/>
                </a:cubicBezTo>
                <a:cubicBezTo>
                  <a:pt x="10660" y="8826"/>
                  <a:pt x="10512" y="8853"/>
                  <a:pt x="10382" y="8890"/>
                </a:cubicBezTo>
                <a:cubicBezTo>
                  <a:pt x="10251" y="8928"/>
                  <a:pt x="10116" y="9007"/>
                  <a:pt x="10001" y="9080"/>
                </a:cubicBezTo>
                <a:cubicBezTo>
                  <a:pt x="9890" y="9150"/>
                  <a:pt x="9797" y="9273"/>
                  <a:pt x="9684" y="9334"/>
                </a:cubicBezTo>
                <a:cubicBezTo>
                  <a:pt x="9546" y="9409"/>
                  <a:pt x="9515" y="9515"/>
                  <a:pt x="9430" y="9652"/>
                </a:cubicBezTo>
                <a:cubicBezTo>
                  <a:pt x="9363" y="9760"/>
                  <a:pt x="9290" y="9872"/>
                  <a:pt x="9271" y="10001"/>
                </a:cubicBezTo>
                <a:cubicBezTo>
                  <a:pt x="9248" y="10156"/>
                  <a:pt x="9270" y="10333"/>
                  <a:pt x="9303" y="10478"/>
                </a:cubicBezTo>
                <a:cubicBezTo>
                  <a:pt x="9330" y="10597"/>
                  <a:pt x="9355" y="10668"/>
                  <a:pt x="9430" y="10763"/>
                </a:cubicBezTo>
                <a:cubicBezTo>
                  <a:pt x="9499" y="10851"/>
                  <a:pt x="9589" y="10931"/>
                  <a:pt x="9684" y="10986"/>
                </a:cubicBezTo>
                <a:cubicBezTo>
                  <a:pt x="9773" y="11038"/>
                  <a:pt x="9874" y="11075"/>
                  <a:pt x="9970" y="11112"/>
                </a:cubicBezTo>
                <a:cubicBezTo>
                  <a:pt x="10074" y="11152"/>
                  <a:pt x="10182" y="11210"/>
                  <a:pt x="10287" y="11240"/>
                </a:cubicBezTo>
                <a:cubicBezTo>
                  <a:pt x="10377" y="11266"/>
                  <a:pt x="10478" y="11268"/>
                  <a:pt x="10573" y="11271"/>
                </a:cubicBezTo>
                <a:cubicBezTo>
                  <a:pt x="10657" y="11273"/>
                  <a:pt x="10717" y="11259"/>
                  <a:pt x="10795" y="11240"/>
                </a:cubicBezTo>
                <a:cubicBezTo>
                  <a:pt x="10847" y="11227"/>
                  <a:pt x="10902" y="11221"/>
                  <a:pt x="10954" y="112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Ink 10"/>
          <p:cNvSpPr/>
          <p:nvPr/>
        </p:nvSpPr>
        <p:spPr>
          <a:xfrm>
            <a:off x="1222200" y="3749760"/>
            <a:ext cx="115920" cy="136440"/>
          </a:xfrm>
          <a:custGeom>
            <a:avLst/>
            <a:gdLst/>
            <a:ahLst/>
            <a:rect l="l" t="t" r="r" b="b"/>
            <a:pathLst>
              <a:path w="319" h="382">
                <a:moveTo>
                  <a:pt x="3397" y="10414"/>
                </a:moveTo>
                <a:cubicBezTo>
                  <a:pt x="3428" y="10456"/>
                  <a:pt x="3436" y="10502"/>
                  <a:pt x="3461" y="10541"/>
                </a:cubicBezTo>
                <a:cubicBezTo>
                  <a:pt x="3491" y="10587"/>
                  <a:pt x="3539" y="10618"/>
                  <a:pt x="3556" y="10668"/>
                </a:cubicBezTo>
                <a:cubicBezTo>
                  <a:pt x="3556" y="10679"/>
                  <a:pt x="3556" y="10689"/>
                  <a:pt x="3556" y="10700"/>
                </a:cubicBezTo>
              </a:path>
              <a:path w="319" h="382">
                <a:moveTo>
                  <a:pt x="3588" y="10414"/>
                </a:moveTo>
                <a:cubicBezTo>
                  <a:pt x="3574" y="10471"/>
                  <a:pt x="3535" y="10497"/>
                  <a:pt x="3492" y="10541"/>
                </a:cubicBezTo>
                <a:cubicBezTo>
                  <a:pt x="3443" y="10591"/>
                  <a:pt x="3435" y="10649"/>
                  <a:pt x="3397" y="10700"/>
                </a:cubicBezTo>
              </a:path>
              <a:path w="319" h="382">
                <a:moveTo>
                  <a:pt x="3683" y="10604"/>
                </a:moveTo>
                <a:cubicBezTo>
                  <a:pt x="3694" y="10615"/>
                  <a:pt x="3704" y="10625"/>
                  <a:pt x="3715" y="10636"/>
                </a:cubicBezTo>
                <a:cubicBezTo>
                  <a:pt x="3678" y="10685"/>
                  <a:pt x="3683" y="10701"/>
                  <a:pt x="3683" y="10763"/>
                </a:cubicBezTo>
                <a:cubicBezTo>
                  <a:pt x="3683" y="10774"/>
                  <a:pt x="3683" y="10784"/>
                  <a:pt x="3683" y="10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Ink 11"/>
          <p:cNvSpPr/>
          <p:nvPr/>
        </p:nvSpPr>
        <p:spPr>
          <a:xfrm>
            <a:off x="1589040" y="3749760"/>
            <a:ext cx="136440" cy="147600"/>
          </a:xfrm>
          <a:custGeom>
            <a:avLst/>
            <a:gdLst/>
            <a:ahLst/>
            <a:rect l="l" t="t" r="r" b="b"/>
            <a:pathLst>
              <a:path w="382" h="414">
                <a:moveTo>
                  <a:pt x="4413" y="10446"/>
                </a:moveTo>
                <a:cubicBezTo>
                  <a:pt x="4425" y="10494"/>
                  <a:pt x="4442" y="10534"/>
                  <a:pt x="4477" y="10573"/>
                </a:cubicBezTo>
                <a:cubicBezTo>
                  <a:pt x="4514" y="10615"/>
                  <a:pt x="4527" y="10630"/>
                  <a:pt x="4540" y="10668"/>
                </a:cubicBezTo>
              </a:path>
              <a:path w="382" h="414">
                <a:moveTo>
                  <a:pt x="4667" y="10414"/>
                </a:moveTo>
                <a:cubicBezTo>
                  <a:pt x="4667" y="10473"/>
                  <a:pt x="4646" y="10495"/>
                  <a:pt x="4636" y="10541"/>
                </a:cubicBezTo>
                <a:cubicBezTo>
                  <a:pt x="4625" y="10592"/>
                  <a:pt x="4625" y="10683"/>
                  <a:pt x="4604" y="10732"/>
                </a:cubicBezTo>
                <a:cubicBezTo>
                  <a:pt x="4575" y="10760"/>
                  <a:pt x="4564" y="10766"/>
                  <a:pt x="4572" y="10795"/>
                </a:cubicBezTo>
              </a:path>
              <a:path w="382" h="414">
                <a:moveTo>
                  <a:pt x="4762" y="10604"/>
                </a:moveTo>
                <a:cubicBezTo>
                  <a:pt x="4773" y="10604"/>
                  <a:pt x="4783" y="10604"/>
                  <a:pt x="4794" y="10604"/>
                </a:cubicBezTo>
                <a:cubicBezTo>
                  <a:pt x="4781" y="10654"/>
                  <a:pt x="4762" y="10675"/>
                  <a:pt x="4762" y="10732"/>
                </a:cubicBezTo>
                <a:cubicBezTo>
                  <a:pt x="4762" y="10764"/>
                  <a:pt x="4762" y="10795"/>
                  <a:pt x="4762" y="108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Ink 12"/>
          <p:cNvSpPr/>
          <p:nvPr/>
        </p:nvSpPr>
        <p:spPr>
          <a:xfrm>
            <a:off x="2514600" y="3807000"/>
            <a:ext cx="182520" cy="136440"/>
          </a:xfrm>
          <a:custGeom>
            <a:avLst/>
            <a:gdLst/>
            <a:ahLst/>
            <a:rect l="l" t="t" r="r" b="b"/>
            <a:pathLst>
              <a:path w="509" h="382">
                <a:moveTo>
                  <a:pt x="7048" y="10573"/>
                </a:moveTo>
                <a:cubicBezTo>
                  <a:pt x="7048" y="10583"/>
                  <a:pt x="7048" y="10594"/>
                  <a:pt x="7048" y="10604"/>
                </a:cubicBezTo>
                <a:cubicBezTo>
                  <a:pt x="7066" y="10610"/>
                  <a:pt x="7133" y="10664"/>
                  <a:pt x="7144" y="10700"/>
                </a:cubicBezTo>
                <a:cubicBezTo>
                  <a:pt x="7166" y="10777"/>
                  <a:pt x="7179" y="10823"/>
                  <a:pt x="7239" y="10890"/>
                </a:cubicBezTo>
                <a:cubicBezTo>
                  <a:pt x="7250" y="10901"/>
                  <a:pt x="7260" y="10911"/>
                  <a:pt x="7271" y="10922"/>
                </a:cubicBezTo>
              </a:path>
              <a:path w="509" h="382">
                <a:moveTo>
                  <a:pt x="7302" y="10668"/>
                </a:moveTo>
                <a:cubicBezTo>
                  <a:pt x="7260" y="10711"/>
                  <a:pt x="7218" y="10753"/>
                  <a:pt x="7176" y="10795"/>
                </a:cubicBezTo>
                <a:cubicBezTo>
                  <a:pt x="7136" y="10836"/>
                  <a:pt x="7070" y="10884"/>
                  <a:pt x="7017" y="10890"/>
                </a:cubicBezTo>
                <a:cubicBezTo>
                  <a:pt x="7006" y="10890"/>
                  <a:pt x="6996" y="10890"/>
                  <a:pt x="6985" y="10890"/>
                </a:cubicBezTo>
              </a:path>
              <a:path w="509" h="382">
                <a:moveTo>
                  <a:pt x="7334" y="10795"/>
                </a:moveTo>
                <a:cubicBezTo>
                  <a:pt x="7376" y="10795"/>
                  <a:pt x="7419" y="10795"/>
                  <a:pt x="7461" y="10795"/>
                </a:cubicBezTo>
                <a:cubicBezTo>
                  <a:pt x="7449" y="10843"/>
                  <a:pt x="7433" y="10883"/>
                  <a:pt x="7398" y="10922"/>
                </a:cubicBezTo>
                <a:cubicBezTo>
                  <a:pt x="7387" y="10933"/>
                  <a:pt x="7377" y="10943"/>
                  <a:pt x="7366" y="10954"/>
                </a:cubicBezTo>
                <a:cubicBezTo>
                  <a:pt x="7408" y="10954"/>
                  <a:pt x="7451" y="10954"/>
                  <a:pt x="7493" y="10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Ink 13"/>
          <p:cNvSpPr/>
          <p:nvPr/>
        </p:nvSpPr>
        <p:spPr>
          <a:xfrm>
            <a:off x="3108240" y="3828960"/>
            <a:ext cx="160560" cy="149400"/>
          </a:xfrm>
          <a:custGeom>
            <a:avLst/>
            <a:gdLst/>
            <a:ahLst/>
            <a:rect l="l" t="t" r="r" b="b"/>
            <a:pathLst>
              <a:path w="445" h="414">
                <a:moveTo>
                  <a:pt x="8636" y="10636"/>
                </a:moveTo>
                <a:cubicBezTo>
                  <a:pt x="8636" y="10706"/>
                  <a:pt x="8651" y="10727"/>
                  <a:pt x="8668" y="10795"/>
                </a:cubicBezTo>
                <a:cubicBezTo>
                  <a:pt x="8684" y="10857"/>
                  <a:pt x="8714" y="10853"/>
                  <a:pt x="8763" y="10890"/>
                </a:cubicBezTo>
              </a:path>
              <a:path w="445" h="414">
                <a:moveTo>
                  <a:pt x="8922" y="10636"/>
                </a:moveTo>
                <a:cubicBezTo>
                  <a:pt x="8884" y="10686"/>
                  <a:pt x="8891" y="10746"/>
                  <a:pt x="8858" y="10795"/>
                </a:cubicBezTo>
                <a:cubicBezTo>
                  <a:pt x="8816" y="10857"/>
                  <a:pt x="8769" y="10889"/>
                  <a:pt x="8731" y="10954"/>
                </a:cubicBezTo>
                <a:cubicBezTo>
                  <a:pt x="8705" y="10999"/>
                  <a:pt x="8681" y="10999"/>
                  <a:pt x="8668" y="11049"/>
                </a:cubicBezTo>
              </a:path>
              <a:path w="445" h="414">
                <a:moveTo>
                  <a:pt x="8890" y="10858"/>
                </a:moveTo>
                <a:cubicBezTo>
                  <a:pt x="8938" y="10843"/>
                  <a:pt x="8918" y="10827"/>
                  <a:pt x="8985" y="10827"/>
                </a:cubicBezTo>
                <a:cubicBezTo>
                  <a:pt x="9017" y="10827"/>
                  <a:pt x="9027" y="10827"/>
                  <a:pt x="9017" y="10858"/>
                </a:cubicBezTo>
                <a:cubicBezTo>
                  <a:pt x="9009" y="10881"/>
                  <a:pt x="8961" y="10936"/>
                  <a:pt x="8922" y="10954"/>
                </a:cubicBezTo>
                <a:cubicBezTo>
                  <a:pt x="8876" y="10974"/>
                  <a:pt x="8890" y="10988"/>
                  <a:pt x="8890" y="11049"/>
                </a:cubicBezTo>
                <a:cubicBezTo>
                  <a:pt x="8964" y="11049"/>
                  <a:pt x="9023" y="11061"/>
                  <a:pt x="9080" y="110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Ink 14"/>
          <p:cNvSpPr/>
          <p:nvPr/>
        </p:nvSpPr>
        <p:spPr>
          <a:xfrm>
            <a:off x="1222200" y="4264200"/>
            <a:ext cx="2059200" cy="571320"/>
          </a:xfrm>
          <a:custGeom>
            <a:avLst/>
            <a:gdLst/>
            <a:ahLst/>
            <a:rect l="l" t="t" r="r" b="b"/>
            <a:pathLst>
              <a:path w="5716" h="1588">
                <a:moveTo>
                  <a:pt x="3397" y="12605"/>
                </a:moveTo>
                <a:cubicBezTo>
                  <a:pt x="3448" y="12599"/>
                  <a:pt x="3485" y="12581"/>
                  <a:pt x="3524" y="12573"/>
                </a:cubicBezTo>
                <a:cubicBezTo>
                  <a:pt x="3752" y="12527"/>
                  <a:pt x="4032" y="12579"/>
                  <a:pt x="4254" y="12605"/>
                </a:cubicBezTo>
                <a:cubicBezTo>
                  <a:pt x="4442" y="12627"/>
                  <a:pt x="4640" y="12616"/>
                  <a:pt x="4826" y="12636"/>
                </a:cubicBezTo>
                <a:cubicBezTo>
                  <a:pt x="4945" y="12649"/>
                  <a:pt x="5059" y="12662"/>
                  <a:pt x="5175" y="12668"/>
                </a:cubicBezTo>
                <a:cubicBezTo>
                  <a:pt x="5279" y="12673"/>
                  <a:pt x="5374" y="12682"/>
                  <a:pt x="5461" y="12700"/>
                </a:cubicBezTo>
                <a:cubicBezTo>
                  <a:pt x="5514" y="12700"/>
                  <a:pt x="5524" y="12700"/>
                  <a:pt x="5556" y="12700"/>
                </a:cubicBezTo>
              </a:path>
              <a:path w="5716" h="1588">
                <a:moveTo>
                  <a:pt x="4032" y="11874"/>
                </a:moveTo>
                <a:cubicBezTo>
                  <a:pt x="3981" y="11913"/>
                  <a:pt x="3951" y="11880"/>
                  <a:pt x="3905" y="11906"/>
                </a:cubicBezTo>
                <a:cubicBezTo>
                  <a:pt x="3852" y="11936"/>
                  <a:pt x="3843" y="11938"/>
                  <a:pt x="3778" y="11938"/>
                </a:cubicBezTo>
                <a:cubicBezTo>
                  <a:pt x="3767" y="11938"/>
                  <a:pt x="3757" y="11938"/>
                  <a:pt x="3746" y="11938"/>
                </a:cubicBezTo>
                <a:cubicBezTo>
                  <a:pt x="3746" y="11996"/>
                  <a:pt x="3721" y="12013"/>
                  <a:pt x="3715" y="12065"/>
                </a:cubicBezTo>
                <a:cubicBezTo>
                  <a:pt x="3709" y="12117"/>
                  <a:pt x="3683" y="12133"/>
                  <a:pt x="3683" y="12192"/>
                </a:cubicBezTo>
                <a:cubicBezTo>
                  <a:pt x="3720" y="12155"/>
                  <a:pt x="3763" y="12112"/>
                  <a:pt x="3810" y="12097"/>
                </a:cubicBezTo>
                <a:cubicBezTo>
                  <a:pt x="3858" y="12082"/>
                  <a:pt x="4040" y="12081"/>
                  <a:pt x="4064" y="12128"/>
                </a:cubicBezTo>
                <a:cubicBezTo>
                  <a:pt x="4091" y="12182"/>
                  <a:pt x="4128" y="12219"/>
                  <a:pt x="4128" y="12287"/>
                </a:cubicBezTo>
                <a:cubicBezTo>
                  <a:pt x="4128" y="12372"/>
                  <a:pt x="4123" y="12387"/>
                  <a:pt x="4064" y="12446"/>
                </a:cubicBezTo>
                <a:cubicBezTo>
                  <a:pt x="4002" y="12508"/>
                  <a:pt x="3995" y="12510"/>
                  <a:pt x="3905" y="12510"/>
                </a:cubicBezTo>
                <a:cubicBezTo>
                  <a:pt x="3854" y="12510"/>
                  <a:pt x="3785" y="12523"/>
                  <a:pt x="3746" y="12478"/>
                </a:cubicBezTo>
                <a:cubicBezTo>
                  <a:pt x="3726" y="12455"/>
                  <a:pt x="3706" y="12416"/>
                  <a:pt x="3683" y="12382"/>
                </a:cubicBezTo>
                <a:cubicBezTo>
                  <a:pt x="3672" y="12372"/>
                  <a:pt x="3662" y="12361"/>
                  <a:pt x="3651" y="12351"/>
                </a:cubicBezTo>
              </a:path>
              <a:path w="5716" h="1588">
                <a:moveTo>
                  <a:pt x="4286" y="12160"/>
                </a:moveTo>
                <a:cubicBezTo>
                  <a:pt x="4381" y="12160"/>
                  <a:pt x="4477" y="12160"/>
                  <a:pt x="4572" y="12160"/>
                </a:cubicBezTo>
              </a:path>
              <a:path w="5716" h="1588">
                <a:moveTo>
                  <a:pt x="5175" y="11906"/>
                </a:moveTo>
                <a:cubicBezTo>
                  <a:pt x="5207" y="11906"/>
                  <a:pt x="5218" y="11906"/>
                  <a:pt x="5207" y="11874"/>
                </a:cubicBezTo>
                <a:cubicBezTo>
                  <a:pt x="5102" y="11874"/>
                  <a:pt x="5011" y="11872"/>
                  <a:pt x="4921" y="11843"/>
                </a:cubicBezTo>
                <a:cubicBezTo>
                  <a:pt x="4911" y="11843"/>
                  <a:pt x="4900" y="11843"/>
                  <a:pt x="4890" y="11843"/>
                </a:cubicBezTo>
                <a:cubicBezTo>
                  <a:pt x="4890" y="11941"/>
                  <a:pt x="4881" y="12006"/>
                  <a:pt x="4858" y="12097"/>
                </a:cubicBezTo>
                <a:cubicBezTo>
                  <a:pt x="4845" y="12149"/>
                  <a:pt x="4837" y="12169"/>
                  <a:pt x="4826" y="12192"/>
                </a:cubicBezTo>
                <a:cubicBezTo>
                  <a:pt x="4794" y="12255"/>
                  <a:pt x="4853" y="12167"/>
                  <a:pt x="4858" y="12160"/>
                </a:cubicBezTo>
                <a:cubicBezTo>
                  <a:pt x="4898" y="12107"/>
                  <a:pt x="4923" y="12097"/>
                  <a:pt x="4985" y="12097"/>
                </a:cubicBezTo>
                <a:cubicBezTo>
                  <a:pt x="5050" y="12097"/>
                  <a:pt x="5091" y="12112"/>
                  <a:pt x="5144" y="12128"/>
                </a:cubicBezTo>
                <a:cubicBezTo>
                  <a:pt x="5179" y="12138"/>
                  <a:pt x="5257" y="12178"/>
                  <a:pt x="5270" y="12224"/>
                </a:cubicBezTo>
                <a:cubicBezTo>
                  <a:pt x="5282" y="12267"/>
                  <a:pt x="5323" y="12363"/>
                  <a:pt x="5302" y="12414"/>
                </a:cubicBezTo>
                <a:cubicBezTo>
                  <a:pt x="5276" y="12477"/>
                  <a:pt x="5260" y="12520"/>
                  <a:pt x="5207" y="12573"/>
                </a:cubicBezTo>
                <a:cubicBezTo>
                  <a:pt x="5158" y="12622"/>
                  <a:pt x="5148" y="12636"/>
                  <a:pt x="5080" y="12636"/>
                </a:cubicBezTo>
                <a:cubicBezTo>
                  <a:pt x="5016" y="12636"/>
                  <a:pt x="4975" y="12614"/>
                  <a:pt x="4921" y="12573"/>
                </a:cubicBezTo>
                <a:cubicBezTo>
                  <a:pt x="4887" y="12547"/>
                  <a:pt x="4844" y="12458"/>
                  <a:pt x="4826" y="12446"/>
                </a:cubicBezTo>
                <a:cubicBezTo>
                  <a:pt x="4815" y="12446"/>
                  <a:pt x="4805" y="12446"/>
                  <a:pt x="4794" y="12446"/>
                </a:cubicBezTo>
              </a:path>
              <a:path w="5716" h="1588">
                <a:moveTo>
                  <a:pt x="3715" y="12795"/>
                </a:moveTo>
                <a:cubicBezTo>
                  <a:pt x="3715" y="12873"/>
                  <a:pt x="3697" y="12923"/>
                  <a:pt x="3683" y="12986"/>
                </a:cubicBezTo>
                <a:cubicBezTo>
                  <a:pt x="3660" y="13091"/>
                  <a:pt x="3683" y="13227"/>
                  <a:pt x="3683" y="13335"/>
                </a:cubicBezTo>
              </a:path>
              <a:path w="5716" h="1588">
                <a:moveTo>
                  <a:pt x="4128" y="12764"/>
                </a:moveTo>
                <a:cubicBezTo>
                  <a:pt x="4138" y="12774"/>
                  <a:pt x="4149" y="12785"/>
                  <a:pt x="4159" y="12795"/>
                </a:cubicBezTo>
                <a:cubicBezTo>
                  <a:pt x="4064" y="12795"/>
                  <a:pt x="3969" y="12795"/>
                  <a:pt x="3874" y="12795"/>
                </a:cubicBezTo>
                <a:cubicBezTo>
                  <a:pt x="3890" y="12820"/>
                  <a:pt x="3900" y="12844"/>
                  <a:pt x="3874" y="12890"/>
                </a:cubicBezTo>
                <a:cubicBezTo>
                  <a:pt x="3838" y="12955"/>
                  <a:pt x="3830" y="12894"/>
                  <a:pt x="3810" y="12954"/>
                </a:cubicBezTo>
                <a:cubicBezTo>
                  <a:pt x="3869" y="12954"/>
                  <a:pt x="3885" y="12928"/>
                  <a:pt x="3937" y="12922"/>
                </a:cubicBezTo>
                <a:cubicBezTo>
                  <a:pt x="4005" y="12914"/>
                  <a:pt x="4077" y="12913"/>
                  <a:pt x="4128" y="12954"/>
                </a:cubicBezTo>
                <a:cubicBezTo>
                  <a:pt x="4170" y="12988"/>
                  <a:pt x="4217" y="13030"/>
                  <a:pt x="4223" y="13081"/>
                </a:cubicBezTo>
                <a:cubicBezTo>
                  <a:pt x="4230" y="13146"/>
                  <a:pt x="4233" y="13193"/>
                  <a:pt x="4191" y="13240"/>
                </a:cubicBezTo>
                <a:cubicBezTo>
                  <a:pt x="4172" y="13261"/>
                  <a:pt x="4093" y="13316"/>
                  <a:pt x="4064" y="13303"/>
                </a:cubicBezTo>
                <a:cubicBezTo>
                  <a:pt x="4039" y="13292"/>
                  <a:pt x="3916" y="13257"/>
                  <a:pt x="3905" y="13240"/>
                </a:cubicBezTo>
                <a:cubicBezTo>
                  <a:pt x="3877" y="13198"/>
                  <a:pt x="3892" y="13165"/>
                  <a:pt x="3905" y="13144"/>
                </a:cubicBezTo>
              </a:path>
              <a:path w="5716" h="1588">
                <a:moveTo>
                  <a:pt x="4445" y="13049"/>
                </a:moveTo>
                <a:cubicBezTo>
                  <a:pt x="4540" y="13049"/>
                  <a:pt x="4636" y="13049"/>
                  <a:pt x="4731" y="13049"/>
                </a:cubicBezTo>
              </a:path>
              <a:path w="5716" h="1588">
                <a:moveTo>
                  <a:pt x="5048" y="12764"/>
                </a:moveTo>
                <a:cubicBezTo>
                  <a:pt x="4996" y="12781"/>
                  <a:pt x="5029" y="12810"/>
                  <a:pt x="4985" y="12859"/>
                </a:cubicBezTo>
                <a:cubicBezTo>
                  <a:pt x="4931" y="12919"/>
                  <a:pt x="4903" y="13003"/>
                  <a:pt x="4890" y="13081"/>
                </a:cubicBezTo>
                <a:cubicBezTo>
                  <a:pt x="4880" y="13139"/>
                  <a:pt x="4869" y="13267"/>
                  <a:pt x="4921" y="13303"/>
                </a:cubicBezTo>
                <a:cubicBezTo>
                  <a:pt x="5001" y="13358"/>
                  <a:pt x="5051" y="13393"/>
                  <a:pt x="5144" y="13335"/>
                </a:cubicBezTo>
                <a:cubicBezTo>
                  <a:pt x="5187" y="13308"/>
                  <a:pt x="5279" y="13260"/>
                  <a:pt x="5302" y="13208"/>
                </a:cubicBezTo>
                <a:cubicBezTo>
                  <a:pt x="5316" y="13177"/>
                  <a:pt x="5325" y="13147"/>
                  <a:pt x="5334" y="13113"/>
                </a:cubicBezTo>
                <a:cubicBezTo>
                  <a:pt x="5287" y="13078"/>
                  <a:pt x="5254" y="13076"/>
                  <a:pt x="5207" y="13113"/>
                </a:cubicBezTo>
                <a:cubicBezTo>
                  <a:pt x="5131" y="13173"/>
                  <a:pt x="5056" y="13243"/>
                  <a:pt x="5048" y="13335"/>
                </a:cubicBezTo>
                <a:cubicBezTo>
                  <a:pt x="5036" y="13480"/>
                  <a:pt x="5051" y="13407"/>
                  <a:pt x="5112" y="13367"/>
                </a:cubicBezTo>
                <a:cubicBezTo>
                  <a:pt x="5123" y="13367"/>
                  <a:pt x="5133" y="13367"/>
                  <a:pt x="5144" y="13367"/>
                </a:cubicBezTo>
              </a:path>
              <a:path w="5716" h="1588">
                <a:moveTo>
                  <a:pt x="5969" y="12668"/>
                </a:moveTo>
                <a:cubicBezTo>
                  <a:pt x="6043" y="12668"/>
                  <a:pt x="6101" y="12688"/>
                  <a:pt x="6160" y="12700"/>
                </a:cubicBezTo>
                <a:cubicBezTo>
                  <a:pt x="6231" y="12714"/>
                  <a:pt x="6298" y="12707"/>
                  <a:pt x="6350" y="12668"/>
                </a:cubicBezTo>
              </a:path>
              <a:path w="5716" h="1588">
                <a:moveTo>
                  <a:pt x="6001" y="12986"/>
                </a:moveTo>
                <a:cubicBezTo>
                  <a:pt x="6066" y="13003"/>
                  <a:pt x="6082" y="13018"/>
                  <a:pt x="6160" y="13018"/>
                </a:cubicBezTo>
                <a:cubicBezTo>
                  <a:pt x="6223" y="13018"/>
                  <a:pt x="6287" y="13018"/>
                  <a:pt x="6350" y="13018"/>
                </a:cubicBezTo>
              </a:path>
              <a:path w="5716" h="1588">
                <a:moveTo>
                  <a:pt x="7048" y="11938"/>
                </a:moveTo>
                <a:cubicBezTo>
                  <a:pt x="7048" y="11899"/>
                  <a:pt x="7039" y="11854"/>
                  <a:pt x="7017" y="11843"/>
                </a:cubicBezTo>
                <a:cubicBezTo>
                  <a:pt x="6987" y="11828"/>
                  <a:pt x="6911" y="11887"/>
                  <a:pt x="6890" y="11906"/>
                </a:cubicBezTo>
                <a:cubicBezTo>
                  <a:pt x="6848" y="11943"/>
                  <a:pt x="6780" y="11969"/>
                  <a:pt x="6763" y="12033"/>
                </a:cubicBezTo>
                <a:cubicBezTo>
                  <a:pt x="6752" y="12076"/>
                  <a:pt x="6708" y="12178"/>
                  <a:pt x="6731" y="12224"/>
                </a:cubicBezTo>
                <a:cubicBezTo>
                  <a:pt x="6768" y="12298"/>
                  <a:pt x="6830" y="12298"/>
                  <a:pt x="6890" y="12319"/>
                </a:cubicBezTo>
                <a:cubicBezTo>
                  <a:pt x="6947" y="12339"/>
                  <a:pt x="7031" y="12350"/>
                  <a:pt x="7080" y="12287"/>
                </a:cubicBezTo>
                <a:cubicBezTo>
                  <a:pt x="7118" y="12238"/>
                  <a:pt x="7166" y="12148"/>
                  <a:pt x="7176" y="12097"/>
                </a:cubicBezTo>
                <a:cubicBezTo>
                  <a:pt x="7187" y="12042"/>
                  <a:pt x="7170" y="11949"/>
                  <a:pt x="7144" y="11906"/>
                </a:cubicBezTo>
                <a:cubicBezTo>
                  <a:pt x="7126" y="11875"/>
                  <a:pt x="7051" y="11855"/>
                  <a:pt x="7017" y="11874"/>
                </a:cubicBezTo>
                <a:cubicBezTo>
                  <a:pt x="6988" y="11903"/>
                  <a:pt x="6982" y="11914"/>
                  <a:pt x="6953" y="11906"/>
                </a:cubicBezTo>
              </a:path>
              <a:path w="5716" h="1588">
                <a:moveTo>
                  <a:pt x="6509" y="12510"/>
                </a:moveTo>
                <a:cubicBezTo>
                  <a:pt x="6558" y="12522"/>
                  <a:pt x="6580" y="12541"/>
                  <a:pt x="6636" y="12541"/>
                </a:cubicBezTo>
                <a:cubicBezTo>
                  <a:pt x="6922" y="12541"/>
                  <a:pt x="7207" y="12541"/>
                  <a:pt x="7493" y="12541"/>
                </a:cubicBezTo>
              </a:path>
              <a:path w="5716" h="1588">
                <a:moveTo>
                  <a:pt x="7176" y="12986"/>
                </a:moveTo>
                <a:cubicBezTo>
                  <a:pt x="7176" y="12923"/>
                  <a:pt x="7208" y="12732"/>
                  <a:pt x="7144" y="12700"/>
                </a:cubicBezTo>
                <a:cubicBezTo>
                  <a:pt x="7078" y="12667"/>
                  <a:pt x="7019" y="12655"/>
                  <a:pt x="6953" y="12700"/>
                </a:cubicBezTo>
                <a:cubicBezTo>
                  <a:pt x="6909" y="12729"/>
                  <a:pt x="6818" y="12774"/>
                  <a:pt x="6794" y="12827"/>
                </a:cubicBezTo>
                <a:cubicBezTo>
                  <a:pt x="6766" y="12891"/>
                  <a:pt x="6799" y="12934"/>
                  <a:pt x="6826" y="12954"/>
                </a:cubicBezTo>
                <a:cubicBezTo>
                  <a:pt x="6896" y="13007"/>
                  <a:pt x="6913" y="12976"/>
                  <a:pt x="6985" y="12954"/>
                </a:cubicBezTo>
                <a:cubicBezTo>
                  <a:pt x="7066" y="12930"/>
                  <a:pt x="7073" y="12917"/>
                  <a:pt x="7112" y="12859"/>
                </a:cubicBezTo>
                <a:cubicBezTo>
                  <a:pt x="7179" y="12759"/>
                  <a:pt x="7084" y="12939"/>
                  <a:pt x="7080" y="12954"/>
                </a:cubicBezTo>
                <a:cubicBezTo>
                  <a:pt x="7066" y="13009"/>
                  <a:pt x="7052" y="13089"/>
                  <a:pt x="7048" y="13144"/>
                </a:cubicBezTo>
                <a:cubicBezTo>
                  <a:pt x="7048" y="13150"/>
                  <a:pt x="7041" y="13444"/>
                  <a:pt x="7080" y="13430"/>
                </a:cubicBezTo>
                <a:cubicBezTo>
                  <a:pt x="7106" y="13378"/>
                  <a:pt x="7117" y="13370"/>
                  <a:pt x="7112" y="13335"/>
                </a:cubicBezTo>
              </a:path>
              <a:path w="5716" h="1588">
                <a:moveTo>
                  <a:pt x="7842" y="12541"/>
                </a:moveTo>
                <a:cubicBezTo>
                  <a:pt x="7842" y="12531"/>
                  <a:pt x="7842" y="12520"/>
                  <a:pt x="7842" y="12510"/>
                </a:cubicBezTo>
                <a:cubicBezTo>
                  <a:pt x="7900" y="12510"/>
                  <a:pt x="7917" y="12484"/>
                  <a:pt x="7969" y="12478"/>
                </a:cubicBezTo>
                <a:cubicBezTo>
                  <a:pt x="8021" y="12472"/>
                  <a:pt x="8038" y="12446"/>
                  <a:pt x="8096" y="12446"/>
                </a:cubicBezTo>
                <a:cubicBezTo>
                  <a:pt x="8107" y="12446"/>
                  <a:pt x="8117" y="12446"/>
                  <a:pt x="8128" y="12446"/>
                </a:cubicBezTo>
              </a:path>
              <a:path w="5716" h="1588">
                <a:moveTo>
                  <a:pt x="7810" y="12795"/>
                </a:moveTo>
                <a:cubicBezTo>
                  <a:pt x="7884" y="12795"/>
                  <a:pt x="7959" y="12795"/>
                  <a:pt x="8033" y="12795"/>
                </a:cubicBezTo>
                <a:cubicBezTo>
                  <a:pt x="8033" y="12764"/>
                  <a:pt x="8033" y="12754"/>
                  <a:pt x="8064" y="12764"/>
                </a:cubicBezTo>
              </a:path>
              <a:path w="5716" h="1588">
                <a:moveTo>
                  <a:pt x="8922" y="12446"/>
                </a:moveTo>
                <a:cubicBezTo>
                  <a:pt x="8938" y="12398"/>
                  <a:pt x="8954" y="12419"/>
                  <a:pt x="8954" y="12351"/>
                </a:cubicBezTo>
                <a:cubicBezTo>
                  <a:pt x="8906" y="12339"/>
                  <a:pt x="8856" y="12293"/>
                  <a:pt x="8795" y="12319"/>
                </a:cubicBezTo>
                <a:cubicBezTo>
                  <a:pt x="8745" y="12340"/>
                  <a:pt x="8680" y="12373"/>
                  <a:pt x="8636" y="12414"/>
                </a:cubicBezTo>
                <a:cubicBezTo>
                  <a:pt x="8559" y="12486"/>
                  <a:pt x="8523" y="12574"/>
                  <a:pt x="8477" y="12668"/>
                </a:cubicBezTo>
                <a:cubicBezTo>
                  <a:pt x="8435" y="12752"/>
                  <a:pt x="8441" y="12869"/>
                  <a:pt x="8477" y="12954"/>
                </a:cubicBezTo>
                <a:cubicBezTo>
                  <a:pt x="8505" y="13020"/>
                  <a:pt x="8575" y="13077"/>
                  <a:pt x="8636" y="13113"/>
                </a:cubicBezTo>
                <a:cubicBezTo>
                  <a:pt x="8704" y="13153"/>
                  <a:pt x="8758" y="13158"/>
                  <a:pt x="8826" y="13113"/>
                </a:cubicBezTo>
                <a:cubicBezTo>
                  <a:pt x="8902" y="13062"/>
                  <a:pt x="8965" y="13000"/>
                  <a:pt x="9017" y="12922"/>
                </a:cubicBezTo>
                <a:cubicBezTo>
                  <a:pt x="9086" y="12818"/>
                  <a:pt x="9089" y="12736"/>
                  <a:pt x="9080" y="12636"/>
                </a:cubicBezTo>
                <a:cubicBezTo>
                  <a:pt x="9072" y="12544"/>
                  <a:pt x="9057" y="12391"/>
                  <a:pt x="8985" y="12319"/>
                </a:cubicBezTo>
                <a:cubicBezTo>
                  <a:pt x="8924" y="12257"/>
                  <a:pt x="8855" y="12277"/>
                  <a:pt x="8795" y="12287"/>
                </a:cubicBezTo>
                <a:cubicBezTo>
                  <a:pt x="8759" y="12287"/>
                  <a:pt x="8745" y="12290"/>
                  <a:pt x="8731" y="12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Ink 15"/>
          <p:cNvSpPr/>
          <p:nvPr/>
        </p:nvSpPr>
        <p:spPr>
          <a:xfrm>
            <a:off x="868320" y="4697280"/>
            <a:ext cx="7932960" cy="1738440"/>
          </a:xfrm>
          <a:custGeom>
            <a:avLst/>
            <a:gdLst/>
            <a:ahLst/>
            <a:rect l="l" t="t" r="r" b="b"/>
            <a:pathLst>
              <a:path w="22036" h="4827">
                <a:moveTo>
                  <a:pt x="2604" y="14224"/>
                </a:moveTo>
                <a:lnTo>
                  <a:pt x="2604" y="14224"/>
                </a:lnTo>
              </a:path>
              <a:path w="22036" h="4827">
                <a:moveTo>
                  <a:pt x="2604" y="14224"/>
                </a:moveTo>
                <a:cubicBezTo>
                  <a:pt x="2604" y="14235"/>
                  <a:pt x="2604" y="14245"/>
                  <a:pt x="2604" y="14256"/>
                </a:cubicBezTo>
              </a:path>
              <a:path w="22036" h="4827">
                <a:moveTo>
                  <a:pt x="2604" y="14256"/>
                </a:moveTo>
                <a:cubicBezTo>
                  <a:pt x="2604" y="14267"/>
                  <a:pt x="2604" y="14277"/>
                  <a:pt x="2604" y="14288"/>
                </a:cubicBezTo>
                <a:cubicBezTo>
                  <a:pt x="2651" y="14304"/>
                  <a:pt x="2635" y="14327"/>
                  <a:pt x="2635" y="14383"/>
                </a:cubicBezTo>
                <a:cubicBezTo>
                  <a:pt x="2635" y="14441"/>
                  <a:pt x="2661" y="14458"/>
                  <a:pt x="2667" y="14510"/>
                </a:cubicBezTo>
                <a:cubicBezTo>
                  <a:pt x="2674" y="14571"/>
                  <a:pt x="2682" y="14586"/>
                  <a:pt x="2699" y="14637"/>
                </a:cubicBezTo>
                <a:cubicBezTo>
                  <a:pt x="2713" y="14677"/>
                  <a:pt x="2718" y="14727"/>
                  <a:pt x="2730" y="14764"/>
                </a:cubicBezTo>
                <a:cubicBezTo>
                  <a:pt x="2730" y="14775"/>
                  <a:pt x="2730" y="14785"/>
                  <a:pt x="2730" y="14796"/>
                </a:cubicBezTo>
              </a:path>
              <a:path w="22036" h="4827">
                <a:moveTo>
                  <a:pt x="2794" y="14160"/>
                </a:moveTo>
                <a:cubicBezTo>
                  <a:pt x="2762" y="14160"/>
                  <a:pt x="2752" y="14160"/>
                  <a:pt x="2762" y="14129"/>
                </a:cubicBezTo>
                <a:cubicBezTo>
                  <a:pt x="2754" y="14160"/>
                  <a:pt x="2745" y="14228"/>
                  <a:pt x="2730" y="14256"/>
                </a:cubicBezTo>
                <a:cubicBezTo>
                  <a:pt x="2703" y="14306"/>
                  <a:pt x="2689" y="14359"/>
                  <a:pt x="2667" y="14414"/>
                </a:cubicBezTo>
                <a:cubicBezTo>
                  <a:pt x="2640" y="14481"/>
                  <a:pt x="2598" y="14541"/>
                  <a:pt x="2572" y="14605"/>
                </a:cubicBezTo>
                <a:cubicBezTo>
                  <a:pt x="2551" y="14656"/>
                  <a:pt x="2502" y="14724"/>
                  <a:pt x="2476" y="14764"/>
                </a:cubicBezTo>
                <a:cubicBezTo>
                  <a:pt x="2445" y="14796"/>
                  <a:pt x="2435" y="14807"/>
                  <a:pt x="2413" y="14827"/>
                </a:cubicBezTo>
              </a:path>
              <a:path w="22036" h="4827">
                <a:moveTo>
                  <a:pt x="2826" y="14605"/>
                </a:moveTo>
                <a:cubicBezTo>
                  <a:pt x="2826" y="14679"/>
                  <a:pt x="2826" y="14753"/>
                  <a:pt x="2826" y="14827"/>
                </a:cubicBezTo>
              </a:path>
              <a:path w="22036" h="4827">
                <a:moveTo>
                  <a:pt x="3651" y="14383"/>
                </a:moveTo>
                <a:cubicBezTo>
                  <a:pt x="3651" y="14447"/>
                  <a:pt x="3666" y="14458"/>
                  <a:pt x="3683" y="14510"/>
                </a:cubicBezTo>
                <a:cubicBezTo>
                  <a:pt x="3699" y="14557"/>
                  <a:pt x="3711" y="14597"/>
                  <a:pt x="3746" y="14637"/>
                </a:cubicBezTo>
                <a:cubicBezTo>
                  <a:pt x="3757" y="14647"/>
                  <a:pt x="3767" y="14658"/>
                  <a:pt x="3778" y="14668"/>
                </a:cubicBezTo>
              </a:path>
              <a:path w="22036" h="4827">
                <a:moveTo>
                  <a:pt x="3874" y="14288"/>
                </a:moveTo>
                <a:cubicBezTo>
                  <a:pt x="3838" y="14335"/>
                  <a:pt x="3820" y="14418"/>
                  <a:pt x="3810" y="14478"/>
                </a:cubicBezTo>
                <a:cubicBezTo>
                  <a:pt x="3796" y="14561"/>
                  <a:pt x="3805" y="14625"/>
                  <a:pt x="3778" y="14700"/>
                </a:cubicBezTo>
                <a:cubicBezTo>
                  <a:pt x="3746" y="14789"/>
                  <a:pt x="3770" y="14867"/>
                  <a:pt x="3746" y="14954"/>
                </a:cubicBezTo>
                <a:cubicBezTo>
                  <a:pt x="3736" y="14975"/>
                  <a:pt x="3725" y="14997"/>
                  <a:pt x="3715" y="15018"/>
                </a:cubicBezTo>
              </a:path>
              <a:path w="22036" h="4827">
                <a:moveTo>
                  <a:pt x="4064" y="14542"/>
                </a:moveTo>
                <a:cubicBezTo>
                  <a:pt x="4064" y="14669"/>
                  <a:pt x="4064" y="14795"/>
                  <a:pt x="4064" y="14922"/>
                </a:cubicBezTo>
              </a:path>
              <a:path w="22036" h="4827">
                <a:moveTo>
                  <a:pt x="5016" y="14351"/>
                </a:moveTo>
                <a:cubicBezTo>
                  <a:pt x="5006" y="14351"/>
                  <a:pt x="4995" y="14351"/>
                  <a:pt x="4985" y="14351"/>
                </a:cubicBezTo>
                <a:cubicBezTo>
                  <a:pt x="4997" y="14399"/>
                  <a:pt x="5013" y="14439"/>
                  <a:pt x="5048" y="14478"/>
                </a:cubicBezTo>
                <a:cubicBezTo>
                  <a:pt x="5088" y="14522"/>
                  <a:pt x="5117" y="14564"/>
                  <a:pt x="5144" y="14605"/>
                </a:cubicBezTo>
                <a:cubicBezTo>
                  <a:pt x="5175" y="14653"/>
                  <a:pt x="5207" y="14689"/>
                  <a:pt x="5239" y="14732"/>
                </a:cubicBezTo>
              </a:path>
              <a:path w="22036" h="4827">
                <a:moveTo>
                  <a:pt x="5302" y="14319"/>
                </a:moveTo>
                <a:lnTo>
                  <a:pt x="5302" y="14319"/>
                </a:lnTo>
              </a:path>
              <a:path w="22036" h="4827">
                <a:moveTo>
                  <a:pt x="5302" y="14319"/>
                </a:moveTo>
                <a:cubicBezTo>
                  <a:pt x="5291" y="14309"/>
                  <a:pt x="5281" y="14298"/>
                  <a:pt x="5270" y="14288"/>
                </a:cubicBezTo>
              </a:path>
              <a:path w="22036" h="4827">
                <a:moveTo>
                  <a:pt x="5270" y="14288"/>
                </a:moveTo>
                <a:lnTo>
                  <a:pt x="5270" y="14288"/>
                </a:lnTo>
              </a:path>
              <a:path w="22036" h="4827">
                <a:moveTo>
                  <a:pt x="5239" y="14351"/>
                </a:moveTo>
                <a:cubicBezTo>
                  <a:pt x="5231" y="14382"/>
                  <a:pt x="5222" y="14450"/>
                  <a:pt x="5207" y="14478"/>
                </a:cubicBezTo>
                <a:cubicBezTo>
                  <a:pt x="5176" y="14534"/>
                  <a:pt x="5127" y="14630"/>
                  <a:pt x="5112" y="14700"/>
                </a:cubicBezTo>
                <a:cubicBezTo>
                  <a:pt x="5096" y="14772"/>
                  <a:pt x="5069" y="14829"/>
                  <a:pt x="5048" y="14891"/>
                </a:cubicBezTo>
                <a:cubicBezTo>
                  <a:pt x="5048" y="14927"/>
                  <a:pt x="5045" y="14940"/>
                  <a:pt x="5016" y="14954"/>
                </a:cubicBezTo>
              </a:path>
              <a:path w="22036" h="4827">
                <a:moveTo>
                  <a:pt x="5334" y="14637"/>
                </a:moveTo>
                <a:cubicBezTo>
                  <a:pt x="5344" y="14608"/>
                  <a:pt x="5388" y="14587"/>
                  <a:pt x="5429" y="14573"/>
                </a:cubicBezTo>
                <a:cubicBezTo>
                  <a:pt x="5440" y="14573"/>
                  <a:pt x="5450" y="14573"/>
                  <a:pt x="5461" y="14573"/>
                </a:cubicBezTo>
                <a:cubicBezTo>
                  <a:pt x="5461" y="14634"/>
                  <a:pt x="5435" y="14674"/>
                  <a:pt x="5429" y="14732"/>
                </a:cubicBezTo>
                <a:cubicBezTo>
                  <a:pt x="5425" y="14772"/>
                  <a:pt x="5408" y="14789"/>
                  <a:pt x="5398" y="14827"/>
                </a:cubicBezTo>
                <a:cubicBezTo>
                  <a:pt x="5446" y="14791"/>
                  <a:pt x="5463" y="14796"/>
                  <a:pt x="5524" y="14796"/>
                </a:cubicBezTo>
                <a:cubicBezTo>
                  <a:pt x="5535" y="14796"/>
                  <a:pt x="5545" y="14796"/>
                  <a:pt x="5556" y="14796"/>
                </a:cubicBezTo>
              </a:path>
              <a:path w="22036" h="4827">
                <a:moveTo>
                  <a:pt x="6064" y="14288"/>
                </a:moveTo>
                <a:cubicBezTo>
                  <a:pt x="6074" y="14328"/>
                  <a:pt x="6081" y="14373"/>
                  <a:pt x="6096" y="14414"/>
                </a:cubicBezTo>
                <a:cubicBezTo>
                  <a:pt x="6107" y="14444"/>
                  <a:pt x="6114" y="14547"/>
                  <a:pt x="6128" y="14573"/>
                </a:cubicBezTo>
                <a:cubicBezTo>
                  <a:pt x="6157" y="14624"/>
                  <a:pt x="6173" y="14641"/>
                  <a:pt x="6191" y="14605"/>
                </a:cubicBezTo>
              </a:path>
              <a:path w="22036" h="4827">
                <a:moveTo>
                  <a:pt x="6318" y="14192"/>
                </a:moveTo>
                <a:cubicBezTo>
                  <a:pt x="6304" y="14261"/>
                  <a:pt x="6304" y="14346"/>
                  <a:pt x="6286" y="14414"/>
                </a:cubicBezTo>
                <a:cubicBezTo>
                  <a:pt x="6258" y="14516"/>
                  <a:pt x="6229" y="14626"/>
                  <a:pt x="6223" y="14732"/>
                </a:cubicBezTo>
                <a:cubicBezTo>
                  <a:pt x="6220" y="14785"/>
                  <a:pt x="6223" y="14838"/>
                  <a:pt x="6223" y="14891"/>
                </a:cubicBezTo>
              </a:path>
              <a:path w="22036" h="4827">
                <a:moveTo>
                  <a:pt x="6382" y="14446"/>
                </a:moveTo>
                <a:cubicBezTo>
                  <a:pt x="6393" y="14412"/>
                  <a:pt x="6405" y="14388"/>
                  <a:pt x="6445" y="14383"/>
                </a:cubicBezTo>
                <a:cubicBezTo>
                  <a:pt x="6475" y="14379"/>
                  <a:pt x="6509" y="14383"/>
                  <a:pt x="6540" y="14383"/>
                </a:cubicBezTo>
                <a:cubicBezTo>
                  <a:pt x="6540" y="14457"/>
                  <a:pt x="6528" y="14484"/>
                  <a:pt x="6509" y="14542"/>
                </a:cubicBezTo>
                <a:cubicBezTo>
                  <a:pt x="6496" y="14581"/>
                  <a:pt x="6481" y="14631"/>
                  <a:pt x="6477" y="14668"/>
                </a:cubicBezTo>
                <a:cubicBezTo>
                  <a:pt x="6473" y="14708"/>
                  <a:pt x="6490" y="14754"/>
                  <a:pt x="6509" y="14764"/>
                </a:cubicBezTo>
                <a:cubicBezTo>
                  <a:pt x="6519" y="14764"/>
                  <a:pt x="6530" y="14764"/>
                  <a:pt x="6540" y="14764"/>
                </a:cubicBezTo>
                <a:cubicBezTo>
                  <a:pt x="6552" y="14727"/>
                  <a:pt x="6584" y="14706"/>
                  <a:pt x="6636" y="14700"/>
                </a:cubicBezTo>
                <a:cubicBezTo>
                  <a:pt x="6672" y="14700"/>
                  <a:pt x="6686" y="14697"/>
                  <a:pt x="6699" y="14668"/>
                </a:cubicBezTo>
              </a:path>
              <a:path w="22036" h="4827">
                <a:moveTo>
                  <a:pt x="7588" y="14922"/>
                </a:moveTo>
                <a:cubicBezTo>
                  <a:pt x="7599" y="14922"/>
                  <a:pt x="7609" y="14922"/>
                  <a:pt x="7620" y="14922"/>
                </a:cubicBezTo>
                <a:cubicBezTo>
                  <a:pt x="7629" y="14895"/>
                  <a:pt x="7676" y="14872"/>
                  <a:pt x="7715" y="14859"/>
                </a:cubicBezTo>
                <a:cubicBezTo>
                  <a:pt x="7773" y="14839"/>
                  <a:pt x="7800" y="14877"/>
                  <a:pt x="7842" y="14891"/>
                </a:cubicBezTo>
                <a:cubicBezTo>
                  <a:pt x="7885" y="14905"/>
                  <a:pt x="7932" y="14897"/>
                  <a:pt x="7969" y="14922"/>
                </a:cubicBezTo>
                <a:cubicBezTo>
                  <a:pt x="8023" y="14958"/>
                  <a:pt x="8033" y="14990"/>
                  <a:pt x="8033" y="15050"/>
                </a:cubicBezTo>
                <a:cubicBezTo>
                  <a:pt x="8033" y="15067"/>
                  <a:pt x="8008" y="15190"/>
                  <a:pt x="8001" y="15208"/>
                </a:cubicBezTo>
                <a:cubicBezTo>
                  <a:pt x="7979" y="15261"/>
                  <a:pt x="7942" y="15299"/>
                  <a:pt x="7938" y="15367"/>
                </a:cubicBezTo>
                <a:cubicBezTo>
                  <a:pt x="7934" y="15422"/>
                  <a:pt x="7926" y="15536"/>
                  <a:pt x="7906" y="15589"/>
                </a:cubicBezTo>
                <a:cubicBezTo>
                  <a:pt x="7883" y="15648"/>
                  <a:pt x="7874" y="15672"/>
                  <a:pt x="7874" y="15748"/>
                </a:cubicBezTo>
                <a:cubicBezTo>
                  <a:pt x="7874" y="15759"/>
                  <a:pt x="7874" y="15769"/>
                  <a:pt x="7874" y="15780"/>
                </a:cubicBezTo>
              </a:path>
              <a:path w="22036" h="4827">
                <a:moveTo>
                  <a:pt x="8128" y="15367"/>
                </a:moveTo>
                <a:cubicBezTo>
                  <a:pt x="8178" y="15330"/>
                  <a:pt x="8239" y="15337"/>
                  <a:pt x="8287" y="15304"/>
                </a:cubicBezTo>
                <a:cubicBezTo>
                  <a:pt x="8315" y="15275"/>
                  <a:pt x="8321" y="15264"/>
                  <a:pt x="8350" y="15272"/>
                </a:cubicBezTo>
              </a:path>
              <a:path w="22036" h="4827">
                <a:moveTo>
                  <a:pt x="8826" y="14764"/>
                </a:moveTo>
                <a:cubicBezTo>
                  <a:pt x="8835" y="14727"/>
                  <a:pt x="8874" y="14660"/>
                  <a:pt x="8858" y="14700"/>
                </a:cubicBezTo>
                <a:cubicBezTo>
                  <a:pt x="8839" y="14749"/>
                  <a:pt x="8809" y="14733"/>
                  <a:pt x="8763" y="14764"/>
                </a:cubicBezTo>
                <a:cubicBezTo>
                  <a:pt x="8712" y="14798"/>
                  <a:pt x="8700" y="14796"/>
                  <a:pt x="8636" y="14796"/>
                </a:cubicBezTo>
                <a:cubicBezTo>
                  <a:pt x="8604" y="14796"/>
                  <a:pt x="8593" y="14796"/>
                  <a:pt x="8572" y="14796"/>
                </a:cubicBezTo>
                <a:cubicBezTo>
                  <a:pt x="8572" y="14933"/>
                  <a:pt x="8572" y="15071"/>
                  <a:pt x="8572" y="15208"/>
                </a:cubicBezTo>
                <a:cubicBezTo>
                  <a:pt x="8582" y="15140"/>
                  <a:pt x="8590" y="15101"/>
                  <a:pt x="8636" y="15050"/>
                </a:cubicBezTo>
                <a:cubicBezTo>
                  <a:pt x="8673" y="15009"/>
                  <a:pt x="8709" y="14960"/>
                  <a:pt x="8763" y="14954"/>
                </a:cubicBezTo>
                <a:cubicBezTo>
                  <a:pt x="8804" y="14949"/>
                  <a:pt x="8861" y="14992"/>
                  <a:pt x="8890" y="15018"/>
                </a:cubicBezTo>
                <a:cubicBezTo>
                  <a:pt x="8935" y="15058"/>
                  <a:pt x="8951" y="15150"/>
                  <a:pt x="8954" y="15208"/>
                </a:cubicBezTo>
                <a:cubicBezTo>
                  <a:pt x="8957" y="15264"/>
                  <a:pt x="8923" y="15350"/>
                  <a:pt x="8890" y="15399"/>
                </a:cubicBezTo>
                <a:cubicBezTo>
                  <a:pt x="8854" y="15452"/>
                  <a:pt x="8759" y="15551"/>
                  <a:pt x="8700" y="15558"/>
                </a:cubicBezTo>
                <a:cubicBezTo>
                  <a:pt x="8689" y="15558"/>
                  <a:pt x="8679" y="15558"/>
                  <a:pt x="8668" y="15558"/>
                </a:cubicBezTo>
              </a:path>
              <a:path w="22036" h="4827">
                <a:moveTo>
                  <a:pt x="7430" y="15907"/>
                </a:moveTo>
                <a:cubicBezTo>
                  <a:pt x="7478" y="15870"/>
                  <a:pt x="7494" y="15875"/>
                  <a:pt x="7556" y="15875"/>
                </a:cubicBezTo>
                <a:cubicBezTo>
                  <a:pt x="7642" y="15875"/>
                  <a:pt x="7701" y="15856"/>
                  <a:pt x="7779" y="15843"/>
                </a:cubicBezTo>
                <a:cubicBezTo>
                  <a:pt x="8082" y="15792"/>
                  <a:pt x="8467" y="15832"/>
                  <a:pt x="8763" y="15875"/>
                </a:cubicBezTo>
                <a:cubicBezTo>
                  <a:pt x="8848" y="15887"/>
                  <a:pt x="8974" y="15903"/>
                  <a:pt x="9049" y="15938"/>
                </a:cubicBezTo>
                <a:cubicBezTo>
                  <a:pt x="9105" y="15964"/>
                  <a:pt x="9140" y="15970"/>
                  <a:pt x="9208" y="15970"/>
                </a:cubicBezTo>
              </a:path>
              <a:path w="22036" h="4827">
                <a:moveTo>
                  <a:pt x="7588" y="16415"/>
                </a:moveTo>
                <a:cubicBezTo>
                  <a:pt x="7600" y="16461"/>
                  <a:pt x="7622" y="16530"/>
                  <a:pt x="7652" y="16574"/>
                </a:cubicBezTo>
                <a:cubicBezTo>
                  <a:pt x="7705" y="16653"/>
                  <a:pt x="7687" y="16705"/>
                  <a:pt x="7715" y="16796"/>
                </a:cubicBezTo>
                <a:cubicBezTo>
                  <a:pt x="7737" y="16870"/>
                  <a:pt x="7783" y="16892"/>
                  <a:pt x="7810" y="16954"/>
                </a:cubicBezTo>
                <a:cubicBezTo>
                  <a:pt x="7810" y="16990"/>
                  <a:pt x="7813" y="17004"/>
                  <a:pt x="7842" y="17018"/>
                </a:cubicBezTo>
              </a:path>
              <a:path w="22036" h="4827">
                <a:moveTo>
                  <a:pt x="7874" y="16288"/>
                </a:moveTo>
                <a:cubicBezTo>
                  <a:pt x="7816" y="16345"/>
                  <a:pt x="7777" y="16401"/>
                  <a:pt x="7747" y="16478"/>
                </a:cubicBezTo>
                <a:cubicBezTo>
                  <a:pt x="7703" y="16589"/>
                  <a:pt x="7653" y="16714"/>
                  <a:pt x="7620" y="16828"/>
                </a:cubicBezTo>
                <a:cubicBezTo>
                  <a:pt x="7608" y="16869"/>
                  <a:pt x="7597" y="16912"/>
                  <a:pt x="7588" y="16954"/>
                </a:cubicBezTo>
              </a:path>
              <a:path w="22036" h="4827">
                <a:moveTo>
                  <a:pt x="8064" y="16574"/>
                </a:moveTo>
                <a:cubicBezTo>
                  <a:pt x="8109" y="16540"/>
                  <a:pt x="8104" y="16542"/>
                  <a:pt x="8160" y="16542"/>
                </a:cubicBezTo>
              </a:path>
              <a:path w="22036" h="4827">
                <a:moveTo>
                  <a:pt x="8414" y="16288"/>
                </a:moveTo>
                <a:cubicBezTo>
                  <a:pt x="8426" y="16251"/>
                  <a:pt x="8457" y="16230"/>
                  <a:pt x="8509" y="16224"/>
                </a:cubicBezTo>
                <a:cubicBezTo>
                  <a:pt x="8540" y="16221"/>
                  <a:pt x="8573" y="16224"/>
                  <a:pt x="8604" y="16224"/>
                </a:cubicBezTo>
                <a:cubicBezTo>
                  <a:pt x="8604" y="16285"/>
                  <a:pt x="8632" y="16325"/>
                  <a:pt x="8636" y="16383"/>
                </a:cubicBezTo>
                <a:cubicBezTo>
                  <a:pt x="8640" y="16446"/>
                  <a:pt x="8622" y="16575"/>
                  <a:pt x="8604" y="16637"/>
                </a:cubicBezTo>
                <a:cubicBezTo>
                  <a:pt x="8585" y="16704"/>
                  <a:pt x="8548" y="16764"/>
                  <a:pt x="8541" y="16828"/>
                </a:cubicBezTo>
                <a:cubicBezTo>
                  <a:pt x="8533" y="16900"/>
                  <a:pt x="8505" y="16846"/>
                  <a:pt x="8541" y="16828"/>
                </a:cubicBezTo>
                <a:cubicBezTo>
                  <a:pt x="8592" y="16803"/>
                  <a:pt x="8615" y="16836"/>
                  <a:pt x="8668" y="16796"/>
                </a:cubicBezTo>
                <a:cubicBezTo>
                  <a:pt x="8696" y="16817"/>
                  <a:pt x="8752" y="16852"/>
                  <a:pt x="8795" y="16828"/>
                </a:cubicBezTo>
                <a:cubicBezTo>
                  <a:pt x="8805" y="16817"/>
                  <a:pt x="8816" y="16807"/>
                  <a:pt x="8826" y="16796"/>
                </a:cubicBezTo>
              </a:path>
              <a:path w="22036" h="4827">
                <a:moveTo>
                  <a:pt x="9525" y="15875"/>
                </a:moveTo>
                <a:cubicBezTo>
                  <a:pt x="9589" y="15875"/>
                  <a:pt x="9600" y="15890"/>
                  <a:pt x="9652" y="15907"/>
                </a:cubicBezTo>
                <a:cubicBezTo>
                  <a:pt x="9663" y="15907"/>
                  <a:pt x="9673" y="15907"/>
                  <a:pt x="9684" y="15907"/>
                </a:cubicBezTo>
              </a:path>
              <a:path w="22036" h="4827">
                <a:moveTo>
                  <a:pt x="9652" y="16256"/>
                </a:moveTo>
                <a:cubicBezTo>
                  <a:pt x="9652" y="16296"/>
                  <a:pt x="9649" y="16256"/>
                  <a:pt x="9716" y="16256"/>
                </a:cubicBezTo>
              </a:path>
              <a:path w="22036" h="4827">
                <a:moveTo>
                  <a:pt x="10224" y="14859"/>
                </a:moveTo>
                <a:cubicBezTo>
                  <a:pt x="10213" y="14859"/>
                  <a:pt x="10203" y="14859"/>
                  <a:pt x="10192" y="14859"/>
                </a:cubicBezTo>
                <a:cubicBezTo>
                  <a:pt x="10194" y="14854"/>
                  <a:pt x="10219" y="14768"/>
                  <a:pt x="10224" y="14764"/>
                </a:cubicBezTo>
                <a:cubicBezTo>
                  <a:pt x="10265" y="14730"/>
                  <a:pt x="10279" y="14683"/>
                  <a:pt x="10319" y="14637"/>
                </a:cubicBezTo>
                <a:cubicBezTo>
                  <a:pt x="10353" y="14599"/>
                  <a:pt x="10401" y="14556"/>
                  <a:pt x="10446" y="14542"/>
                </a:cubicBezTo>
                <a:cubicBezTo>
                  <a:pt x="10482" y="14530"/>
                  <a:pt x="10534" y="14560"/>
                  <a:pt x="10541" y="14573"/>
                </a:cubicBezTo>
                <a:cubicBezTo>
                  <a:pt x="10572" y="14635"/>
                  <a:pt x="10517" y="14742"/>
                  <a:pt x="10509" y="14796"/>
                </a:cubicBezTo>
                <a:cubicBezTo>
                  <a:pt x="10495" y="14887"/>
                  <a:pt x="10471" y="14994"/>
                  <a:pt x="10446" y="15081"/>
                </a:cubicBezTo>
                <a:cubicBezTo>
                  <a:pt x="10425" y="15156"/>
                  <a:pt x="10393" y="15269"/>
                  <a:pt x="10350" y="15335"/>
                </a:cubicBezTo>
                <a:cubicBezTo>
                  <a:pt x="10334" y="15360"/>
                  <a:pt x="10259" y="15428"/>
                  <a:pt x="10255" y="15430"/>
                </a:cubicBezTo>
                <a:cubicBezTo>
                  <a:pt x="10245" y="15430"/>
                  <a:pt x="10234" y="15430"/>
                  <a:pt x="10224" y="15430"/>
                </a:cubicBezTo>
                <a:cubicBezTo>
                  <a:pt x="10272" y="15394"/>
                  <a:pt x="10289" y="15399"/>
                  <a:pt x="10350" y="15399"/>
                </a:cubicBezTo>
                <a:cubicBezTo>
                  <a:pt x="10449" y="15399"/>
                  <a:pt x="10522" y="15395"/>
                  <a:pt x="10604" y="15367"/>
                </a:cubicBezTo>
                <a:cubicBezTo>
                  <a:pt x="10646" y="15353"/>
                  <a:pt x="10718" y="15367"/>
                  <a:pt x="10763" y="15367"/>
                </a:cubicBezTo>
              </a:path>
              <a:path w="22036" h="4827">
                <a:moveTo>
                  <a:pt x="9906" y="15812"/>
                </a:moveTo>
                <a:cubicBezTo>
                  <a:pt x="9923" y="15862"/>
                  <a:pt x="9969" y="15843"/>
                  <a:pt x="10033" y="15843"/>
                </a:cubicBezTo>
                <a:cubicBezTo>
                  <a:pt x="10098" y="15843"/>
                  <a:pt x="10153" y="15812"/>
                  <a:pt x="10224" y="15812"/>
                </a:cubicBezTo>
                <a:cubicBezTo>
                  <a:pt x="10368" y="15812"/>
                  <a:pt x="10501" y="15821"/>
                  <a:pt x="10636" y="15843"/>
                </a:cubicBezTo>
                <a:cubicBezTo>
                  <a:pt x="10725" y="15857"/>
                  <a:pt x="10776" y="15850"/>
                  <a:pt x="10858" y="15907"/>
                </a:cubicBezTo>
                <a:cubicBezTo>
                  <a:pt x="10909" y="15942"/>
                  <a:pt x="10969" y="15938"/>
                  <a:pt x="11017" y="15970"/>
                </a:cubicBezTo>
                <a:cubicBezTo>
                  <a:pt x="11046" y="15999"/>
                  <a:pt x="11052" y="16010"/>
                  <a:pt x="11081" y="16002"/>
                </a:cubicBezTo>
              </a:path>
              <a:path w="22036" h="4827">
                <a:moveTo>
                  <a:pt x="10033" y="16224"/>
                </a:moveTo>
                <a:lnTo>
                  <a:pt x="10033" y="16224"/>
                </a:lnTo>
              </a:path>
              <a:path w="22036" h="4827">
                <a:moveTo>
                  <a:pt x="10033" y="16224"/>
                </a:moveTo>
                <a:lnTo>
                  <a:pt x="10033" y="16224"/>
                </a:lnTo>
              </a:path>
              <a:path w="22036" h="4827">
                <a:moveTo>
                  <a:pt x="9970" y="16224"/>
                </a:moveTo>
                <a:cubicBezTo>
                  <a:pt x="10006" y="16211"/>
                  <a:pt x="10025" y="16170"/>
                  <a:pt x="10065" y="16129"/>
                </a:cubicBezTo>
                <a:cubicBezTo>
                  <a:pt x="10090" y="16104"/>
                  <a:pt x="10152" y="16038"/>
                  <a:pt x="10160" y="16034"/>
                </a:cubicBezTo>
                <a:cubicBezTo>
                  <a:pt x="10201" y="16014"/>
                  <a:pt x="10236" y="16002"/>
                  <a:pt x="10287" y="16002"/>
                </a:cubicBezTo>
                <a:cubicBezTo>
                  <a:pt x="10354" y="16002"/>
                  <a:pt x="10350" y="16044"/>
                  <a:pt x="10350" y="16097"/>
                </a:cubicBezTo>
                <a:cubicBezTo>
                  <a:pt x="10350" y="16173"/>
                  <a:pt x="10353" y="16224"/>
                  <a:pt x="10319" y="16288"/>
                </a:cubicBezTo>
                <a:cubicBezTo>
                  <a:pt x="10286" y="16349"/>
                  <a:pt x="10279" y="16416"/>
                  <a:pt x="10255" y="16478"/>
                </a:cubicBezTo>
                <a:cubicBezTo>
                  <a:pt x="10231" y="16540"/>
                  <a:pt x="10197" y="16623"/>
                  <a:pt x="10160" y="16669"/>
                </a:cubicBezTo>
                <a:cubicBezTo>
                  <a:pt x="10123" y="16714"/>
                  <a:pt x="10091" y="16801"/>
                  <a:pt x="10065" y="16859"/>
                </a:cubicBezTo>
                <a:cubicBezTo>
                  <a:pt x="10045" y="16905"/>
                  <a:pt x="10006" y="16917"/>
                  <a:pt x="10001" y="16954"/>
                </a:cubicBezTo>
                <a:cubicBezTo>
                  <a:pt x="10001" y="16986"/>
                  <a:pt x="10001" y="16996"/>
                  <a:pt x="9970" y="16986"/>
                </a:cubicBezTo>
                <a:cubicBezTo>
                  <a:pt x="10028" y="16986"/>
                  <a:pt x="10045" y="16960"/>
                  <a:pt x="10096" y="16954"/>
                </a:cubicBezTo>
                <a:cubicBezTo>
                  <a:pt x="10161" y="16947"/>
                  <a:pt x="10173" y="16969"/>
                  <a:pt x="10224" y="16986"/>
                </a:cubicBezTo>
                <a:cubicBezTo>
                  <a:pt x="10262" y="16999"/>
                  <a:pt x="10313" y="17014"/>
                  <a:pt x="10350" y="17018"/>
                </a:cubicBezTo>
                <a:cubicBezTo>
                  <a:pt x="10397" y="17023"/>
                  <a:pt x="10416" y="16984"/>
                  <a:pt x="10446" y="16954"/>
                </a:cubicBezTo>
              </a:path>
              <a:path w="22036" h="4827">
                <a:moveTo>
                  <a:pt x="11366" y="15494"/>
                </a:moveTo>
                <a:cubicBezTo>
                  <a:pt x="11425" y="15494"/>
                  <a:pt x="11442" y="15522"/>
                  <a:pt x="11494" y="15526"/>
                </a:cubicBezTo>
                <a:cubicBezTo>
                  <a:pt x="11552" y="15530"/>
                  <a:pt x="11628" y="15540"/>
                  <a:pt x="11684" y="15558"/>
                </a:cubicBezTo>
                <a:cubicBezTo>
                  <a:pt x="11758" y="15582"/>
                  <a:pt x="11831" y="15602"/>
                  <a:pt x="11906" y="15621"/>
                </a:cubicBezTo>
                <a:cubicBezTo>
                  <a:pt x="11917" y="15621"/>
                  <a:pt x="11927" y="15621"/>
                  <a:pt x="11938" y="15621"/>
                </a:cubicBezTo>
              </a:path>
              <a:path w="22036" h="4827">
                <a:moveTo>
                  <a:pt x="11398" y="16066"/>
                </a:moveTo>
                <a:cubicBezTo>
                  <a:pt x="11387" y="16076"/>
                  <a:pt x="11377" y="16087"/>
                  <a:pt x="11366" y="16097"/>
                </a:cubicBezTo>
                <a:cubicBezTo>
                  <a:pt x="11422" y="16097"/>
                  <a:pt x="11511" y="16087"/>
                  <a:pt x="11557" y="16066"/>
                </a:cubicBezTo>
                <a:cubicBezTo>
                  <a:pt x="11633" y="16031"/>
                  <a:pt x="11727" y="16029"/>
                  <a:pt x="11811" y="16002"/>
                </a:cubicBezTo>
                <a:cubicBezTo>
                  <a:pt x="11872" y="15971"/>
                  <a:pt x="11891" y="15960"/>
                  <a:pt x="11938" y="15970"/>
                </a:cubicBezTo>
              </a:path>
              <a:path w="22036" h="4827">
                <a:moveTo>
                  <a:pt x="12414" y="15113"/>
                </a:moveTo>
                <a:cubicBezTo>
                  <a:pt x="12447" y="15232"/>
                  <a:pt x="12469" y="15371"/>
                  <a:pt x="12478" y="15494"/>
                </a:cubicBezTo>
                <a:cubicBezTo>
                  <a:pt x="12505" y="15850"/>
                  <a:pt x="12492" y="16218"/>
                  <a:pt x="12510" y="16574"/>
                </a:cubicBezTo>
                <a:cubicBezTo>
                  <a:pt x="12510" y="16786"/>
                  <a:pt x="12508" y="16850"/>
                  <a:pt x="12541" y="16986"/>
                </a:cubicBezTo>
              </a:path>
              <a:path w="22036" h="4827">
                <a:moveTo>
                  <a:pt x="10478" y="16034"/>
                </a:moveTo>
                <a:cubicBezTo>
                  <a:pt x="10433" y="16019"/>
                  <a:pt x="10391" y="16024"/>
                  <a:pt x="10350" y="16002"/>
                </a:cubicBezTo>
                <a:cubicBezTo>
                  <a:pt x="10304" y="15978"/>
                  <a:pt x="10273" y="15956"/>
                  <a:pt x="10224" y="15938"/>
                </a:cubicBezTo>
                <a:cubicBezTo>
                  <a:pt x="10187" y="15924"/>
                  <a:pt x="10133" y="15912"/>
                  <a:pt x="10096" y="15907"/>
                </a:cubicBezTo>
                <a:cubicBezTo>
                  <a:pt x="9978" y="15890"/>
                  <a:pt x="9819" y="15885"/>
                  <a:pt x="9716" y="15875"/>
                </a:cubicBezTo>
                <a:cubicBezTo>
                  <a:pt x="9553" y="15859"/>
                  <a:pt x="9392" y="15890"/>
                  <a:pt x="9239" y="15907"/>
                </a:cubicBezTo>
                <a:cubicBezTo>
                  <a:pt x="9160" y="15916"/>
                  <a:pt x="9124" y="15916"/>
                  <a:pt x="9049" y="15938"/>
                </a:cubicBezTo>
                <a:cubicBezTo>
                  <a:pt x="8982" y="15958"/>
                  <a:pt x="8895" y="15993"/>
                  <a:pt x="8826" y="16002"/>
                </a:cubicBezTo>
                <a:cubicBezTo>
                  <a:pt x="8750" y="16012"/>
                  <a:pt x="8677" y="16014"/>
                  <a:pt x="8604" y="16034"/>
                </a:cubicBezTo>
                <a:cubicBezTo>
                  <a:pt x="8528" y="16055"/>
                  <a:pt x="8461" y="16053"/>
                  <a:pt x="8382" y="16066"/>
                </a:cubicBezTo>
                <a:cubicBezTo>
                  <a:pt x="8303" y="16079"/>
                  <a:pt x="8244" y="16095"/>
                  <a:pt x="8160" y="16097"/>
                </a:cubicBezTo>
                <a:cubicBezTo>
                  <a:pt x="7923" y="16104"/>
                  <a:pt x="7688" y="16104"/>
                  <a:pt x="7461" y="16129"/>
                </a:cubicBezTo>
                <a:cubicBezTo>
                  <a:pt x="7388" y="16137"/>
                  <a:pt x="7338" y="16141"/>
                  <a:pt x="7271" y="16161"/>
                </a:cubicBezTo>
                <a:cubicBezTo>
                  <a:pt x="7223" y="16175"/>
                  <a:pt x="7158" y="16202"/>
                  <a:pt x="7112" y="16224"/>
                </a:cubicBezTo>
                <a:cubicBezTo>
                  <a:pt x="7053" y="16252"/>
                  <a:pt x="6999" y="16282"/>
                  <a:pt x="6953" y="16320"/>
                </a:cubicBezTo>
                <a:cubicBezTo>
                  <a:pt x="6896" y="16367"/>
                  <a:pt x="6861" y="16428"/>
                  <a:pt x="6826" y="16478"/>
                </a:cubicBezTo>
                <a:cubicBezTo>
                  <a:pt x="6785" y="16536"/>
                  <a:pt x="6772" y="16563"/>
                  <a:pt x="6763" y="16637"/>
                </a:cubicBezTo>
                <a:cubicBezTo>
                  <a:pt x="6751" y="16731"/>
                  <a:pt x="6777" y="16843"/>
                  <a:pt x="6794" y="16891"/>
                </a:cubicBezTo>
                <a:cubicBezTo>
                  <a:pt x="6810" y="16934"/>
                  <a:pt x="6795" y="16965"/>
                  <a:pt x="6826" y="16986"/>
                </a:cubicBezTo>
                <a:cubicBezTo>
                  <a:pt x="6861" y="17010"/>
                  <a:pt x="6913" y="17024"/>
                  <a:pt x="6953" y="17050"/>
                </a:cubicBezTo>
                <a:cubicBezTo>
                  <a:pt x="6996" y="17078"/>
                  <a:pt x="7038" y="17090"/>
                  <a:pt x="7080" y="17113"/>
                </a:cubicBezTo>
                <a:cubicBezTo>
                  <a:pt x="7122" y="17136"/>
                  <a:pt x="7167" y="17155"/>
                  <a:pt x="7207" y="17177"/>
                </a:cubicBezTo>
                <a:cubicBezTo>
                  <a:pt x="7297" y="17227"/>
                  <a:pt x="7306" y="17216"/>
                  <a:pt x="7398" y="17240"/>
                </a:cubicBezTo>
                <a:cubicBezTo>
                  <a:pt x="7478" y="17261"/>
                  <a:pt x="7568" y="17284"/>
                  <a:pt x="7652" y="17304"/>
                </a:cubicBezTo>
                <a:cubicBezTo>
                  <a:pt x="7743" y="17326"/>
                  <a:pt x="7808" y="17333"/>
                  <a:pt x="7906" y="17336"/>
                </a:cubicBezTo>
                <a:cubicBezTo>
                  <a:pt x="8016" y="17339"/>
                  <a:pt x="8121" y="17357"/>
                  <a:pt x="8223" y="17367"/>
                </a:cubicBezTo>
                <a:cubicBezTo>
                  <a:pt x="8325" y="17377"/>
                  <a:pt x="8447" y="17393"/>
                  <a:pt x="8541" y="17399"/>
                </a:cubicBezTo>
                <a:cubicBezTo>
                  <a:pt x="8651" y="17406"/>
                  <a:pt x="8752" y="17420"/>
                  <a:pt x="8858" y="17431"/>
                </a:cubicBezTo>
                <a:cubicBezTo>
                  <a:pt x="8965" y="17442"/>
                  <a:pt x="9070" y="17453"/>
                  <a:pt x="9176" y="17462"/>
                </a:cubicBezTo>
                <a:cubicBezTo>
                  <a:pt x="9275" y="17470"/>
                  <a:pt x="9435" y="17499"/>
                  <a:pt x="9525" y="17494"/>
                </a:cubicBezTo>
                <a:cubicBezTo>
                  <a:pt x="9607" y="17490"/>
                  <a:pt x="9764" y="17487"/>
                  <a:pt x="9842" y="17462"/>
                </a:cubicBezTo>
                <a:cubicBezTo>
                  <a:pt x="9942" y="17430"/>
                  <a:pt x="10027" y="17390"/>
                  <a:pt x="10128" y="17367"/>
                </a:cubicBezTo>
                <a:cubicBezTo>
                  <a:pt x="10230" y="17344"/>
                  <a:pt x="10314" y="17304"/>
                  <a:pt x="10414" y="17272"/>
                </a:cubicBezTo>
                <a:cubicBezTo>
                  <a:pt x="10502" y="17244"/>
                  <a:pt x="10581" y="17225"/>
                  <a:pt x="10668" y="17177"/>
                </a:cubicBezTo>
                <a:cubicBezTo>
                  <a:pt x="10758" y="17128"/>
                  <a:pt x="10854" y="17067"/>
                  <a:pt x="10922" y="16986"/>
                </a:cubicBezTo>
                <a:cubicBezTo>
                  <a:pt x="10977" y="16920"/>
                  <a:pt x="11044" y="16871"/>
                  <a:pt x="11081" y="16796"/>
                </a:cubicBezTo>
                <a:cubicBezTo>
                  <a:pt x="11105" y="16748"/>
                  <a:pt x="11133" y="16657"/>
                  <a:pt x="11144" y="16605"/>
                </a:cubicBezTo>
                <a:cubicBezTo>
                  <a:pt x="11160" y="16529"/>
                  <a:pt x="11129" y="16473"/>
                  <a:pt x="11112" y="16415"/>
                </a:cubicBezTo>
                <a:cubicBezTo>
                  <a:pt x="11089" y="16336"/>
                  <a:pt x="11062" y="16273"/>
                  <a:pt x="11017" y="16192"/>
                </a:cubicBezTo>
                <a:cubicBezTo>
                  <a:pt x="10989" y="16143"/>
                  <a:pt x="10931" y="16041"/>
                  <a:pt x="10890" y="16002"/>
                </a:cubicBezTo>
                <a:cubicBezTo>
                  <a:pt x="10817" y="15932"/>
                  <a:pt x="10730" y="15893"/>
                  <a:pt x="10636" y="15875"/>
                </a:cubicBezTo>
                <a:cubicBezTo>
                  <a:pt x="10562" y="15861"/>
                  <a:pt x="10478" y="15874"/>
                  <a:pt x="10414" y="15907"/>
                </a:cubicBezTo>
                <a:cubicBezTo>
                  <a:pt x="10360" y="15935"/>
                  <a:pt x="10306" y="15999"/>
                  <a:pt x="10255" y="16034"/>
                </a:cubicBezTo>
              </a:path>
              <a:path w="22036" h="4827">
                <a:moveTo>
                  <a:pt x="10954" y="17367"/>
                </a:moveTo>
                <a:cubicBezTo>
                  <a:pt x="10987" y="17416"/>
                  <a:pt x="11008" y="17477"/>
                  <a:pt x="11049" y="17526"/>
                </a:cubicBezTo>
                <a:cubicBezTo>
                  <a:pt x="11111" y="17600"/>
                  <a:pt x="11190" y="17668"/>
                  <a:pt x="11271" y="17716"/>
                </a:cubicBezTo>
                <a:cubicBezTo>
                  <a:pt x="11375" y="17778"/>
                  <a:pt x="11479" y="17814"/>
                  <a:pt x="11589" y="17844"/>
                </a:cubicBezTo>
                <a:cubicBezTo>
                  <a:pt x="11688" y="17871"/>
                  <a:pt x="11767" y="17873"/>
                  <a:pt x="11874" y="17875"/>
                </a:cubicBezTo>
                <a:cubicBezTo>
                  <a:pt x="11988" y="17878"/>
                  <a:pt x="12116" y="17871"/>
                  <a:pt x="12224" y="17844"/>
                </a:cubicBezTo>
                <a:cubicBezTo>
                  <a:pt x="12394" y="17802"/>
                  <a:pt x="12542" y="17710"/>
                  <a:pt x="12700" y="17653"/>
                </a:cubicBezTo>
                <a:cubicBezTo>
                  <a:pt x="12858" y="17596"/>
                  <a:pt x="12972" y="17556"/>
                  <a:pt x="13113" y="17462"/>
                </a:cubicBezTo>
                <a:cubicBezTo>
                  <a:pt x="13258" y="17366"/>
                  <a:pt x="13390" y="17283"/>
                  <a:pt x="13526" y="17177"/>
                </a:cubicBezTo>
                <a:cubicBezTo>
                  <a:pt x="13658" y="17074"/>
                  <a:pt x="13810" y="16992"/>
                  <a:pt x="13938" y="16891"/>
                </a:cubicBezTo>
                <a:cubicBezTo>
                  <a:pt x="14071" y="16785"/>
                  <a:pt x="14176" y="16670"/>
                  <a:pt x="14319" y="16574"/>
                </a:cubicBezTo>
                <a:cubicBezTo>
                  <a:pt x="14475" y="16469"/>
                  <a:pt x="14637" y="16381"/>
                  <a:pt x="14796" y="16288"/>
                </a:cubicBezTo>
                <a:cubicBezTo>
                  <a:pt x="14920" y="16216"/>
                  <a:pt x="15015" y="16202"/>
                  <a:pt x="15145" y="16161"/>
                </a:cubicBezTo>
                <a:cubicBezTo>
                  <a:pt x="15264" y="16124"/>
                  <a:pt x="15376" y="16072"/>
                  <a:pt x="15494" y="16034"/>
                </a:cubicBezTo>
                <a:cubicBezTo>
                  <a:pt x="15577" y="16008"/>
                  <a:pt x="15661" y="15967"/>
                  <a:pt x="15748" y="15938"/>
                </a:cubicBezTo>
                <a:cubicBezTo>
                  <a:pt x="15830" y="15911"/>
                  <a:pt x="15893" y="15898"/>
                  <a:pt x="15970" y="15875"/>
                </a:cubicBezTo>
                <a:cubicBezTo>
                  <a:pt x="16017" y="15861"/>
                  <a:pt x="16041" y="15851"/>
                  <a:pt x="16097" y="15843"/>
                </a:cubicBezTo>
                <a:cubicBezTo>
                  <a:pt x="16129" y="15843"/>
                  <a:pt x="16140" y="15843"/>
                  <a:pt x="16161" y="15843"/>
                </a:cubicBezTo>
              </a:path>
              <a:path w="22036" h="4827">
                <a:moveTo>
                  <a:pt x="15907" y="15684"/>
                </a:moveTo>
                <a:cubicBezTo>
                  <a:pt x="15991" y="15684"/>
                  <a:pt x="16059" y="15667"/>
                  <a:pt x="16129" y="15653"/>
                </a:cubicBezTo>
                <a:cubicBezTo>
                  <a:pt x="16221" y="15635"/>
                  <a:pt x="16308" y="15660"/>
                  <a:pt x="16383" y="15684"/>
                </a:cubicBezTo>
                <a:cubicBezTo>
                  <a:pt x="16415" y="15684"/>
                  <a:pt x="16425" y="15684"/>
                  <a:pt x="16446" y="15684"/>
                </a:cubicBezTo>
                <a:cubicBezTo>
                  <a:pt x="16446" y="15784"/>
                  <a:pt x="16394" y="15793"/>
                  <a:pt x="16351" y="15875"/>
                </a:cubicBezTo>
                <a:cubicBezTo>
                  <a:pt x="16298" y="15976"/>
                  <a:pt x="16254" y="16036"/>
                  <a:pt x="16192" y="16129"/>
                </a:cubicBezTo>
                <a:cubicBezTo>
                  <a:pt x="16150" y="16192"/>
                  <a:pt x="16139" y="16205"/>
                  <a:pt x="16066" y="16224"/>
                </a:cubicBezTo>
              </a:path>
              <a:path w="22036" h="4827">
                <a:moveTo>
                  <a:pt x="17082" y="14764"/>
                </a:moveTo>
                <a:cubicBezTo>
                  <a:pt x="17095" y="14817"/>
                  <a:pt x="17118" y="14844"/>
                  <a:pt x="17145" y="14891"/>
                </a:cubicBezTo>
                <a:cubicBezTo>
                  <a:pt x="17194" y="14976"/>
                  <a:pt x="17209" y="15057"/>
                  <a:pt x="17240" y="15145"/>
                </a:cubicBezTo>
                <a:cubicBezTo>
                  <a:pt x="17276" y="15247"/>
                  <a:pt x="17334" y="15307"/>
                  <a:pt x="17367" y="15399"/>
                </a:cubicBezTo>
                <a:cubicBezTo>
                  <a:pt x="17385" y="15450"/>
                  <a:pt x="17437" y="15547"/>
                  <a:pt x="17462" y="15589"/>
                </a:cubicBezTo>
                <a:cubicBezTo>
                  <a:pt x="17489" y="15634"/>
                  <a:pt x="17488" y="15640"/>
                  <a:pt x="17526" y="15653"/>
                </a:cubicBezTo>
              </a:path>
              <a:path w="22036" h="4827">
                <a:moveTo>
                  <a:pt x="17558" y="14637"/>
                </a:moveTo>
                <a:cubicBezTo>
                  <a:pt x="17527" y="14677"/>
                  <a:pt x="17475" y="14742"/>
                  <a:pt x="17462" y="14796"/>
                </a:cubicBezTo>
                <a:cubicBezTo>
                  <a:pt x="17439" y="14894"/>
                  <a:pt x="17396" y="14980"/>
                  <a:pt x="17367" y="15081"/>
                </a:cubicBezTo>
                <a:cubicBezTo>
                  <a:pt x="17324" y="15229"/>
                  <a:pt x="17281" y="15378"/>
                  <a:pt x="17240" y="15526"/>
                </a:cubicBezTo>
                <a:cubicBezTo>
                  <a:pt x="17206" y="15649"/>
                  <a:pt x="17183" y="15797"/>
                  <a:pt x="17113" y="15907"/>
                </a:cubicBezTo>
                <a:cubicBezTo>
                  <a:pt x="17084" y="15952"/>
                  <a:pt x="17089" y="15957"/>
                  <a:pt x="17050" y="15970"/>
                </a:cubicBezTo>
              </a:path>
              <a:path w="22036" h="4827">
                <a:moveTo>
                  <a:pt x="17653" y="15208"/>
                </a:moveTo>
                <a:cubicBezTo>
                  <a:pt x="17738" y="15208"/>
                  <a:pt x="17822" y="15208"/>
                  <a:pt x="17907" y="15208"/>
                </a:cubicBezTo>
              </a:path>
              <a:path w="22036" h="4827">
                <a:moveTo>
                  <a:pt x="18193" y="14796"/>
                </a:moveTo>
                <a:cubicBezTo>
                  <a:pt x="18196" y="14785"/>
                  <a:pt x="18246" y="14707"/>
                  <a:pt x="18256" y="14700"/>
                </a:cubicBezTo>
                <a:cubicBezTo>
                  <a:pt x="18279" y="14685"/>
                  <a:pt x="18354" y="14646"/>
                  <a:pt x="18383" y="14637"/>
                </a:cubicBezTo>
                <a:cubicBezTo>
                  <a:pt x="18417" y="14626"/>
                  <a:pt x="18474" y="14637"/>
                  <a:pt x="18510" y="14637"/>
                </a:cubicBezTo>
                <a:cubicBezTo>
                  <a:pt x="18510" y="14742"/>
                  <a:pt x="18503" y="14824"/>
                  <a:pt x="18478" y="14922"/>
                </a:cubicBezTo>
                <a:cubicBezTo>
                  <a:pt x="18468" y="14964"/>
                  <a:pt x="18466" y="15044"/>
                  <a:pt x="18447" y="15081"/>
                </a:cubicBezTo>
                <a:cubicBezTo>
                  <a:pt x="18420" y="15135"/>
                  <a:pt x="18366" y="15214"/>
                  <a:pt x="18352" y="15272"/>
                </a:cubicBezTo>
                <a:cubicBezTo>
                  <a:pt x="18337" y="15331"/>
                  <a:pt x="18321" y="15408"/>
                  <a:pt x="18288" y="15462"/>
                </a:cubicBezTo>
                <a:cubicBezTo>
                  <a:pt x="18262" y="15506"/>
                  <a:pt x="18261" y="15624"/>
                  <a:pt x="18224" y="15589"/>
                </a:cubicBezTo>
                <a:cubicBezTo>
                  <a:pt x="18198" y="15565"/>
                  <a:pt x="18282" y="15530"/>
                  <a:pt x="18288" y="15526"/>
                </a:cubicBezTo>
                <a:cubicBezTo>
                  <a:pt x="18337" y="15489"/>
                  <a:pt x="18353" y="15494"/>
                  <a:pt x="18415" y="15494"/>
                </a:cubicBezTo>
                <a:cubicBezTo>
                  <a:pt x="18487" y="15494"/>
                  <a:pt x="18457" y="15519"/>
                  <a:pt x="18510" y="15526"/>
                </a:cubicBezTo>
                <a:cubicBezTo>
                  <a:pt x="18523" y="15528"/>
                  <a:pt x="18593" y="15595"/>
                  <a:pt x="18606" y="15589"/>
                </a:cubicBezTo>
                <a:cubicBezTo>
                  <a:pt x="18606" y="15579"/>
                  <a:pt x="18606" y="15568"/>
                  <a:pt x="18606" y="15558"/>
                </a:cubicBezTo>
              </a:path>
              <a:path w="22036" h="4827">
                <a:moveTo>
                  <a:pt x="18828" y="14827"/>
                </a:moveTo>
                <a:cubicBezTo>
                  <a:pt x="18886" y="14827"/>
                  <a:pt x="18903" y="14853"/>
                  <a:pt x="18955" y="14859"/>
                </a:cubicBezTo>
                <a:cubicBezTo>
                  <a:pt x="19024" y="14867"/>
                  <a:pt x="19049" y="14843"/>
                  <a:pt x="19114" y="14827"/>
                </a:cubicBezTo>
                <a:cubicBezTo>
                  <a:pt x="19145" y="14827"/>
                  <a:pt x="19156" y="14827"/>
                  <a:pt x="19177" y="14827"/>
                </a:cubicBezTo>
              </a:path>
              <a:path w="22036" h="4827">
                <a:moveTo>
                  <a:pt x="18955" y="15113"/>
                </a:moveTo>
                <a:cubicBezTo>
                  <a:pt x="19022" y="15164"/>
                  <a:pt x="19030" y="15120"/>
                  <a:pt x="19114" y="15113"/>
                </a:cubicBezTo>
                <a:cubicBezTo>
                  <a:pt x="19165" y="15109"/>
                  <a:pt x="19182" y="15081"/>
                  <a:pt x="19240" y="15081"/>
                </a:cubicBezTo>
                <a:cubicBezTo>
                  <a:pt x="19251" y="15081"/>
                  <a:pt x="19261" y="15081"/>
                  <a:pt x="19272" y="15081"/>
                </a:cubicBezTo>
              </a:path>
              <a:path w="22036" h="4827">
                <a:moveTo>
                  <a:pt x="19558" y="14637"/>
                </a:moveTo>
                <a:cubicBezTo>
                  <a:pt x="19596" y="14624"/>
                  <a:pt x="19611" y="14584"/>
                  <a:pt x="19653" y="14542"/>
                </a:cubicBezTo>
                <a:cubicBezTo>
                  <a:pt x="19694" y="14501"/>
                  <a:pt x="19703" y="14459"/>
                  <a:pt x="19748" y="14414"/>
                </a:cubicBezTo>
                <a:cubicBezTo>
                  <a:pt x="19790" y="14373"/>
                  <a:pt x="19820" y="14383"/>
                  <a:pt x="19876" y="14383"/>
                </a:cubicBezTo>
                <a:cubicBezTo>
                  <a:pt x="19886" y="14383"/>
                  <a:pt x="19897" y="14383"/>
                  <a:pt x="19907" y="14383"/>
                </a:cubicBezTo>
                <a:cubicBezTo>
                  <a:pt x="19907" y="14468"/>
                  <a:pt x="19889" y="14527"/>
                  <a:pt x="19876" y="14605"/>
                </a:cubicBezTo>
                <a:cubicBezTo>
                  <a:pt x="19860" y="14700"/>
                  <a:pt x="19848" y="14798"/>
                  <a:pt x="19812" y="14891"/>
                </a:cubicBezTo>
                <a:cubicBezTo>
                  <a:pt x="19772" y="14996"/>
                  <a:pt x="19728" y="15104"/>
                  <a:pt x="19685" y="15208"/>
                </a:cubicBezTo>
                <a:cubicBezTo>
                  <a:pt x="19657" y="15276"/>
                  <a:pt x="19630" y="15371"/>
                  <a:pt x="19590" y="15430"/>
                </a:cubicBezTo>
                <a:cubicBezTo>
                  <a:pt x="19559" y="15476"/>
                  <a:pt x="19468" y="15494"/>
                  <a:pt x="19526" y="15494"/>
                </a:cubicBezTo>
                <a:cubicBezTo>
                  <a:pt x="19582" y="15494"/>
                  <a:pt x="19606" y="15446"/>
                  <a:pt x="19653" y="15430"/>
                </a:cubicBezTo>
                <a:cubicBezTo>
                  <a:pt x="19701" y="15414"/>
                  <a:pt x="19768" y="15412"/>
                  <a:pt x="19812" y="15399"/>
                </a:cubicBezTo>
                <a:cubicBezTo>
                  <a:pt x="19876" y="15380"/>
                  <a:pt x="19944" y="15387"/>
                  <a:pt x="20002" y="15367"/>
                </a:cubicBezTo>
                <a:cubicBezTo>
                  <a:pt x="20045" y="15352"/>
                  <a:pt x="20092" y="15360"/>
                  <a:pt x="20130" y="15335"/>
                </a:cubicBezTo>
                <a:cubicBezTo>
                  <a:pt x="20178" y="15304"/>
                  <a:pt x="20198" y="15255"/>
                  <a:pt x="20225" y="15208"/>
                </a:cubicBezTo>
              </a:path>
              <a:path w="22036" h="4827">
                <a:moveTo>
                  <a:pt x="18193" y="15938"/>
                </a:moveTo>
                <a:cubicBezTo>
                  <a:pt x="18168" y="16000"/>
                  <a:pt x="18193" y="16074"/>
                  <a:pt x="18193" y="16161"/>
                </a:cubicBezTo>
                <a:cubicBezTo>
                  <a:pt x="18193" y="16277"/>
                  <a:pt x="18193" y="16394"/>
                  <a:pt x="18193" y="16510"/>
                </a:cubicBezTo>
              </a:path>
              <a:path w="22036" h="4827">
                <a:moveTo>
                  <a:pt x="18066" y="16383"/>
                </a:moveTo>
                <a:cubicBezTo>
                  <a:pt x="18112" y="16372"/>
                  <a:pt x="18151" y="16329"/>
                  <a:pt x="18193" y="16320"/>
                </a:cubicBezTo>
                <a:cubicBezTo>
                  <a:pt x="18289" y="16300"/>
                  <a:pt x="18267" y="16317"/>
                  <a:pt x="18320" y="16224"/>
                </a:cubicBezTo>
              </a:path>
              <a:path w="22036" h="4827">
                <a:moveTo>
                  <a:pt x="18510" y="16034"/>
                </a:moveTo>
                <a:cubicBezTo>
                  <a:pt x="18538" y="16013"/>
                  <a:pt x="18597" y="15974"/>
                  <a:pt x="18606" y="15970"/>
                </a:cubicBezTo>
                <a:cubicBezTo>
                  <a:pt x="18658" y="15943"/>
                  <a:pt x="18698" y="15989"/>
                  <a:pt x="18701" y="16034"/>
                </a:cubicBezTo>
                <a:cubicBezTo>
                  <a:pt x="18709" y="16147"/>
                  <a:pt x="18649" y="16270"/>
                  <a:pt x="18637" y="16383"/>
                </a:cubicBezTo>
                <a:cubicBezTo>
                  <a:pt x="18633" y="16420"/>
                  <a:pt x="18636" y="16613"/>
                  <a:pt x="18606" y="16637"/>
                </a:cubicBezTo>
                <a:cubicBezTo>
                  <a:pt x="18553" y="16679"/>
                  <a:pt x="18651" y="16620"/>
                  <a:pt x="18669" y="16605"/>
                </a:cubicBezTo>
                <a:cubicBezTo>
                  <a:pt x="18710" y="16569"/>
                  <a:pt x="18750" y="16562"/>
                  <a:pt x="18796" y="16542"/>
                </a:cubicBezTo>
                <a:cubicBezTo>
                  <a:pt x="18817" y="16531"/>
                  <a:pt x="18839" y="16521"/>
                  <a:pt x="18860" y="16510"/>
                </a:cubicBezTo>
              </a:path>
              <a:path w="22036" h="4827">
                <a:moveTo>
                  <a:pt x="19590" y="15970"/>
                </a:moveTo>
                <a:cubicBezTo>
                  <a:pt x="19590" y="16068"/>
                  <a:pt x="19601" y="16133"/>
                  <a:pt x="19622" y="16224"/>
                </a:cubicBezTo>
                <a:cubicBezTo>
                  <a:pt x="19635" y="16279"/>
                  <a:pt x="19600" y="16270"/>
                  <a:pt x="19653" y="16288"/>
                </a:cubicBezTo>
              </a:path>
              <a:path w="22036" h="4827">
                <a:moveTo>
                  <a:pt x="19463" y="16415"/>
                </a:moveTo>
                <a:cubicBezTo>
                  <a:pt x="19534" y="16357"/>
                  <a:pt x="19575" y="16338"/>
                  <a:pt x="19622" y="16256"/>
                </a:cubicBezTo>
              </a:path>
              <a:path w="22036" h="4827">
                <a:moveTo>
                  <a:pt x="19907" y="15938"/>
                </a:moveTo>
                <a:cubicBezTo>
                  <a:pt x="19920" y="15901"/>
                  <a:pt x="19934" y="15885"/>
                  <a:pt x="19971" y="15843"/>
                </a:cubicBezTo>
                <a:cubicBezTo>
                  <a:pt x="19997" y="15814"/>
                  <a:pt x="20088" y="15763"/>
                  <a:pt x="20098" y="15748"/>
                </a:cubicBezTo>
                <a:cubicBezTo>
                  <a:pt x="20098" y="15737"/>
                  <a:pt x="20098" y="15727"/>
                  <a:pt x="20098" y="15716"/>
                </a:cubicBezTo>
                <a:cubicBezTo>
                  <a:pt x="20174" y="15792"/>
                  <a:pt x="20161" y="15827"/>
                  <a:pt x="20161" y="15938"/>
                </a:cubicBezTo>
                <a:cubicBezTo>
                  <a:pt x="20161" y="16061"/>
                  <a:pt x="20134" y="16167"/>
                  <a:pt x="20130" y="16288"/>
                </a:cubicBezTo>
                <a:cubicBezTo>
                  <a:pt x="20126" y="16395"/>
                  <a:pt x="20090" y="16445"/>
                  <a:pt x="20066" y="16542"/>
                </a:cubicBezTo>
                <a:cubicBezTo>
                  <a:pt x="20066" y="16553"/>
                  <a:pt x="20066" y="16563"/>
                  <a:pt x="20066" y="16574"/>
                </a:cubicBezTo>
                <a:cubicBezTo>
                  <a:pt x="20096" y="16566"/>
                  <a:pt x="20166" y="16557"/>
                  <a:pt x="20193" y="16542"/>
                </a:cubicBezTo>
                <a:cubicBezTo>
                  <a:pt x="20252" y="16509"/>
                  <a:pt x="20276" y="16510"/>
                  <a:pt x="20352" y="16510"/>
                </a:cubicBezTo>
                <a:cubicBezTo>
                  <a:pt x="20434" y="16510"/>
                  <a:pt x="20434" y="16511"/>
                  <a:pt x="20510" y="16478"/>
                </a:cubicBezTo>
              </a:path>
              <a:path w="22036" h="4827">
                <a:moveTo>
                  <a:pt x="21463" y="15018"/>
                </a:moveTo>
                <a:cubicBezTo>
                  <a:pt x="21486" y="15026"/>
                  <a:pt x="21573" y="15071"/>
                  <a:pt x="21590" y="15113"/>
                </a:cubicBezTo>
                <a:cubicBezTo>
                  <a:pt x="21638" y="15228"/>
                  <a:pt x="21653" y="15352"/>
                  <a:pt x="21717" y="15462"/>
                </a:cubicBezTo>
                <a:cubicBezTo>
                  <a:pt x="21779" y="15569"/>
                  <a:pt x="21850" y="15670"/>
                  <a:pt x="21908" y="15780"/>
                </a:cubicBezTo>
                <a:cubicBezTo>
                  <a:pt x="21938" y="15838"/>
                  <a:pt x="22000" y="15941"/>
                  <a:pt x="22066" y="15970"/>
                </a:cubicBezTo>
                <a:cubicBezTo>
                  <a:pt x="22077" y="15970"/>
                  <a:pt x="22087" y="15970"/>
                  <a:pt x="22098" y="15970"/>
                </a:cubicBezTo>
              </a:path>
              <a:path w="22036" h="4827">
                <a:moveTo>
                  <a:pt x="21971" y="14891"/>
                </a:moveTo>
                <a:cubicBezTo>
                  <a:pt x="21947" y="14938"/>
                  <a:pt x="21953" y="14903"/>
                  <a:pt x="21939" y="14954"/>
                </a:cubicBezTo>
                <a:cubicBezTo>
                  <a:pt x="21897" y="15113"/>
                  <a:pt x="21851" y="15269"/>
                  <a:pt x="21812" y="15430"/>
                </a:cubicBezTo>
                <a:cubicBezTo>
                  <a:pt x="21762" y="15634"/>
                  <a:pt x="21708" y="15833"/>
                  <a:pt x="21654" y="16034"/>
                </a:cubicBezTo>
                <a:cubicBezTo>
                  <a:pt x="21608" y="16205"/>
                  <a:pt x="21599" y="16379"/>
                  <a:pt x="21526" y="16542"/>
                </a:cubicBezTo>
                <a:cubicBezTo>
                  <a:pt x="21470" y="16667"/>
                  <a:pt x="21501" y="16605"/>
                  <a:pt x="21463" y="16605"/>
                </a:cubicBezTo>
              </a:path>
              <a:path w="22036" h="4827">
                <a:moveTo>
                  <a:pt x="22162" y="15462"/>
                </a:moveTo>
                <a:cubicBezTo>
                  <a:pt x="22210" y="15414"/>
                  <a:pt x="22221" y="15399"/>
                  <a:pt x="22288" y="15399"/>
                </a:cubicBezTo>
                <a:cubicBezTo>
                  <a:pt x="22362" y="15399"/>
                  <a:pt x="22437" y="15399"/>
                  <a:pt x="22511" y="15399"/>
                </a:cubicBezTo>
              </a:path>
              <a:path w="22036" h="4827">
                <a:moveTo>
                  <a:pt x="22352" y="15780"/>
                </a:moveTo>
                <a:cubicBezTo>
                  <a:pt x="22341" y="15780"/>
                  <a:pt x="22331" y="15780"/>
                  <a:pt x="22320" y="15780"/>
                </a:cubicBezTo>
                <a:cubicBezTo>
                  <a:pt x="22383" y="15827"/>
                  <a:pt x="22385" y="15816"/>
                  <a:pt x="22447" y="15780"/>
                </a:cubicBezTo>
                <a:cubicBezTo>
                  <a:pt x="22527" y="15734"/>
                  <a:pt x="22569" y="15657"/>
                  <a:pt x="22638" y="15589"/>
                </a:cubicBezTo>
              </a:path>
              <a:path w="22036" h="4827">
                <a:moveTo>
                  <a:pt x="22924" y="14668"/>
                </a:moveTo>
                <a:cubicBezTo>
                  <a:pt x="22943" y="14727"/>
                  <a:pt x="22955" y="14700"/>
                  <a:pt x="22955" y="14796"/>
                </a:cubicBezTo>
                <a:cubicBezTo>
                  <a:pt x="22955" y="14919"/>
                  <a:pt x="22928" y="15024"/>
                  <a:pt x="22924" y="15145"/>
                </a:cubicBezTo>
                <a:cubicBezTo>
                  <a:pt x="22922" y="15222"/>
                  <a:pt x="22921" y="15387"/>
                  <a:pt x="22892" y="15462"/>
                </a:cubicBezTo>
                <a:cubicBezTo>
                  <a:pt x="22881" y="15473"/>
                  <a:pt x="22871" y="15483"/>
                  <a:pt x="22860" y="15494"/>
                </a:cubicBezTo>
                <a:cubicBezTo>
                  <a:pt x="22898" y="15481"/>
                  <a:pt x="22913" y="15441"/>
                  <a:pt x="22955" y="15399"/>
                </a:cubicBezTo>
                <a:cubicBezTo>
                  <a:pt x="22992" y="15362"/>
                  <a:pt x="23036" y="15319"/>
                  <a:pt x="23082" y="15304"/>
                </a:cubicBezTo>
                <a:cubicBezTo>
                  <a:pt x="23140" y="15285"/>
                  <a:pt x="23167" y="15321"/>
                  <a:pt x="23209" y="15335"/>
                </a:cubicBezTo>
                <a:cubicBezTo>
                  <a:pt x="23261" y="15352"/>
                  <a:pt x="23332" y="15336"/>
                  <a:pt x="23368" y="15304"/>
                </a:cubicBezTo>
                <a:cubicBezTo>
                  <a:pt x="23379" y="15293"/>
                  <a:pt x="23389" y="15283"/>
                  <a:pt x="23400" y="15272"/>
                </a:cubicBezTo>
              </a:path>
              <a:path w="22036" h="4827">
                <a:moveTo>
                  <a:pt x="23336" y="14446"/>
                </a:moveTo>
                <a:cubicBezTo>
                  <a:pt x="23294" y="14543"/>
                  <a:pt x="23304" y="14624"/>
                  <a:pt x="23304" y="14732"/>
                </a:cubicBezTo>
                <a:cubicBezTo>
                  <a:pt x="23304" y="14927"/>
                  <a:pt x="23299" y="15111"/>
                  <a:pt x="23336" y="15304"/>
                </a:cubicBezTo>
                <a:cubicBezTo>
                  <a:pt x="23370" y="15483"/>
                  <a:pt x="23389" y="15661"/>
                  <a:pt x="23400" y="15843"/>
                </a:cubicBezTo>
              </a:path>
              <a:path w="22036" h="4827">
                <a:moveTo>
                  <a:pt x="22320" y="16859"/>
                </a:moveTo>
                <a:cubicBezTo>
                  <a:pt x="22385" y="16866"/>
                  <a:pt x="22400" y="16895"/>
                  <a:pt x="22479" y="16891"/>
                </a:cubicBezTo>
                <a:cubicBezTo>
                  <a:pt x="22608" y="16884"/>
                  <a:pt x="22774" y="16820"/>
                  <a:pt x="22892" y="16764"/>
                </a:cubicBezTo>
                <a:cubicBezTo>
                  <a:pt x="23050" y="16689"/>
                  <a:pt x="23210" y="16618"/>
                  <a:pt x="23368" y="16542"/>
                </a:cubicBezTo>
                <a:cubicBezTo>
                  <a:pt x="23539" y="16460"/>
                  <a:pt x="23648" y="16357"/>
                  <a:pt x="23781" y="16224"/>
                </a:cubicBezTo>
                <a:cubicBezTo>
                  <a:pt x="23932" y="16073"/>
                  <a:pt x="24056" y="15903"/>
                  <a:pt x="24162" y="15716"/>
                </a:cubicBezTo>
                <a:cubicBezTo>
                  <a:pt x="24272" y="15521"/>
                  <a:pt x="24330" y="15296"/>
                  <a:pt x="24384" y="15081"/>
                </a:cubicBezTo>
                <a:cubicBezTo>
                  <a:pt x="24428" y="14905"/>
                  <a:pt x="24465" y="14659"/>
                  <a:pt x="24448" y="14478"/>
                </a:cubicBezTo>
                <a:cubicBezTo>
                  <a:pt x="24430" y="14293"/>
                  <a:pt x="24383" y="14050"/>
                  <a:pt x="24320" y="13875"/>
                </a:cubicBezTo>
                <a:cubicBezTo>
                  <a:pt x="24260" y="13708"/>
                  <a:pt x="24186" y="13559"/>
                  <a:pt x="24066" y="13430"/>
                </a:cubicBezTo>
                <a:cubicBezTo>
                  <a:pt x="23961" y="13317"/>
                  <a:pt x="23832" y="13199"/>
                  <a:pt x="23686" y="13144"/>
                </a:cubicBezTo>
                <a:cubicBezTo>
                  <a:pt x="23539" y="13089"/>
                  <a:pt x="23395" y="13057"/>
                  <a:pt x="23241" y="13049"/>
                </a:cubicBezTo>
                <a:cubicBezTo>
                  <a:pt x="23036" y="13038"/>
                  <a:pt x="22766" y="13101"/>
                  <a:pt x="22574" y="13176"/>
                </a:cubicBezTo>
                <a:cubicBezTo>
                  <a:pt x="22324" y="13274"/>
                  <a:pt x="22123" y="13409"/>
                  <a:pt x="21908" y="13557"/>
                </a:cubicBezTo>
                <a:cubicBezTo>
                  <a:pt x="21737" y="13675"/>
                  <a:pt x="21603" y="13821"/>
                  <a:pt x="21463" y="13970"/>
                </a:cubicBezTo>
                <a:cubicBezTo>
                  <a:pt x="21319" y="14123"/>
                  <a:pt x="21179" y="14290"/>
                  <a:pt x="21082" y="14478"/>
                </a:cubicBezTo>
                <a:cubicBezTo>
                  <a:pt x="20962" y="14711"/>
                  <a:pt x="20852" y="14977"/>
                  <a:pt x="20828" y="15240"/>
                </a:cubicBezTo>
                <a:cubicBezTo>
                  <a:pt x="20810" y="15439"/>
                  <a:pt x="20785" y="15615"/>
                  <a:pt x="20828" y="15812"/>
                </a:cubicBezTo>
                <a:cubicBezTo>
                  <a:pt x="20861" y="15962"/>
                  <a:pt x="20893" y="16147"/>
                  <a:pt x="20955" y="16288"/>
                </a:cubicBezTo>
                <a:cubicBezTo>
                  <a:pt x="21018" y="16431"/>
                  <a:pt x="21144" y="16522"/>
                  <a:pt x="21241" y="16637"/>
                </a:cubicBezTo>
                <a:cubicBezTo>
                  <a:pt x="21346" y="16762"/>
                  <a:pt x="21428" y="16872"/>
                  <a:pt x="21590" y="16923"/>
                </a:cubicBezTo>
                <a:cubicBezTo>
                  <a:pt x="21697" y="16957"/>
                  <a:pt x="21856" y="16962"/>
                  <a:pt x="21971" y="16954"/>
                </a:cubicBezTo>
                <a:cubicBezTo>
                  <a:pt x="22111" y="16944"/>
                  <a:pt x="22252" y="16912"/>
                  <a:pt x="22384" y="16859"/>
                </a:cubicBezTo>
                <a:cubicBezTo>
                  <a:pt x="22526" y="16802"/>
                  <a:pt x="22654" y="16691"/>
                  <a:pt x="22796" y="16637"/>
                </a:cubicBezTo>
                <a:cubicBezTo>
                  <a:pt x="22922" y="16589"/>
                  <a:pt x="23076" y="16535"/>
                  <a:pt x="23209" y="16510"/>
                </a:cubicBezTo>
                <a:cubicBezTo>
                  <a:pt x="23241" y="16510"/>
                  <a:pt x="23272" y="16510"/>
                  <a:pt x="23304" y="165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Ink 16"/>
          <p:cNvSpPr/>
          <p:nvPr/>
        </p:nvSpPr>
        <p:spPr>
          <a:xfrm>
            <a:off x="1303200" y="2732040"/>
            <a:ext cx="193680" cy="217440"/>
          </a:xfrm>
          <a:custGeom>
            <a:avLst/>
            <a:gdLst/>
            <a:ahLst/>
            <a:rect l="l" t="t" r="r" b="b"/>
            <a:pathLst>
              <a:path w="540" h="605">
                <a:moveTo>
                  <a:pt x="3683" y="7588"/>
                </a:moveTo>
                <a:cubicBezTo>
                  <a:pt x="3727" y="7633"/>
                  <a:pt x="3756" y="7664"/>
                  <a:pt x="3778" y="7715"/>
                </a:cubicBezTo>
                <a:cubicBezTo>
                  <a:pt x="3814" y="7798"/>
                  <a:pt x="3829" y="7895"/>
                  <a:pt x="3874" y="7969"/>
                </a:cubicBezTo>
                <a:cubicBezTo>
                  <a:pt x="3904" y="8018"/>
                  <a:pt x="3924" y="8052"/>
                  <a:pt x="3969" y="8096"/>
                </a:cubicBezTo>
              </a:path>
              <a:path w="540" h="605">
                <a:moveTo>
                  <a:pt x="4000" y="7588"/>
                </a:moveTo>
                <a:cubicBezTo>
                  <a:pt x="4000" y="7599"/>
                  <a:pt x="4000" y="7609"/>
                  <a:pt x="4000" y="7620"/>
                </a:cubicBezTo>
                <a:cubicBezTo>
                  <a:pt x="3960" y="7647"/>
                  <a:pt x="3953" y="7721"/>
                  <a:pt x="3905" y="7779"/>
                </a:cubicBezTo>
                <a:cubicBezTo>
                  <a:pt x="3841" y="7856"/>
                  <a:pt x="3802" y="7919"/>
                  <a:pt x="3746" y="8001"/>
                </a:cubicBezTo>
                <a:cubicBezTo>
                  <a:pt x="3733" y="8020"/>
                  <a:pt x="3656" y="8125"/>
                  <a:pt x="3651" y="8128"/>
                </a:cubicBezTo>
                <a:cubicBezTo>
                  <a:pt x="3641" y="8128"/>
                  <a:pt x="3630" y="8128"/>
                  <a:pt x="3620" y="8128"/>
                </a:cubicBezTo>
              </a:path>
              <a:path w="540" h="605">
                <a:moveTo>
                  <a:pt x="4096" y="7969"/>
                </a:moveTo>
                <a:cubicBezTo>
                  <a:pt x="4096" y="7980"/>
                  <a:pt x="4096" y="7990"/>
                  <a:pt x="4096" y="8001"/>
                </a:cubicBezTo>
                <a:cubicBezTo>
                  <a:pt x="4144" y="8017"/>
                  <a:pt x="4128" y="8039"/>
                  <a:pt x="4128" y="8096"/>
                </a:cubicBezTo>
                <a:cubicBezTo>
                  <a:pt x="4128" y="8157"/>
                  <a:pt x="4121" y="8166"/>
                  <a:pt x="4159" y="8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Ink 17"/>
          <p:cNvSpPr/>
          <p:nvPr/>
        </p:nvSpPr>
        <p:spPr>
          <a:xfrm>
            <a:off x="1679400" y="2754360"/>
            <a:ext cx="160560" cy="228600"/>
          </a:xfrm>
          <a:custGeom>
            <a:avLst/>
            <a:gdLst/>
            <a:ahLst/>
            <a:rect l="l" t="t" r="r" b="b"/>
            <a:pathLst>
              <a:path w="446" h="636">
                <a:moveTo>
                  <a:pt x="4667" y="7684"/>
                </a:moveTo>
                <a:cubicBezTo>
                  <a:pt x="4677" y="7724"/>
                  <a:pt x="4684" y="7769"/>
                  <a:pt x="4699" y="7810"/>
                </a:cubicBezTo>
                <a:cubicBezTo>
                  <a:pt x="4723" y="7876"/>
                  <a:pt x="4749" y="7932"/>
                  <a:pt x="4762" y="8001"/>
                </a:cubicBezTo>
                <a:cubicBezTo>
                  <a:pt x="4813" y="8018"/>
                  <a:pt x="4775" y="8016"/>
                  <a:pt x="4826" y="8033"/>
                </a:cubicBezTo>
              </a:path>
              <a:path w="446" h="636">
                <a:moveTo>
                  <a:pt x="4953" y="7652"/>
                </a:moveTo>
                <a:cubicBezTo>
                  <a:pt x="4953" y="7735"/>
                  <a:pt x="4934" y="7797"/>
                  <a:pt x="4921" y="7874"/>
                </a:cubicBezTo>
                <a:cubicBezTo>
                  <a:pt x="4905" y="7972"/>
                  <a:pt x="4879" y="8064"/>
                  <a:pt x="4858" y="8160"/>
                </a:cubicBezTo>
                <a:cubicBezTo>
                  <a:pt x="4850" y="8199"/>
                  <a:pt x="4858" y="8246"/>
                  <a:pt x="4858" y="8287"/>
                </a:cubicBezTo>
              </a:path>
              <a:path w="446" h="636">
                <a:moveTo>
                  <a:pt x="5112" y="7969"/>
                </a:moveTo>
                <a:cubicBezTo>
                  <a:pt x="5112" y="8032"/>
                  <a:pt x="5090" y="8080"/>
                  <a:pt x="5080" y="8128"/>
                </a:cubicBezTo>
                <a:cubicBezTo>
                  <a:pt x="5067" y="8194"/>
                  <a:pt x="5061" y="8248"/>
                  <a:pt x="5080" y="82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e of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fference in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in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of stud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of field tr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Ink 6"/>
          <p:cNvSpPr/>
          <p:nvPr/>
        </p:nvSpPr>
        <p:spPr>
          <a:xfrm>
            <a:off x="2629080" y="2239920"/>
            <a:ext cx="252360" cy="344520"/>
          </a:xfrm>
          <a:custGeom>
            <a:avLst/>
            <a:gdLst/>
            <a:ahLst/>
            <a:rect l="l" t="t" r="r" b="b"/>
            <a:pathLst>
              <a:path w="700" h="954">
                <a:moveTo>
                  <a:pt x="7366" y="6223"/>
                </a:moveTo>
                <a:cubicBezTo>
                  <a:pt x="7399" y="6267"/>
                  <a:pt x="7410" y="6302"/>
                  <a:pt x="7430" y="6350"/>
                </a:cubicBezTo>
                <a:cubicBezTo>
                  <a:pt x="7470" y="6447"/>
                  <a:pt x="7543" y="6517"/>
                  <a:pt x="7588" y="6604"/>
                </a:cubicBezTo>
                <a:cubicBezTo>
                  <a:pt x="7636" y="6696"/>
                  <a:pt x="7681" y="6805"/>
                  <a:pt x="7747" y="6890"/>
                </a:cubicBezTo>
                <a:cubicBezTo>
                  <a:pt x="7796" y="6953"/>
                  <a:pt x="7853" y="7022"/>
                  <a:pt x="7906" y="7080"/>
                </a:cubicBezTo>
                <a:cubicBezTo>
                  <a:pt x="7957" y="7137"/>
                  <a:pt x="7944" y="7141"/>
                  <a:pt x="8001" y="7112"/>
                </a:cubicBezTo>
              </a:path>
              <a:path w="700" h="954">
                <a:moveTo>
                  <a:pt x="8001" y="6223"/>
                </a:moveTo>
                <a:cubicBezTo>
                  <a:pt x="7956" y="6313"/>
                  <a:pt x="7906" y="6401"/>
                  <a:pt x="7842" y="6477"/>
                </a:cubicBezTo>
                <a:cubicBezTo>
                  <a:pt x="7765" y="6570"/>
                  <a:pt x="7700" y="6671"/>
                  <a:pt x="7620" y="6763"/>
                </a:cubicBezTo>
                <a:cubicBezTo>
                  <a:pt x="7526" y="6872"/>
                  <a:pt x="7349" y="6971"/>
                  <a:pt x="7302" y="7112"/>
                </a:cubicBezTo>
                <a:cubicBezTo>
                  <a:pt x="7302" y="7144"/>
                  <a:pt x="7302" y="7155"/>
                  <a:pt x="7302" y="7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Ink 7"/>
          <p:cNvSpPr/>
          <p:nvPr/>
        </p:nvSpPr>
        <p:spPr>
          <a:xfrm>
            <a:off x="6218280" y="2057400"/>
            <a:ext cx="320760" cy="617400"/>
          </a:xfrm>
          <a:custGeom>
            <a:avLst/>
            <a:gdLst/>
            <a:ahLst/>
            <a:rect l="l" t="t" r="r" b="b"/>
            <a:pathLst>
              <a:path w="890" h="1716">
                <a:moveTo>
                  <a:pt x="17336" y="5747"/>
                </a:moveTo>
                <a:cubicBezTo>
                  <a:pt x="17336" y="5811"/>
                  <a:pt x="17336" y="5810"/>
                  <a:pt x="17336" y="5874"/>
                </a:cubicBezTo>
                <a:cubicBezTo>
                  <a:pt x="17336" y="6041"/>
                  <a:pt x="17283" y="6298"/>
                  <a:pt x="17367" y="6445"/>
                </a:cubicBezTo>
                <a:cubicBezTo>
                  <a:pt x="17384" y="6475"/>
                  <a:pt x="17422" y="6560"/>
                  <a:pt x="17462" y="6572"/>
                </a:cubicBezTo>
                <a:cubicBezTo>
                  <a:pt x="17525" y="6590"/>
                  <a:pt x="17578" y="6548"/>
                  <a:pt x="17621" y="6509"/>
                </a:cubicBezTo>
                <a:cubicBezTo>
                  <a:pt x="17679" y="6457"/>
                  <a:pt x="17720" y="6358"/>
                  <a:pt x="17748" y="6286"/>
                </a:cubicBezTo>
                <a:cubicBezTo>
                  <a:pt x="17789" y="6180"/>
                  <a:pt x="17812" y="6113"/>
                  <a:pt x="17812" y="6001"/>
                </a:cubicBezTo>
                <a:cubicBezTo>
                  <a:pt x="17812" y="5937"/>
                  <a:pt x="17812" y="5874"/>
                  <a:pt x="17812" y="5810"/>
                </a:cubicBezTo>
                <a:cubicBezTo>
                  <a:pt x="17812" y="5943"/>
                  <a:pt x="17796" y="6066"/>
                  <a:pt x="17780" y="6191"/>
                </a:cubicBezTo>
                <a:cubicBezTo>
                  <a:pt x="17763" y="6325"/>
                  <a:pt x="17798" y="6445"/>
                  <a:pt x="17812" y="6572"/>
                </a:cubicBezTo>
                <a:cubicBezTo>
                  <a:pt x="17831" y="6743"/>
                  <a:pt x="17839" y="6983"/>
                  <a:pt x="17780" y="7144"/>
                </a:cubicBezTo>
                <a:cubicBezTo>
                  <a:pt x="17754" y="7215"/>
                  <a:pt x="17753" y="7317"/>
                  <a:pt x="17685" y="7366"/>
                </a:cubicBezTo>
                <a:cubicBezTo>
                  <a:pt x="17646" y="7394"/>
                  <a:pt x="17580" y="7448"/>
                  <a:pt x="17526" y="7430"/>
                </a:cubicBezTo>
                <a:cubicBezTo>
                  <a:pt x="17484" y="7416"/>
                  <a:pt x="17401" y="7332"/>
                  <a:pt x="17367" y="7302"/>
                </a:cubicBezTo>
                <a:cubicBezTo>
                  <a:pt x="17310" y="7250"/>
                  <a:pt x="17327" y="7149"/>
                  <a:pt x="17304" y="7080"/>
                </a:cubicBezTo>
                <a:cubicBezTo>
                  <a:pt x="17266" y="6966"/>
                  <a:pt x="17314" y="6901"/>
                  <a:pt x="17367" y="6794"/>
                </a:cubicBezTo>
                <a:cubicBezTo>
                  <a:pt x="17418" y="6692"/>
                  <a:pt x="17510" y="6620"/>
                  <a:pt x="17590" y="6540"/>
                </a:cubicBezTo>
                <a:cubicBezTo>
                  <a:pt x="17681" y="6449"/>
                  <a:pt x="17795" y="6383"/>
                  <a:pt x="17907" y="6318"/>
                </a:cubicBezTo>
                <a:cubicBezTo>
                  <a:pt x="18007" y="6260"/>
                  <a:pt x="18079" y="6178"/>
                  <a:pt x="18161" y="6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Ink 8"/>
          <p:cNvSpPr/>
          <p:nvPr/>
        </p:nvSpPr>
        <p:spPr>
          <a:xfrm>
            <a:off x="6743880" y="3132000"/>
            <a:ext cx="753840" cy="2057400"/>
          </a:xfrm>
          <a:custGeom>
            <a:avLst/>
            <a:gdLst/>
            <a:ahLst/>
            <a:rect l="l" t="t" r="r" b="b"/>
            <a:pathLst>
              <a:path w="2097" h="5715">
                <a:moveTo>
                  <a:pt x="18923" y="8890"/>
                </a:moveTo>
                <a:cubicBezTo>
                  <a:pt x="18946" y="8932"/>
                  <a:pt x="18947" y="8980"/>
                  <a:pt x="18986" y="9017"/>
                </a:cubicBezTo>
                <a:cubicBezTo>
                  <a:pt x="19022" y="9051"/>
                  <a:pt x="19106" y="9058"/>
                  <a:pt x="19145" y="9080"/>
                </a:cubicBezTo>
                <a:cubicBezTo>
                  <a:pt x="19196" y="9108"/>
                  <a:pt x="19283" y="9137"/>
                  <a:pt x="19336" y="9176"/>
                </a:cubicBezTo>
                <a:cubicBezTo>
                  <a:pt x="19386" y="9213"/>
                  <a:pt x="19454" y="9270"/>
                  <a:pt x="19494" y="9303"/>
                </a:cubicBezTo>
                <a:cubicBezTo>
                  <a:pt x="19528" y="9331"/>
                  <a:pt x="19554" y="9370"/>
                  <a:pt x="19558" y="9398"/>
                </a:cubicBezTo>
                <a:cubicBezTo>
                  <a:pt x="19566" y="9452"/>
                  <a:pt x="19534" y="9487"/>
                  <a:pt x="19494" y="9525"/>
                </a:cubicBezTo>
                <a:cubicBezTo>
                  <a:pt x="19466" y="9552"/>
                  <a:pt x="19373" y="9624"/>
                  <a:pt x="19336" y="9652"/>
                </a:cubicBezTo>
                <a:cubicBezTo>
                  <a:pt x="19277" y="9698"/>
                  <a:pt x="19201" y="9731"/>
                  <a:pt x="19145" y="9779"/>
                </a:cubicBezTo>
                <a:cubicBezTo>
                  <a:pt x="19078" y="9836"/>
                  <a:pt x="19025" y="9888"/>
                  <a:pt x="18955" y="9938"/>
                </a:cubicBezTo>
                <a:cubicBezTo>
                  <a:pt x="18907" y="9972"/>
                  <a:pt x="18878" y="10009"/>
                  <a:pt x="18828" y="10033"/>
                </a:cubicBezTo>
                <a:cubicBezTo>
                  <a:pt x="18817" y="10033"/>
                  <a:pt x="18807" y="10033"/>
                  <a:pt x="18796" y="10033"/>
                </a:cubicBezTo>
                <a:cubicBezTo>
                  <a:pt x="18828" y="10048"/>
                  <a:pt x="18882" y="10092"/>
                  <a:pt x="18891" y="10096"/>
                </a:cubicBezTo>
                <a:cubicBezTo>
                  <a:pt x="18938" y="10118"/>
                  <a:pt x="18948" y="10110"/>
                  <a:pt x="18986" y="10128"/>
                </a:cubicBezTo>
                <a:cubicBezTo>
                  <a:pt x="19037" y="10152"/>
                  <a:pt x="19087" y="10173"/>
                  <a:pt x="19145" y="10192"/>
                </a:cubicBezTo>
                <a:cubicBezTo>
                  <a:pt x="19222" y="10218"/>
                  <a:pt x="19291" y="10256"/>
                  <a:pt x="19368" y="10287"/>
                </a:cubicBezTo>
                <a:cubicBezTo>
                  <a:pt x="19435" y="10314"/>
                  <a:pt x="19494" y="10341"/>
                  <a:pt x="19558" y="10382"/>
                </a:cubicBezTo>
                <a:cubicBezTo>
                  <a:pt x="19603" y="10411"/>
                  <a:pt x="19666" y="10454"/>
                  <a:pt x="19717" y="10478"/>
                </a:cubicBezTo>
                <a:cubicBezTo>
                  <a:pt x="19764" y="10500"/>
                  <a:pt x="19778" y="10481"/>
                  <a:pt x="19812" y="10509"/>
                </a:cubicBezTo>
                <a:cubicBezTo>
                  <a:pt x="19812" y="10520"/>
                  <a:pt x="19812" y="10530"/>
                  <a:pt x="19812" y="10541"/>
                </a:cubicBezTo>
                <a:cubicBezTo>
                  <a:pt x="19759" y="10587"/>
                  <a:pt x="19766" y="10587"/>
                  <a:pt x="19717" y="10636"/>
                </a:cubicBezTo>
                <a:cubicBezTo>
                  <a:pt x="19658" y="10695"/>
                  <a:pt x="19588" y="10775"/>
                  <a:pt x="19526" y="10827"/>
                </a:cubicBezTo>
                <a:cubicBezTo>
                  <a:pt x="19440" y="10899"/>
                  <a:pt x="19382" y="10966"/>
                  <a:pt x="19304" y="11049"/>
                </a:cubicBezTo>
                <a:cubicBezTo>
                  <a:pt x="19204" y="11155"/>
                  <a:pt x="19101" y="11250"/>
                  <a:pt x="18986" y="11335"/>
                </a:cubicBezTo>
                <a:cubicBezTo>
                  <a:pt x="18939" y="11369"/>
                  <a:pt x="18868" y="11401"/>
                  <a:pt x="18828" y="11430"/>
                </a:cubicBezTo>
                <a:cubicBezTo>
                  <a:pt x="18780" y="11465"/>
                  <a:pt x="18777" y="11440"/>
                  <a:pt x="18796" y="11462"/>
                </a:cubicBezTo>
                <a:cubicBezTo>
                  <a:pt x="18800" y="11466"/>
                  <a:pt x="18914" y="11493"/>
                  <a:pt x="18923" y="11494"/>
                </a:cubicBezTo>
                <a:cubicBezTo>
                  <a:pt x="19023" y="11507"/>
                  <a:pt x="19113" y="11500"/>
                  <a:pt x="19209" y="11525"/>
                </a:cubicBezTo>
                <a:cubicBezTo>
                  <a:pt x="19285" y="11544"/>
                  <a:pt x="19356" y="11567"/>
                  <a:pt x="19431" y="11589"/>
                </a:cubicBezTo>
                <a:cubicBezTo>
                  <a:pt x="19495" y="11608"/>
                  <a:pt x="19555" y="11630"/>
                  <a:pt x="19622" y="11652"/>
                </a:cubicBezTo>
                <a:cubicBezTo>
                  <a:pt x="19657" y="11664"/>
                  <a:pt x="19756" y="11696"/>
                  <a:pt x="19780" y="11716"/>
                </a:cubicBezTo>
                <a:cubicBezTo>
                  <a:pt x="19851" y="11777"/>
                  <a:pt x="19844" y="11774"/>
                  <a:pt x="19812" y="11843"/>
                </a:cubicBezTo>
                <a:cubicBezTo>
                  <a:pt x="19776" y="11921"/>
                  <a:pt x="19614" y="12050"/>
                  <a:pt x="19558" y="12097"/>
                </a:cubicBezTo>
                <a:cubicBezTo>
                  <a:pt x="19475" y="12167"/>
                  <a:pt x="19390" y="12248"/>
                  <a:pt x="19304" y="12319"/>
                </a:cubicBezTo>
                <a:cubicBezTo>
                  <a:pt x="19203" y="12403"/>
                  <a:pt x="19096" y="12470"/>
                  <a:pt x="18986" y="12541"/>
                </a:cubicBezTo>
                <a:cubicBezTo>
                  <a:pt x="18937" y="12572"/>
                  <a:pt x="18910" y="12612"/>
                  <a:pt x="18860" y="12636"/>
                </a:cubicBezTo>
                <a:cubicBezTo>
                  <a:pt x="18849" y="12636"/>
                  <a:pt x="18839" y="12636"/>
                  <a:pt x="18828" y="12636"/>
                </a:cubicBezTo>
                <a:cubicBezTo>
                  <a:pt x="18876" y="12674"/>
                  <a:pt x="18888" y="12676"/>
                  <a:pt x="18923" y="12700"/>
                </a:cubicBezTo>
                <a:cubicBezTo>
                  <a:pt x="18934" y="12708"/>
                  <a:pt x="18981" y="12758"/>
                  <a:pt x="19018" y="12764"/>
                </a:cubicBezTo>
                <a:cubicBezTo>
                  <a:pt x="19116" y="12780"/>
                  <a:pt x="19208" y="12770"/>
                  <a:pt x="19304" y="12795"/>
                </a:cubicBezTo>
                <a:cubicBezTo>
                  <a:pt x="19373" y="12813"/>
                  <a:pt x="19435" y="12829"/>
                  <a:pt x="19494" y="12859"/>
                </a:cubicBezTo>
                <a:cubicBezTo>
                  <a:pt x="19589" y="12908"/>
                  <a:pt x="19652" y="12973"/>
                  <a:pt x="19717" y="13049"/>
                </a:cubicBezTo>
                <a:cubicBezTo>
                  <a:pt x="19744" y="13081"/>
                  <a:pt x="19793" y="13137"/>
                  <a:pt x="19812" y="13176"/>
                </a:cubicBezTo>
                <a:cubicBezTo>
                  <a:pt x="19830" y="13213"/>
                  <a:pt x="19846" y="13288"/>
                  <a:pt x="19844" y="13335"/>
                </a:cubicBezTo>
                <a:cubicBezTo>
                  <a:pt x="19843" y="13356"/>
                  <a:pt x="19796" y="13473"/>
                  <a:pt x="19780" y="13494"/>
                </a:cubicBezTo>
                <a:cubicBezTo>
                  <a:pt x="19774" y="13502"/>
                  <a:pt x="19674" y="13575"/>
                  <a:pt x="19653" y="13589"/>
                </a:cubicBezTo>
                <a:cubicBezTo>
                  <a:pt x="19604" y="13622"/>
                  <a:pt x="19516" y="13642"/>
                  <a:pt x="19463" y="13684"/>
                </a:cubicBezTo>
                <a:cubicBezTo>
                  <a:pt x="19306" y="13810"/>
                  <a:pt x="19165" y="13969"/>
                  <a:pt x="19018" y="14097"/>
                </a:cubicBezTo>
                <a:cubicBezTo>
                  <a:pt x="18908" y="14193"/>
                  <a:pt x="18824" y="14297"/>
                  <a:pt x="18732" y="14414"/>
                </a:cubicBezTo>
              </a:path>
              <a:path w="2097" h="5715">
                <a:moveTo>
                  <a:pt x="20320" y="12605"/>
                </a:moveTo>
                <a:cubicBezTo>
                  <a:pt x="20282" y="12605"/>
                  <a:pt x="20313" y="12585"/>
                  <a:pt x="20352" y="12541"/>
                </a:cubicBezTo>
                <a:cubicBezTo>
                  <a:pt x="20392" y="12496"/>
                  <a:pt x="20457" y="12435"/>
                  <a:pt x="20510" y="12414"/>
                </a:cubicBezTo>
                <a:cubicBezTo>
                  <a:pt x="20555" y="12396"/>
                  <a:pt x="20584" y="12382"/>
                  <a:pt x="20638" y="12382"/>
                </a:cubicBezTo>
                <a:cubicBezTo>
                  <a:pt x="20638" y="12457"/>
                  <a:pt x="20638" y="12503"/>
                  <a:pt x="20606" y="12573"/>
                </a:cubicBezTo>
                <a:cubicBezTo>
                  <a:pt x="20564" y="12665"/>
                  <a:pt x="20537" y="12775"/>
                  <a:pt x="20479" y="12859"/>
                </a:cubicBezTo>
                <a:cubicBezTo>
                  <a:pt x="20447" y="12904"/>
                  <a:pt x="20455" y="12909"/>
                  <a:pt x="20415" y="12922"/>
                </a:cubicBezTo>
                <a:cubicBezTo>
                  <a:pt x="20456" y="12868"/>
                  <a:pt x="20461" y="12835"/>
                  <a:pt x="20542" y="12827"/>
                </a:cubicBezTo>
                <a:cubicBezTo>
                  <a:pt x="20617" y="12820"/>
                  <a:pt x="20647" y="12847"/>
                  <a:pt x="20701" y="12859"/>
                </a:cubicBezTo>
                <a:cubicBezTo>
                  <a:pt x="20778" y="12876"/>
                  <a:pt x="20815" y="12927"/>
                  <a:pt x="20828" y="13018"/>
                </a:cubicBezTo>
                <a:cubicBezTo>
                  <a:pt x="20843" y="13129"/>
                  <a:pt x="20816" y="13261"/>
                  <a:pt x="20796" y="13367"/>
                </a:cubicBezTo>
                <a:cubicBezTo>
                  <a:pt x="20770" y="13506"/>
                  <a:pt x="20702" y="13594"/>
                  <a:pt x="20638" y="13716"/>
                </a:cubicBezTo>
                <a:cubicBezTo>
                  <a:pt x="20611" y="13768"/>
                  <a:pt x="20529" y="13868"/>
                  <a:pt x="20479" y="13875"/>
                </a:cubicBezTo>
                <a:cubicBezTo>
                  <a:pt x="20421" y="13875"/>
                  <a:pt x="20405" y="13880"/>
                  <a:pt x="20384" y="13843"/>
                </a:cubicBezTo>
              </a:path>
              <a:path w="2097" h="5715">
                <a:moveTo>
                  <a:pt x="20225" y="11017"/>
                </a:moveTo>
                <a:cubicBezTo>
                  <a:pt x="20214" y="11017"/>
                  <a:pt x="20204" y="11017"/>
                  <a:pt x="20193" y="11017"/>
                </a:cubicBezTo>
              </a:path>
              <a:path w="2097" h="5715">
                <a:moveTo>
                  <a:pt x="20638" y="11017"/>
                </a:moveTo>
                <a:cubicBezTo>
                  <a:pt x="20626" y="11114"/>
                  <a:pt x="20587" y="11182"/>
                  <a:pt x="20542" y="11271"/>
                </a:cubicBezTo>
                <a:cubicBezTo>
                  <a:pt x="20516" y="11322"/>
                  <a:pt x="20465" y="11434"/>
                  <a:pt x="20415" y="11462"/>
                </a:cubicBezTo>
                <a:cubicBezTo>
                  <a:pt x="20376" y="11484"/>
                  <a:pt x="20337" y="11494"/>
                  <a:pt x="20288" y="11494"/>
                </a:cubicBezTo>
                <a:cubicBezTo>
                  <a:pt x="20336" y="11446"/>
                  <a:pt x="20347" y="11430"/>
                  <a:pt x="20415" y="11430"/>
                </a:cubicBezTo>
                <a:cubicBezTo>
                  <a:pt x="20480" y="11430"/>
                  <a:pt x="20490" y="11444"/>
                  <a:pt x="20542" y="11462"/>
                </a:cubicBezTo>
                <a:cubicBezTo>
                  <a:pt x="20597" y="11480"/>
                  <a:pt x="20625" y="11512"/>
                  <a:pt x="20669" y="11557"/>
                </a:cubicBezTo>
                <a:cubicBezTo>
                  <a:pt x="20706" y="11594"/>
                  <a:pt x="20749" y="11637"/>
                  <a:pt x="20764" y="11684"/>
                </a:cubicBezTo>
                <a:cubicBezTo>
                  <a:pt x="20789" y="11761"/>
                  <a:pt x="20734" y="11812"/>
                  <a:pt x="20701" y="11874"/>
                </a:cubicBezTo>
                <a:cubicBezTo>
                  <a:pt x="20644" y="11981"/>
                  <a:pt x="20582" y="12014"/>
                  <a:pt x="20510" y="12097"/>
                </a:cubicBezTo>
                <a:cubicBezTo>
                  <a:pt x="20454" y="12162"/>
                  <a:pt x="20420" y="12217"/>
                  <a:pt x="20320" y="12224"/>
                </a:cubicBezTo>
                <a:cubicBezTo>
                  <a:pt x="20248" y="12229"/>
                  <a:pt x="20214" y="12232"/>
                  <a:pt x="20161" y="12192"/>
                </a:cubicBezTo>
              </a:path>
              <a:path w="2097" h="5715">
                <a:moveTo>
                  <a:pt x="20002" y="8763"/>
                </a:moveTo>
                <a:cubicBezTo>
                  <a:pt x="19919" y="8763"/>
                  <a:pt x="20052" y="8763"/>
                  <a:pt x="20066" y="8763"/>
                </a:cubicBezTo>
                <a:cubicBezTo>
                  <a:pt x="20122" y="8763"/>
                  <a:pt x="20145" y="8710"/>
                  <a:pt x="20193" y="8700"/>
                </a:cubicBezTo>
                <a:cubicBezTo>
                  <a:pt x="20289" y="8680"/>
                  <a:pt x="20430" y="8707"/>
                  <a:pt x="20479" y="8731"/>
                </a:cubicBezTo>
                <a:cubicBezTo>
                  <a:pt x="20529" y="8756"/>
                  <a:pt x="20504" y="8795"/>
                  <a:pt x="20479" y="8858"/>
                </a:cubicBezTo>
                <a:cubicBezTo>
                  <a:pt x="20444" y="8947"/>
                  <a:pt x="20387" y="8994"/>
                  <a:pt x="20320" y="9049"/>
                </a:cubicBezTo>
                <a:cubicBezTo>
                  <a:pt x="20282" y="9086"/>
                  <a:pt x="20267" y="9105"/>
                  <a:pt x="20256" y="9144"/>
                </a:cubicBezTo>
                <a:cubicBezTo>
                  <a:pt x="20332" y="9030"/>
                  <a:pt x="20296" y="9128"/>
                  <a:pt x="20384" y="9080"/>
                </a:cubicBezTo>
                <a:cubicBezTo>
                  <a:pt x="20422" y="9059"/>
                  <a:pt x="20457" y="9031"/>
                  <a:pt x="20510" y="9049"/>
                </a:cubicBezTo>
                <a:cubicBezTo>
                  <a:pt x="20596" y="9079"/>
                  <a:pt x="20647" y="9108"/>
                  <a:pt x="20669" y="9208"/>
                </a:cubicBezTo>
                <a:cubicBezTo>
                  <a:pt x="20681" y="9263"/>
                  <a:pt x="20713" y="9339"/>
                  <a:pt x="20701" y="9398"/>
                </a:cubicBezTo>
                <a:cubicBezTo>
                  <a:pt x="20679" y="9502"/>
                  <a:pt x="20680" y="9606"/>
                  <a:pt x="20606" y="9684"/>
                </a:cubicBezTo>
                <a:cubicBezTo>
                  <a:pt x="20538" y="9756"/>
                  <a:pt x="20499" y="9823"/>
                  <a:pt x="20415" y="9874"/>
                </a:cubicBezTo>
                <a:cubicBezTo>
                  <a:pt x="20321" y="9931"/>
                  <a:pt x="20305" y="9933"/>
                  <a:pt x="20225" y="9906"/>
                </a:cubicBezTo>
                <a:cubicBezTo>
                  <a:pt x="20151" y="9881"/>
                  <a:pt x="20137" y="9862"/>
                  <a:pt x="20130" y="9779"/>
                </a:cubicBezTo>
                <a:cubicBezTo>
                  <a:pt x="20126" y="9726"/>
                  <a:pt x="20190" y="9687"/>
                  <a:pt x="20225" y="9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Ink 9"/>
          <p:cNvSpPr/>
          <p:nvPr/>
        </p:nvSpPr>
        <p:spPr>
          <a:xfrm>
            <a:off x="3840120" y="1189080"/>
            <a:ext cx="549360" cy="525600"/>
          </a:xfrm>
          <a:custGeom>
            <a:avLst/>
            <a:gdLst/>
            <a:ahLst/>
            <a:rect l="l" t="t" r="r" b="b"/>
            <a:pathLst>
              <a:path w="1525" h="1461">
                <a:moveTo>
                  <a:pt x="10732" y="4159"/>
                </a:moveTo>
                <a:cubicBezTo>
                  <a:pt x="10732" y="4170"/>
                  <a:pt x="10732" y="4180"/>
                  <a:pt x="10732" y="4191"/>
                </a:cubicBezTo>
                <a:cubicBezTo>
                  <a:pt x="10911" y="4191"/>
                  <a:pt x="11114" y="4170"/>
                  <a:pt x="11271" y="4223"/>
                </a:cubicBezTo>
                <a:cubicBezTo>
                  <a:pt x="11303" y="4223"/>
                  <a:pt x="11314" y="4223"/>
                  <a:pt x="11335" y="4223"/>
                </a:cubicBezTo>
              </a:path>
              <a:path w="1525" h="1461">
                <a:moveTo>
                  <a:pt x="10700" y="4731"/>
                </a:moveTo>
                <a:cubicBezTo>
                  <a:pt x="10689" y="4741"/>
                  <a:pt x="10679" y="4752"/>
                  <a:pt x="10668" y="4762"/>
                </a:cubicBezTo>
                <a:cubicBezTo>
                  <a:pt x="10802" y="4762"/>
                  <a:pt x="10923" y="4753"/>
                  <a:pt x="11049" y="4731"/>
                </a:cubicBezTo>
                <a:cubicBezTo>
                  <a:pt x="11115" y="4720"/>
                  <a:pt x="11167" y="4762"/>
                  <a:pt x="11240" y="4762"/>
                </a:cubicBezTo>
                <a:cubicBezTo>
                  <a:pt x="11271" y="4762"/>
                  <a:pt x="11282" y="4762"/>
                  <a:pt x="11303" y="4762"/>
                </a:cubicBezTo>
              </a:path>
              <a:path w="1525" h="1461">
                <a:moveTo>
                  <a:pt x="11748" y="3334"/>
                </a:moveTo>
                <a:cubicBezTo>
                  <a:pt x="11757" y="3362"/>
                  <a:pt x="11798" y="3392"/>
                  <a:pt x="11843" y="3366"/>
                </a:cubicBezTo>
                <a:cubicBezTo>
                  <a:pt x="11910" y="3328"/>
                  <a:pt x="11965" y="3362"/>
                  <a:pt x="12033" y="3334"/>
                </a:cubicBezTo>
                <a:cubicBezTo>
                  <a:pt x="12089" y="3310"/>
                  <a:pt x="12124" y="3302"/>
                  <a:pt x="12192" y="3302"/>
                </a:cubicBezTo>
                <a:cubicBezTo>
                  <a:pt x="12146" y="3378"/>
                  <a:pt x="12138" y="3397"/>
                  <a:pt x="12065" y="3461"/>
                </a:cubicBezTo>
                <a:cubicBezTo>
                  <a:pt x="12002" y="3517"/>
                  <a:pt x="12017" y="3562"/>
                  <a:pt x="11970" y="3620"/>
                </a:cubicBezTo>
                <a:cubicBezTo>
                  <a:pt x="11928" y="3671"/>
                  <a:pt x="11801" y="3736"/>
                  <a:pt x="11874" y="3715"/>
                </a:cubicBezTo>
                <a:cubicBezTo>
                  <a:pt x="11946" y="3695"/>
                  <a:pt x="12009" y="3728"/>
                  <a:pt x="12065" y="3746"/>
                </a:cubicBezTo>
                <a:cubicBezTo>
                  <a:pt x="12119" y="3764"/>
                  <a:pt x="12141" y="3769"/>
                  <a:pt x="12160" y="3810"/>
                </a:cubicBezTo>
                <a:cubicBezTo>
                  <a:pt x="12190" y="3876"/>
                  <a:pt x="12216" y="3957"/>
                  <a:pt x="12192" y="4032"/>
                </a:cubicBezTo>
                <a:cubicBezTo>
                  <a:pt x="12176" y="4084"/>
                  <a:pt x="12109" y="4192"/>
                  <a:pt x="12065" y="4223"/>
                </a:cubicBezTo>
                <a:cubicBezTo>
                  <a:pt x="12007" y="4264"/>
                  <a:pt x="11911" y="4282"/>
                  <a:pt x="11843" y="4286"/>
                </a:cubicBezTo>
                <a:cubicBezTo>
                  <a:pt x="11768" y="4290"/>
                  <a:pt x="11717" y="4268"/>
                  <a:pt x="11684" y="4254"/>
                </a:cubicBezTo>
                <a:cubicBezTo>
                  <a:pt x="11618" y="4226"/>
                  <a:pt x="11673" y="4181"/>
                  <a:pt x="11716" y="4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Ink 10"/>
          <p:cNvSpPr/>
          <p:nvPr/>
        </p:nvSpPr>
        <p:spPr>
          <a:xfrm>
            <a:off x="4022640" y="1382760"/>
            <a:ext cx="1349640" cy="744480"/>
          </a:xfrm>
          <a:custGeom>
            <a:avLst/>
            <a:gdLst/>
            <a:ahLst/>
            <a:rect l="l" t="t" r="r" b="b"/>
            <a:pathLst>
              <a:path w="3747" h="2065">
                <a:moveTo>
                  <a:pt x="11335" y="4572"/>
                </a:moveTo>
                <a:cubicBezTo>
                  <a:pt x="11351" y="4620"/>
                  <a:pt x="11373" y="4604"/>
                  <a:pt x="11430" y="4604"/>
                </a:cubicBezTo>
                <a:cubicBezTo>
                  <a:pt x="11534" y="4604"/>
                  <a:pt x="11620" y="4585"/>
                  <a:pt x="11716" y="4572"/>
                </a:cubicBezTo>
                <a:cubicBezTo>
                  <a:pt x="11828" y="4557"/>
                  <a:pt x="11954" y="4545"/>
                  <a:pt x="12065" y="4540"/>
                </a:cubicBezTo>
                <a:cubicBezTo>
                  <a:pt x="12197" y="4534"/>
                  <a:pt x="12316" y="4514"/>
                  <a:pt x="12446" y="4508"/>
                </a:cubicBezTo>
                <a:cubicBezTo>
                  <a:pt x="12516" y="4505"/>
                  <a:pt x="12799" y="4508"/>
                  <a:pt x="12764" y="4508"/>
                </a:cubicBezTo>
              </a:path>
              <a:path w="3747" h="2065">
                <a:moveTo>
                  <a:pt x="11176" y="5302"/>
                </a:moveTo>
                <a:cubicBezTo>
                  <a:pt x="11241" y="5302"/>
                  <a:pt x="11251" y="5288"/>
                  <a:pt x="11303" y="5270"/>
                </a:cubicBezTo>
                <a:cubicBezTo>
                  <a:pt x="11344" y="5256"/>
                  <a:pt x="11421" y="5249"/>
                  <a:pt x="11462" y="5239"/>
                </a:cubicBezTo>
                <a:cubicBezTo>
                  <a:pt x="11489" y="5232"/>
                  <a:pt x="11529" y="5239"/>
                  <a:pt x="11557" y="5239"/>
                </a:cubicBezTo>
              </a:path>
              <a:path w="3747" h="2065">
                <a:moveTo>
                  <a:pt x="11970" y="5016"/>
                </a:moveTo>
                <a:cubicBezTo>
                  <a:pt x="11927" y="4995"/>
                  <a:pt x="11987" y="4968"/>
                  <a:pt x="12033" y="4953"/>
                </a:cubicBezTo>
                <a:cubicBezTo>
                  <a:pt x="12066" y="4942"/>
                  <a:pt x="12167" y="4887"/>
                  <a:pt x="12192" y="4890"/>
                </a:cubicBezTo>
                <a:cubicBezTo>
                  <a:pt x="12234" y="4895"/>
                  <a:pt x="12320" y="4925"/>
                  <a:pt x="12351" y="4953"/>
                </a:cubicBezTo>
                <a:cubicBezTo>
                  <a:pt x="12405" y="5001"/>
                  <a:pt x="12371" y="5087"/>
                  <a:pt x="12351" y="5144"/>
                </a:cubicBezTo>
                <a:cubicBezTo>
                  <a:pt x="12324" y="5219"/>
                  <a:pt x="12229" y="5337"/>
                  <a:pt x="12160" y="5366"/>
                </a:cubicBezTo>
                <a:cubicBezTo>
                  <a:pt x="12132" y="5378"/>
                  <a:pt x="12046" y="5435"/>
                  <a:pt x="12097" y="5398"/>
                </a:cubicBezTo>
                <a:cubicBezTo>
                  <a:pt x="12143" y="5364"/>
                  <a:pt x="12193" y="5338"/>
                  <a:pt x="12256" y="5334"/>
                </a:cubicBezTo>
                <a:cubicBezTo>
                  <a:pt x="12299" y="5331"/>
                  <a:pt x="12389" y="5335"/>
                  <a:pt x="12414" y="5366"/>
                </a:cubicBezTo>
                <a:cubicBezTo>
                  <a:pt x="12456" y="5416"/>
                  <a:pt x="12446" y="5466"/>
                  <a:pt x="12446" y="5524"/>
                </a:cubicBezTo>
                <a:cubicBezTo>
                  <a:pt x="12446" y="5590"/>
                  <a:pt x="12421" y="5665"/>
                  <a:pt x="12382" y="5715"/>
                </a:cubicBezTo>
                <a:cubicBezTo>
                  <a:pt x="12352" y="5753"/>
                  <a:pt x="12308" y="5859"/>
                  <a:pt x="12256" y="5874"/>
                </a:cubicBezTo>
                <a:cubicBezTo>
                  <a:pt x="12180" y="5896"/>
                  <a:pt x="12119" y="5906"/>
                  <a:pt x="12033" y="5906"/>
                </a:cubicBezTo>
                <a:cubicBezTo>
                  <a:pt x="11961" y="5906"/>
                  <a:pt x="11921" y="5857"/>
                  <a:pt x="11874" y="5810"/>
                </a:cubicBezTo>
                <a:cubicBezTo>
                  <a:pt x="11816" y="5751"/>
                  <a:pt x="11789" y="5773"/>
                  <a:pt x="11843" y="5683"/>
                </a:cubicBezTo>
              </a:path>
              <a:path w="3747" h="2065">
                <a:moveTo>
                  <a:pt x="13081" y="4445"/>
                </a:moveTo>
                <a:cubicBezTo>
                  <a:pt x="13196" y="4445"/>
                  <a:pt x="13291" y="4431"/>
                  <a:pt x="13398" y="4413"/>
                </a:cubicBezTo>
                <a:cubicBezTo>
                  <a:pt x="13485" y="4398"/>
                  <a:pt x="13552" y="4424"/>
                  <a:pt x="13621" y="4445"/>
                </a:cubicBezTo>
                <a:cubicBezTo>
                  <a:pt x="13631" y="4445"/>
                  <a:pt x="13642" y="4445"/>
                  <a:pt x="13652" y="4445"/>
                </a:cubicBezTo>
              </a:path>
              <a:path w="3747" h="2065">
                <a:moveTo>
                  <a:pt x="13144" y="4921"/>
                </a:moveTo>
                <a:cubicBezTo>
                  <a:pt x="13247" y="4921"/>
                  <a:pt x="13334" y="4902"/>
                  <a:pt x="13430" y="4890"/>
                </a:cubicBezTo>
                <a:cubicBezTo>
                  <a:pt x="13500" y="4881"/>
                  <a:pt x="13581" y="4890"/>
                  <a:pt x="13652" y="4890"/>
                </a:cubicBezTo>
              </a:path>
              <a:path w="3747" h="2065">
                <a:moveTo>
                  <a:pt x="14129" y="4318"/>
                </a:moveTo>
                <a:cubicBezTo>
                  <a:pt x="14179" y="4331"/>
                  <a:pt x="14199" y="4350"/>
                  <a:pt x="14256" y="4350"/>
                </a:cubicBezTo>
                <a:cubicBezTo>
                  <a:pt x="14363" y="4350"/>
                  <a:pt x="14442" y="4343"/>
                  <a:pt x="14542" y="4318"/>
                </a:cubicBezTo>
                <a:cubicBezTo>
                  <a:pt x="14552" y="4318"/>
                  <a:pt x="14563" y="4318"/>
                  <a:pt x="14573" y="4318"/>
                </a:cubicBezTo>
              </a:path>
              <a:path w="3747" h="2065">
                <a:moveTo>
                  <a:pt x="14922" y="3842"/>
                </a:moveTo>
                <a:cubicBezTo>
                  <a:pt x="14922" y="3984"/>
                  <a:pt x="14903" y="4117"/>
                  <a:pt x="14891" y="4254"/>
                </a:cubicBezTo>
                <a:cubicBezTo>
                  <a:pt x="14866" y="4535"/>
                  <a:pt x="14891" y="4830"/>
                  <a:pt x="14891" y="5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Ink 11"/>
          <p:cNvSpPr/>
          <p:nvPr/>
        </p:nvSpPr>
        <p:spPr>
          <a:xfrm>
            <a:off x="2035080" y="3246480"/>
            <a:ext cx="560520" cy="1908000"/>
          </a:xfrm>
          <a:custGeom>
            <a:avLst/>
            <a:gdLst/>
            <a:ahLst/>
            <a:rect l="l" t="t" r="r" b="b"/>
            <a:pathLst>
              <a:path w="1556" h="5303">
                <a:moveTo>
                  <a:pt x="7144" y="9017"/>
                </a:moveTo>
                <a:cubicBezTo>
                  <a:pt x="7113" y="9068"/>
                  <a:pt x="7090" y="9153"/>
                  <a:pt x="7048" y="9208"/>
                </a:cubicBezTo>
                <a:cubicBezTo>
                  <a:pt x="6993" y="9280"/>
                  <a:pt x="6891" y="9303"/>
                  <a:pt x="6826" y="9366"/>
                </a:cubicBezTo>
                <a:cubicBezTo>
                  <a:pt x="6728" y="9460"/>
                  <a:pt x="6660" y="9511"/>
                  <a:pt x="6540" y="9588"/>
                </a:cubicBezTo>
                <a:cubicBezTo>
                  <a:pt x="6451" y="9645"/>
                  <a:pt x="6355" y="9710"/>
                  <a:pt x="6255" y="9747"/>
                </a:cubicBezTo>
                <a:cubicBezTo>
                  <a:pt x="6199" y="9768"/>
                  <a:pt x="6118" y="9793"/>
                  <a:pt x="6064" y="9811"/>
                </a:cubicBezTo>
                <a:cubicBezTo>
                  <a:pt x="6053" y="9811"/>
                  <a:pt x="6043" y="9811"/>
                  <a:pt x="6032" y="9811"/>
                </a:cubicBezTo>
                <a:cubicBezTo>
                  <a:pt x="6061" y="9831"/>
                  <a:pt x="6088" y="9859"/>
                  <a:pt x="6128" y="9874"/>
                </a:cubicBezTo>
                <a:cubicBezTo>
                  <a:pt x="6178" y="9893"/>
                  <a:pt x="6237" y="9885"/>
                  <a:pt x="6286" y="9906"/>
                </a:cubicBezTo>
                <a:cubicBezTo>
                  <a:pt x="6338" y="9929"/>
                  <a:pt x="6391" y="9973"/>
                  <a:pt x="6445" y="10001"/>
                </a:cubicBezTo>
                <a:cubicBezTo>
                  <a:pt x="6539" y="10050"/>
                  <a:pt x="6590" y="10099"/>
                  <a:pt x="6668" y="10160"/>
                </a:cubicBezTo>
                <a:cubicBezTo>
                  <a:pt x="6755" y="10228"/>
                  <a:pt x="6858" y="10328"/>
                  <a:pt x="6953" y="10382"/>
                </a:cubicBezTo>
                <a:cubicBezTo>
                  <a:pt x="6990" y="10403"/>
                  <a:pt x="7097" y="10437"/>
                  <a:pt x="7144" y="10446"/>
                </a:cubicBezTo>
                <a:cubicBezTo>
                  <a:pt x="7176" y="10446"/>
                  <a:pt x="7186" y="10446"/>
                  <a:pt x="7207" y="10446"/>
                </a:cubicBezTo>
                <a:cubicBezTo>
                  <a:pt x="7132" y="10450"/>
                  <a:pt x="7080" y="10460"/>
                  <a:pt x="7017" y="10478"/>
                </a:cubicBezTo>
                <a:cubicBezTo>
                  <a:pt x="6948" y="10498"/>
                  <a:pt x="6863" y="10514"/>
                  <a:pt x="6794" y="10541"/>
                </a:cubicBezTo>
                <a:cubicBezTo>
                  <a:pt x="6713" y="10573"/>
                  <a:pt x="6652" y="10640"/>
                  <a:pt x="6572" y="10668"/>
                </a:cubicBezTo>
                <a:cubicBezTo>
                  <a:pt x="6501" y="10692"/>
                  <a:pt x="6363" y="10748"/>
                  <a:pt x="6286" y="10763"/>
                </a:cubicBezTo>
                <a:cubicBezTo>
                  <a:pt x="6216" y="10776"/>
                  <a:pt x="6132" y="10789"/>
                  <a:pt x="6064" y="10795"/>
                </a:cubicBezTo>
                <a:cubicBezTo>
                  <a:pt x="6022" y="10799"/>
                  <a:pt x="5979" y="10792"/>
                  <a:pt x="5937" y="10795"/>
                </a:cubicBezTo>
                <a:cubicBezTo>
                  <a:pt x="5998" y="10812"/>
                  <a:pt x="5975" y="10798"/>
                  <a:pt x="6032" y="10827"/>
                </a:cubicBezTo>
                <a:cubicBezTo>
                  <a:pt x="6084" y="10854"/>
                  <a:pt x="6139" y="10880"/>
                  <a:pt x="6191" y="10922"/>
                </a:cubicBezTo>
                <a:cubicBezTo>
                  <a:pt x="6262" y="10981"/>
                  <a:pt x="6314" y="11055"/>
                  <a:pt x="6382" y="11112"/>
                </a:cubicBezTo>
                <a:cubicBezTo>
                  <a:pt x="6471" y="11187"/>
                  <a:pt x="6525" y="11250"/>
                  <a:pt x="6604" y="11335"/>
                </a:cubicBezTo>
                <a:cubicBezTo>
                  <a:pt x="6656" y="11391"/>
                  <a:pt x="6727" y="11447"/>
                  <a:pt x="6794" y="11494"/>
                </a:cubicBezTo>
                <a:cubicBezTo>
                  <a:pt x="6856" y="11537"/>
                  <a:pt x="6922" y="11578"/>
                  <a:pt x="6985" y="11620"/>
                </a:cubicBezTo>
                <a:cubicBezTo>
                  <a:pt x="7027" y="11648"/>
                  <a:pt x="7075" y="11664"/>
                  <a:pt x="7112" y="11684"/>
                </a:cubicBezTo>
                <a:cubicBezTo>
                  <a:pt x="7076" y="11699"/>
                  <a:pt x="7019" y="11699"/>
                  <a:pt x="6985" y="11716"/>
                </a:cubicBezTo>
                <a:cubicBezTo>
                  <a:pt x="6930" y="11744"/>
                  <a:pt x="6883" y="11779"/>
                  <a:pt x="6826" y="11811"/>
                </a:cubicBezTo>
                <a:cubicBezTo>
                  <a:pt x="6761" y="11847"/>
                  <a:pt x="6704" y="11874"/>
                  <a:pt x="6636" y="11906"/>
                </a:cubicBezTo>
                <a:cubicBezTo>
                  <a:pt x="6536" y="11953"/>
                  <a:pt x="6457" y="11975"/>
                  <a:pt x="6350" y="12002"/>
                </a:cubicBezTo>
                <a:cubicBezTo>
                  <a:pt x="6264" y="12024"/>
                  <a:pt x="6183" y="12046"/>
                  <a:pt x="6096" y="12065"/>
                </a:cubicBezTo>
                <a:cubicBezTo>
                  <a:pt x="6038" y="12078"/>
                  <a:pt x="5963" y="12090"/>
                  <a:pt x="5906" y="12097"/>
                </a:cubicBezTo>
                <a:cubicBezTo>
                  <a:pt x="5874" y="12097"/>
                  <a:pt x="5863" y="12097"/>
                  <a:pt x="5842" y="12097"/>
                </a:cubicBezTo>
                <a:cubicBezTo>
                  <a:pt x="5885" y="12116"/>
                  <a:pt x="5862" y="12113"/>
                  <a:pt x="5906" y="12128"/>
                </a:cubicBezTo>
                <a:cubicBezTo>
                  <a:pt x="5982" y="12154"/>
                  <a:pt x="6022" y="12177"/>
                  <a:pt x="6096" y="12224"/>
                </a:cubicBezTo>
                <a:cubicBezTo>
                  <a:pt x="6177" y="12275"/>
                  <a:pt x="6245" y="12318"/>
                  <a:pt x="6318" y="12382"/>
                </a:cubicBezTo>
                <a:cubicBezTo>
                  <a:pt x="6384" y="12439"/>
                  <a:pt x="6452" y="12530"/>
                  <a:pt x="6509" y="12605"/>
                </a:cubicBezTo>
                <a:cubicBezTo>
                  <a:pt x="6578" y="12694"/>
                  <a:pt x="6665" y="12778"/>
                  <a:pt x="6731" y="12859"/>
                </a:cubicBezTo>
                <a:cubicBezTo>
                  <a:pt x="6795" y="12938"/>
                  <a:pt x="6852" y="12991"/>
                  <a:pt x="6922" y="13049"/>
                </a:cubicBezTo>
                <a:cubicBezTo>
                  <a:pt x="6843" y="13054"/>
                  <a:pt x="6797" y="13061"/>
                  <a:pt x="6731" y="13081"/>
                </a:cubicBezTo>
                <a:cubicBezTo>
                  <a:pt x="6660" y="13102"/>
                  <a:pt x="6615" y="13116"/>
                  <a:pt x="6540" y="13144"/>
                </a:cubicBezTo>
                <a:cubicBezTo>
                  <a:pt x="6465" y="13173"/>
                  <a:pt x="6395" y="13213"/>
                  <a:pt x="6318" y="13240"/>
                </a:cubicBezTo>
                <a:cubicBezTo>
                  <a:pt x="6224" y="13273"/>
                  <a:pt x="6129" y="13301"/>
                  <a:pt x="6032" y="13335"/>
                </a:cubicBezTo>
                <a:cubicBezTo>
                  <a:pt x="5976" y="13355"/>
                  <a:pt x="5857" y="13421"/>
                  <a:pt x="5810" y="13430"/>
                </a:cubicBezTo>
                <a:cubicBezTo>
                  <a:pt x="5744" y="13443"/>
                  <a:pt x="5710" y="13440"/>
                  <a:pt x="5652" y="13462"/>
                </a:cubicBezTo>
                <a:cubicBezTo>
                  <a:pt x="5710" y="13466"/>
                  <a:pt x="5672" y="13450"/>
                  <a:pt x="5747" y="13462"/>
                </a:cubicBezTo>
                <a:cubicBezTo>
                  <a:pt x="5837" y="13476"/>
                  <a:pt x="5883" y="13485"/>
                  <a:pt x="5969" y="13526"/>
                </a:cubicBezTo>
                <a:cubicBezTo>
                  <a:pt x="6098" y="13587"/>
                  <a:pt x="6230" y="13641"/>
                  <a:pt x="6350" y="13716"/>
                </a:cubicBezTo>
                <a:cubicBezTo>
                  <a:pt x="6484" y="13800"/>
                  <a:pt x="6614" y="13898"/>
                  <a:pt x="6731" y="14002"/>
                </a:cubicBezTo>
                <a:cubicBezTo>
                  <a:pt x="6816" y="14078"/>
                  <a:pt x="6943" y="14175"/>
                  <a:pt x="7017" y="14256"/>
                </a:cubicBezTo>
                <a:cubicBezTo>
                  <a:pt x="7027" y="14277"/>
                  <a:pt x="7038" y="14298"/>
                  <a:pt x="7048" y="14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Ink 12"/>
          <p:cNvSpPr/>
          <p:nvPr/>
        </p:nvSpPr>
        <p:spPr>
          <a:xfrm>
            <a:off x="1714680" y="3257640"/>
            <a:ext cx="388800" cy="309600"/>
          </a:xfrm>
          <a:custGeom>
            <a:avLst/>
            <a:gdLst/>
            <a:ahLst/>
            <a:rect l="l" t="t" r="r" b="b"/>
            <a:pathLst>
              <a:path w="1081" h="858">
                <a:moveTo>
                  <a:pt x="4762" y="9462"/>
                </a:moveTo>
                <a:cubicBezTo>
                  <a:pt x="4762" y="9441"/>
                  <a:pt x="4762" y="9419"/>
                  <a:pt x="4762" y="9398"/>
                </a:cubicBezTo>
                <a:cubicBezTo>
                  <a:pt x="4833" y="9398"/>
                  <a:pt x="4882" y="9370"/>
                  <a:pt x="4953" y="9366"/>
                </a:cubicBezTo>
                <a:cubicBezTo>
                  <a:pt x="5026" y="9362"/>
                  <a:pt x="5102" y="9366"/>
                  <a:pt x="5175" y="9366"/>
                </a:cubicBezTo>
              </a:path>
              <a:path w="1081" h="858">
                <a:moveTo>
                  <a:pt x="5366" y="9176"/>
                </a:moveTo>
                <a:cubicBezTo>
                  <a:pt x="5386" y="9075"/>
                  <a:pt x="5400" y="9113"/>
                  <a:pt x="5461" y="9080"/>
                </a:cubicBezTo>
                <a:cubicBezTo>
                  <a:pt x="5527" y="9045"/>
                  <a:pt x="5573" y="9049"/>
                  <a:pt x="5652" y="9049"/>
                </a:cubicBezTo>
                <a:cubicBezTo>
                  <a:pt x="5732" y="9049"/>
                  <a:pt x="5758" y="9104"/>
                  <a:pt x="5778" y="9176"/>
                </a:cubicBezTo>
                <a:cubicBezTo>
                  <a:pt x="5796" y="9239"/>
                  <a:pt x="5786" y="9313"/>
                  <a:pt x="5747" y="9366"/>
                </a:cubicBezTo>
                <a:cubicBezTo>
                  <a:pt x="5740" y="9376"/>
                  <a:pt x="5597" y="9456"/>
                  <a:pt x="5588" y="9462"/>
                </a:cubicBezTo>
                <a:cubicBezTo>
                  <a:pt x="5564" y="9476"/>
                  <a:pt x="5522" y="9486"/>
                  <a:pt x="5493" y="9493"/>
                </a:cubicBezTo>
                <a:cubicBezTo>
                  <a:pt x="5509" y="9446"/>
                  <a:pt x="5532" y="9462"/>
                  <a:pt x="5588" y="9462"/>
                </a:cubicBezTo>
                <a:cubicBezTo>
                  <a:pt x="5672" y="9462"/>
                  <a:pt x="5714" y="9467"/>
                  <a:pt x="5778" y="9525"/>
                </a:cubicBezTo>
                <a:cubicBezTo>
                  <a:pt x="5809" y="9553"/>
                  <a:pt x="5854" y="9640"/>
                  <a:pt x="5842" y="9684"/>
                </a:cubicBezTo>
                <a:cubicBezTo>
                  <a:pt x="5824" y="9750"/>
                  <a:pt x="5761" y="9796"/>
                  <a:pt x="5715" y="9842"/>
                </a:cubicBezTo>
                <a:cubicBezTo>
                  <a:pt x="5676" y="9881"/>
                  <a:pt x="5581" y="9902"/>
                  <a:pt x="5524" y="9906"/>
                </a:cubicBezTo>
                <a:cubicBezTo>
                  <a:pt x="5460" y="9910"/>
                  <a:pt x="5411" y="9881"/>
                  <a:pt x="5366" y="9842"/>
                </a:cubicBezTo>
                <a:cubicBezTo>
                  <a:pt x="5326" y="9807"/>
                  <a:pt x="5334" y="9796"/>
                  <a:pt x="5334" y="9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Ink 13"/>
          <p:cNvSpPr/>
          <p:nvPr/>
        </p:nvSpPr>
        <p:spPr>
          <a:xfrm>
            <a:off x="1668600" y="3703680"/>
            <a:ext cx="342720" cy="239760"/>
          </a:xfrm>
          <a:custGeom>
            <a:avLst/>
            <a:gdLst/>
            <a:ahLst/>
            <a:rect l="l" t="t" r="r" b="b"/>
            <a:pathLst>
              <a:path w="953" h="668">
                <a:moveTo>
                  <a:pt x="4636" y="10573"/>
                </a:moveTo>
                <a:cubicBezTo>
                  <a:pt x="4719" y="10573"/>
                  <a:pt x="4791" y="10555"/>
                  <a:pt x="4858" y="10541"/>
                </a:cubicBezTo>
                <a:cubicBezTo>
                  <a:pt x="4921" y="10541"/>
                  <a:pt x="4943" y="10541"/>
                  <a:pt x="4985" y="10541"/>
                </a:cubicBezTo>
              </a:path>
              <a:path w="953" h="668">
                <a:moveTo>
                  <a:pt x="5270" y="10382"/>
                </a:moveTo>
                <a:cubicBezTo>
                  <a:pt x="5282" y="10335"/>
                  <a:pt x="5318" y="10303"/>
                  <a:pt x="5366" y="10287"/>
                </a:cubicBezTo>
                <a:cubicBezTo>
                  <a:pt x="5426" y="10267"/>
                  <a:pt x="5513" y="10281"/>
                  <a:pt x="5556" y="10319"/>
                </a:cubicBezTo>
                <a:cubicBezTo>
                  <a:pt x="5587" y="10346"/>
                  <a:pt x="5612" y="10436"/>
                  <a:pt x="5588" y="10478"/>
                </a:cubicBezTo>
                <a:cubicBezTo>
                  <a:pt x="5548" y="10549"/>
                  <a:pt x="5470" y="10598"/>
                  <a:pt x="5398" y="10604"/>
                </a:cubicBezTo>
                <a:cubicBezTo>
                  <a:pt x="5373" y="10606"/>
                  <a:pt x="5262" y="10636"/>
                  <a:pt x="5334" y="10636"/>
                </a:cubicBezTo>
                <a:cubicBezTo>
                  <a:pt x="5413" y="10636"/>
                  <a:pt x="5487" y="10622"/>
                  <a:pt x="5556" y="10668"/>
                </a:cubicBezTo>
                <a:cubicBezTo>
                  <a:pt x="5593" y="10693"/>
                  <a:pt x="5605" y="10786"/>
                  <a:pt x="5588" y="10827"/>
                </a:cubicBezTo>
                <a:cubicBezTo>
                  <a:pt x="5565" y="10881"/>
                  <a:pt x="5449" y="10943"/>
                  <a:pt x="5398" y="10954"/>
                </a:cubicBezTo>
                <a:cubicBezTo>
                  <a:pt x="5319" y="10972"/>
                  <a:pt x="5169" y="10973"/>
                  <a:pt x="5112" y="10922"/>
                </a:cubicBezTo>
                <a:cubicBezTo>
                  <a:pt x="5101" y="10911"/>
                  <a:pt x="5091" y="10901"/>
                  <a:pt x="5080" y="108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Ink 14"/>
          <p:cNvSpPr/>
          <p:nvPr/>
        </p:nvSpPr>
        <p:spPr>
          <a:xfrm>
            <a:off x="1611360" y="4125960"/>
            <a:ext cx="399960" cy="287280"/>
          </a:xfrm>
          <a:custGeom>
            <a:avLst/>
            <a:gdLst/>
            <a:ahLst/>
            <a:rect l="l" t="t" r="r" b="b"/>
            <a:pathLst>
              <a:path w="1112" h="795">
                <a:moveTo>
                  <a:pt x="4477" y="11589"/>
                </a:moveTo>
                <a:cubicBezTo>
                  <a:pt x="4477" y="11599"/>
                  <a:pt x="4477" y="11610"/>
                  <a:pt x="4477" y="11620"/>
                </a:cubicBezTo>
                <a:cubicBezTo>
                  <a:pt x="4537" y="11620"/>
                  <a:pt x="4558" y="11642"/>
                  <a:pt x="4604" y="11652"/>
                </a:cubicBezTo>
                <a:cubicBezTo>
                  <a:pt x="4679" y="11668"/>
                  <a:pt x="4755" y="11678"/>
                  <a:pt x="4826" y="11684"/>
                </a:cubicBezTo>
                <a:cubicBezTo>
                  <a:pt x="4837" y="11684"/>
                  <a:pt x="4847" y="11684"/>
                  <a:pt x="4858" y="11684"/>
                </a:cubicBezTo>
              </a:path>
              <a:path w="1112" h="795">
                <a:moveTo>
                  <a:pt x="5175" y="11494"/>
                </a:moveTo>
                <a:cubicBezTo>
                  <a:pt x="5234" y="11494"/>
                  <a:pt x="5250" y="11468"/>
                  <a:pt x="5302" y="11462"/>
                </a:cubicBezTo>
                <a:cubicBezTo>
                  <a:pt x="5379" y="11453"/>
                  <a:pt x="5434" y="11481"/>
                  <a:pt x="5493" y="11494"/>
                </a:cubicBezTo>
                <a:cubicBezTo>
                  <a:pt x="5582" y="11513"/>
                  <a:pt x="5573" y="11516"/>
                  <a:pt x="5556" y="11589"/>
                </a:cubicBezTo>
                <a:cubicBezTo>
                  <a:pt x="5542" y="11651"/>
                  <a:pt x="5494" y="11694"/>
                  <a:pt x="5429" y="11716"/>
                </a:cubicBezTo>
                <a:cubicBezTo>
                  <a:pt x="5377" y="11734"/>
                  <a:pt x="5318" y="11763"/>
                  <a:pt x="5270" y="11779"/>
                </a:cubicBezTo>
                <a:cubicBezTo>
                  <a:pt x="5224" y="11794"/>
                  <a:pt x="5320" y="11797"/>
                  <a:pt x="5366" y="11811"/>
                </a:cubicBezTo>
                <a:cubicBezTo>
                  <a:pt x="5420" y="11827"/>
                  <a:pt x="5450" y="11862"/>
                  <a:pt x="5493" y="11906"/>
                </a:cubicBezTo>
                <a:cubicBezTo>
                  <a:pt x="5530" y="11944"/>
                  <a:pt x="5542" y="12011"/>
                  <a:pt x="5524" y="12065"/>
                </a:cubicBezTo>
                <a:cubicBezTo>
                  <a:pt x="5498" y="12145"/>
                  <a:pt x="5405" y="12187"/>
                  <a:pt x="5334" y="12224"/>
                </a:cubicBezTo>
                <a:cubicBezTo>
                  <a:pt x="5252" y="12268"/>
                  <a:pt x="5162" y="12275"/>
                  <a:pt x="5080" y="12224"/>
                </a:cubicBezTo>
                <a:cubicBezTo>
                  <a:pt x="5019" y="12186"/>
                  <a:pt x="4994" y="12153"/>
                  <a:pt x="4953" y="12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Ink 15"/>
          <p:cNvSpPr/>
          <p:nvPr/>
        </p:nvSpPr>
        <p:spPr>
          <a:xfrm>
            <a:off x="1542960" y="4595760"/>
            <a:ext cx="366840" cy="319320"/>
          </a:xfrm>
          <a:custGeom>
            <a:avLst/>
            <a:gdLst/>
            <a:ahLst/>
            <a:rect l="l" t="t" r="r" b="b"/>
            <a:pathLst>
              <a:path w="1017" h="889">
                <a:moveTo>
                  <a:pt x="4286" y="12890"/>
                </a:moveTo>
                <a:cubicBezTo>
                  <a:pt x="4344" y="12890"/>
                  <a:pt x="4361" y="12916"/>
                  <a:pt x="4413" y="12922"/>
                </a:cubicBezTo>
                <a:cubicBezTo>
                  <a:pt x="4479" y="12929"/>
                  <a:pt x="4504" y="12948"/>
                  <a:pt x="4572" y="12954"/>
                </a:cubicBezTo>
                <a:cubicBezTo>
                  <a:pt x="4624" y="12958"/>
                  <a:pt x="4679" y="12954"/>
                  <a:pt x="4731" y="12954"/>
                </a:cubicBezTo>
              </a:path>
              <a:path w="1017" h="889">
                <a:moveTo>
                  <a:pt x="4985" y="12827"/>
                </a:moveTo>
                <a:cubicBezTo>
                  <a:pt x="4996" y="12793"/>
                  <a:pt x="5008" y="12767"/>
                  <a:pt x="5048" y="12764"/>
                </a:cubicBezTo>
                <a:cubicBezTo>
                  <a:pt x="5139" y="12757"/>
                  <a:pt x="5186" y="12775"/>
                  <a:pt x="5270" y="12795"/>
                </a:cubicBezTo>
                <a:cubicBezTo>
                  <a:pt x="5320" y="12807"/>
                  <a:pt x="5302" y="12836"/>
                  <a:pt x="5302" y="12890"/>
                </a:cubicBezTo>
                <a:cubicBezTo>
                  <a:pt x="5302" y="12952"/>
                  <a:pt x="5224" y="12989"/>
                  <a:pt x="5175" y="13018"/>
                </a:cubicBezTo>
                <a:cubicBezTo>
                  <a:pt x="5113" y="13055"/>
                  <a:pt x="5085" y="13081"/>
                  <a:pt x="5016" y="13081"/>
                </a:cubicBezTo>
                <a:cubicBezTo>
                  <a:pt x="4985" y="13081"/>
                  <a:pt x="4974" y="13081"/>
                  <a:pt x="4985" y="13049"/>
                </a:cubicBezTo>
                <a:cubicBezTo>
                  <a:pt x="5040" y="13063"/>
                  <a:pt x="5092" y="13097"/>
                  <a:pt x="5144" y="13113"/>
                </a:cubicBezTo>
                <a:cubicBezTo>
                  <a:pt x="5183" y="13125"/>
                  <a:pt x="5241" y="13195"/>
                  <a:pt x="5270" y="13240"/>
                </a:cubicBezTo>
                <a:cubicBezTo>
                  <a:pt x="5311" y="13304"/>
                  <a:pt x="5328" y="13454"/>
                  <a:pt x="5302" y="13526"/>
                </a:cubicBezTo>
                <a:cubicBezTo>
                  <a:pt x="5271" y="13611"/>
                  <a:pt x="5193" y="13634"/>
                  <a:pt x="5112" y="13652"/>
                </a:cubicBezTo>
                <a:cubicBezTo>
                  <a:pt x="5050" y="13666"/>
                  <a:pt x="4974" y="13642"/>
                  <a:pt x="4921" y="13621"/>
                </a:cubicBezTo>
                <a:cubicBezTo>
                  <a:pt x="4890" y="13609"/>
                  <a:pt x="4777" y="13556"/>
                  <a:pt x="4762" y="13526"/>
                </a:cubicBezTo>
                <a:cubicBezTo>
                  <a:pt x="4741" y="13484"/>
                  <a:pt x="4746" y="13507"/>
                  <a:pt x="4731" y="13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Ink 16"/>
          <p:cNvSpPr/>
          <p:nvPr/>
        </p:nvSpPr>
        <p:spPr>
          <a:xfrm>
            <a:off x="3211560" y="5589720"/>
            <a:ext cx="366840" cy="753840"/>
          </a:xfrm>
          <a:custGeom>
            <a:avLst/>
            <a:gdLst/>
            <a:ahLst/>
            <a:rect l="l" t="t" r="r" b="b"/>
            <a:pathLst>
              <a:path w="1017" h="2096">
                <a:moveTo>
                  <a:pt x="8922" y="16192"/>
                </a:moveTo>
                <a:cubicBezTo>
                  <a:pt x="8957" y="16218"/>
                  <a:pt x="9008" y="16270"/>
                  <a:pt x="9049" y="16288"/>
                </a:cubicBezTo>
                <a:cubicBezTo>
                  <a:pt x="9096" y="16309"/>
                  <a:pt x="9149" y="16347"/>
                  <a:pt x="9208" y="16351"/>
                </a:cubicBezTo>
                <a:cubicBezTo>
                  <a:pt x="9297" y="16357"/>
                  <a:pt x="9390" y="16362"/>
                  <a:pt x="9462" y="16320"/>
                </a:cubicBezTo>
              </a:path>
              <a:path w="1017" h="2096">
                <a:moveTo>
                  <a:pt x="9906" y="15526"/>
                </a:moveTo>
                <a:cubicBezTo>
                  <a:pt x="9917" y="15623"/>
                  <a:pt x="9912" y="15686"/>
                  <a:pt x="9906" y="15780"/>
                </a:cubicBezTo>
                <a:cubicBezTo>
                  <a:pt x="9893" y="15980"/>
                  <a:pt x="9886" y="16184"/>
                  <a:pt x="9874" y="16383"/>
                </a:cubicBezTo>
                <a:cubicBezTo>
                  <a:pt x="9857" y="16670"/>
                  <a:pt x="9842" y="16952"/>
                  <a:pt x="9842" y="17240"/>
                </a:cubicBezTo>
                <a:cubicBezTo>
                  <a:pt x="9842" y="17431"/>
                  <a:pt x="9842" y="17494"/>
                  <a:pt x="9842" y="176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Ink 17"/>
          <p:cNvSpPr/>
          <p:nvPr/>
        </p:nvSpPr>
        <p:spPr>
          <a:xfrm>
            <a:off x="3828960" y="5178600"/>
            <a:ext cx="1874880" cy="765000"/>
          </a:xfrm>
          <a:custGeom>
            <a:avLst/>
            <a:gdLst/>
            <a:ahLst/>
            <a:rect l="l" t="t" r="r" b="b"/>
            <a:pathLst>
              <a:path w="5208" h="2128">
                <a:moveTo>
                  <a:pt x="10668" y="15621"/>
                </a:moveTo>
                <a:cubicBezTo>
                  <a:pt x="10605" y="15621"/>
                  <a:pt x="10705" y="15614"/>
                  <a:pt x="10732" y="15653"/>
                </a:cubicBezTo>
                <a:cubicBezTo>
                  <a:pt x="10780" y="15723"/>
                  <a:pt x="10787" y="15826"/>
                  <a:pt x="10827" y="15907"/>
                </a:cubicBezTo>
                <a:cubicBezTo>
                  <a:pt x="10873" y="16000"/>
                  <a:pt x="10906" y="16094"/>
                  <a:pt x="10922" y="16192"/>
                </a:cubicBezTo>
                <a:cubicBezTo>
                  <a:pt x="10922" y="16245"/>
                  <a:pt x="10922" y="16256"/>
                  <a:pt x="10922" y="16288"/>
                </a:cubicBezTo>
              </a:path>
              <a:path w="5208" h="2128">
                <a:moveTo>
                  <a:pt x="10922" y="15367"/>
                </a:moveTo>
                <a:cubicBezTo>
                  <a:pt x="10922" y="15422"/>
                  <a:pt x="10936" y="15477"/>
                  <a:pt x="10954" y="15526"/>
                </a:cubicBezTo>
                <a:cubicBezTo>
                  <a:pt x="10988" y="15622"/>
                  <a:pt x="11009" y="15722"/>
                  <a:pt x="11049" y="15812"/>
                </a:cubicBezTo>
                <a:cubicBezTo>
                  <a:pt x="11074" y="15868"/>
                  <a:pt x="11116" y="15955"/>
                  <a:pt x="11144" y="16002"/>
                </a:cubicBezTo>
                <a:cubicBezTo>
                  <a:pt x="11176" y="16034"/>
                  <a:pt x="11187" y="16045"/>
                  <a:pt x="11208" y="16066"/>
                </a:cubicBezTo>
              </a:path>
              <a:path w="5208" h="2128">
                <a:moveTo>
                  <a:pt x="11049" y="15367"/>
                </a:moveTo>
                <a:cubicBezTo>
                  <a:pt x="11034" y="15411"/>
                  <a:pt x="10981" y="15457"/>
                  <a:pt x="10954" y="15526"/>
                </a:cubicBezTo>
                <a:cubicBezTo>
                  <a:pt x="10899" y="15667"/>
                  <a:pt x="10842" y="15792"/>
                  <a:pt x="10795" y="15938"/>
                </a:cubicBezTo>
                <a:cubicBezTo>
                  <a:pt x="10754" y="16064"/>
                  <a:pt x="10700" y="16192"/>
                  <a:pt x="10668" y="16320"/>
                </a:cubicBezTo>
                <a:cubicBezTo>
                  <a:pt x="10668" y="16330"/>
                  <a:pt x="10668" y="16341"/>
                  <a:pt x="10668" y="16351"/>
                </a:cubicBezTo>
              </a:path>
              <a:path w="5208" h="2128">
                <a:moveTo>
                  <a:pt x="11017" y="15526"/>
                </a:moveTo>
                <a:cubicBezTo>
                  <a:pt x="11028" y="15526"/>
                  <a:pt x="11038" y="15526"/>
                  <a:pt x="11049" y="15526"/>
                </a:cubicBezTo>
              </a:path>
              <a:path w="5208" h="2128">
                <a:moveTo>
                  <a:pt x="11017" y="15526"/>
                </a:moveTo>
                <a:cubicBezTo>
                  <a:pt x="11028" y="15547"/>
                  <a:pt x="11038" y="15568"/>
                  <a:pt x="11049" y="15589"/>
                </a:cubicBezTo>
              </a:path>
              <a:path w="5208" h="2128">
                <a:moveTo>
                  <a:pt x="11049" y="15589"/>
                </a:moveTo>
                <a:cubicBezTo>
                  <a:pt x="11031" y="15696"/>
                  <a:pt x="10989" y="15803"/>
                  <a:pt x="10954" y="15907"/>
                </a:cubicBezTo>
                <a:cubicBezTo>
                  <a:pt x="10911" y="16035"/>
                  <a:pt x="10846" y="16186"/>
                  <a:pt x="10827" y="16320"/>
                </a:cubicBezTo>
                <a:cubicBezTo>
                  <a:pt x="10817" y="16392"/>
                  <a:pt x="10809" y="16442"/>
                  <a:pt x="10795" y="16510"/>
                </a:cubicBezTo>
              </a:path>
              <a:path w="5208" h="2128">
                <a:moveTo>
                  <a:pt x="11716" y="15526"/>
                </a:moveTo>
                <a:cubicBezTo>
                  <a:pt x="11683" y="15559"/>
                  <a:pt x="11629" y="15611"/>
                  <a:pt x="11620" y="15653"/>
                </a:cubicBezTo>
                <a:cubicBezTo>
                  <a:pt x="11603" y="15729"/>
                  <a:pt x="11598" y="15834"/>
                  <a:pt x="11589" y="15907"/>
                </a:cubicBezTo>
                <a:cubicBezTo>
                  <a:pt x="11580" y="15979"/>
                  <a:pt x="11583" y="16099"/>
                  <a:pt x="11620" y="16161"/>
                </a:cubicBezTo>
                <a:cubicBezTo>
                  <a:pt x="11631" y="16171"/>
                  <a:pt x="11641" y="16182"/>
                  <a:pt x="11652" y="16192"/>
                </a:cubicBezTo>
                <a:cubicBezTo>
                  <a:pt x="11687" y="16146"/>
                  <a:pt x="11734" y="16063"/>
                  <a:pt x="11748" y="16002"/>
                </a:cubicBezTo>
                <a:cubicBezTo>
                  <a:pt x="11771" y="15898"/>
                  <a:pt x="11779" y="15793"/>
                  <a:pt x="11779" y="15684"/>
                </a:cubicBezTo>
                <a:cubicBezTo>
                  <a:pt x="11779" y="15642"/>
                  <a:pt x="11779" y="15600"/>
                  <a:pt x="11779" y="15558"/>
                </a:cubicBezTo>
                <a:cubicBezTo>
                  <a:pt x="11703" y="15558"/>
                  <a:pt x="11718" y="15570"/>
                  <a:pt x="11684" y="15621"/>
                </a:cubicBezTo>
                <a:cubicBezTo>
                  <a:pt x="11673" y="15632"/>
                  <a:pt x="11663" y="15642"/>
                  <a:pt x="11652" y="15653"/>
                </a:cubicBezTo>
              </a:path>
              <a:path w="5208" h="2128">
                <a:moveTo>
                  <a:pt x="12128" y="14986"/>
                </a:moveTo>
                <a:cubicBezTo>
                  <a:pt x="12064" y="15019"/>
                  <a:pt x="12018" y="15125"/>
                  <a:pt x="12002" y="15208"/>
                </a:cubicBezTo>
                <a:cubicBezTo>
                  <a:pt x="11986" y="15296"/>
                  <a:pt x="11970" y="15369"/>
                  <a:pt x="11970" y="15462"/>
                </a:cubicBezTo>
                <a:cubicBezTo>
                  <a:pt x="11970" y="15617"/>
                  <a:pt x="11985" y="15758"/>
                  <a:pt x="12002" y="15907"/>
                </a:cubicBezTo>
                <a:cubicBezTo>
                  <a:pt x="12012" y="16000"/>
                  <a:pt x="12016" y="16073"/>
                  <a:pt x="12033" y="16161"/>
                </a:cubicBezTo>
              </a:path>
              <a:path w="5208" h="2128">
                <a:moveTo>
                  <a:pt x="11874" y="15716"/>
                </a:moveTo>
                <a:cubicBezTo>
                  <a:pt x="11939" y="15716"/>
                  <a:pt x="11949" y="15702"/>
                  <a:pt x="12002" y="15684"/>
                </a:cubicBezTo>
                <a:cubicBezTo>
                  <a:pt x="12055" y="15666"/>
                  <a:pt x="12107" y="15648"/>
                  <a:pt x="12160" y="15621"/>
                </a:cubicBezTo>
              </a:path>
              <a:path w="5208" h="2128">
                <a:moveTo>
                  <a:pt x="12732" y="14954"/>
                </a:moveTo>
                <a:cubicBezTo>
                  <a:pt x="12732" y="14912"/>
                  <a:pt x="12732" y="14869"/>
                  <a:pt x="12732" y="14827"/>
                </a:cubicBezTo>
                <a:cubicBezTo>
                  <a:pt x="12691" y="14837"/>
                  <a:pt x="12625" y="14876"/>
                  <a:pt x="12605" y="14922"/>
                </a:cubicBezTo>
                <a:cubicBezTo>
                  <a:pt x="12581" y="14977"/>
                  <a:pt x="12565" y="15059"/>
                  <a:pt x="12541" y="15113"/>
                </a:cubicBezTo>
                <a:cubicBezTo>
                  <a:pt x="12505" y="15192"/>
                  <a:pt x="12510" y="15275"/>
                  <a:pt x="12510" y="15367"/>
                </a:cubicBezTo>
                <a:cubicBezTo>
                  <a:pt x="12510" y="15502"/>
                  <a:pt x="12522" y="15621"/>
                  <a:pt x="12541" y="15748"/>
                </a:cubicBezTo>
                <a:cubicBezTo>
                  <a:pt x="12547" y="15786"/>
                  <a:pt x="12541" y="15835"/>
                  <a:pt x="12541" y="15875"/>
                </a:cubicBezTo>
              </a:path>
              <a:path w="5208" h="2128">
                <a:moveTo>
                  <a:pt x="12446" y="15589"/>
                </a:moveTo>
                <a:cubicBezTo>
                  <a:pt x="12504" y="15575"/>
                  <a:pt x="12527" y="15552"/>
                  <a:pt x="12541" y="15494"/>
                </a:cubicBezTo>
              </a:path>
              <a:path w="5208" h="2128">
                <a:moveTo>
                  <a:pt x="12700" y="15240"/>
                </a:moveTo>
                <a:cubicBezTo>
                  <a:pt x="12700" y="15353"/>
                  <a:pt x="12718" y="15453"/>
                  <a:pt x="12732" y="15558"/>
                </a:cubicBezTo>
                <a:cubicBezTo>
                  <a:pt x="12748" y="15676"/>
                  <a:pt x="12720" y="15646"/>
                  <a:pt x="12764" y="15748"/>
                </a:cubicBezTo>
              </a:path>
              <a:path w="5208" h="2128">
                <a:moveTo>
                  <a:pt x="12890" y="15240"/>
                </a:moveTo>
                <a:cubicBezTo>
                  <a:pt x="12890" y="15272"/>
                  <a:pt x="12890" y="15303"/>
                  <a:pt x="12890" y="15335"/>
                </a:cubicBezTo>
                <a:cubicBezTo>
                  <a:pt x="12923" y="15335"/>
                  <a:pt x="13003" y="15326"/>
                  <a:pt x="13018" y="15304"/>
                </a:cubicBezTo>
                <a:cubicBezTo>
                  <a:pt x="13038" y="15275"/>
                  <a:pt x="13071" y="15184"/>
                  <a:pt x="13081" y="15145"/>
                </a:cubicBezTo>
                <a:cubicBezTo>
                  <a:pt x="13095" y="15091"/>
                  <a:pt x="13078" y="15057"/>
                  <a:pt x="13049" y="15018"/>
                </a:cubicBezTo>
                <a:cubicBezTo>
                  <a:pt x="13018" y="15029"/>
                  <a:pt x="12964" y="15092"/>
                  <a:pt x="12954" y="15145"/>
                </a:cubicBezTo>
                <a:cubicBezTo>
                  <a:pt x="12938" y="15231"/>
                  <a:pt x="12922" y="15311"/>
                  <a:pt x="12922" y="15399"/>
                </a:cubicBezTo>
                <a:cubicBezTo>
                  <a:pt x="12922" y="15459"/>
                  <a:pt x="12924" y="15513"/>
                  <a:pt x="12954" y="15558"/>
                </a:cubicBezTo>
                <a:cubicBezTo>
                  <a:pt x="12974" y="15587"/>
                  <a:pt x="13046" y="15608"/>
                  <a:pt x="13081" y="15589"/>
                </a:cubicBezTo>
                <a:cubicBezTo>
                  <a:pt x="13110" y="15561"/>
                  <a:pt x="13121" y="15555"/>
                  <a:pt x="13113" y="15526"/>
                </a:cubicBezTo>
              </a:path>
              <a:path w="5208" h="2128">
                <a:moveTo>
                  <a:pt x="13240" y="14700"/>
                </a:moveTo>
                <a:cubicBezTo>
                  <a:pt x="13286" y="14777"/>
                  <a:pt x="13272" y="14858"/>
                  <a:pt x="13272" y="14954"/>
                </a:cubicBezTo>
                <a:cubicBezTo>
                  <a:pt x="13272" y="15084"/>
                  <a:pt x="13321" y="15206"/>
                  <a:pt x="13335" y="15335"/>
                </a:cubicBezTo>
                <a:cubicBezTo>
                  <a:pt x="13346" y="15433"/>
                  <a:pt x="13380" y="15497"/>
                  <a:pt x="13398" y="15589"/>
                </a:cubicBezTo>
              </a:path>
              <a:path w="5208" h="2128">
                <a:moveTo>
                  <a:pt x="13621" y="14605"/>
                </a:moveTo>
                <a:cubicBezTo>
                  <a:pt x="13621" y="14710"/>
                  <a:pt x="13623" y="14987"/>
                  <a:pt x="13621" y="14986"/>
                </a:cubicBezTo>
                <a:cubicBezTo>
                  <a:pt x="13575" y="14968"/>
                  <a:pt x="13592" y="14954"/>
                  <a:pt x="13526" y="14954"/>
                </a:cubicBezTo>
                <a:cubicBezTo>
                  <a:pt x="13473" y="14954"/>
                  <a:pt x="13487" y="15013"/>
                  <a:pt x="13462" y="15050"/>
                </a:cubicBezTo>
                <a:cubicBezTo>
                  <a:pt x="13412" y="15123"/>
                  <a:pt x="13430" y="15211"/>
                  <a:pt x="13430" y="15304"/>
                </a:cubicBezTo>
                <a:cubicBezTo>
                  <a:pt x="13430" y="15356"/>
                  <a:pt x="13437" y="15405"/>
                  <a:pt x="13494" y="15430"/>
                </a:cubicBezTo>
                <a:cubicBezTo>
                  <a:pt x="13528" y="15445"/>
                  <a:pt x="13604" y="15433"/>
                  <a:pt x="13621" y="15399"/>
                </a:cubicBezTo>
                <a:cubicBezTo>
                  <a:pt x="13647" y="15348"/>
                  <a:pt x="13684" y="15297"/>
                  <a:pt x="13716" y="15240"/>
                </a:cubicBezTo>
              </a:path>
              <a:path w="5208" h="2128">
                <a:moveTo>
                  <a:pt x="14129" y="14383"/>
                </a:moveTo>
                <a:cubicBezTo>
                  <a:pt x="14195" y="14383"/>
                  <a:pt x="14210" y="14398"/>
                  <a:pt x="14224" y="14478"/>
                </a:cubicBezTo>
                <a:cubicBezTo>
                  <a:pt x="14240" y="14568"/>
                  <a:pt x="14252" y="14673"/>
                  <a:pt x="14256" y="14764"/>
                </a:cubicBezTo>
                <a:cubicBezTo>
                  <a:pt x="14261" y="14879"/>
                  <a:pt x="14303" y="14967"/>
                  <a:pt x="14319" y="15081"/>
                </a:cubicBezTo>
                <a:cubicBezTo>
                  <a:pt x="14330" y="15160"/>
                  <a:pt x="14351" y="15222"/>
                  <a:pt x="14351" y="15304"/>
                </a:cubicBezTo>
                <a:cubicBezTo>
                  <a:pt x="14351" y="15314"/>
                  <a:pt x="14351" y="15325"/>
                  <a:pt x="14351" y="15335"/>
                </a:cubicBezTo>
                <a:cubicBezTo>
                  <a:pt x="14339" y="15287"/>
                  <a:pt x="14297" y="15258"/>
                  <a:pt x="14288" y="15240"/>
                </a:cubicBezTo>
                <a:cubicBezTo>
                  <a:pt x="14266" y="15196"/>
                  <a:pt x="14251" y="15120"/>
                  <a:pt x="14224" y="15081"/>
                </a:cubicBezTo>
                <a:cubicBezTo>
                  <a:pt x="14183" y="15020"/>
                  <a:pt x="14180" y="15077"/>
                  <a:pt x="14160" y="15018"/>
                </a:cubicBezTo>
              </a:path>
              <a:path w="5208" h="2128">
                <a:moveTo>
                  <a:pt x="13970" y="15081"/>
                </a:moveTo>
                <a:cubicBezTo>
                  <a:pt x="13959" y="15081"/>
                  <a:pt x="13949" y="15081"/>
                  <a:pt x="13938" y="15081"/>
                </a:cubicBezTo>
                <a:cubicBezTo>
                  <a:pt x="13987" y="15069"/>
                  <a:pt x="14026" y="15053"/>
                  <a:pt x="14065" y="15018"/>
                </a:cubicBezTo>
                <a:cubicBezTo>
                  <a:pt x="14109" y="14979"/>
                  <a:pt x="14169" y="14957"/>
                  <a:pt x="14224" y="14922"/>
                </a:cubicBezTo>
                <a:cubicBezTo>
                  <a:pt x="14283" y="14885"/>
                  <a:pt x="14301" y="14897"/>
                  <a:pt x="14351" y="14859"/>
                </a:cubicBezTo>
              </a:path>
              <a:path w="5208" h="2128">
                <a:moveTo>
                  <a:pt x="14510" y="14764"/>
                </a:moveTo>
                <a:cubicBezTo>
                  <a:pt x="14510" y="14849"/>
                  <a:pt x="14528" y="14876"/>
                  <a:pt x="14542" y="14954"/>
                </a:cubicBezTo>
                <a:cubicBezTo>
                  <a:pt x="14564" y="15077"/>
                  <a:pt x="14553" y="15214"/>
                  <a:pt x="14573" y="15335"/>
                </a:cubicBezTo>
                <a:cubicBezTo>
                  <a:pt x="14573" y="15399"/>
                  <a:pt x="14573" y="15420"/>
                  <a:pt x="14573" y="15462"/>
                </a:cubicBezTo>
                <a:cubicBezTo>
                  <a:pt x="14573" y="15515"/>
                  <a:pt x="14573" y="15420"/>
                  <a:pt x="14573" y="15367"/>
                </a:cubicBezTo>
                <a:cubicBezTo>
                  <a:pt x="14573" y="15191"/>
                  <a:pt x="14567" y="15024"/>
                  <a:pt x="14605" y="14859"/>
                </a:cubicBezTo>
                <a:cubicBezTo>
                  <a:pt x="14621" y="14788"/>
                  <a:pt x="14630" y="14750"/>
                  <a:pt x="14700" y="14732"/>
                </a:cubicBezTo>
              </a:path>
              <a:path w="5208" h="2128">
                <a:moveTo>
                  <a:pt x="14891" y="14700"/>
                </a:moveTo>
                <a:cubicBezTo>
                  <a:pt x="14891" y="14875"/>
                  <a:pt x="14898" y="15038"/>
                  <a:pt x="14922" y="15208"/>
                </a:cubicBezTo>
                <a:cubicBezTo>
                  <a:pt x="14922" y="15266"/>
                  <a:pt x="14918" y="15283"/>
                  <a:pt x="14954" y="15304"/>
                </a:cubicBezTo>
              </a:path>
              <a:path w="5208" h="2128">
                <a:moveTo>
                  <a:pt x="15081" y="14637"/>
                </a:moveTo>
                <a:cubicBezTo>
                  <a:pt x="15131" y="14719"/>
                  <a:pt x="15113" y="14820"/>
                  <a:pt x="15113" y="14922"/>
                </a:cubicBezTo>
                <a:cubicBezTo>
                  <a:pt x="15113" y="15116"/>
                  <a:pt x="15112" y="15320"/>
                  <a:pt x="15145" y="15494"/>
                </a:cubicBezTo>
                <a:cubicBezTo>
                  <a:pt x="15160" y="15572"/>
                  <a:pt x="15176" y="15558"/>
                  <a:pt x="15145" y="15558"/>
                </a:cubicBezTo>
                <a:cubicBezTo>
                  <a:pt x="15145" y="15464"/>
                  <a:pt x="15123" y="15394"/>
                  <a:pt x="15113" y="15304"/>
                </a:cubicBezTo>
                <a:cubicBezTo>
                  <a:pt x="15093" y="15131"/>
                  <a:pt x="15122" y="14962"/>
                  <a:pt x="15145" y="14796"/>
                </a:cubicBezTo>
                <a:cubicBezTo>
                  <a:pt x="15153" y="14735"/>
                  <a:pt x="15175" y="14641"/>
                  <a:pt x="15240" y="14605"/>
                </a:cubicBezTo>
                <a:cubicBezTo>
                  <a:pt x="15251" y="14605"/>
                  <a:pt x="15261" y="14605"/>
                  <a:pt x="15272" y="14605"/>
                </a:cubicBezTo>
                <a:cubicBezTo>
                  <a:pt x="15334" y="14667"/>
                  <a:pt x="15335" y="14675"/>
                  <a:pt x="15335" y="14764"/>
                </a:cubicBezTo>
                <a:cubicBezTo>
                  <a:pt x="15335" y="14857"/>
                  <a:pt x="15338" y="14928"/>
                  <a:pt x="15304" y="15018"/>
                </a:cubicBezTo>
                <a:cubicBezTo>
                  <a:pt x="15275" y="15094"/>
                  <a:pt x="15245" y="15179"/>
                  <a:pt x="15208" y="15240"/>
                </a:cubicBezTo>
              </a:path>
              <a:path w="5208" h="2128">
                <a:moveTo>
                  <a:pt x="15653" y="14478"/>
                </a:moveTo>
                <a:cubicBezTo>
                  <a:pt x="15663" y="14467"/>
                  <a:pt x="15674" y="14457"/>
                  <a:pt x="15684" y="14446"/>
                </a:cubicBezTo>
                <a:cubicBezTo>
                  <a:pt x="15618" y="14463"/>
                  <a:pt x="15577" y="14522"/>
                  <a:pt x="15526" y="14573"/>
                </a:cubicBezTo>
                <a:cubicBezTo>
                  <a:pt x="15472" y="14626"/>
                  <a:pt x="15421" y="14668"/>
                  <a:pt x="15462" y="14668"/>
                </a:cubicBezTo>
                <a:cubicBezTo>
                  <a:pt x="15570" y="14668"/>
                  <a:pt x="15656" y="14672"/>
                  <a:pt x="15748" y="14700"/>
                </a:cubicBezTo>
                <a:cubicBezTo>
                  <a:pt x="15813" y="14719"/>
                  <a:pt x="15836" y="14752"/>
                  <a:pt x="15843" y="14827"/>
                </a:cubicBezTo>
                <a:cubicBezTo>
                  <a:pt x="15850" y="14903"/>
                  <a:pt x="15780" y="15013"/>
                  <a:pt x="15748" y="15081"/>
                </a:cubicBezTo>
                <a:cubicBezTo>
                  <a:pt x="15705" y="15172"/>
                  <a:pt x="15706" y="15264"/>
                  <a:pt x="15589" y="15272"/>
                </a:cubicBezTo>
                <a:cubicBezTo>
                  <a:pt x="15495" y="15278"/>
                  <a:pt x="15424" y="15251"/>
                  <a:pt x="15335" y="152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Ink 18"/>
          <p:cNvSpPr/>
          <p:nvPr/>
        </p:nvSpPr>
        <p:spPr>
          <a:xfrm>
            <a:off x="3851280" y="6000840"/>
            <a:ext cx="184320" cy="388800"/>
          </a:xfrm>
          <a:custGeom>
            <a:avLst/>
            <a:gdLst/>
            <a:ahLst/>
            <a:rect l="l" t="t" r="r" b="b"/>
            <a:pathLst>
              <a:path w="509" h="1080">
                <a:moveTo>
                  <a:pt x="10795" y="16923"/>
                </a:moveTo>
                <a:cubicBezTo>
                  <a:pt x="10763" y="16923"/>
                  <a:pt x="10753" y="16923"/>
                  <a:pt x="10763" y="16954"/>
                </a:cubicBezTo>
              </a:path>
              <a:path w="509" h="1080">
                <a:moveTo>
                  <a:pt x="10890" y="17177"/>
                </a:moveTo>
                <a:cubicBezTo>
                  <a:pt x="10933" y="17261"/>
                  <a:pt x="10975" y="17346"/>
                  <a:pt x="11017" y="17431"/>
                </a:cubicBezTo>
                <a:cubicBezTo>
                  <a:pt x="11045" y="17486"/>
                  <a:pt x="11050" y="17501"/>
                  <a:pt x="11081" y="17526"/>
                </a:cubicBezTo>
              </a:path>
              <a:path w="509" h="1080">
                <a:moveTo>
                  <a:pt x="11017" y="16669"/>
                </a:moveTo>
                <a:cubicBezTo>
                  <a:pt x="10962" y="16762"/>
                  <a:pt x="11002" y="16823"/>
                  <a:pt x="11017" y="16923"/>
                </a:cubicBezTo>
                <a:cubicBezTo>
                  <a:pt x="11031" y="17012"/>
                  <a:pt x="11015" y="17093"/>
                  <a:pt x="11049" y="17177"/>
                </a:cubicBezTo>
                <a:cubicBezTo>
                  <a:pt x="11084" y="17263"/>
                  <a:pt x="11148" y="17343"/>
                  <a:pt x="11176" y="17431"/>
                </a:cubicBezTo>
                <a:cubicBezTo>
                  <a:pt x="11176" y="17467"/>
                  <a:pt x="11179" y="17480"/>
                  <a:pt x="11208" y="17494"/>
                </a:cubicBezTo>
              </a:path>
              <a:path w="509" h="1080">
                <a:moveTo>
                  <a:pt x="11081" y="16828"/>
                </a:moveTo>
                <a:cubicBezTo>
                  <a:pt x="11061" y="16904"/>
                  <a:pt x="10999" y="16950"/>
                  <a:pt x="10954" y="17018"/>
                </a:cubicBezTo>
                <a:cubicBezTo>
                  <a:pt x="10893" y="17110"/>
                  <a:pt x="10857" y="17212"/>
                  <a:pt x="10795" y="17304"/>
                </a:cubicBezTo>
                <a:cubicBezTo>
                  <a:pt x="10765" y="17348"/>
                  <a:pt x="10713" y="17478"/>
                  <a:pt x="10700" y="17526"/>
                </a:cubicBezTo>
                <a:cubicBezTo>
                  <a:pt x="10700" y="17547"/>
                  <a:pt x="10700" y="17569"/>
                  <a:pt x="10700" y="17590"/>
                </a:cubicBezTo>
              </a:path>
              <a:path w="509" h="1080">
                <a:moveTo>
                  <a:pt x="10986" y="16954"/>
                </a:moveTo>
                <a:cubicBezTo>
                  <a:pt x="11017" y="16954"/>
                  <a:pt x="11028" y="16954"/>
                  <a:pt x="11049" y="16954"/>
                </a:cubicBezTo>
              </a:path>
              <a:path w="509" h="1080">
                <a:moveTo>
                  <a:pt x="11144" y="17050"/>
                </a:moveTo>
                <a:cubicBezTo>
                  <a:pt x="11144" y="17105"/>
                  <a:pt x="11129" y="17158"/>
                  <a:pt x="11112" y="17208"/>
                </a:cubicBezTo>
                <a:cubicBezTo>
                  <a:pt x="11075" y="17315"/>
                  <a:pt x="11056" y="17422"/>
                  <a:pt x="11017" y="17526"/>
                </a:cubicBezTo>
                <a:cubicBezTo>
                  <a:pt x="10994" y="17587"/>
                  <a:pt x="10933" y="17691"/>
                  <a:pt x="10922" y="17716"/>
                </a:cubicBezTo>
                <a:cubicBezTo>
                  <a:pt x="10897" y="17775"/>
                  <a:pt x="10922" y="17688"/>
                  <a:pt x="10922" y="176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Ink 19"/>
          <p:cNvSpPr/>
          <p:nvPr/>
        </p:nvSpPr>
        <p:spPr>
          <a:xfrm>
            <a:off x="4138560" y="5967360"/>
            <a:ext cx="158760" cy="297000"/>
          </a:xfrm>
          <a:custGeom>
            <a:avLst/>
            <a:gdLst/>
            <a:ahLst/>
            <a:rect l="l" t="t" r="r" b="b"/>
            <a:pathLst>
              <a:path w="445" h="826">
                <a:moveTo>
                  <a:pt x="11652" y="16891"/>
                </a:moveTo>
                <a:cubicBezTo>
                  <a:pt x="11652" y="16938"/>
                  <a:pt x="11643" y="16983"/>
                  <a:pt x="11620" y="17018"/>
                </a:cubicBezTo>
                <a:cubicBezTo>
                  <a:pt x="11594" y="17057"/>
                  <a:pt x="11544" y="17102"/>
                  <a:pt x="11525" y="17145"/>
                </a:cubicBezTo>
                <a:cubicBezTo>
                  <a:pt x="11511" y="17176"/>
                  <a:pt x="11502" y="17206"/>
                  <a:pt x="11494" y="17240"/>
                </a:cubicBezTo>
                <a:cubicBezTo>
                  <a:pt x="11544" y="17240"/>
                  <a:pt x="11582" y="17260"/>
                  <a:pt x="11589" y="17208"/>
                </a:cubicBezTo>
                <a:cubicBezTo>
                  <a:pt x="11597" y="17145"/>
                  <a:pt x="11620" y="17126"/>
                  <a:pt x="11620" y="17050"/>
                </a:cubicBezTo>
                <a:cubicBezTo>
                  <a:pt x="11620" y="16972"/>
                  <a:pt x="11632" y="16919"/>
                  <a:pt x="11589" y="16859"/>
                </a:cubicBezTo>
                <a:cubicBezTo>
                  <a:pt x="11576" y="16912"/>
                  <a:pt x="11566" y="16925"/>
                  <a:pt x="11557" y="16986"/>
                </a:cubicBezTo>
              </a:path>
              <a:path w="445" h="826">
                <a:moveTo>
                  <a:pt x="11938" y="16574"/>
                </a:moveTo>
                <a:lnTo>
                  <a:pt x="11938" y="16574"/>
                </a:lnTo>
              </a:path>
              <a:path w="445" h="826">
                <a:moveTo>
                  <a:pt x="11938" y="16574"/>
                </a:moveTo>
                <a:cubicBezTo>
                  <a:pt x="11927" y="16574"/>
                  <a:pt x="11917" y="16574"/>
                  <a:pt x="11906" y="16574"/>
                </a:cubicBezTo>
              </a:path>
              <a:path w="445" h="826">
                <a:moveTo>
                  <a:pt x="11906" y="16574"/>
                </a:moveTo>
                <a:cubicBezTo>
                  <a:pt x="11892" y="16616"/>
                  <a:pt x="11861" y="16612"/>
                  <a:pt x="11843" y="16669"/>
                </a:cubicBezTo>
                <a:cubicBezTo>
                  <a:pt x="11822" y="16735"/>
                  <a:pt x="11791" y="16834"/>
                  <a:pt x="11779" y="16891"/>
                </a:cubicBezTo>
                <a:cubicBezTo>
                  <a:pt x="11769" y="16940"/>
                  <a:pt x="11799" y="17060"/>
                  <a:pt x="11811" y="17113"/>
                </a:cubicBezTo>
                <a:cubicBezTo>
                  <a:pt x="11826" y="17180"/>
                  <a:pt x="11872" y="17310"/>
                  <a:pt x="11906" y="17367"/>
                </a:cubicBezTo>
                <a:cubicBezTo>
                  <a:pt x="11917" y="17378"/>
                  <a:pt x="11927" y="17388"/>
                  <a:pt x="11938" y="17399"/>
                </a:cubicBezTo>
              </a:path>
              <a:path w="445" h="826">
                <a:moveTo>
                  <a:pt x="11748" y="17208"/>
                </a:moveTo>
                <a:cubicBezTo>
                  <a:pt x="11748" y="17219"/>
                  <a:pt x="11748" y="17229"/>
                  <a:pt x="11748" y="17240"/>
                </a:cubicBezTo>
                <a:cubicBezTo>
                  <a:pt x="11765" y="17188"/>
                  <a:pt x="11794" y="17221"/>
                  <a:pt x="11843" y="17177"/>
                </a:cubicBezTo>
                <a:cubicBezTo>
                  <a:pt x="11880" y="17139"/>
                  <a:pt x="11899" y="17124"/>
                  <a:pt x="11938" y="171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Ink 20"/>
          <p:cNvSpPr/>
          <p:nvPr/>
        </p:nvSpPr>
        <p:spPr>
          <a:xfrm>
            <a:off x="4468680" y="5772240"/>
            <a:ext cx="995400" cy="446040"/>
          </a:xfrm>
          <a:custGeom>
            <a:avLst/>
            <a:gdLst/>
            <a:ahLst/>
            <a:rect l="l" t="t" r="r" b="b"/>
            <a:pathLst>
              <a:path w="2763" h="1239">
                <a:moveTo>
                  <a:pt x="12636" y="16383"/>
                </a:moveTo>
                <a:cubicBezTo>
                  <a:pt x="12610" y="16303"/>
                  <a:pt x="12595" y="16399"/>
                  <a:pt x="12573" y="16446"/>
                </a:cubicBezTo>
                <a:cubicBezTo>
                  <a:pt x="12538" y="16521"/>
                  <a:pt x="12460" y="16620"/>
                  <a:pt x="12446" y="16700"/>
                </a:cubicBezTo>
                <a:cubicBezTo>
                  <a:pt x="12434" y="16769"/>
                  <a:pt x="12427" y="16825"/>
                  <a:pt x="12414" y="16891"/>
                </a:cubicBezTo>
                <a:cubicBezTo>
                  <a:pt x="12447" y="16814"/>
                  <a:pt x="12457" y="16735"/>
                  <a:pt x="12510" y="16669"/>
                </a:cubicBezTo>
                <a:cubicBezTo>
                  <a:pt x="12552" y="16617"/>
                  <a:pt x="12572" y="16605"/>
                  <a:pt x="12636" y="16605"/>
                </a:cubicBezTo>
                <a:cubicBezTo>
                  <a:pt x="12685" y="16686"/>
                  <a:pt x="12697" y="16789"/>
                  <a:pt x="12700" y="16891"/>
                </a:cubicBezTo>
                <a:cubicBezTo>
                  <a:pt x="12704" y="17020"/>
                  <a:pt x="12677" y="17120"/>
                  <a:pt x="12668" y="17240"/>
                </a:cubicBezTo>
                <a:cubicBezTo>
                  <a:pt x="12668" y="17272"/>
                  <a:pt x="12668" y="17283"/>
                  <a:pt x="12668" y="17240"/>
                </a:cubicBezTo>
              </a:path>
              <a:path w="2763" h="1239">
                <a:moveTo>
                  <a:pt x="12764" y="16351"/>
                </a:moveTo>
                <a:cubicBezTo>
                  <a:pt x="12764" y="16505"/>
                  <a:pt x="12780" y="16645"/>
                  <a:pt x="12795" y="16796"/>
                </a:cubicBezTo>
                <a:cubicBezTo>
                  <a:pt x="12804" y="16887"/>
                  <a:pt x="12788" y="17000"/>
                  <a:pt x="12827" y="17082"/>
                </a:cubicBezTo>
                <a:cubicBezTo>
                  <a:pt x="12864" y="17118"/>
                  <a:pt x="12874" y="17134"/>
                  <a:pt x="12859" y="17177"/>
                </a:cubicBezTo>
              </a:path>
              <a:path w="2763" h="1239">
                <a:moveTo>
                  <a:pt x="12700" y="16891"/>
                </a:moveTo>
                <a:cubicBezTo>
                  <a:pt x="12700" y="16859"/>
                  <a:pt x="12700" y="16849"/>
                  <a:pt x="12700" y="16828"/>
                </a:cubicBezTo>
                <a:cubicBezTo>
                  <a:pt x="12759" y="16828"/>
                  <a:pt x="12792" y="16819"/>
                  <a:pt x="12827" y="16764"/>
                </a:cubicBezTo>
                <a:cubicBezTo>
                  <a:pt x="12838" y="16743"/>
                  <a:pt x="12848" y="16721"/>
                  <a:pt x="12859" y="16700"/>
                </a:cubicBezTo>
              </a:path>
              <a:path w="2763" h="1239">
                <a:moveTo>
                  <a:pt x="12954" y="16574"/>
                </a:moveTo>
                <a:cubicBezTo>
                  <a:pt x="12954" y="16661"/>
                  <a:pt x="12982" y="16741"/>
                  <a:pt x="12986" y="16828"/>
                </a:cubicBezTo>
                <a:cubicBezTo>
                  <a:pt x="12990" y="16933"/>
                  <a:pt x="13016" y="17048"/>
                  <a:pt x="13049" y="17145"/>
                </a:cubicBezTo>
                <a:cubicBezTo>
                  <a:pt x="13082" y="17244"/>
                  <a:pt x="13092" y="17176"/>
                  <a:pt x="13113" y="17240"/>
                </a:cubicBezTo>
                <a:cubicBezTo>
                  <a:pt x="13157" y="17180"/>
                  <a:pt x="13144" y="17128"/>
                  <a:pt x="13144" y="17050"/>
                </a:cubicBezTo>
                <a:cubicBezTo>
                  <a:pt x="13144" y="16902"/>
                  <a:pt x="13144" y="16753"/>
                  <a:pt x="13144" y="16605"/>
                </a:cubicBezTo>
                <a:cubicBezTo>
                  <a:pt x="13144" y="16676"/>
                  <a:pt x="13166" y="16742"/>
                  <a:pt x="13176" y="16796"/>
                </a:cubicBezTo>
                <a:cubicBezTo>
                  <a:pt x="13192" y="16881"/>
                  <a:pt x="13187" y="16984"/>
                  <a:pt x="13240" y="17050"/>
                </a:cubicBezTo>
                <a:cubicBezTo>
                  <a:pt x="13283" y="17104"/>
                  <a:pt x="13263" y="17113"/>
                  <a:pt x="13335" y="17113"/>
                </a:cubicBezTo>
              </a:path>
              <a:path w="2763" h="1239">
                <a:moveTo>
                  <a:pt x="13526" y="16224"/>
                </a:moveTo>
                <a:cubicBezTo>
                  <a:pt x="13526" y="16171"/>
                  <a:pt x="13526" y="16267"/>
                  <a:pt x="13526" y="16320"/>
                </a:cubicBezTo>
                <a:cubicBezTo>
                  <a:pt x="13526" y="16437"/>
                  <a:pt x="13537" y="16525"/>
                  <a:pt x="13557" y="16637"/>
                </a:cubicBezTo>
                <a:cubicBezTo>
                  <a:pt x="13557" y="16690"/>
                  <a:pt x="13557" y="16722"/>
                  <a:pt x="13557" y="16764"/>
                </a:cubicBezTo>
                <a:cubicBezTo>
                  <a:pt x="13557" y="16849"/>
                  <a:pt x="13566" y="16687"/>
                  <a:pt x="13557" y="16669"/>
                </a:cubicBezTo>
                <a:cubicBezTo>
                  <a:pt x="13536" y="16627"/>
                  <a:pt x="13499" y="16614"/>
                  <a:pt x="13462" y="16605"/>
                </a:cubicBezTo>
                <a:cubicBezTo>
                  <a:pt x="13447" y="16649"/>
                  <a:pt x="13401" y="16636"/>
                  <a:pt x="13398" y="16700"/>
                </a:cubicBezTo>
                <a:cubicBezTo>
                  <a:pt x="13394" y="16774"/>
                  <a:pt x="13339" y="16878"/>
                  <a:pt x="13367" y="16954"/>
                </a:cubicBezTo>
                <a:cubicBezTo>
                  <a:pt x="13384" y="17000"/>
                  <a:pt x="13411" y="17044"/>
                  <a:pt x="13462" y="17050"/>
                </a:cubicBezTo>
                <a:cubicBezTo>
                  <a:pt x="13520" y="17056"/>
                  <a:pt x="13556" y="17036"/>
                  <a:pt x="13589" y="16986"/>
                </a:cubicBezTo>
                <a:cubicBezTo>
                  <a:pt x="13630" y="16922"/>
                  <a:pt x="13663" y="16866"/>
                  <a:pt x="13684" y="16796"/>
                </a:cubicBezTo>
                <a:cubicBezTo>
                  <a:pt x="13708" y="16715"/>
                  <a:pt x="13716" y="16683"/>
                  <a:pt x="13716" y="16605"/>
                </a:cubicBezTo>
                <a:cubicBezTo>
                  <a:pt x="13716" y="16538"/>
                  <a:pt x="13718" y="16542"/>
                  <a:pt x="13652" y="16542"/>
                </a:cubicBezTo>
                <a:cubicBezTo>
                  <a:pt x="13652" y="16601"/>
                  <a:pt x="13669" y="16644"/>
                  <a:pt x="13684" y="16700"/>
                </a:cubicBezTo>
                <a:cubicBezTo>
                  <a:pt x="13707" y="16783"/>
                  <a:pt x="13747" y="16913"/>
                  <a:pt x="13780" y="16986"/>
                </a:cubicBezTo>
                <a:cubicBezTo>
                  <a:pt x="13795" y="17020"/>
                  <a:pt x="13855" y="17043"/>
                  <a:pt x="13875" y="17050"/>
                </a:cubicBezTo>
                <a:cubicBezTo>
                  <a:pt x="13886" y="17017"/>
                  <a:pt x="13884" y="16966"/>
                  <a:pt x="13906" y="16923"/>
                </a:cubicBezTo>
                <a:cubicBezTo>
                  <a:pt x="13943" y="16850"/>
                  <a:pt x="13938" y="16789"/>
                  <a:pt x="13938" y="16700"/>
                </a:cubicBezTo>
                <a:cubicBezTo>
                  <a:pt x="13938" y="16669"/>
                  <a:pt x="13938" y="16658"/>
                  <a:pt x="13938" y="16637"/>
                </a:cubicBezTo>
                <a:cubicBezTo>
                  <a:pt x="14042" y="16637"/>
                  <a:pt x="14008" y="16683"/>
                  <a:pt x="14034" y="16764"/>
                </a:cubicBezTo>
                <a:cubicBezTo>
                  <a:pt x="14056" y="16833"/>
                  <a:pt x="14081" y="16891"/>
                  <a:pt x="14097" y="16954"/>
                </a:cubicBezTo>
                <a:cubicBezTo>
                  <a:pt x="14167" y="16931"/>
                  <a:pt x="14101" y="16897"/>
                  <a:pt x="14129" y="16828"/>
                </a:cubicBezTo>
                <a:cubicBezTo>
                  <a:pt x="14147" y="16783"/>
                  <a:pt x="14132" y="16644"/>
                  <a:pt x="14160" y="16605"/>
                </a:cubicBezTo>
                <a:cubicBezTo>
                  <a:pt x="14192" y="16605"/>
                  <a:pt x="14202" y="16605"/>
                  <a:pt x="14192" y="16574"/>
                </a:cubicBezTo>
                <a:cubicBezTo>
                  <a:pt x="14219" y="16583"/>
                  <a:pt x="14263" y="16600"/>
                  <a:pt x="14288" y="16637"/>
                </a:cubicBezTo>
                <a:cubicBezTo>
                  <a:pt x="14347" y="16723"/>
                  <a:pt x="14354" y="16836"/>
                  <a:pt x="14414" y="16923"/>
                </a:cubicBezTo>
                <a:cubicBezTo>
                  <a:pt x="14445" y="16968"/>
                  <a:pt x="14449" y="17011"/>
                  <a:pt x="14510" y="17018"/>
                </a:cubicBezTo>
                <a:cubicBezTo>
                  <a:pt x="14553" y="17018"/>
                  <a:pt x="14563" y="17007"/>
                  <a:pt x="14542" y="16954"/>
                </a:cubicBezTo>
              </a:path>
              <a:path w="2763" h="1239">
                <a:moveTo>
                  <a:pt x="14573" y="16034"/>
                </a:moveTo>
                <a:cubicBezTo>
                  <a:pt x="14573" y="16115"/>
                  <a:pt x="14583" y="16213"/>
                  <a:pt x="14605" y="16288"/>
                </a:cubicBezTo>
                <a:cubicBezTo>
                  <a:pt x="14638" y="16402"/>
                  <a:pt x="14666" y="16518"/>
                  <a:pt x="14700" y="16637"/>
                </a:cubicBezTo>
                <a:cubicBezTo>
                  <a:pt x="14734" y="16758"/>
                  <a:pt x="14755" y="16894"/>
                  <a:pt x="14764" y="17018"/>
                </a:cubicBezTo>
                <a:cubicBezTo>
                  <a:pt x="14764" y="17050"/>
                  <a:pt x="14764" y="17061"/>
                  <a:pt x="14764" y="17082"/>
                </a:cubicBezTo>
              </a:path>
              <a:path w="2763" h="1239">
                <a:moveTo>
                  <a:pt x="14605" y="16605"/>
                </a:moveTo>
                <a:cubicBezTo>
                  <a:pt x="14652" y="16594"/>
                  <a:pt x="14719" y="16572"/>
                  <a:pt x="14764" y="16542"/>
                </a:cubicBezTo>
                <a:cubicBezTo>
                  <a:pt x="14800" y="16506"/>
                  <a:pt x="14817" y="16495"/>
                  <a:pt x="14859" y="16510"/>
                </a:cubicBezTo>
              </a:path>
              <a:path w="2763" h="1239">
                <a:moveTo>
                  <a:pt x="15050" y="16161"/>
                </a:moveTo>
                <a:cubicBezTo>
                  <a:pt x="14994" y="16175"/>
                  <a:pt x="14965" y="16212"/>
                  <a:pt x="14922" y="16256"/>
                </a:cubicBezTo>
                <a:cubicBezTo>
                  <a:pt x="14884" y="16295"/>
                  <a:pt x="14843" y="16368"/>
                  <a:pt x="14827" y="16415"/>
                </a:cubicBezTo>
                <a:cubicBezTo>
                  <a:pt x="14816" y="16449"/>
                  <a:pt x="14870" y="16518"/>
                  <a:pt x="14891" y="16542"/>
                </a:cubicBezTo>
                <a:cubicBezTo>
                  <a:pt x="14920" y="16576"/>
                  <a:pt x="15008" y="16600"/>
                  <a:pt x="15050" y="16605"/>
                </a:cubicBezTo>
                <a:cubicBezTo>
                  <a:pt x="15093" y="16610"/>
                  <a:pt x="15163" y="16608"/>
                  <a:pt x="15176" y="16669"/>
                </a:cubicBezTo>
                <a:cubicBezTo>
                  <a:pt x="15196" y="16768"/>
                  <a:pt x="15166" y="16836"/>
                  <a:pt x="15145" y="16923"/>
                </a:cubicBezTo>
                <a:cubicBezTo>
                  <a:pt x="15131" y="16981"/>
                  <a:pt x="15092" y="17029"/>
                  <a:pt x="15081" y="17050"/>
                </a:cubicBezTo>
                <a:cubicBezTo>
                  <a:pt x="15081" y="17086"/>
                  <a:pt x="15078" y="17099"/>
                  <a:pt x="15050" y="171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Ink 21"/>
          <p:cNvSpPr/>
          <p:nvPr/>
        </p:nvSpPr>
        <p:spPr>
          <a:xfrm>
            <a:off x="3736800" y="5646600"/>
            <a:ext cx="1899000" cy="422280"/>
          </a:xfrm>
          <a:custGeom>
            <a:avLst/>
            <a:gdLst/>
            <a:ahLst/>
            <a:rect l="l" t="t" r="r" b="b"/>
            <a:pathLst>
              <a:path w="5272" h="1176">
                <a:moveTo>
                  <a:pt x="10382" y="16859"/>
                </a:moveTo>
                <a:cubicBezTo>
                  <a:pt x="10399" y="16850"/>
                  <a:pt x="10508" y="16815"/>
                  <a:pt x="10541" y="16796"/>
                </a:cubicBezTo>
                <a:cubicBezTo>
                  <a:pt x="10653" y="16731"/>
                  <a:pt x="10730" y="16680"/>
                  <a:pt x="10858" y="16637"/>
                </a:cubicBezTo>
                <a:cubicBezTo>
                  <a:pt x="11026" y="16581"/>
                  <a:pt x="11203" y="16541"/>
                  <a:pt x="11366" y="16478"/>
                </a:cubicBezTo>
                <a:cubicBezTo>
                  <a:pt x="11563" y="16402"/>
                  <a:pt x="11761" y="16330"/>
                  <a:pt x="11970" y="16288"/>
                </a:cubicBezTo>
                <a:cubicBezTo>
                  <a:pt x="12289" y="16224"/>
                  <a:pt x="12607" y="16166"/>
                  <a:pt x="12922" y="16097"/>
                </a:cubicBezTo>
                <a:cubicBezTo>
                  <a:pt x="13245" y="16026"/>
                  <a:pt x="13608" y="15961"/>
                  <a:pt x="13938" y="15938"/>
                </a:cubicBezTo>
                <a:cubicBezTo>
                  <a:pt x="14196" y="15920"/>
                  <a:pt x="14444" y="15890"/>
                  <a:pt x="14700" y="15843"/>
                </a:cubicBezTo>
                <a:cubicBezTo>
                  <a:pt x="14935" y="15800"/>
                  <a:pt x="15165" y="15747"/>
                  <a:pt x="15399" y="15716"/>
                </a:cubicBezTo>
                <a:cubicBezTo>
                  <a:pt x="15493" y="15704"/>
                  <a:pt x="15573" y="15716"/>
                  <a:pt x="15653" y="15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stud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field tr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linear equation for this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int: us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i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Ink 4"/>
          <p:cNvSpPr/>
          <p:nvPr/>
        </p:nvSpPr>
        <p:spPr>
          <a:xfrm>
            <a:off x="1760400" y="3921120"/>
            <a:ext cx="2778120" cy="1233360"/>
          </a:xfrm>
          <a:custGeom>
            <a:avLst/>
            <a:gdLst/>
            <a:ahLst/>
            <a:rect l="l" t="t" r="r" b="b"/>
            <a:pathLst>
              <a:path w="7716" h="3430">
                <a:moveTo>
                  <a:pt x="5144" y="12446"/>
                </a:moveTo>
                <a:cubicBezTo>
                  <a:pt x="5144" y="12435"/>
                  <a:pt x="5144" y="12425"/>
                  <a:pt x="5144" y="12414"/>
                </a:cubicBezTo>
              </a:path>
              <a:path w="7716" h="3430">
                <a:moveTo>
                  <a:pt x="5144" y="12446"/>
                </a:moveTo>
                <a:cubicBezTo>
                  <a:pt x="5144" y="12435"/>
                  <a:pt x="5144" y="12425"/>
                  <a:pt x="5144" y="12414"/>
                </a:cubicBezTo>
              </a:path>
              <a:path w="7716" h="3430">
                <a:moveTo>
                  <a:pt x="5144" y="12414"/>
                </a:moveTo>
                <a:cubicBezTo>
                  <a:pt x="5128" y="12456"/>
                  <a:pt x="5127" y="12498"/>
                  <a:pt x="5112" y="12541"/>
                </a:cubicBezTo>
                <a:cubicBezTo>
                  <a:pt x="5088" y="12608"/>
                  <a:pt x="5059" y="12694"/>
                  <a:pt x="5048" y="12764"/>
                </a:cubicBezTo>
                <a:cubicBezTo>
                  <a:pt x="5033" y="12858"/>
                  <a:pt x="5040" y="12974"/>
                  <a:pt x="5080" y="13049"/>
                </a:cubicBezTo>
                <a:cubicBezTo>
                  <a:pt x="5107" y="13100"/>
                  <a:pt x="5109" y="13129"/>
                  <a:pt x="5175" y="13144"/>
                </a:cubicBezTo>
                <a:cubicBezTo>
                  <a:pt x="5240" y="13159"/>
                  <a:pt x="5290" y="13122"/>
                  <a:pt x="5334" y="13081"/>
                </a:cubicBezTo>
                <a:cubicBezTo>
                  <a:pt x="5408" y="13013"/>
                  <a:pt x="5476" y="12946"/>
                  <a:pt x="5524" y="12859"/>
                </a:cubicBezTo>
                <a:cubicBezTo>
                  <a:pt x="5565" y="12785"/>
                  <a:pt x="5604" y="12703"/>
                  <a:pt x="5652" y="12636"/>
                </a:cubicBezTo>
                <a:cubicBezTo>
                  <a:pt x="5681" y="12596"/>
                  <a:pt x="5684" y="12580"/>
                  <a:pt x="5715" y="12541"/>
                </a:cubicBezTo>
                <a:cubicBezTo>
                  <a:pt x="5706" y="12603"/>
                  <a:pt x="5699" y="12640"/>
                  <a:pt x="5683" y="12700"/>
                </a:cubicBezTo>
                <a:cubicBezTo>
                  <a:pt x="5662" y="12780"/>
                  <a:pt x="5632" y="12870"/>
                  <a:pt x="5620" y="12954"/>
                </a:cubicBezTo>
                <a:cubicBezTo>
                  <a:pt x="5602" y="13079"/>
                  <a:pt x="5567" y="13208"/>
                  <a:pt x="5556" y="13335"/>
                </a:cubicBezTo>
                <a:cubicBezTo>
                  <a:pt x="5543" y="13486"/>
                  <a:pt x="5509" y="13631"/>
                  <a:pt x="5493" y="13780"/>
                </a:cubicBezTo>
                <a:cubicBezTo>
                  <a:pt x="5480" y="13908"/>
                  <a:pt x="5454" y="14011"/>
                  <a:pt x="5398" y="14129"/>
                </a:cubicBezTo>
                <a:cubicBezTo>
                  <a:pt x="5348" y="14234"/>
                  <a:pt x="5332" y="14242"/>
                  <a:pt x="5239" y="14288"/>
                </a:cubicBezTo>
                <a:cubicBezTo>
                  <a:pt x="5190" y="14312"/>
                  <a:pt x="5106" y="14311"/>
                  <a:pt x="5048" y="14288"/>
                </a:cubicBezTo>
                <a:cubicBezTo>
                  <a:pt x="4996" y="14267"/>
                  <a:pt x="4944" y="14173"/>
                  <a:pt x="4921" y="14129"/>
                </a:cubicBezTo>
                <a:cubicBezTo>
                  <a:pt x="4883" y="14056"/>
                  <a:pt x="4892" y="14020"/>
                  <a:pt x="4921" y="13938"/>
                </a:cubicBezTo>
                <a:cubicBezTo>
                  <a:pt x="4947" y="13864"/>
                  <a:pt x="4979" y="13790"/>
                  <a:pt x="5016" y="13716"/>
                </a:cubicBezTo>
                <a:cubicBezTo>
                  <a:pt x="5056" y="13636"/>
                  <a:pt x="5129" y="13598"/>
                  <a:pt x="5207" y="13557"/>
                </a:cubicBezTo>
                <a:cubicBezTo>
                  <a:pt x="5273" y="13522"/>
                  <a:pt x="5334" y="13491"/>
                  <a:pt x="5398" y="13462"/>
                </a:cubicBezTo>
                <a:cubicBezTo>
                  <a:pt x="5419" y="13452"/>
                  <a:pt x="5510" y="13443"/>
                  <a:pt x="5524" y="13430"/>
                </a:cubicBezTo>
                <a:cubicBezTo>
                  <a:pt x="5566" y="13430"/>
                  <a:pt x="5577" y="13420"/>
                  <a:pt x="5556" y="13367"/>
                </a:cubicBezTo>
              </a:path>
              <a:path w="7716" h="3430">
                <a:moveTo>
                  <a:pt x="6128" y="12859"/>
                </a:moveTo>
                <a:cubicBezTo>
                  <a:pt x="6128" y="12848"/>
                  <a:pt x="6128" y="12838"/>
                  <a:pt x="6128" y="12827"/>
                </a:cubicBezTo>
                <a:cubicBezTo>
                  <a:pt x="6216" y="12827"/>
                  <a:pt x="6267" y="12838"/>
                  <a:pt x="6350" y="12859"/>
                </a:cubicBezTo>
                <a:cubicBezTo>
                  <a:pt x="6400" y="12871"/>
                  <a:pt x="6459" y="12885"/>
                  <a:pt x="6509" y="12890"/>
                </a:cubicBezTo>
                <a:cubicBezTo>
                  <a:pt x="6564" y="12895"/>
                  <a:pt x="6587" y="12910"/>
                  <a:pt x="6636" y="12922"/>
                </a:cubicBezTo>
                <a:cubicBezTo>
                  <a:pt x="6636" y="12890"/>
                  <a:pt x="6636" y="12879"/>
                  <a:pt x="6668" y="12890"/>
                </a:cubicBezTo>
              </a:path>
              <a:path w="7716" h="3430">
                <a:moveTo>
                  <a:pt x="7207" y="12351"/>
                </a:moveTo>
                <a:cubicBezTo>
                  <a:pt x="7207" y="12425"/>
                  <a:pt x="7199" y="12506"/>
                  <a:pt x="7176" y="12573"/>
                </a:cubicBezTo>
                <a:cubicBezTo>
                  <a:pt x="7146" y="12662"/>
                  <a:pt x="7095" y="12764"/>
                  <a:pt x="7080" y="12859"/>
                </a:cubicBezTo>
                <a:cubicBezTo>
                  <a:pt x="7063" y="12966"/>
                  <a:pt x="7033" y="13071"/>
                  <a:pt x="7017" y="13176"/>
                </a:cubicBezTo>
                <a:cubicBezTo>
                  <a:pt x="7009" y="13228"/>
                  <a:pt x="7017" y="13325"/>
                  <a:pt x="7017" y="13272"/>
                </a:cubicBezTo>
                <a:cubicBezTo>
                  <a:pt x="7017" y="13261"/>
                  <a:pt x="7017" y="13251"/>
                  <a:pt x="7017" y="13240"/>
                </a:cubicBezTo>
              </a:path>
              <a:path w="7716" h="3430">
                <a:moveTo>
                  <a:pt x="7461" y="12382"/>
                </a:moveTo>
                <a:cubicBezTo>
                  <a:pt x="7446" y="12445"/>
                  <a:pt x="7398" y="12510"/>
                  <a:pt x="7366" y="12573"/>
                </a:cubicBezTo>
                <a:cubicBezTo>
                  <a:pt x="7315" y="12674"/>
                  <a:pt x="7256" y="12810"/>
                  <a:pt x="7239" y="12922"/>
                </a:cubicBezTo>
                <a:cubicBezTo>
                  <a:pt x="7224" y="13027"/>
                  <a:pt x="7229" y="13146"/>
                  <a:pt x="7271" y="13240"/>
                </a:cubicBezTo>
                <a:cubicBezTo>
                  <a:pt x="7307" y="13321"/>
                  <a:pt x="7401" y="13371"/>
                  <a:pt x="7493" y="13335"/>
                </a:cubicBezTo>
                <a:cubicBezTo>
                  <a:pt x="7584" y="13300"/>
                  <a:pt x="7653" y="13161"/>
                  <a:pt x="7684" y="13081"/>
                </a:cubicBezTo>
                <a:cubicBezTo>
                  <a:pt x="7734" y="12949"/>
                  <a:pt x="7715" y="12807"/>
                  <a:pt x="7715" y="12668"/>
                </a:cubicBezTo>
                <a:cubicBezTo>
                  <a:pt x="7715" y="12549"/>
                  <a:pt x="7697" y="12445"/>
                  <a:pt x="7620" y="12351"/>
                </a:cubicBezTo>
                <a:cubicBezTo>
                  <a:pt x="7569" y="12289"/>
                  <a:pt x="7518" y="12267"/>
                  <a:pt x="7461" y="12319"/>
                </a:cubicBezTo>
                <a:cubicBezTo>
                  <a:pt x="7451" y="12330"/>
                  <a:pt x="7440" y="12340"/>
                  <a:pt x="7430" y="12351"/>
                </a:cubicBezTo>
              </a:path>
              <a:path w="7716" h="3430">
                <a:moveTo>
                  <a:pt x="8160" y="12510"/>
                </a:moveTo>
                <a:cubicBezTo>
                  <a:pt x="8215" y="12510"/>
                  <a:pt x="8269" y="12521"/>
                  <a:pt x="8318" y="12541"/>
                </a:cubicBezTo>
                <a:cubicBezTo>
                  <a:pt x="8397" y="12573"/>
                  <a:pt x="8393" y="12573"/>
                  <a:pt x="8477" y="12573"/>
                </a:cubicBezTo>
              </a:path>
              <a:path w="7716" h="3430">
                <a:moveTo>
                  <a:pt x="8128" y="12986"/>
                </a:moveTo>
                <a:cubicBezTo>
                  <a:pt x="8216" y="12986"/>
                  <a:pt x="8268" y="12973"/>
                  <a:pt x="8350" y="12954"/>
                </a:cubicBezTo>
                <a:cubicBezTo>
                  <a:pt x="8384" y="12946"/>
                  <a:pt x="8445" y="12954"/>
                  <a:pt x="8477" y="12954"/>
                </a:cubicBezTo>
              </a:path>
              <a:path w="7716" h="3430">
                <a:moveTo>
                  <a:pt x="8858" y="12478"/>
                </a:moveTo>
                <a:cubicBezTo>
                  <a:pt x="8918" y="12514"/>
                  <a:pt x="8976" y="12537"/>
                  <a:pt x="9049" y="12541"/>
                </a:cubicBezTo>
                <a:cubicBezTo>
                  <a:pt x="9106" y="12541"/>
                  <a:pt x="9123" y="12537"/>
                  <a:pt x="9144" y="12573"/>
                </a:cubicBezTo>
              </a:path>
              <a:path w="7716" h="3430">
                <a:moveTo>
                  <a:pt x="9493" y="12097"/>
                </a:moveTo>
                <a:cubicBezTo>
                  <a:pt x="9493" y="12184"/>
                  <a:pt x="9490" y="12238"/>
                  <a:pt x="9462" y="12319"/>
                </a:cubicBezTo>
                <a:cubicBezTo>
                  <a:pt x="9420" y="12441"/>
                  <a:pt x="9383" y="12603"/>
                  <a:pt x="9366" y="12732"/>
                </a:cubicBezTo>
                <a:cubicBezTo>
                  <a:pt x="9346" y="12877"/>
                  <a:pt x="9331" y="13033"/>
                  <a:pt x="9303" y="13176"/>
                </a:cubicBezTo>
                <a:cubicBezTo>
                  <a:pt x="9284" y="13273"/>
                  <a:pt x="9260" y="13364"/>
                  <a:pt x="9239" y="13462"/>
                </a:cubicBezTo>
              </a:path>
              <a:path w="7716" h="3430">
                <a:moveTo>
                  <a:pt x="10350" y="12097"/>
                </a:moveTo>
                <a:cubicBezTo>
                  <a:pt x="10266" y="12063"/>
                  <a:pt x="10288" y="12077"/>
                  <a:pt x="10192" y="12128"/>
                </a:cubicBezTo>
                <a:cubicBezTo>
                  <a:pt x="10102" y="12176"/>
                  <a:pt x="10005" y="12206"/>
                  <a:pt x="9938" y="12287"/>
                </a:cubicBezTo>
                <a:cubicBezTo>
                  <a:pt x="9857" y="12386"/>
                  <a:pt x="9785" y="12546"/>
                  <a:pt x="9747" y="12668"/>
                </a:cubicBezTo>
                <a:cubicBezTo>
                  <a:pt x="9699" y="12822"/>
                  <a:pt x="9716" y="12984"/>
                  <a:pt x="9716" y="13144"/>
                </a:cubicBezTo>
                <a:cubicBezTo>
                  <a:pt x="9716" y="13283"/>
                  <a:pt x="9744" y="13456"/>
                  <a:pt x="9779" y="13589"/>
                </a:cubicBezTo>
                <a:cubicBezTo>
                  <a:pt x="9798" y="13662"/>
                  <a:pt x="9843" y="13752"/>
                  <a:pt x="9874" y="13811"/>
                </a:cubicBezTo>
                <a:cubicBezTo>
                  <a:pt x="9874" y="13847"/>
                  <a:pt x="9877" y="13861"/>
                  <a:pt x="9906" y="13875"/>
                </a:cubicBezTo>
              </a:path>
              <a:path w="7716" h="3430">
                <a:moveTo>
                  <a:pt x="10382" y="12446"/>
                </a:moveTo>
                <a:cubicBezTo>
                  <a:pt x="10382" y="12494"/>
                  <a:pt x="10395" y="12567"/>
                  <a:pt x="10414" y="12605"/>
                </a:cubicBezTo>
                <a:cubicBezTo>
                  <a:pt x="10447" y="12671"/>
                  <a:pt x="10479" y="12749"/>
                  <a:pt x="10509" y="12827"/>
                </a:cubicBezTo>
                <a:cubicBezTo>
                  <a:pt x="10551" y="12933"/>
                  <a:pt x="10587" y="13041"/>
                  <a:pt x="10636" y="13144"/>
                </a:cubicBezTo>
                <a:cubicBezTo>
                  <a:pt x="10665" y="13205"/>
                  <a:pt x="10713" y="13278"/>
                  <a:pt x="10732" y="13335"/>
                </a:cubicBezTo>
                <a:cubicBezTo>
                  <a:pt x="10756" y="13405"/>
                  <a:pt x="10732" y="13296"/>
                  <a:pt x="10732" y="13272"/>
                </a:cubicBezTo>
              </a:path>
              <a:path w="7716" h="3430">
                <a:moveTo>
                  <a:pt x="10827" y="12541"/>
                </a:moveTo>
                <a:cubicBezTo>
                  <a:pt x="10773" y="12559"/>
                  <a:pt x="10747" y="12643"/>
                  <a:pt x="10700" y="12700"/>
                </a:cubicBezTo>
                <a:cubicBezTo>
                  <a:pt x="10623" y="12792"/>
                  <a:pt x="10550" y="12890"/>
                  <a:pt x="10478" y="12986"/>
                </a:cubicBezTo>
                <a:cubicBezTo>
                  <a:pt x="10415" y="13070"/>
                  <a:pt x="10332" y="13205"/>
                  <a:pt x="10255" y="13272"/>
                </a:cubicBezTo>
                <a:cubicBezTo>
                  <a:pt x="10211" y="13310"/>
                  <a:pt x="10195" y="13323"/>
                  <a:pt x="10160" y="13335"/>
                </a:cubicBezTo>
              </a:path>
              <a:path w="7716" h="3430">
                <a:moveTo>
                  <a:pt x="10922" y="12890"/>
                </a:moveTo>
                <a:cubicBezTo>
                  <a:pt x="11016" y="12890"/>
                  <a:pt x="11088" y="12879"/>
                  <a:pt x="11176" y="12859"/>
                </a:cubicBezTo>
                <a:cubicBezTo>
                  <a:pt x="11219" y="12849"/>
                  <a:pt x="11259" y="12836"/>
                  <a:pt x="11303" y="12827"/>
                </a:cubicBezTo>
              </a:path>
              <a:path w="7716" h="3430">
                <a:moveTo>
                  <a:pt x="11652" y="12446"/>
                </a:moveTo>
                <a:cubicBezTo>
                  <a:pt x="11639" y="12511"/>
                  <a:pt x="11618" y="12574"/>
                  <a:pt x="11589" y="12636"/>
                </a:cubicBezTo>
                <a:cubicBezTo>
                  <a:pt x="11533" y="12755"/>
                  <a:pt x="11530" y="12863"/>
                  <a:pt x="11494" y="12986"/>
                </a:cubicBezTo>
                <a:cubicBezTo>
                  <a:pt x="11460" y="13102"/>
                  <a:pt x="11454" y="13218"/>
                  <a:pt x="11430" y="13335"/>
                </a:cubicBezTo>
                <a:cubicBezTo>
                  <a:pt x="11410" y="13430"/>
                  <a:pt x="11398" y="13718"/>
                  <a:pt x="11398" y="13621"/>
                </a:cubicBezTo>
                <a:cubicBezTo>
                  <a:pt x="11398" y="13589"/>
                  <a:pt x="11398" y="13578"/>
                  <a:pt x="11398" y="13557"/>
                </a:cubicBezTo>
              </a:path>
              <a:path w="7716" h="3430">
                <a:moveTo>
                  <a:pt x="12224" y="12510"/>
                </a:moveTo>
                <a:cubicBezTo>
                  <a:pt x="12185" y="12519"/>
                  <a:pt x="12102" y="12525"/>
                  <a:pt x="12065" y="12541"/>
                </a:cubicBezTo>
                <a:cubicBezTo>
                  <a:pt x="12011" y="12564"/>
                  <a:pt x="12004" y="12573"/>
                  <a:pt x="11938" y="12573"/>
                </a:cubicBezTo>
                <a:cubicBezTo>
                  <a:pt x="11890" y="12573"/>
                  <a:pt x="11856" y="12627"/>
                  <a:pt x="11843" y="12668"/>
                </a:cubicBezTo>
                <a:cubicBezTo>
                  <a:pt x="11829" y="12712"/>
                  <a:pt x="11798" y="12707"/>
                  <a:pt x="11779" y="12764"/>
                </a:cubicBezTo>
                <a:cubicBezTo>
                  <a:pt x="11762" y="12814"/>
                  <a:pt x="11764" y="12776"/>
                  <a:pt x="11748" y="12827"/>
                </a:cubicBezTo>
                <a:cubicBezTo>
                  <a:pt x="11819" y="12827"/>
                  <a:pt x="11791" y="12799"/>
                  <a:pt x="11843" y="12795"/>
                </a:cubicBezTo>
                <a:cubicBezTo>
                  <a:pt x="11929" y="12788"/>
                  <a:pt x="11965" y="12804"/>
                  <a:pt x="12033" y="12827"/>
                </a:cubicBezTo>
                <a:cubicBezTo>
                  <a:pt x="12064" y="12837"/>
                  <a:pt x="12170" y="12946"/>
                  <a:pt x="12192" y="12986"/>
                </a:cubicBezTo>
                <a:cubicBezTo>
                  <a:pt x="12250" y="13092"/>
                  <a:pt x="12256" y="13185"/>
                  <a:pt x="12256" y="13303"/>
                </a:cubicBezTo>
                <a:cubicBezTo>
                  <a:pt x="12256" y="13402"/>
                  <a:pt x="12226" y="13485"/>
                  <a:pt x="12160" y="13557"/>
                </a:cubicBezTo>
                <a:cubicBezTo>
                  <a:pt x="12113" y="13609"/>
                  <a:pt x="12036" y="13589"/>
                  <a:pt x="11970" y="13589"/>
                </a:cubicBezTo>
                <a:cubicBezTo>
                  <a:pt x="11901" y="13589"/>
                  <a:pt x="11813" y="13521"/>
                  <a:pt x="11779" y="13462"/>
                </a:cubicBezTo>
                <a:cubicBezTo>
                  <a:pt x="11779" y="13451"/>
                  <a:pt x="11779" y="13441"/>
                  <a:pt x="11779" y="13430"/>
                </a:cubicBezTo>
              </a:path>
              <a:path w="7716" h="3430">
                <a:moveTo>
                  <a:pt x="12319" y="12160"/>
                </a:moveTo>
                <a:cubicBezTo>
                  <a:pt x="12345" y="12205"/>
                  <a:pt x="12391" y="12264"/>
                  <a:pt x="12414" y="12319"/>
                </a:cubicBezTo>
                <a:cubicBezTo>
                  <a:pt x="12471" y="12458"/>
                  <a:pt x="12550" y="12654"/>
                  <a:pt x="12573" y="12795"/>
                </a:cubicBezTo>
                <a:cubicBezTo>
                  <a:pt x="12608" y="13006"/>
                  <a:pt x="12611" y="13220"/>
                  <a:pt x="12573" y="13430"/>
                </a:cubicBezTo>
                <a:cubicBezTo>
                  <a:pt x="12540" y="13614"/>
                  <a:pt x="12504" y="13789"/>
                  <a:pt x="12382" y="13938"/>
                </a:cubicBezTo>
                <a:cubicBezTo>
                  <a:pt x="12301" y="14037"/>
                  <a:pt x="12225" y="14113"/>
                  <a:pt x="12128" y="14192"/>
                </a:cubicBezTo>
              </a:path>
              <a:path w="7716" h="3430">
                <a:moveTo>
                  <a:pt x="9239" y="11811"/>
                </a:moveTo>
                <a:cubicBezTo>
                  <a:pt x="9229" y="11811"/>
                  <a:pt x="9218" y="11811"/>
                  <a:pt x="9208" y="11811"/>
                </a:cubicBezTo>
              </a:path>
              <a:path w="7716" h="3430">
                <a:moveTo>
                  <a:pt x="9239" y="11811"/>
                </a:moveTo>
                <a:lnTo>
                  <a:pt x="9239" y="11811"/>
                </a:lnTo>
              </a:path>
              <a:path w="7716" h="3430">
                <a:moveTo>
                  <a:pt x="9176" y="11748"/>
                </a:moveTo>
                <a:cubicBezTo>
                  <a:pt x="9184" y="11685"/>
                  <a:pt x="9167" y="11672"/>
                  <a:pt x="9208" y="11620"/>
                </a:cubicBezTo>
                <a:cubicBezTo>
                  <a:pt x="9259" y="11556"/>
                  <a:pt x="9294" y="11505"/>
                  <a:pt x="9366" y="11462"/>
                </a:cubicBezTo>
                <a:cubicBezTo>
                  <a:pt x="9447" y="11414"/>
                  <a:pt x="9506" y="11349"/>
                  <a:pt x="9588" y="11303"/>
                </a:cubicBezTo>
                <a:cubicBezTo>
                  <a:pt x="9656" y="11265"/>
                  <a:pt x="9768" y="11224"/>
                  <a:pt x="9842" y="11208"/>
                </a:cubicBezTo>
                <a:cubicBezTo>
                  <a:pt x="9941" y="11187"/>
                  <a:pt x="10068" y="11205"/>
                  <a:pt x="10160" y="11240"/>
                </a:cubicBezTo>
                <a:cubicBezTo>
                  <a:pt x="10271" y="11282"/>
                  <a:pt x="10359" y="11318"/>
                  <a:pt x="10446" y="11398"/>
                </a:cubicBezTo>
                <a:cubicBezTo>
                  <a:pt x="10517" y="11463"/>
                  <a:pt x="10569" y="11529"/>
                  <a:pt x="10604" y="11620"/>
                </a:cubicBezTo>
                <a:cubicBezTo>
                  <a:pt x="10634" y="11697"/>
                  <a:pt x="10657" y="11795"/>
                  <a:pt x="10668" y="11874"/>
                </a:cubicBezTo>
                <a:cubicBezTo>
                  <a:pt x="10676" y="11933"/>
                  <a:pt x="10650" y="11980"/>
                  <a:pt x="10636" y="12033"/>
                </a:cubicBezTo>
              </a:path>
              <a:path w="7716" h="3430">
                <a:moveTo>
                  <a:pt x="9176" y="11494"/>
                </a:moveTo>
                <a:cubicBezTo>
                  <a:pt x="9214" y="11441"/>
                  <a:pt x="9214" y="11432"/>
                  <a:pt x="9271" y="11398"/>
                </a:cubicBezTo>
                <a:cubicBezTo>
                  <a:pt x="9346" y="11353"/>
                  <a:pt x="9420" y="11278"/>
                  <a:pt x="9493" y="11240"/>
                </a:cubicBezTo>
                <a:cubicBezTo>
                  <a:pt x="9610" y="11179"/>
                  <a:pt x="9719" y="11103"/>
                  <a:pt x="9842" y="11049"/>
                </a:cubicBezTo>
                <a:cubicBezTo>
                  <a:pt x="9979" y="10988"/>
                  <a:pt x="10135" y="10907"/>
                  <a:pt x="10287" y="10890"/>
                </a:cubicBezTo>
                <a:cubicBezTo>
                  <a:pt x="10444" y="10872"/>
                  <a:pt x="10613" y="10885"/>
                  <a:pt x="10763" y="10922"/>
                </a:cubicBezTo>
                <a:cubicBezTo>
                  <a:pt x="10961" y="10971"/>
                  <a:pt x="11172" y="11010"/>
                  <a:pt x="11335" y="11144"/>
                </a:cubicBezTo>
                <a:cubicBezTo>
                  <a:pt x="11452" y="11240"/>
                  <a:pt x="11587" y="11351"/>
                  <a:pt x="11684" y="11462"/>
                </a:cubicBezTo>
                <a:cubicBezTo>
                  <a:pt x="11768" y="11558"/>
                  <a:pt x="11821" y="11699"/>
                  <a:pt x="11874" y="11811"/>
                </a:cubicBezTo>
                <a:cubicBezTo>
                  <a:pt x="11907" y="11879"/>
                  <a:pt x="11958" y="11969"/>
                  <a:pt x="11970" y="12033"/>
                </a:cubicBezTo>
                <a:cubicBezTo>
                  <a:pt x="11986" y="12115"/>
                  <a:pt x="11977" y="12094"/>
                  <a:pt x="12002" y="12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Ink 5"/>
          <p:cNvSpPr/>
          <p:nvPr/>
        </p:nvSpPr>
        <p:spPr>
          <a:xfrm>
            <a:off x="2435400" y="5075280"/>
            <a:ext cx="2057400" cy="1074600"/>
          </a:xfrm>
          <a:custGeom>
            <a:avLst/>
            <a:gdLst/>
            <a:ahLst/>
            <a:rect l="l" t="t" r="r" b="b"/>
            <a:pathLst>
              <a:path w="5716" h="2986">
                <a:moveTo>
                  <a:pt x="6985" y="14097"/>
                </a:moveTo>
                <a:cubicBezTo>
                  <a:pt x="6964" y="14151"/>
                  <a:pt x="6967" y="14195"/>
                  <a:pt x="6953" y="14256"/>
                </a:cubicBezTo>
                <a:cubicBezTo>
                  <a:pt x="6941" y="14308"/>
                  <a:pt x="6900" y="14386"/>
                  <a:pt x="6890" y="14446"/>
                </a:cubicBezTo>
                <a:cubicBezTo>
                  <a:pt x="6875" y="14541"/>
                  <a:pt x="6838" y="14639"/>
                  <a:pt x="6826" y="14732"/>
                </a:cubicBezTo>
                <a:cubicBezTo>
                  <a:pt x="6811" y="14851"/>
                  <a:pt x="6779" y="14963"/>
                  <a:pt x="6763" y="15081"/>
                </a:cubicBezTo>
                <a:cubicBezTo>
                  <a:pt x="6750" y="15173"/>
                  <a:pt x="6759" y="15261"/>
                  <a:pt x="6794" y="15335"/>
                </a:cubicBezTo>
                <a:cubicBezTo>
                  <a:pt x="6805" y="15346"/>
                  <a:pt x="6815" y="15356"/>
                  <a:pt x="6826" y="15367"/>
                </a:cubicBezTo>
                <a:cubicBezTo>
                  <a:pt x="6867" y="15341"/>
                  <a:pt x="6918" y="15324"/>
                  <a:pt x="6953" y="15272"/>
                </a:cubicBezTo>
                <a:cubicBezTo>
                  <a:pt x="7000" y="15201"/>
                  <a:pt x="7071" y="15124"/>
                  <a:pt x="7112" y="15050"/>
                </a:cubicBezTo>
                <a:cubicBezTo>
                  <a:pt x="7161" y="14961"/>
                  <a:pt x="7175" y="14857"/>
                  <a:pt x="7207" y="14764"/>
                </a:cubicBezTo>
                <a:cubicBezTo>
                  <a:pt x="7242" y="14664"/>
                  <a:pt x="7265" y="14551"/>
                  <a:pt x="7271" y="14446"/>
                </a:cubicBezTo>
                <a:cubicBezTo>
                  <a:pt x="7271" y="14383"/>
                  <a:pt x="7271" y="14361"/>
                  <a:pt x="7271" y="14319"/>
                </a:cubicBezTo>
                <a:cubicBezTo>
                  <a:pt x="7271" y="14393"/>
                  <a:pt x="7271" y="14404"/>
                  <a:pt x="7271" y="14478"/>
                </a:cubicBezTo>
                <a:cubicBezTo>
                  <a:pt x="7271" y="14683"/>
                  <a:pt x="7287" y="14880"/>
                  <a:pt x="7302" y="15081"/>
                </a:cubicBezTo>
                <a:cubicBezTo>
                  <a:pt x="7321" y="15347"/>
                  <a:pt x="7295" y="15617"/>
                  <a:pt x="7271" y="15875"/>
                </a:cubicBezTo>
                <a:cubicBezTo>
                  <a:pt x="7257" y="16032"/>
                  <a:pt x="7225" y="16167"/>
                  <a:pt x="7176" y="16320"/>
                </a:cubicBezTo>
                <a:cubicBezTo>
                  <a:pt x="7144" y="16419"/>
                  <a:pt x="7123" y="16530"/>
                  <a:pt x="7048" y="16605"/>
                </a:cubicBezTo>
                <a:cubicBezTo>
                  <a:pt x="6978" y="16675"/>
                  <a:pt x="6943" y="16610"/>
                  <a:pt x="6922" y="16605"/>
                </a:cubicBezTo>
              </a:path>
              <a:path w="5716" h="2986">
                <a:moveTo>
                  <a:pt x="7461" y="14891"/>
                </a:moveTo>
                <a:cubicBezTo>
                  <a:pt x="7523" y="14891"/>
                  <a:pt x="7561" y="14839"/>
                  <a:pt x="7620" y="14859"/>
                </a:cubicBezTo>
                <a:cubicBezTo>
                  <a:pt x="7680" y="14879"/>
                  <a:pt x="7647" y="14876"/>
                  <a:pt x="7715" y="14859"/>
                </a:cubicBezTo>
              </a:path>
              <a:path w="5716" h="2986">
                <a:moveTo>
                  <a:pt x="8064" y="14256"/>
                </a:moveTo>
                <a:cubicBezTo>
                  <a:pt x="8064" y="14359"/>
                  <a:pt x="8042" y="14443"/>
                  <a:pt x="8033" y="14542"/>
                </a:cubicBezTo>
                <a:cubicBezTo>
                  <a:pt x="8019" y="14688"/>
                  <a:pt x="8006" y="14840"/>
                  <a:pt x="8001" y="14986"/>
                </a:cubicBezTo>
                <a:cubicBezTo>
                  <a:pt x="7994" y="15186"/>
                  <a:pt x="8001" y="15388"/>
                  <a:pt x="8001" y="15589"/>
                </a:cubicBezTo>
              </a:path>
              <a:path w="5716" h="2986">
                <a:moveTo>
                  <a:pt x="8287" y="14478"/>
                </a:moveTo>
                <a:cubicBezTo>
                  <a:pt x="8287" y="14601"/>
                  <a:pt x="8268" y="14709"/>
                  <a:pt x="8255" y="14827"/>
                </a:cubicBezTo>
                <a:cubicBezTo>
                  <a:pt x="8242" y="14940"/>
                  <a:pt x="8262" y="15102"/>
                  <a:pt x="8287" y="15208"/>
                </a:cubicBezTo>
                <a:cubicBezTo>
                  <a:pt x="8307" y="15292"/>
                  <a:pt x="8326" y="15356"/>
                  <a:pt x="8382" y="15399"/>
                </a:cubicBezTo>
                <a:cubicBezTo>
                  <a:pt x="8393" y="15409"/>
                  <a:pt x="8403" y="15420"/>
                  <a:pt x="8414" y="15430"/>
                </a:cubicBezTo>
                <a:cubicBezTo>
                  <a:pt x="8471" y="15374"/>
                  <a:pt x="8544" y="15348"/>
                  <a:pt x="8572" y="15272"/>
                </a:cubicBezTo>
                <a:cubicBezTo>
                  <a:pt x="8608" y="15176"/>
                  <a:pt x="8683" y="15022"/>
                  <a:pt x="8700" y="14922"/>
                </a:cubicBezTo>
                <a:cubicBezTo>
                  <a:pt x="8723" y="14786"/>
                  <a:pt x="8727" y="14530"/>
                  <a:pt x="8668" y="14414"/>
                </a:cubicBezTo>
                <a:cubicBezTo>
                  <a:pt x="8621" y="14320"/>
                  <a:pt x="8570" y="14342"/>
                  <a:pt x="8509" y="14351"/>
                </a:cubicBezTo>
                <a:cubicBezTo>
                  <a:pt x="8434" y="14362"/>
                  <a:pt x="8417" y="14398"/>
                  <a:pt x="8350" y="14414"/>
                </a:cubicBezTo>
              </a:path>
              <a:path w="5716" h="2986">
                <a:moveTo>
                  <a:pt x="8985" y="14542"/>
                </a:moveTo>
                <a:cubicBezTo>
                  <a:pt x="9035" y="14530"/>
                  <a:pt x="9055" y="14510"/>
                  <a:pt x="9112" y="14510"/>
                </a:cubicBezTo>
                <a:cubicBezTo>
                  <a:pt x="9144" y="14510"/>
                  <a:pt x="9176" y="14510"/>
                  <a:pt x="9208" y="14510"/>
                </a:cubicBezTo>
              </a:path>
              <a:path w="5716" h="2986">
                <a:moveTo>
                  <a:pt x="9017" y="14986"/>
                </a:moveTo>
                <a:cubicBezTo>
                  <a:pt x="9084" y="14936"/>
                  <a:pt x="9102" y="14985"/>
                  <a:pt x="9176" y="14954"/>
                </a:cubicBezTo>
                <a:cubicBezTo>
                  <a:pt x="9257" y="14920"/>
                  <a:pt x="9270" y="14891"/>
                  <a:pt x="9366" y="14891"/>
                </a:cubicBezTo>
              </a:path>
              <a:path w="5716" h="2986">
                <a:moveTo>
                  <a:pt x="9557" y="14605"/>
                </a:moveTo>
                <a:cubicBezTo>
                  <a:pt x="9607" y="14618"/>
                  <a:pt x="9627" y="14637"/>
                  <a:pt x="9684" y="14637"/>
                </a:cubicBezTo>
                <a:cubicBezTo>
                  <a:pt x="9761" y="14637"/>
                  <a:pt x="9808" y="14586"/>
                  <a:pt x="9874" y="14573"/>
                </a:cubicBezTo>
                <a:cubicBezTo>
                  <a:pt x="9895" y="14573"/>
                  <a:pt x="9917" y="14573"/>
                  <a:pt x="9938" y="14573"/>
                </a:cubicBezTo>
              </a:path>
              <a:path w="5716" h="2986">
                <a:moveTo>
                  <a:pt x="10160" y="14319"/>
                </a:moveTo>
                <a:cubicBezTo>
                  <a:pt x="10171" y="14399"/>
                  <a:pt x="10189" y="14463"/>
                  <a:pt x="10224" y="14542"/>
                </a:cubicBezTo>
                <a:cubicBezTo>
                  <a:pt x="10266" y="14637"/>
                  <a:pt x="10306" y="14733"/>
                  <a:pt x="10350" y="14827"/>
                </a:cubicBezTo>
                <a:cubicBezTo>
                  <a:pt x="10393" y="14919"/>
                  <a:pt x="10462" y="14987"/>
                  <a:pt x="10509" y="15081"/>
                </a:cubicBezTo>
                <a:cubicBezTo>
                  <a:pt x="10553" y="15170"/>
                  <a:pt x="10574" y="15258"/>
                  <a:pt x="10636" y="15335"/>
                </a:cubicBezTo>
              </a:path>
              <a:path w="5716" h="2986">
                <a:moveTo>
                  <a:pt x="10636" y="14319"/>
                </a:moveTo>
                <a:cubicBezTo>
                  <a:pt x="10582" y="14337"/>
                  <a:pt x="10564" y="14443"/>
                  <a:pt x="10541" y="14510"/>
                </a:cubicBezTo>
                <a:cubicBezTo>
                  <a:pt x="10491" y="14654"/>
                  <a:pt x="10407" y="14779"/>
                  <a:pt x="10350" y="14922"/>
                </a:cubicBezTo>
                <a:cubicBezTo>
                  <a:pt x="10288" y="15078"/>
                  <a:pt x="10252" y="15243"/>
                  <a:pt x="10192" y="15399"/>
                </a:cubicBezTo>
                <a:cubicBezTo>
                  <a:pt x="10181" y="15420"/>
                  <a:pt x="10171" y="15441"/>
                  <a:pt x="10160" y="15462"/>
                </a:cubicBezTo>
              </a:path>
              <a:path w="5716" h="2986">
                <a:moveTo>
                  <a:pt x="11017" y="14573"/>
                </a:moveTo>
                <a:cubicBezTo>
                  <a:pt x="11040" y="14689"/>
                  <a:pt x="11030" y="14739"/>
                  <a:pt x="11017" y="14859"/>
                </a:cubicBezTo>
                <a:cubicBezTo>
                  <a:pt x="10997" y="15034"/>
                  <a:pt x="11017" y="15222"/>
                  <a:pt x="11017" y="15399"/>
                </a:cubicBezTo>
              </a:path>
              <a:path w="5716" h="2986">
                <a:moveTo>
                  <a:pt x="10827" y="14922"/>
                </a:moveTo>
                <a:cubicBezTo>
                  <a:pt x="10844" y="14870"/>
                  <a:pt x="10890" y="14891"/>
                  <a:pt x="10954" y="14891"/>
                </a:cubicBezTo>
                <a:cubicBezTo>
                  <a:pt x="11053" y="14891"/>
                  <a:pt x="11135" y="14859"/>
                  <a:pt x="11240" y="14859"/>
                </a:cubicBezTo>
              </a:path>
              <a:path w="5716" h="2986">
                <a:moveTo>
                  <a:pt x="11589" y="14446"/>
                </a:moveTo>
                <a:cubicBezTo>
                  <a:pt x="11551" y="14559"/>
                  <a:pt x="11536" y="14705"/>
                  <a:pt x="11525" y="14827"/>
                </a:cubicBezTo>
                <a:cubicBezTo>
                  <a:pt x="11506" y="15050"/>
                  <a:pt x="11529" y="15278"/>
                  <a:pt x="11557" y="15494"/>
                </a:cubicBezTo>
                <a:cubicBezTo>
                  <a:pt x="11567" y="15569"/>
                  <a:pt x="11572" y="15592"/>
                  <a:pt x="11620" y="15653"/>
                </a:cubicBezTo>
              </a:path>
              <a:path w="5716" h="2986">
                <a:moveTo>
                  <a:pt x="12287" y="14160"/>
                </a:moveTo>
                <a:cubicBezTo>
                  <a:pt x="12277" y="14219"/>
                  <a:pt x="12300" y="14247"/>
                  <a:pt x="12256" y="14288"/>
                </a:cubicBezTo>
                <a:cubicBezTo>
                  <a:pt x="12223" y="14318"/>
                  <a:pt x="12100" y="14434"/>
                  <a:pt x="12065" y="14446"/>
                </a:cubicBezTo>
                <a:cubicBezTo>
                  <a:pt x="11977" y="14475"/>
                  <a:pt x="11974" y="14455"/>
                  <a:pt x="11906" y="14446"/>
                </a:cubicBezTo>
                <a:cubicBezTo>
                  <a:pt x="11859" y="14440"/>
                  <a:pt x="11820" y="14417"/>
                  <a:pt x="11811" y="14414"/>
                </a:cubicBezTo>
                <a:cubicBezTo>
                  <a:pt x="11800" y="14414"/>
                  <a:pt x="11790" y="14414"/>
                  <a:pt x="11779" y="14414"/>
                </a:cubicBezTo>
                <a:cubicBezTo>
                  <a:pt x="11788" y="14478"/>
                  <a:pt x="11807" y="14507"/>
                  <a:pt x="11811" y="14573"/>
                </a:cubicBezTo>
                <a:cubicBezTo>
                  <a:pt x="11817" y="14674"/>
                  <a:pt x="11828" y="14764"/>
                  <a:pt x="11843" y="14859"/>
                </a:cubicBezTo>
                <a:cubicBezTo>
                  <a:pt x="11850" y="14904"/>
                  <a:pt x="11843" y="14972"/>
                  <a:pt x="11843" y="15018"/>
                </a:cubicBezTo>
                <a:cubicBezTo>
                  <a:pt x="11882" y="14958"/>
                  <a:pt x="11877" y="14888"/>
                  <a:pt x="11906" y="14827"/>
                </a:cubicBezTo>
                <a:cubicBezTo>
                  <a:pt x="11932" y="14771"/>
                  <a:pt x="11988" y="14713"/>
                  <a:pt x="12033" y="14668"/>
                </a:cubicBezTo>
                <a:cubicBezTo>
                  <a:pt x="12067" y="14634"/>
                  <a:pt x="12111" y="14626"/>
                  <a:pt x="12160" y="14637"/>
                </a:cubicBezTo>
                <a:cubicBezTo>
                  <a:pt x="12228" y="14652"/>
                  <a:pt x="12315" y="14741"/>
                  <a:pt x="12351" y="14796"/>
                </a:cubicBezTo>
                <a:cubicBezTo>
                  <a:pt x="12410" y="14885"/>
                  <a:pt x="12473" y="15009"/>
                  <a:pt x="12478" y="15113"/>
                </a:cubicBezTo>
                <a:cubicBezTo>
                  <a:pt x="12484" y="15243"/>
                  <a:pt x="12471" y="15316"/>
                  <a:pt x="12414" y="15430"/>
                </a:cubicBezTo>
                <a:cubicBezTo>
                  <a:pt x="12370" y="15518"/>
                  <a:pt x="12307" y="15605"/>
                  <a:pt x="12224" y="15653"/>
                </a:cubicBezTo>
                <a:cubicBezTo>
                  <a:pt x="12161" y="15689"/>
                  <a:pt x="12128" y="15666"/>
                  <a:pt x="12097" y="15653"/>
                </a:cubicBezTo>
                <a:cubicBezTo>
                  <a:pt x="12035" y="15628"/>
                  <a:pt x="12037" y="15628"/>
                  <a:pt x="12033" y="15558"/>
                </a:cubicBezTo>
                <a:cubicBezTo>
                  <a:pt x="12033" y="15500"/>
                  <a:pt x="12029" y="15483"/>
                  <a:pt x="12065" y="15462"/>
                </a:cubicBezTo>
              </a:path>
              <a:path w="5716" h="2986">
                <a:moveTo>
                  <a:pt x="7461" y="15875"/>
                </a:moveTo>
                <a:cubicBezTo>
                  <a:pt x="7461" y="16009"/>
                  <a:pt x="7472" y="16130"/>
                  <a:pt x="7493" y="16256"/>
                </a:cubicBezTo>
                <a:cubicBezTo>
                  <a:pt x="7504" y="16325"/>
                  <a:pt x="7493" y="16408"/>
                  <a:pt x="7493" y="16478"/>
                </a:cubicBezTo>
              </a:path>
              <a:path w="5716" h="2986">
                <a:moveTo>
                  <a:pt x="7271" y="16320"/>
                </a:moveTo>
                <a:cubicBezTo>
                  <a:pt x="7328" y="16276"/>
                  <a:pt x="7372" y="16317"/>
                  <a:pt x="7430" y="16288"/>
                </a:cubicBezTo>
                <a:cubicBezTo>
                  <a:pt x="7461" y="16256"/>
                  <a:pt x="7472" y="16245"/>
                  <a:pt x="7493" y="16224"/>
                </a:cubicBezTo>
              </a:path>
              <a:path w="5716" h="2986">
                <a:moveTo>
                  <a:pt x="7842" y="15812"/>
                </a:moveTo>
                <a:cubicBezTo>
                  <a:pt x="7842" y="15906"/>
                  <a:pt x="7859" y="15980"/>
                  <a:pt x="7874" y="16066"/>
                </a:cubicBezTo>
                <a:cubicBezTo>
                  <a:pt x="7894" y="16187"/>
                  <a:pt x="7844" y="16312"/>
                  <a:pt x="7906" y="16415"/>
                </a:cubicBezTo>
              </a:path>
              <a:path w="5716" h="2986">
                <a:moveTo>
                  <a:pt x="8096" y="15843"/>
                </a:moveTo>
                <a:cubicBezTo>
                  <a:pt x="8044" y="15860"/>
                  <a:pt x="8064" y="15905"/>
                  <a:pt x="8064" y="15970"/>
                </a:cubicBezTo>
                <a:cubicBezTo>
                  <a:pt x="8064" y="16135"/>
                  <a:pt x="8068" y="16300"/>
                  <a:pt x="8096" y="16446"/>
                </a:cubicBezTo>
                <a:cubicBezTo>
                  <a:pt x="8096" y="16504"/>
                  <a:pt x="8092" y="16521"/>
                  <a:pt x="8128" y="16542"/>
                </a:cubicBezTo>
                <a:cubicBezTo>
                  <a:pt x="8183" y="16542"/>
                  <a:pt x="8204" y="16536"/>
                  <a:pt x="8223" y="16478"/>
                </a:cubicBezTo>
                <a:cubicBezTo>
                  <a:pt x="8245" y="16411"/>
                  <a:pt x="8275" y="16325"/>
                  <a:pt x="8287" y="16256"/>
                </a:cubicBezTo>
                <a:cubicBezTo>
                  <a:pt x="8304" y="16155"/>
                  <a:pt x="8313" y="16039"/>
                  <a:pt x="8318" y="15938"/>
                </a:cubicBezTo>
                <a:cubicBezTo>
                  <a:pt x="8321" y="15872"/>
                  <a:pt x="8301" y="15827"/>
                  <a:pt x="8255" y="15812"/>
                </a:cubicBezTo>
                <a:cubicBezTo>
                  <a:pt x="8218" y="15824"/>
                  <a:pt x="8179" y="15882"/>
                  <a:pt x="8160" y="15938"/>
                </a:cubicBezTo>
                <a:cubicBezTo>
                  <a:pt x="8160" y="15949"/>
                  <a:pt x="8160" y="15959"/>
                  <a:pt x="8160" y="15970"/>
                </a:cubicBezTo>
              </a:path>
              <a:path w="5716" h="2986">
                <a:moveTo>
                  <a:pt x="11017" y="16129"/>
                </a:moveTo>
                <a:cubicBezTo>
                  <a:pt x="10966" y="16199"/>
                  <a:pt x="11014" y="16259"/>
                  <a:pt x="11017" y="16351"/>
                </a:cubicBezTo>
                <a:cubicBezTo>
                  <a:pt x="11024" y="16527"/>
                  <a:pt x="11013" y="16692"/>
                  <a:pt x="11049" y="16859"/>
                </a:cubicBezTo>
                <a:cubicBezTo>
                  <a:pt x="11049" y="16870"/>
                  <a:pt x="11049" y="16880"/>
                  <a:pt x="11049" y="16891"/>
                </a:cubicBezTo>
              </a:path>
              <a:path w="5716" h="2986">
                <a:moveTo>
                  <a:pt x="10795" y="16669"/>
                </a:moveTo>
                <a:cubicBezTo>
                  <a:pt x="10853" y="16625"/>
                  <a:pt x="10894" y="16634"/>
                  <a:pt x="10954" y="16605"/>
                </a:cubicBezTo>
                <a:cubicBezTo>
                  <a:pt x="10986" y="16574"/>
                  <a:pt x="10997" y="16564"/>
                  <a:pt x="11017" y="16542"/>
                </a:cubicBezTo>
              </a:path>
              <a:path w="5716" h="2986">
                <a:moveTo>
                  <a:pt x="11398" y="16224"/>
                </a:moveTo>
                <a:cubicBezTo>
                  <a:pt x="11398" y="16295"/>
                  <a:pt x="11427" y="16343"/>
                  <a:pt x="11430" y="16415"/>
                </a:cubicBezTo>
                <a:cubicBezTo>
                  <a:pt x="11435" y="16566"/>
                  <a:pt x="11455" y="16710"/>
                  <a:pt x="11462" y="16859"/>
                </a:cubicBezTo>
                <a:cubicBezTo>
                  <a:pt x="11462" y="16923"/>
                  <a:pt x="11462" y="16944"/>
                  <a:pt x="11462" y="16986"/>
                </a:cubicBezTo>
              </a:path>
              <a:path w="5716" h="2986">
                <a:moveTo>
                  <a:pt x="11684" y="16224"/>
                </a:moveTo>
                <a:cubicBezTo>
                  <a:pt x="11684" y="16450"/>
                  <a:pt x="11683" y="16675"/>
                  <a:pt x="11716" y="16891"/>
                </a:cubicBezTo>
                <a:cubicBezTo>
                  <a:pt x="11726" y="16957"/>
                  <a:pt x="11735" y="17048"/>
                  <a:pt x="11811" y="17082"/>
                </a:cubicBezTo>
                <a:cubicBezTo>
                  <a:pt x="11841" y="17095"/>
                  <a:pt x="11926" y="17064"/>
                  <a:pt x="11938" y="17050"/>
                </a:cubicBezTo>
                <a:cubicBezTo>
                  <a:pt x="11986" y="16992"/>
                  <a:pt x="11988" y="16895"/>
                  <a:pt x="12002" y="16828"/>
                </a:cubicBezTo>
                <a:cubicBezTo>
                  <a:pt x="12035" y="16670"/>
                  <a:pt x="12023" y="16597"/>
                  <a:pt x="12002" y="16446"/>
                </a:cubicBezTo>
                <a:cubicBezTo>
                  <a:pt x="11990" y="16361"/>
                  <a:pt x="11994" y="16288"/>
                  <a:pt x="11906" y="16256"/>
                </a:cubicBezTo>
                <a:cubicBezTo>
                  <a:pt x="11848" y="16235"/>
                  <a:pt x="11815" y="16284"/>
                  <a:pt x="11779" y="16320"/>
                </a:cubicBezTo>
                <a:cubicBezTo>
                  <a:pt x="11769" y="16330"/>
                  <a:pt x="11758" y="16341"/>
                  <a:pt x="11748" y="16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nk 6"/>
          <p:cNvSpPr/>
          <p:nvPr/>
        </p:nvSpPr>
        <p:spPr>
          <a:xfrm>
            <a:off x="5703840" y="4343400"/>
            <a:ext cx="2274840" cy="1292400"/>
          </a:xfrm>
          <a:custGeom>
            <a:avLst/>
            <a:gdLst/>
            <a:ahLst/>
            <a:rect l="l" t="t" r="r" b="b"/>
            <a:pathLst>
              <a:path w="6320" h="3589">
                <a:moveTo>
                  <a:pt x="15843" y="12827"/>
                </a:moveTo>
                <a:cubicBezTo>
                  <a:pt x="15843" y="12895"/>
                  <a:pt x="15850" y="12957"/>
                  <a:pt x="15875" y="13018"/>
                </a:cubicBezTo>
                <a:cubicBezTo>
                  <a:pt x="15933" y="13161"/>
                  <a:pt x="16000" y="13326"/>
                  <a:pt x="16066" y="13462"/>
                </a:cubicBezTo>
                <a:cubicBezTo>
                  <a:pt x="16124" y="13583"/>
                  <a:pt x="16180" y="13680"/>
                  <a:pt x="16224" y="13811"/>
                </a:cubicBezTo>
                <a:cubicBezTo>
                  <a:pt x="16253" y="13899"/>
                  <a:pt x="16251" y="14018"/>
                  <a:pt x="16288" y="14097"/>
                </a:cubicBezTo>
                <a:cubicBezTo>
                  <a:pt x="16317" y="14126"/>
                  <a:pt x="16327" y="14132"/>
                  <a:pt x="16320" y="14160"/>
                </a:cubicBezTo>
              </a:path>
              <a:path w="6320" h="3589">
                <a:moveTo>
                  <a:pt x="16637" y="12732"/>
                </a:moveTo>
                <a:cubicBezTo>
                  <a:pt x="16612" y="12830"/>
                  <a:pt x="16619" y="12935"/>
                  <a:pt x="16605" y="13049"/>
                </a:cubicBezTo>
                <a:cubicBezTo>
                  <a:pt x="16578" y="13274"/>
                  <a:pt x="16486" y="13490"/>
                  <a:pt x="16446" y="13716"/>
                </a:cubicBezTo>
                <a:cubicBezTo>
                  <a:pt x="16404" y="13956"/>
                  <a:pt x="16350" y="14209"/>
                  <a:pt x="16288" y="14446"/>
                </a:cubicBezTo>
                <a:cubicBezTo>
                  <a:pt x="16222" y="14700"/>
                  <a:pt x="16177" y="14949"/>
                  <a:pt x="16129" y="15208"/>
                </a:cubicBezTo>
                <a:cubicBezTo>
                  <a:pt x="16104" y="15346"/>
                  <a:pt x="16076" y="15486"/>
                  <a:pt x="16066" y="15621"/>
                </a:cubicBezTo>
                <a:cubicBezTo>
                  <a:pt x="16066" y="15632"/>
                  <a:pt x="16066" y="15642"/>
                  <a:pt x="16066" y="15653"/>
                </a:cubicBezTo>
              </a:path>
              <a:path w="6320" h="3589">
                <a:moveTo>
                  <a:pt x="16859" y="13557"/>
                </a:moveTo>
                <a:cubicBezTo>
                  <a:pt x="16872" y="13520"/>
                  <a:pt x="16962" y="13475"/>
                  <a:pt x="17018" y="13462"/>
                </a:cubicBezTo>
                <a:cubicBezTo>
                  <a:pt x="17085" y="13447"/>
                  <a:pt x="17174" y="13442"/>
                  <a:pt x="17240" y="13430"/>
                </a:cubicBezTo>
                <a:cubicBezTo>
                  <a:pt x="17329" y="13414"/>
                  <a:pt x="17350" y="13399"/>
                  <a:pt x="17431" y="13367"/>
                </a:cubicBezTo>
              </a:path>
              <a:path w="6320" h="3589">
                <a:moveTo>
                  <a:pt x="16923" y="13906"/>
                </a:moveTo>
                <a:cubicBezTo>
                  <a:pt x="16975" y="13893"/>
                  <a:pt x="17034" y="13853"/>
                  <a:pt x="17082" y="13843"/>
                </a:cubicBezTo>
                <a:cubicBezTo>
                  <a:pt x="17170" y="13825"/>
                  <a:pt x="17246" y="13791"/>
                  <a:pt x="17336" y="13780"/>
                </a:cubicBezTo>
              </a:path>
              <a:path w="6320" h="3589">
                <a:moveTo>
                  <a:pt x="17907" y="13113"/>
                </a:moveTo>
                <a:cubicBezTo>
                  <a:pt x="17896" y="13113"/>
                  <a:pt x="17886" y="13113"/>
                  <a:pt x="17875" y="13113"/>
                </a:cubicBezTo>
                <a:cubicBezTo>
                  <a:pt x="17923" y="13113"/>
                  <a:pt x="17996" y="13100"/>
                  <a:pt x="18034" y="13081"/>
                </a:cubicBezTo>
                <a:cubicBezTo>
                  <a:pt x="18084" y="13056"/>
                  <a:pt x="18139" y="13040"/>
                  <a:pt x="18193" y="13018"/>
                </a:cubicBezTo>
                <a:cubicBezTo>
                  <a:pt x="18268" y="12988"/>
                  <a:pt x="18300" y="12986"/>
                  <a:pt x="18383" y="12986"/>
                </a:cubicBezTo>
              </a:path>
              <a:path w="6320" h="3589">
                <a:moveTo>
                  <a:pt x="18732" y="12414"/>
                </a:moveTo>
                <a:cubicBezTo>
                  <a:pt x="18744" y="12461"/>
                  <a:pt x="18766" y="12528"/>
                  <a:pt x="18796" y="12573"/>
                </a:cubicBezTo>
                <a:cubicBezTo>
                  <a:pt x="18841" y="12640"/>
                  <a:pt x="18885" y="12688"/>
                  <a:pt x="18923" y="12764"/>
                </a:cubicBezTo>
                <a:cubicBezTo>
                  <a:pt x="18974" y="12866"/>
                  <a:pt x="19056" y="12947"/>
                  <a:pt x="19114" y="13049"/>
                </a:cubicBezTo>
                <a:cubicBezTo>
                  <a:pt x="19149" y="13122"/>
                  <a:pt x="19163" y="13152"/>
                  <a:pt x="19177" y="13208"/>
                </a:cubicBezTo>
              </a:path>
              <a:path w="6320" h="3589">
                <a:moveTo>
                  <a:pt x="19177" y="13144"/>
                </a:moveTo>
                <a:cubicBezTo>
                  <a:pt x="19214" y="13182"/>
                  <a:pt x="19229" y="13193"/>
                  <a:pt x="19240" y="13240"/>
                </a:cubicBezTo>
                <a:cubicBezTo>
                  <a:pt x="19291" y="13257"/>
                  <a:pt x="19253" y="13255"/>
                  <a:pt x="19304" y="13272"/>
                </a:cubicBezTo>
                <a:cubicBezTo>
                  <a:pt x="19316" y="13319"/>
                  <a:pt x="19338" y="13385"/>
                  <a:pt x="19368" y="13430"/>
                </a:cubicBezTo>
                <a:cubicBezTo>
                  <a:pt x="19403" y="13483"/>
                  <a:pt x="19407" y="13534"/>
                  <a:pt x="19431" y="13589"/>
                </a:cubicBezTo>
                <a:cubicBezTo>
                  <a:pt x="19456" y="13647"/>
                  <a:pt x="19491" y="13729"/>
                  <a:pt x="19526" y="13780"/>
                </a:cubicBezTo>
                <a:cubicBezTo>
                  <a:pt x="19556" y="13825"/>
                  <a:pt x="19599" y="13886"/>
                  <a:pt x="19622" y="13938"/>
                </a:cubicBezTo>
                <a:cubicBezTo>
                  <a:pt x="19643" y="13985"/>
                  <a:pt x="19671" y="14049"/>
                  <a:pt x="19685" y="14097"/>
                </a:cubicBezTo>
                <a:cubicBezTo>
                  <a:pt x="19696" y="14134"/>
                  <a:pt x="19708" y="14155"/>
                  <a:pt x="19717" y="14192"/>
                </a:cubicBezTo>
              </a:path>
              <a:path w="6320" h="3589">
                <a:moveTo>
                  <a:pt x="19494" y="12319"/>
                </a:moveTo>
                <a:cubicBezTo>
                  <a:pt x="19471" y="12403"/>
                  <a:pt x="19458" y="12486"/>
                  <a:pt x="19431" y="12573"/>
                </a:cubicBezTo>
                <a:cubicBezTo>
                  <a:pt x="19386" y="12719"/>
                  <a:pt x="19328" y="12875"/>
                  <a:pt x="19272" y="13018"/>
                </a:cubicBezTo>
                <a:cubicBezTo>
                  <a:pt x="19201" y="13202"/>
                  <a:pt x="19084" y="13371"/>
                  <a:pt x="19018" y="13557"/>
                </a:cubicBezTo>
                <a:cubicBezTo>
                  <a:pt x="18959" y="13725"/>
                  <a:pt x="18866" y="13868"/>
                  <a:pt x="18796" y="14034"/>
                </a:cubicBezTo>
                <a:cubicBezTo>
                  <a:pt x="18737" y="14173"/>
                  <a:pt x="18658" y="14353"/>
                  <a:pt x="18574" y="14478"/>
                </a:cubicBezTo>
                <a:cubicBezTo>
                  <a:pt x="18515" y="14537"/>
                  <a:pt x="18496" y="14553"/>
                  <a:pt x="18478" y="14605"/>
                </a:cubicBezTo>
              </a:path>
              <a:path w="6320" h="3589">
                <a:moveTo>
                  <a:pt x="20352" y="12700"/>
                </a:moveTo>
                <a:cubicBezTo>
                  <a:pt x="20352" y="12998"/>
                  <a:pt x="20342" y="13298"/>
                  <a:pt x="20384" y="13589"/>
                </a:cubicBezTo>
                <a:cubicBezTo>
                  <a:pt x="20396" y="13673"/>
                  <a:pt x="20352" y="13755"/>
                  <a:pt x="20352" y="13843"/>
                </a:cubicBezTo>
              </a:path>
              <a:path w="6320" h="3589">
                <a:moveTo>
                  <a:pt x="20161" y="13303"/>
                </a:moveTo>
                <a:cubicBezTo>
                  <a:pt x="20266" y="13303"/>
                  <a:pt x="20350" y="13289"/>
                  <a:pt x="20447" y="13272"/>
                </a:cubicBezTo>
                <a:cubicBezTo>
                  <a:pt x="20514" y="13260"/>
                  <a:pt x="20573" y="13253"/>
                  <a:pt x="20638" y="13240"/>
                </a:cubicBezTo>
              </a:path>
              <a:path w="6320" h="3589">
                <a:moveTo>
                  <a:pt x="20923" y="12605"/>
                </a:moveTo>
                <a:cubicBezTo>
                  <a:pt x="20933" y="12518"/>
                  <a:pt x="20955" y="12430"/>
                  <a:pt x="20987" y="12351"/>
                </a:cubicBezTo>
                <a:cubicBezTo>
                  <a:pt x="21010" y="12295"/>
                  <a:pt x="21065" y="12195"/>
                  <a:pt x="21114" y="12160"/>
                </a:cubicBezTo>
                <a:cubicBezTo>
                  <a:pt x="21153" y="12132"/>
                  <a:pt x="21223" y="12114"/>
                  <a:pt x="21272" y="12128"/>
                </a:cubicBezTo>
                <a:cubicBezTo>
                  <a:pt x="21361" y="12154"/>
                  <a:pt x="21336" y="12323"/>
                  <a:pt x="21336" y="12382"/>
                </a:cubicBezTo>
                <a:cubicBezTo>
                  <a:pt x="21336" y="12542"/>
                  <a:pt x="21310" y="12672"/>
                  <a:pt x="21272" y="12827"/>
                </a:cubicBezTo>
                <a:cubicBezTo>
                  <a:pt x="21229" y="13002"/>
                  <a:pt x="21163" y="13166"/>
                  <a:pt x="21114" y="13335"/>
                </a:cubicBezTo>
                <a:cubicBezTo>
                  <a:pt x="21068" y="13493"/>
                  <a:pt x="21039" y="13654"/>
                  <a:pt x="20987" y="13811"/>
                </a:cubicBezTo>
                <a:cubicBezTo>
                  <a:pt x="20963" y="13883"/>
                  <a:pt x="20909" y="13999"/>
                  <a:pt x="20892" y="14034"/>
                </a:cubicBezTo>
                <a:cubicBezTo>
                  <a:pt x="20892" y="14065"/>
                  <a:pt x="20892" y="14075"/>
                  <a:pt x="20892" y="14034"/>
                </a:cubicBezTo>
                <a:cubicBezTo>
                  <a:pt x="20922" y="14019"/>
                  <a:pt x="20986" y="13978"/>
                  <a:pt x="21018" y="13970"/>
                </a:cubicBezTo>
                <a:cubicBezTo>
                  <a:pt x="21115" y="13944"/>
                  <a:pt x="21226" y="13990"/>
                  <a:pt x="21304" y="14002"/>
                </a:cubicBezTo>
                <a:cubicBezTo>
                  <a:pt x="21368" y="14012"/>
                  <a:pt x="21408" y="14013"/>
                  <a:pt x="21463" y="14034"/>
                </a:cubicBezTo>
              </a:path>
              <a:path w="6320" h="3589">
                <a:moveTo>
                  <a:pt x="22130" y="12160"/>
                </a:moveTo>
                <a:cubicBezTo>
                  <a:pt x="22162" y="12107"/>
                  <a:pt x="22153" y="12124"/>
                  <a:pt x="22162" y="12065"/>
                </a:cubicBezTo>
                <a:cubicBezTo>
                  <a:pt x="22110" y="12072"/>
                  <a:pt x="22079" y="12077"/>
                  <a:pt x="22034" y="12097"/>
                </a:cubicBezTo>
                <a:cubicBezTo>
                  <a:pt x="21968" y="12126"/>
                  <a:pt x="21906" y="12179"/>
                  <a:pt x="21844" y="12192"/>
                </a:cubicBezTo>
                <a:cubicBezTo>
                  <a:pt x="21773" y="12206"/>
                  <a:pt x="21731" y="12220"/>
                  <a:pt x="21654" y="12224"/>
                </a:cubicBezTo>
                <a:cubicBezTo>
                  <a:pt x="21612" y="12226"/>
                  <a:pt x="21568" y="12224"/>
                  <a:pt x="21526" y="12224"/>
                </a:cubicBezTo>
                <a:cubicBezTo>
                  <a:pt x="21559" y="12278"/>
                  <a:pt x="21554" y="12286"/>
                  <a:pt x="21558" y="12351"/>
                </a:cubicBezTo>
                <a:cubicBezTo>
                  <a:pt x="21563" y="12442"/>
                  <a:pt x="21579" y="12530"/>
                  <a:pt x="21590" y="12605"/>
                </a:cubicBezTo>
                <a:cubicBezTo>
                  <a:pt x="21599" y="12665"/>
                  <a:pt x="21590" y="12734"/>
                  <a:pt x="21590" y="12795"/>
                </a:cubicBezTo>
                <a:cubicBezTo>
                  <a:pt x="21625" y="12752"/>
                  <a:pt x="21631" y="12714"/>
                  <a:pt x="21654" y="12668"/>
                </a:cubicBezTo>
                <a:cubicBezTo>
                  <a:pt x="21687" y="12601"/>
                  <a:pt x="21728" y="12562"/>
                  <a:pt x="21780" y="12510"/>
                </a:cubicBezTo>
                <a:cubicBezTo>
                  <a:pt x="21814" y="12476"/>
                  <a:pt x="21889" y="12459"/>
                  <a:pt x="21939" y="12478"/>
                </a:cubicBezTo>
                <a:cubicBezTo>
                  <a:pt x="21997" y="12500"/>
                  <a:pt x="22082" y="12570"/>
                  <a:pt x="22098" y="12636"/>
                </a:cubicBezTo>
                <a:cubicBezTo>
                  <a:pt x="22115" y="12706"/>
                  <a:pt x="22167" y="12852"/>
                  <a:pt x="22162" y="12922"/>
                </a:cubicBezTo>
                <a:cubicBezTo>
                  <a:pt x="22152" y="13056"/>
                  <a:pt x="22059" y="13309"/>
                  <a:pt x="22003" y="13430"/>
                </a:cubicBezTo>
                <a:cubicBezTo>
                  <a:pt x="21960" y="13523"/>
                  <a:pt x="21864" y="13634"/>
                  <a:pt x="21780" y="13684"/>
                </a:cubicBezTo>
                <a:cubicBezTo>
                  <a:pt x="21717" y="13716"/>
                  <a:pt x="21696" y="13727"/>
                  <a:pt x="21654" y="13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Ink 7"/>
          <p:cNvSpPr/>
          <p:nvPr/>
        </p:nvSpPr>
        <p:spPr>
          <a:xfrm>
            <a:off x="2297160" y="1108080"/>
            <a:ext cx="4675320" cy="561960"/>
          </a:xfrm>
          <a:custGeom>
            <a:avLst/>
            <a:gdLst/>
            <a:ahLst/>
            <a:rect l="l" t="t" r="r" b="b"/>
            <a:pathLst>
              <a:path w="12987" h="1557">
                <a:moveTo>
                  <a:pt x="8287" y="3143"/>
                </a:moveTo>
                <a:cubicBezTo>
                  <a:pt x="8239" y="3134"/>
                  <a:pt x="8212" y="3120"/>
                  <a:pt x="8160" y="3112"/>
                </a:cubicBezTo>
                <a:cubicBezTo>
                  <a:pt x="8071" y="3098"/>
                  <a:pt x="8000" y="3079"/>
                  <a:pt x="7906" y="3080"/>
                </a:cubicBezTo>
                <a:cubicBezTo>
                  <a:pt x="7811" y="3081"/>
                  <a:pt x="7710" y="3088"/>
                  <a:pt x="7620" y="3112"/>
                </a:cubicBezTo>
                <a:cubicBezTo>
                  <a:pt x="7481" y="3149"/>
                  <a:pt x="7330" y="3233"/>
                  <a:pt x="7207" y="3302"/>
                </a:cubicBezTo>
                <a:cubicBezTo>
                  <a:pt x="7097" y="3364"/>
                  <a:pt x="6996" y="3447"/>
                  <a:pt x="6890" y="3524"/>
                </a:cubicBezTo>
                <a:cubicBezTo>
                  <a:pt x="6783" y="3601"/>
                  <a:pt x="6727" y="3685"/>
                  <a:pt x="6636" y="3778"/>
                </a:cubicBezTo>
                <a:cubicBezTo>
                  <a:pt x="6571" y="3844"/>
                  <a:pt x="6494" y="3882"/>
                  <a:pt x="6445" y="3969"/>
                </a:cubicBezTo>
                <a:cubicBezTo>
                  <a:pt x="6401" y="4047"/>
                  <a:pt x="6377" y="4102"/>
                  <a:pt x="6382" y="4191"/>
                </a:cubicBezTo>
                <a:cubicBezTo>
                  <a:pt x="6387" y="4291"/>
                  <a:pt x="6391" y="4273"/>
                  <a:pt x="6445" y="4350"/>
                </a:cubicBezTo>
                <a:cubicBezTo>
                  <a:pt x="6516" y="4451"/>
                  <a:pt x="6625" y="4465"/>
                  <a:pt x="6731" y="4508"/>
                </a:cubicBezTo>
                <a:cubicBezTo>
                  <a:pt x="6785" y="4530"/>
                  <a:pt x="6872" y="4560"/>
                  <a:pt x="6922" y="4572"/>
                </a:cubicBezTo>
                <a:cubicBezTo>
                  <a:pt x="7007" y="4593"/>
                  <a:pt x="7089" y="4590"/>
                  <a:pt x="7176" y="4604"/>
                </a:cubicBezTo>
                <a:cubicBezTo>
                  <a:pt x="7286" y="4622"/>
                  <a:pt x="7379" y="4631"/>
                  <a:pt x="7493" y="4636"/>
                </a:cubicBezTo>
                <a:cubicBezTo>
                  <a:pt x="7739" y="4648"/>
                  <a:pt x="7983" y="4631"/>
                  <a:pt x="8223" y="4604"/>
                </a:cubicBezTo>
                <a:cubicBezTo>
                  <a:pt x="8341" y="4591"/>
                  <a:pt x="8457" y="4577"/>
                  <a:pt x="8572" y="4572"/>
                </a:cubicBezTo>
                <a:cubicBezTo>
                  <a:pt x="8735" y="4566"/>
                  <a:pt x="8890" y="4547"/>
                  <a:pt x="9049" y="4540"/>
                </a:cubicBezTo>
                <a:cubicBezTo>
                  <a:pt x="9191" y="4534"/>
                  <a:pt x="9323" y="4516"/>
                  <a:pt x="9462" y="4508"/>
                </a:cubicBezTo>
                <a:cubicBezTo>
                  <a:pt x="9605" y="4500"/>
                  <a:pt x="9734" y="4493"/>
                  <a:pt x="9874" y="4477"/>
                </a:cubicBezTo>
                <a:cubicBezTo>
                  <a:pt x="10011" y="4461"/>
                  <a:pt x="10150" y="4462"/>
                  <a:pt x="10287" y="4445"/>
                </a:cubicBezTo>
                <a:cubicBezTo>
                  <a:pt x="10437" y="4427"/>
                  <a:pt x="10581" y="4427"/>
                  <a:pt x="10732" y="4413"/>
                </a:cubicBezTo>
                <a:cubicBezTo>
                  <a:pt x="10882" y="4399"/>
                  <a:pt x="11023" y="4384"/>
                  <a:pt x="11176" y="4382"/>
                </a:cubicBezTo>
                <a:cubicBezTo>
                  <a:pt x="12089" y="4368"/>
                  <a:pt x="12997" y="4413"/>
                  <a:pt x="13906" y="4413"/>
                </a:cubicBezTo>
                <a:cubicBezTo>
                  <a:pt x="14164" y="4413"/>
                  <a:pt x="14414" y="4434"/>
                  <a:pt x="14668" y="4445"/>
                </a:cubicBezTo>
                <a:cubicBezTo>
                  <a:pt x="14841" y="4452"/>
                  <a:pt x="15005" y="4470"/>
                  <a:pt x="15176" y="4477"/>
                </a:cubicBezTo>
                <a:cubicBezTo>
                  <a:pt x="15348" y="4484"/>
                  <a:pt x="15514" y="4488"/>
                  <a:pt x="15684" y="4508"/>
                </a:cubicBezTo>
                <a:cubicBezTo>
                  <a:pt x="15843" y="4527"/>
                  <a:pt x="16000" y="4526"/>
                  <a:pt x="16161" y="4540"/>
                </a:cubicBezTo>
                <a:cubicBezTo>
                  <a:pt x="16373" y="4558"/>
                  <a:pt x="16584" y="4595"/>
                  <a:pt x="16796" y="4604"/>
                </a:cubicBezTo>
                <a:cubicBezTo>
                  <a:pt x="16988" y="4612"/>
                  <a:pt x="17177" y="4629"/>
                  <a:pt x="17367" y="4636"/>
                </a:cubicBezTo>
                <a:cubicBezTo>
                  <a:pt x="17918" y="4657"/>
                  <a:pt x="18589" y="4705"/>
                  <a:pt x="19082" y="4445"/>
                </a:cubicBezTo>
                <a:cubicBezTo>
                  <a:pt x="19143" y="4413"/>
                  <a:pt x="19268" y="4346"/>
                  <a:pt x="19304" y="4286"/>
                </a:cubicBezTo>
                <a:cubicBezTo>
                  <a:pt x="19353" y="4204"/>
                  <a:pt x="19362" y="4093"/>
                  <a:pt x="19368" y="4000"/>
                </a:cubicBezTo>
                <a:cubicBezTo>
                  <a:pt x="19373" y="3923"/>
                  <a:pt x="19365" y="3846"/>
                  <a:pt x="19336" y="3778"/>
                </a:cubicBezTo>
                <a:cubicBezTo>
                  <a:pt x="19292" y="3676"/>
                  <a:pt x="19241" y="3629"/>
                  <a:pt x="19177" y="3556"/>
                </a:cubicBezTo>
                <a:cubicBezTo>
                  <a:pt x="19104" y="3472"/>
                  <a:pt x="19031" y="3422"/>
                  <a:pt x="18923" y="3366"/>
                </a:cubicBezTo>
                <a:cubicBezTo>
                  <a:pt x="18701" y="3251"/>
                  <a:pt x="18437" y="3221"/>
                  <a:pt x="18193" y="3207"/>
                </a:cubicBezTo>
                <a:cubicBezTo>
                  <a:pt x="18021" y="3197"/>
                  <a:pt x="17851" y="3181"/>
                  <a:pt x="17685" y="3175"/>
                </a:cubicBezTo>
                <a:cubicBezTo>
                  <a:pt x="17229" y="3157"/>
                  <a:pt x="16773" y="3150"/>
                  <a:pt x="16320" y="3143"/>
                </a:cubicBezTo>
                <a:cubicBezTo>
                  <a:pt x="15947" y="3137"/>
                  <a:pt x="15578" y="3117"/>
                  <a:pt x="15208" y="3112"/>
                </a:cubicBezTo>
                <a:cubicBezTo>
                  <a:pt x="14447" y="3102"/>
                  <a:pt x="13678" y="3094"/>
                  <a:pt x="12922" y="3143"/>
                </a:cubicBezTo>
                <a:cubicBezTo>
                  <a:pt x="12739" y="3155"/>
                  <a:pt x="12566" y="3173"/>
                  <a:pt x="12382" y="3175"/>
                </a:cubicBezTo>
                <a:cubicBezTo>
                  <a:pt x="12074" y="3179"/>
                  <a:pt x="11765" y="3194"/>
                  <a:pt x="11462" y="3207"/>
                </a:cubicBezTo>
                <a:cubicBezTo>
                  <a:pt x="11060" y="3224"/>
                  <a:pt x="10655" y="3233"/>
                  <a:pt x="10255" y="3238"/>
                </a:cubicBezTo>
                <a:cubicBezTo>
                  <a:pt x="9884" y="3243"/>
                  <a:pt x="9510" y="3246"/>
                  <a:pt x="9144" y="3207"/>
                </a:cubicBezTo>
                <a:cubicBezTo>
                  <a:pt x="9004" y="3192"/>
                  <a:pt x="8870" y="3158"/>
                  <a:pt x="8731" y="3143"/>
                </a:cubicBezTo>
                <a:cubicBezTo>
                  <a:pt x="8591" y="3128"/>
                  <a:pt x="8461" y="3114"/>
                  <a:pt x="8318" y="3112"/>
                </a:cubicBezTo>
                <a:cubicBezTo>
                  <a:pt x="8208" y="3111"/>
                  <a:pt x="8066" y="3077"/>
                  <a:pt x="7969" y="3080"/>
                </a:cubicBezTo>
                <a:cubicBezTo>
                  <a:pt x="7806" y="3084"/>
                  <a:pt x="7648" y="3138"/>
                  <a:pt x="7493" y="31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Ink 8"/>
          <p:cNvSpPr/>
          <p:nvPr/>
        </p:nvSpPr>
        <p:spPr>
          <a:xfrm>
            <a:off x="5280120" y="4079880"/>
            <a:ext cx="3178080" cy="1487520"/>
          </a:xfrm>
          <a:custGeom>
            <a:avLst/>
            <a:gdLst/>
            <a:ahLst/>
            <a:rect l="l" t="t" r="r" b="b"/>
            <a:pathLst>
              <a:path w="8828" h="4128">
                <a:moveTo>
                  <a:pt x="20320" y="14954"/>
                </a:moveTo>
                <a:cubicBezTo>
                  <a:pt x="20440" y="14940"/>
                  <a:pt x="20546" y="14928"/>
                  <a:pt x="20669" y="14922"/>
                </a:cubicBezTo>
                <a:cubicBezTo>
                  <a:pt x="20958" y="14907"/>
                  <a:pt x="21213" y="14910"/>
                  <a:pt x="21495" y="14859"/>
                </a:cubicBezTo>
                <a:cubicBezTo>
                  <a:pt x="21663" y="14829"/>
                  <a:pt x="21752" y="14797"/>
                  <a:pt x="21908" y="14732"/>
                </a:cubicBezTo>
                <a:cubicBezTo>
                  <a:pt x="22112" y="14647"/>
                  <a:pt x="22271" y="14549"/>
                  <a:pt x="22447" y="14414"/>
                </a:cubicBezTo>
                <a:cubicBezTo>
                  <a:pt x="22611" y="14288"/>
                  <a:pt x="22797" y="14136"/>
                  <a:pt x="22924" y="13970"/>
                </a:cubicBezTo>
                <a:cubicBezTo>
                  <a:pt x="23027" y="13836"/>
                  <a:pt x="23169" y="13647"/>
                  <a:pt x="23241" y="13494"/>
                </a:cubicBezTo>
                <a:cubicBezTo>
                  <a:pt x="23322" y="13323"/>
                  <a:pt x="23374" y="13132"/>
                  <a:pt x="23432" y="12954"/>
                </a:cubicBezTo>
                <a:cubicBezTo>
                  <a:pt x="23479" y="12810"/>
                  <a:pt x="23495" y="12691"/>
                  <a:pt x="23495" y="12541"/>
                </a:cubicBezTo>
                <a:cubicBezTo>
                  <a:pt x="23495" y="12408"/>
                  <a:pt x="23456" y="12330"/>
                  <a:pt x="23400" y="12224"/>
                </a:cubicBezTo>
                <a:cubicBezTo>
                  <a:pt x="23345" y="12119"/>
                  <a:pt x="23302" y="12076"/>
                  <a:pt x="23209" y="12002"/>
                </a:cubicBezTo>
                <a:cubicBezTo>
                  <a:pt x="23135" y="11943"/>
                  <a:pt x="23007" y="11853"/>
                  <a:pt x="22924" y="11811"/>
                </a:cubicBezTo>
                <a:cubicBezTo>
                  <a:pt x="22665" y="11679"/>
                  <a:pt x="22344" y="11608"/>
                  <a:pt x="22066" y="11525"/>
                </a:cubicBezTo>
                <a:cubicBezTo>
                  <a:pt x="21802" y="11446"/>
                  <a:pt x="21515" y="11382"/>
                  <a:pt x="21241" y="11366"/>
                </a:cubicBezTo>
                <a:cubicBezTo>
                  <a:pt x="21019" y="11353"/>
                  <a:pt x="20795" y="11343"/>
                  <a:pt x="20574" y="11335"/>
                </a:cubicBezTo>
                <a:cubicBezTo>
                  <a:pt x="20275" y="11324"/>
                  <a:pt x="19980" y="11356"/>
                  <a:pt x="19685" y="11366"/>
                </a:cubicBezTo>
                <a:cubicBezTo>
                  <a:pt x="19387" y="11376"/>
                  <a:pt x="19092" y="11387"/>
                  <a:pt x="18796" y="11398"/>
                </a:cubicBezTo>
                <a:cubicBezTo>
                  <a:pt x="18602" y="11405"/>
                  <a:pt x="18416" y="11411"/>
                  <a:pt x="18224" y="11430"/>
                </a:cubicBezTo>
                <a:cubicBezTo>
                  <a:pt x="17991" y="11453"/>
                  <a:pt x="17755" y="11480"/>
                  <a:pt x="17526" y="11525"/>
                </a:cubicBezTo>
                <a:cubicBezTo>
                  <a:pt x="17295" y="11571"/>
                  <a:pt x="17079" y="11643"/>
                  <a:pt x="16859" y="11716"/>
                </a:cubicBezTo>
                <a:cubicBezTo>
                  <a:pt x="16675" y="11777"/>
                  <a:pt x="16497" y="11823"/>
                  <a:pt x="16320" y="11906"/>
                </a:cubicBezTo>
                <a:cubicBezTo>
                  <a:pt x="16087" y="12015"/>
                  <a:pt x="15858" y="12163"/>
                  <a:pt x="15653" y="12319"/>
                </a:cubicBezTo>
                <a:cubicBezTo>
                  <a:pt x="15524" y="12417"/>
                  <a:pt x="15379" y="12514"/>
                  <a:pt x="15272" y="12636"/>
                </a:cubicBezTo>
                <a:cubicBezTo>
                  <a:pt x="15176" y="12745"/>
                  <a:pt x="15058" y="12893"/>
                  <a:pt x="14986" y="13018"/>
                </a:cubicBezTo>
                <a:cubicBezTo>
                  <a:pt x="14903" y="13162"/>
                  <a:pt x="14855" y="13308"/>
                  <a:pt x="14796" y="13462"/>
                </a:cubicBezTo>
                <a:cubicBezTo>
                  <a:pt x="14747" y="13592"/>
                  <a:pt x="14685" y="13726"/>
                  <a:pt x="14668" y="13875"/>
                </a:cubicBezTo>
                <a:cubicBezTo>
                  <a:pt x="14650" y="14034"/>
                  <a:pt x="14658" y="14232"/>
                  <a:pt x="14700" y="14383"/>
                </a:cubicBezTo>
                <a:cubicBezTo>
                  <a:pt x="14734" y="14504"/>
                  <a:pt x="14796" y="14656"/>
                  <a:pt x="14859" y="14764"/>
                </a:cubicBezTo>
                <a:cubicBezTo>
                  <a:pt x="14907" y="14846"/>
                  <a:pt x="14987" y="14914"/>
                  <a:pt x="15050" y="14986"/>
                </a:cubicBezTo>
                <a:cubicBezTo>
                  <a:pt x="15185" y="15141"/>
                  <a:pt x="15335" y="15257"/>
                  <a:pt x="15526" y="15335"/>
                </a:cubicBezTo>
                <a:cubicBezTo>
                  <a:pt x="15631" y="15378"/>
                  <a:pt x="15735" y="15382"/>
                  <a:pt x="15843" y="15399"/>
                </a:cubicBezTo>
                <a:cubicBezTo>
                  <a:pt x="15984" y="15422"/>
                  <a:pt x="16140" y="15465"/>
                  <a:pt x="16288" y="15462"/>
                </a:cubicBezTo>
                <a:cubicBezTo>
                  <a:pt x="16433" y="15459"/>
                  <a:pt x="16613" y="15443"/>
                  <a:pt x="16764" y="15430"/>
                </a:cubicBezTo>
                <a:cubicBezTo>
                  <a:pt x="16925" y="15416"/>
                  <a:pt x="17075" y="15401"/>
                  <a:pt x="17240" y="15399"/>
                </a:cubicBezTo>
                <a:cubicBezTo>
                  <a:pt x="17394" y="15397"/>
                  <a:pt x="17533" y="15374"/>
                  <a:pt x="17685" y="15367"/>
                </a:cubicBezTo>
                <a:cubicBezTo>
                  <a:pt x="17890" y="15358"/>
                  <a:pt x="18086" y="15358"/>
                  <a:pt x="18288" y="15335"/>
                </a:cubicBezTo>
                <a:cubicBezTo>
                  <a:pt x="18460" y="15316"/>
                  <a:pt x="18626" y="15305"/>
                  <a:pt x="18796" y="15272"/>
                </a:cubicBezTo>
                <a:cubicBezTo>
                  <a:pt x="18968" y="15238"/>
                  <a:pt x="19141" y="15186"/>
                  <a:pt x="19304" y="15145"/>
                </a:cubicBezTo>
                <a:cubicBezTo>
                  <a:pt x="19528" y="15089"/>
                  <a:pt x="19744" y="15048"/>
                  <a:pt x="19971" y="15018"/>
                </a:cubicBezTo>
                <a:cubicBezTo>
                  <a:pt x="20183" y="14990"/>
                  <a:pt x="20394" y="14949"/>
                  <a:pt x="20606" y="14922"/>
                </a:cubicBezTo>
                <a:cubicBezTo>
                  <a:pt x="20779" y="14900"/>
                  <a:pt x="20973" y="14868"/>
                  <a:pt x="21146" y="14859"/>
                </a:cubicBezTo>
                <a:cubicBezTo>
                  <a:pt x="21360" y="14847"/>
                  <a:pt x="21568" y="14849"/>
                  <a:pt x="21780" y="14827"/>
                </a:cubicBezTo>
                <a:cubicBezTo>
                  <a:pt x="21961" y="14808"/>
                  <a:pt x="22137" y="14801"/>
                  <a:pt x="22320" y="147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rate of change and write an equation for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# of peo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.8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.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Ink 4"/>
          <p:cNvSpPr/>
          <p:nvPr/>
        </p:nvSpPr>
        <p:spPr>
          <a:xfrm>
            <a:off x="2000160" y="3554280"/>
            <a:ext cx="468360" cy="1692360"/>
          </a:xfrm>
          <a:custGeom>
            <a:avLst/>
            <a:gdLst/>
            <a:ahLst/>
            <a:rect l="l" t="t" r="r" b="b"/>
            <a:pathLst>
              <a:path w="1303" h="4700">
                <a:moveTo>
                  <a:pt x="6572" y="9874"/>
                </a:moveTo>
                <a:cubicBezTo>
                  <a:pt x="6514" y="9938"/>
                  <a:pt x="6463" y="9995"/>
                  <a:pt x="6414" y="10065"/>
                </a:cubicBezTo>
                <a:cubicBezTo>
                  <a:pt x="6355" y="10148"/>
                  <a:pt x="6281" y="10215"/>
                  <a:pt x="6223" y="10287"/>
                </a:cubicBezTo>
                <a:cubicBezTo>
                  <a:pt x="6169" y="10354"/>
                  <a:pt x="6126" y="10389"/>
                  <a:pt x="6064" y="10446"/>
                </a:cubicBezTo>
                <a:cubicBezTo>
                  <a:pt x="6012" y="10494"/>
                  <a:pt x="5969" y="10556"/>
                  <a:pt x="5906" y="10604"/>
                </a:cubicBezTo>
                <a:cubicBezTo>
                  <a:pt x="5847" y="10649"/>
                  <a:pt x="5770" y="10696"/>
                  <a:pt x="5715" y="10732"/>
                </a:cubicBezTo>
                <a:cubicBezTo>
                  <a:pt x="5667" y="10764"/>
                  <a:pt x="5636" y="10787"/>
                  <a:pt x="5588" y="10827"/>
                </a:cubicBezTo>
                <a:cubicBezTo>
                  <a:pt x="5556" y="10827"/>
                  <a:pt x="5546" y="10827"/>
                  <a:pt x="5556" y="10858"/>
                </a:cubicBezTo>
                <a:cubicBezTo>
                  <a:pt x="5582" y="10895"/>
                  <a:pt x="5588" y="10893"/>
                  <a:pt x="5620" y="10922"/>
                </a:cubicBezTo>
                <a:cubicBezTo>
                  <a:pt x="5640" y="10940"/>
                  <a:pt x="5673" y="10987"/>
                  <a:pt x="5715" y="11017"/>
                </a:cubicBezTo>
                <a:cubicBezTo>
                  <a:pt x="5762" y="11051"/>
                  <a:pt x="5795" y="11071"/>
                  <a:pt x="5842" y="11112"/>
                </a:cubicBezTo>
                <a:cubicBezTo>
                  <a:pt x="5895" y="11158"/>
                  <a:pt x="5944" y="11200"/>
                  <a:pt x="6001" y="11240"/>
                </a:cubicBezTo>
                <a:cubicBezTo>
                  <a:pt x="6063" y="11283"/>
                  <a:pt x="6129" y="11324"/>
                  <a:pt x="6191" y="11366"/>
                </a:cubicBezTo>
                <a:cubicBezTo>
                  <a:pt x="6255" y="11409"/>
                  <a:pt x="6318" y="11438"/>
                  <a:pt x="6382" y="11462"/>
                </a:cubicBezTo>
                <a:cubicBezTo>
                  <a:pt x="6440" y="11483"/>
                  <a:pt x="6514" y="11495"/>
                  <a:pt x="6572" y="11525"/>
                </a:cubicBezTo>
                <a:cubicBezTo>
                  <a:pt x="6608" y="11544"/>
                  <a:pt x="6653" y="11612"/>
                  <a:pt x="6668" y="11620"/>
                </a:cubicBezTo>
                <a:cubicBezTo>
                  <a:pt x="6678" y="11620"/>
                  <a:pt x="6689" y="11620"/>
                  <a:pt x="6699" y="11620"/>
                </a:cubicBezTo>
                <a:cubicBezTo>
                  <a:pt x="6673" y="11658"/>
                  <a:pt x="6669" y="11655"/>
                  <a:pt x="6636" y="11684"/>
                </a:cubicBezTo>
                <a:cubicBezTo>
                  <a:pt x="6618" y="11700"/>
                  <a:pt x="6572" y="11743"/>
                  <a:pt x="6540" y="11779"/>
                </a:cubicBezTo>
                <a:cubicBezTo>
                  <a:pt x="6494" y="11831"/>
                  <a:pt x="6415" y="11890"/>
                  <a:pt x="6382" y="11938"/>
                </a:cubicBezTo>
                <a:cubicBezTo>
                  <a:pt x="6325" y="12021"/>
                  <a:pt x="6289" y="12089"/>
                  <a:pt x="6223" y="12160"/>
                </a:cubicBezTo>
                <a:cubicBezTo>
                  <a:pt x="6168" y="12220"/>
                  <a:pt x="6122" y="12298"/>
                  <a:pt x="6064" y="12351"/>
                </a:cubicBezTo>
                <a:cubicBezTo>
                  <a:pt x="6019" y="12392"/>
                  <a:pt x="5953" y="12414"/>
                  <a:pt x="5906" y="12446"/>
                </a:cubicBezTo>
                <a:cubicBezTo>
                  <a:pt x="5871" y="12469"/>
                  <a:pt x="5818" y="12527"/>
                  <a:pt x="5778" y="12541"/>
                </a:cubicBezTo>
                <a:cubicBezTo>
                  <a:pt x="5747" y="12541"/>
                  <a:pt x="5736" y="12541"/>
                  <a:pt x="5715" y="12541"/>
                </a:cubicBezTo>
                <a:cubicBezTo>
                  <a:pt x="5740" y="12554"/>
                  <a:pt x="5775" y="12591"/>
                  <a:pt x="5810" y="12605"/>
                </a:cubicBezTo>
                <a:cubicBezTo>
                  <a:pt x="5852" y="12622"/>
                  <a:pt x="5894" y="12621"/>
                  <a:pt x="5937" y="12636"/>
                </a:cubicBezTo>
                <a:cubicBezTo>
                  <a:pt x="6000" y="12658"/>
                  <a:pt x="6063" y="12678"/>
                  <a:pt x="6128" y="12700"/>
                </a:cubicBezTo>
                <a:cubicBezTo>
                  <a:pt x="6179" y="12717"/>
                  <a:pt x="6274" y="12758"/>
                  <a:pt x="6318" y="12764"/>
                </a:cubicBezTo>
                <a:cubicBezTo>
                  <a:pt x="6403" y="12775"/>
                  <a:pt x="6463" y="12773"/>
                  <a:pt x="6540" y="12795"/>
                </a:cubicBezTo>
                <a:cubicBezTo>
                  <a:pt x="6579" y="12806"/>
                  <a:pt x="6704" y="12842"/>
                  <a:pt x="6731" y="12859"/>
                </a:cubicBezTo>
                <a:cubicBezTo>
                  <a:pt x="6781" y="12891"/>
                  <a:pt x="6791" y="12899"/>
                  <a:pt x="6826" y="12922"/>
                </a:cubicBezTo>
                <a:cubicBezTo>
                  <a:pt x="6858" y="12922"/>
                  <a:pt x="6869" y="12922"/>
                  <a:pt x="6858" y="12954"/>
                </a:cubicBezTo>
                <a:cubicBezTo>
                  <a:pt x="6837" y="12977"/>
                  <a:pt x="6798" y="13008"/>
                  <a:pt x="6763" y="13049"/>
                </a:cubicBezTo>
                <a:cubicBezTo>
                  <a:pt x="6743" y="13072"/>
                  <a:pt x="6691" y="13141"/>
                  <a:pt x="6668" y="13176"/>
                </a:cubicBezTo>
                <a:cubicBezTo>
                  <a:pt x="6562" y="13337"/>
                  <a:pt x="6497" y="13528"/>
                  <a:pt x="6382" y="13684"/>
                </a:cubicBezTo>
                <a:cubicBezTo>
                  <a:pt x="6308" y="13785"/>
                  <a:pt x="6271" y="13901"/>
                  <a:pt x="6191" y="14002"/>
                </a:cubicBezTo>
                <a:cubicBezTo>
                  <a:pt x="6141" y="14065"/>
                  <a:pt x="6092" y="14102"/>
                  <a:pt x="6032" y="14160"/>
                </a:cubicBezTo>
                <a:cubicBezTo>
                  <a:pt x="6001" y="14190"/>
                  <a:pt x="5923" y="14236"/>
                  <a:pt x="5906" y="14256"/>
                </a:cubicBezTo>
                <a:cubicBezTo>
                  <a:pt x="5858" y="14313"/>
                  <a:pt x="5891" y="14268"/>
                  <a:pt x="5937" y="14288"/>
                </a:cubicBezTo>
                <a:cubicBezTo>
                  <a:pt x="5990" y="14311"/>
                  <a:pt x="6005" y="14308"/>
                  <a:pt x="6064" y="14319"/>
                </a:cubicBezTo>
                <a:cubicBezTo>
                  <a:pt x="6125" y="14330"/>
                  <a:pt x="6187" y="14337"/>
                  <a:pt x="6255" y="14351"/>
                </a:cubicBezTo>
                <a:cubicBezTo>
                  <a:pt x="6331" y="14366"/>
                  <a:pt x="6402" y="14395"/>
                  <a:pt x="6477" y="14414"/>
                </a:cubicBezTo>
                <a:cubicBezTo>
                  <a:pt x="6586" y="14442"/>
                  <a:pt x="6660" y="14493"/>
                  <a:pt x="6763" y="14542"/>
                </a:cubicBezTo>
                <a:cubicBezTo>
                  <a:pt x="6784" y="14552"/>
                  <a:pt x="6805" y="14563"/>
                  <a:pt x="6826" y="14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Ink 5"/>
          <p:cNvSpPr/>
          <p:nvPr/>
        </p:nvSpPr>
        <p:spPr>
          <a:xfrm>
            <a:off x="1736640" y="4321080"/>
            <a:ext cx="92160" cy="1096920"/>
          </a:xfrm>
          <a:custGeom>
            <a:avLst/>
            <a:gdLst/>
            <a:ahLst/>
            <a:rect l="l" t="t" r="r" b="b"/>
            <a:pathLst>
              <a:path w="255" h="3049">
                <a:moveTo>
                  <a:pt x="5048" y="13843"/>
                </a:moveTo>
                <a:cubicBezTo>
                  <a:pt x="5048" y="13985"/>
                  <a:pt x="5076" y="14113"/>
                  <a:pt x="5080" y="14256"/>
                </a:cubicBezTo>
                <a:cubicBezTo>
                  <a:pt x="5087" y="14520"/>
                  <a:pt x="5080" y="14786"/>
                  <a:pt x="5080" y="15050"/>
                </a:cubicBezTo>
              </a:path>
              <a:path w="255" h="3049">
                <a:moveTo>
                  <a:pt x="4890" y="12002"/>
                </a:moveTo>
                <a:cubicBezTo>
                  <a:pt x="4890" y="12208"/>
                  <a:pt x="4875" y="12404"/>
                  <a:pt x="4858" y="12605"/>
                </a:cubicBezTo>
                <a:cubicBezTo>
                  <a:pt x="4847" y="12741"/>
                  <a:pt x="4854" y="12857"/>
                  <a:pt x="4826" y="12986"/>
                </a:cubicBezTo>
                <a:cubicBezTo>
                  <a:pt x="4826" y="13018"/>
                  <a:pt x="4826" y="13029"/>
                  <a:pt x="4826" y="12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nk 6"/>
          <p:cNvSpPr/>
          <p:nvPr/>
        </p:nvSpPr>
        <p:spPr>
          <a:xfrm>
            <a:off x="1805040" y="3622680"/>
            <a:ext cx="12600" cy="320760"/>
          </a:xfrm>
          <a:custGeom>
            <a:avLst/>
            <a:gdLst/>
            <a:ahLst/>
            <a:rect l="l" t="t" r="r" b="b"/>
            <a:pathLst>
              <a:path w="33" h="890">
                <a:moveTo>
                  <a:pt x="5016" y="10065"/>
                </a:moveTo>
                <a:cubicBezTo>
                  <a:pt x="5034" y="10227"/>
                  <a:pt x="5048" y="10372"/>
                  <a:pt x="5048" y="10541"/>
                </a:cubicBezTo>
                <a:cubicBezTo>
                  <a:pt x="5048" y="10742"/>
                  <a:pt x="5048" y="10816"/>
                  <a:pt x="5048" y="10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Ink 7"/>
          <p:cNvSpPr/>
          <p:nvPr/>
        </p:nvSpPr>
        <p:spPr>
          <a:xfrm>
            <a:off x="5864400" y="3292560"/>
            <a:ext cx="674640" cy="947520"/>
          </a:xfrm>
          <a:custGeom>
            <a:avLst/>
            <a:gdLst/>
            <a:ahLst/>
            <a:rect l="l" t="t" r="r" b="b"/>
            <a:pathLst>
              <a:path w="1874" h="2636">
                <a:moveTo>
                  <a:pt x="16574" y="11017"/>
                </a:moveTo>
                <a:cubicBezTo>
                  <a:pt x="16545" y="10989"/>
                  <a:pt x="16534" y="10983"/>
                  <a:pt x="16542" y="10954"/>
                </a:cubicBezTo>
              </a:path>
              <a:path w="1874" h="2636">
                <a:moveTo>
                  <a:pt x="16574" y="11017"/>
                </a:moveTo>
                <a:cubicBezTo>
                  <a:pt x="16563" y="10996"/>
                  <a:pt x="16553" y="10975"/>
                  <a:pt x="16542" y="10954"/>
                </a:cubicBezTo>
              </a:path>
              <a:path w="1874" h="2636">
                <a:moveTo>
                  <a:pt x="16542" y="10954"/>
                </a:moveTo>
                <a:cubicBezTo>
                  <a:pt x="16584" y="10912"/>
                  <a:pt x="16627" y="10869"/>
                  <a:pt x="16669" y="10827"/>
                </a:cubicBezTo>
              </a:path>
              <a:path w="1874" h="2636">
                <a:moveTo>
                  <a:pt x="16669" y="10827"/>
                </a:moveTo>
                <a:lnTo>
                  <a:pt x="16669" y="10827"/>
                </a:lnTo>
              </a:path>
              <a:path w="1874" h="2636">
                <a:moveTo>
                  <a:pt x="16796" y="10732"/>
                </a:moveTo>
                <a:cubicBezTo>
                  <a:pt x="16849" y="10742"/>
                  <a:pt x="16919" y="10745"/>
                  <a:pt x="16923" y="10795"/>
                </a:cubicBezTo>
                <a:cubicBezTo>
                  <a:pt x="16930" y="10888"/>
                  <a:pt x="16896" y="10963"/>
                  <a:pt x="16859" y="11049"/>
                </a:cubicBezTo>
                <a:cubicBezTo>
                  <a:pt x="16825" y="11130"/>
                  <a:pt x="16775" y="11199"/>
                  <a:pt x="16732" y="11271"/>
                </a:cubicBezTo>
                <a:cubicBezTo>
                  <a:pt x="16689" y="11342"/>
                  <a:pt x="16658" y="11359"/>
                  <a:pt x="16700" y="11303"/>
                </a:cubicBezTo>
                <a:cubicBezTo>
                  <a:pt x="16735" y="11256"/>
                  <a:pt x="16803" y="11182"/>
                  <a:pt x="16859" y="11176"/>
                </a:cubicBezTo>
                <a:cubicBezTo>
                  <a:pt x="16905" y="11171"/>
                  <a:pt x="16971" y="11187"/>
                  <a:pt x="16986" y="11240"/>
                </a:cubicBezTo>
                <a:cubicBezTo>
                  <a:pt x="17006" y="11310"/>
                  <a:pt x="16975" y="11431"/>
                  <a:pt x="16954" y="11494"/>
                </a:cubicBezTo>
                <a:cubicBezTo>
                  <a:pt x="16924" y="11586"/>
                  <a:pt x="16853" y="11675"/>
                  <a:pt x="16796" y="11748"/>
                </a:cubicBezTo>
                <a:cubicBezTo>
                  <a:pt x="16774" y="11776"/>
                  <a:pt x="16705" y="11799"/>
                  <a:pt x="16669" y="11779"/>
                </a:cubicBezTo>
                <a:cubicBezTo>
                  <a:pt x="16658" y="11769"/>
                  <a:pt x="16648" y="11758"/>
                  <a:pt x="16637" y="11748"/>
                </a:cubicBezTo>
              </a:path>
              <a:path w="1874" h="2636">
                <a:moveTo>
                  <a:pt x="17082" y="11525"/>
                </a:moveTo>
                <a:lnTo>
                  <a:pt x="17082" y="11525"/>
                </a:lnTo>
              </a:path>
              <a:path w="1874" h="2636">
                <a:moveTo>
                  <a:pt x="17558" y="10732"/>
                </a:moveTo>
                <a:cubicBezTo>
                  <a:pt x="17558" y="10700"/>
                  <a:pt x="17558" y="10689"/>
                  <a:pt x="17558" y="10668"/>
                </a:cubicBezTo>
              </a:path>
              <a:path w="1874" h="2636">
                <a:moveTo>
                  <a:pt x="17336" y="10604"/>
                </a:moveTo>
                <a:cubicBezTo>
                  <a:pt x="17325" y="10615"/>
                  <a:pt x="17315" y="10625"/>
                  <a:pt x="17304" y="10636"/>
                </a:cubicBezTo>
              </a:path>
              <a:path w="1874" h="2636">
                <a:moveTo>
                  <a:pt x="17272" y="10732"/>
                </a:moveTo>
                <a:cubicBezTo>
                  <a:pt x="17240" y="10815"/>
                  <a:pt x="17213" y="10896"/>
                  <a:pt x="17208" y="10986"/>
                </a:cubicBezTo>
                <a:cubicBezTo>
                  <a:pt x="17205" y="11043"/>
                  <a:pt x="17224" y="11106"/>
                  <a:pt x="17272" y="11112"/>
                </a:cubicBezTo>
                <a:cubicBezTo>
                  <a:pt x="17325" y="11118"/>
                  <a:pt x="17364" y="11051"/>
                  <a:pt x="17399" y="11017"/>
                </a:cubicBezTo>
                <a:cubicBezTo>
                  <a:pt x="17469" y="10948"/>
                  <a:pt x="17459" y="10871"/>
                  <a:pt x="17494" y="10795"/>
                </a:cubicBezTo>
                <a:cubicBezTo>
                  <a:pt x="17516" y="10748"/>
                  <a:pt x="17531" y="10713"/>
                  <a:pt x="17558" y="10668"/>
                </a:cubicBezTo>
                <a:cubicBezTo>
                  <a:pt x="17558" y="10771"/>
                  <a:pt x="17574" y="10858"/>
                  <a:pt x="17590" y="10954"/>
                </a:cubicBezTo>
                <a:cubicBezTo>
                  <a:pt x="17607" y="11054"/>
                  <a:pt x="17609" y="11175"/>
                  <a:pt x="17621" y="11271"/>
                </a:cubicBezTo>
                <a:cubicBezTo>
                  <a:pt x="17634" y="11379"/>
                  <a:pt x="17622" y="11464"/>
                  <a:pt x="17653" y="11557"/>
                </a:cubicBezTo>
                <a:cubicBezTo>
                  <a:pt x="17653" y="11568"/>
                  <a:pt x="17653" y="11578"/>
                  <a:pt x="17653" y="11589"/>
                </a:cubicBezTo>
              </a:path>
              <a:path w="1874" h="2636">
                <a:moveTo>
                  <a:pt x="18034" y="10541"/>
                </a:moveTo>
                <a:cubicBezTo>
                  <a:pt x="18011" y="10471"/>
                  <a:pt x="17989" y="10524"/>
                  <a:pt x="17939" y="10541"/>
                </a:cubicBezTo>
                <a:cubicBezTo>
                  <a:pt x="17896" y="10556"/>
                  <a:pt x="17850" y="10548"/>
                  <a:pt x="17812" y="10573"/>
                </a:cubicBezTo>
                <a:cubicBezTo>
                  <a:pt x="17766" y="10603"/>
                  <a:pt x="17761" y="10596"/>
                  <a:pt x="17748" y="10636"/>
                </a:cubicBezTo>
                <a:cubicBezTo>
                  <a:pt x="17768" y="10695"/>
                  <a:pt x="17780" y="10667"/>
                  <a:pt x="17780" y="10763"/>
                </a:cubicBezTo>
                <a:cubicBezTo>
                  <a:pt x="17780" y="10858"/>
                  <a:pt x="17780" y="10954"/>
                  <a:pt x="17780" y="11049"/>
                </a:cubicBezTo>
                <a:cubicBezTo>
                  <a:pt x="17835" y="11031"/>
                  <a:pt x="17813" y="10976"/>
                  <a:pt x="17844" y="10922"/>
                </a:cubicBezTo>
                <a:cubicBezTo>
                  <a:pt x="17866" y="10884"/>
                  <a:pt x="17933" y="10839"/>
                  <a:pt x="17970" y="10827"/>
                </a:cubicBezTo>
                <a:cubicBezTo>
                  <a:pt x="17992" y="10820"/>
                  <a:pt x="18091" y="10866"/>
                  <a:pt x="18098" y="10890"/>
                </a:cubicBezTo>
                <a:cubicBezTo>
                  <a:pt x="18113" y="10938"/>
                  <a:pt x="18166" y="11099"/>
                  <a:pt x="18161" y="11144"/>
                </a:cubicBezTo>
                <a:cubicBezTo>
                  <a:pt x="18152" y="11228"/>
                  <a:pt x="18127" y="11333"/>
                  <a:pt x="18066" y="11398"/>
                </a:cubicBezTo>
                <a:cubicBezTo>
                  <a:pt x="18040" y="11426"/>
                  <a:pt x="17917" y="11560"/>
                  <a:pt x="17875" y="11557"/>
                </a:cubicBezTo>
                <a:cubicBezTo>
                  <a:pt x="17823" y="11531"/>
                  <a:pt x="17815" y="11520"/>
                  <a:pt x="17780" y="11525"/>
                </a:cubicBezTo>
              </a:path>
              <a:path w="1874" h="2636">
                <a:moveTo>
                  <a:pt x="16320" y="9525"/>
                </a:moveTo>
                <a:cubicBezTo>
                  <a:pt x="16265" y="9507"/>
                  <a:pt x="16283" y="9455"/>
                  <a:pt x="16320" y="9398"/>
                </a:cubicBezTo>
                <a:cubicBezTo>
                  <a:pt x="16348" y="9356"/>
                  <a:pt x="16435" y="9282"/>
                  <a:pt x="16478" y="9271"/>
                </a:cubicBezTo>
                <a:cubicBezTo>
                  <a:pt x="16527" y="9258"/>
                  <a:pt x="16641" y="9259"/>
                  <a:pt x="16669" y="9303"/>
                </a:cubicBezTo>
                <a:cubicBezTo>
                  <a:pt x="16706" y="9361"/>
                  <a:pt x="16653" y="9508"/>
                  <a:pt x="16637" y="9557"/>
                </a:cubicBezTo>
                <a:cubicBezTo>
                  <a:pt x="16595" y="9683"/>
                  <a:pt x="16539" y="9707"/>
                  <a:pt x="16478" y="9811"/>
                </a:cubicBezTo>
                <a:cubicBezTo>
                  <a:pt x="16478" y="9842"/>
                  <a:pt x="16478" y="9853"/>
                  <a:pt x="16446" y="9842"/>
                </a:cubicBezTo>
                <a:cubicBezTo>
                  <a:pt x="16367" y="9816"/>
                  <a:pt x="16456" y="9796"/>
                  <a:pt x="16478" y="9747"/>
                </a:cubicBezTo>
                <a:cubicBezTo>
                  <a:pt x="16490" y="9719"/>
                  <a:pt x="16559" y="9691"/>
                  <a:pt x="16605" y="9716"/>
                </a:cubicBezTo>
                <a:cubicBezTo>
                  <a:pt x="16697" y="9766"/>
                  <a:pt x="16702" y="9790"/>
                  <a:pt x="16732" y="9874"/>
                </a:cubicBezTo>
                <a:cubicBezTo>
                  <a:pt x="16768" y="9975"/>
                  <a:pt x="16777" y="10027"/>
                  <a:pt x="16732" y="10128"/>
                </a:cubicBezTo>
                <a:cubicBezTo>
                  <a:pt x="16709" y="10178"/>
                  <a:pt x="16662" y="10330"/>
                  <a:pt x="16605" y="10350"/>
                </a:cubicBezTo>
                <a:cubicBezTo>
                  <a:pt x="16550" y="10369"/>
                  <a:pt x="16454" y="10354"/>
                  <a:pt x="16415" y="10319"/>
                </a:cubicBezTo>
                <a:cubicBezTo>
                  <a:pt x="16379" y="10287"/>
                  <a:pt x="16380" y="10262"/>
                  <a:pt x="16351" y="10224"/>
                </a:cubicBezTo>
              </a:path>
              <a:path w="1874" h="2636">
                <a:moveTo>
                  <a:pt x="16891" y="10160"/>
                </a:moveTo>
                <a:cubicBezTo>
                  <a:pt x="16859" y="10160"/>
                  <a:pt x="16848" y="10160"/>
                  <a:pt x="16891" y="10160"/>
                </a:cubicBezTo>
              </a:path>
              <a:path w="1874" h="2636">
                <a:moveTo>
                  <a:pt x="17367" y="9398"/>
                </a:moveTo>
                <a:cubicBezTo>
                  <a:pt x="17367" y="9352"/>
                  <a:pt x="17359" y="9305"/>
                  <a:pt x="17336" y="9271"/>
                </a:cubicBezTo>
                <a:cubicBezTo>
                  <a:pt x="17311" y="9233"/>
                  <a:pt x="17246" y="9189"/>
                  <a:pt x="17208" y="9176"/>
                </a:cubicBezTo>
                <a:cubicBezTo>
                  <a:pt x="17154" y="9158"/>
                  <a:pt x="17089" y="9177"/>
                  <a:pt x="17050" y="9208"/>
                </a:cubicBezTo>
                <a:cubicBezTo>
                  <a:pt x="17006" y="9243"/>
                  <a:pt x="16999" y="9314"/>
                  <a:pt x="16986" y="9366"/>
                </a:cubicBezTo>
                <a:cubicBezTo>
                  <a:pt x="16961" y="9470"/>
                  <a:pt x="16931" y="9583"/>
                  <a:pt x="16986" y="9684"/>
                </a:cubicBezTo>
                <a:cubicBezTo>
                  <a:pt x="16997" y="9695"/>
                  <a:pt x="17007" y="9705"/>
                  <a:pt x="17018" y="9716"/>
                </a:cubicBezTo>
                <a:cubicBezTo>
                  <a:pt x="17086" y="9716"/>
                  <a:pt x="17096" y="9701"/>
                  <a:pt x="17145" y="9652"/>
                </a:cubicBezTo>
                <a:cubicBezTo>
                  <a:pt x="17195" y="9602"/>
                  <a:pt x="17259" y="9535"/>
                  <a:pt x="17272" y="9462"/>
                </a:cubicBezTo>
                <a:cubicBezTo>
                  <a:pt x="17290" y="9358"/>
                  <a:pt x="17283" y="9359"/>
                  <a:pt x="17336" y="9271"/>
                </a:cubicBezTo>
                <a:cubicBezTo>
                  <a:pt x="17336" y="9583"/>
                  <a:pt x="17374" y="9926"/>
                  <a:pt x="17304" y="10224"/>
                </a:cubicBezTo>
                <a:cubicBezTo>
                  <a:pt x="17304" y="10255"/>
                  <a:pt x="17304" y="10266"/>
                  <a:pt x="17304" y="10287"/>
                </a:cubicBezTo>
              </a:path>
              <a:path w="1874" h="2636">
                <a:moveTo>
                  <a:pt x="17875" y="9144"/>
                </a:moveTo>
                <a:cubicBezTo>
                  <a:pt x="17829" y="9191"/>
                  <a:pt x="17792" y="9200"/>
                  <a:pt x="17748" y="9239"/>
                </a:cubicBezTo>
                <a:cubicBezTo>
                  <a:pt x="17703" y="9279"/>
                  <a:pt x="17680" y="9271"/>
                  <a:pt x="17621" y="9271"/>
                </a:cubicBezTo>
                <a:cubicBezTo>
                  <a:pt x="17589" y="9271"/>
                  <a:pt x="17558" y="9271"/>
                  <a:pt x="17526" y="9271"/>
                </a:cubicBezTo>
                <a:cubicBezTo>
                  <a:pt x="17526" y="9430"/>
                  <a:pt x="17526" y="9588"/>
                  <a:pt x="17526" y="9747"/>
                </a:cubicBezTo>
                <a:cubicBezTo>
                  <a:pt x="17541" y="9689"/>
                  <a:pt x="17599" y="9644"/>
                  <a:pt x="17621" y="9588"/>
                </a:cubicBezTo>
                <a:cubicBezTo>
                  <a:pt x="17639" y="9544"/>
                  <a:pt x="17665" y="9510"/>
                  <a:pt x="17716" y="9493"/>
                </a:cubicBezTo>
                <a:cubicBezTo>
                  <a:pt x="17750" y="9481"/>
                  <a:pt x="17820" y="9536"/>
                  <a:pt x="17844" y="9557"/>
                </a:cubicBezTo>
                <a:cubicBezTo>
                  <a:pt x="17908" y="9614"/>
                  <a:pt x="17923" y="9679"/>
                  <a:pt x="17970" y="9747"/>
                </a:cubicBezTo>
                <a:cubicBezTo>
                  <a:pt x="18012" y="9808"/>
                  <a:pt x="18002" y="9861"/>
                  <a:pt x="18002" y="9938"/>
                </a:cubicBezTo>
                <a:cubicBezTo>
                  <a:pt x="18002" y="9988"/>
                  <a:pt x="17983" y="10065"/>
                  <a:pt x="17939" y="10096"/>
                </a:cubicBezTo>
                <a:cubicBezTo>
                  <a:pt x="17871" y="10143"/>
                  <a:pt x="17827" y="10185"/>
                  <a:pt x="17748" y="10192"/>
                </a:cubicBezTo>
                <a:cubicBezTo>
                  <a:pt x="17712" y="10195"/>
                  <a:pt x="17632" y="10141"/>
                  <a:pt x="17653" y="10096"/>
                </a:cubicBezTo>
                <a:cubicBezTo>
                  <a:pt x="17669" y="10061"/>
                  <a:pt x="17725" y="10003"/>
                  <a:pt x="17748" y="10001"/>
                </a:cubicBezTo>
                <a:cubicBezTo>
                  <a:pt x="17819" y="9996"/>
                  <a:pt x="17855" y="9993"/>
                  <a:pt x="17907" y="100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Ink 8"/>
          <p:cNvSpPr/>
          <p:nvPr/>
        </p:nvSpPr>
        <p:spPr>
          <a:xfrm>
            <a:off x="6240600" y="4332240"/>
            <a:ext cx="434880" cy="525600"/>
          </a:xfrm>
          <a:custGeom>
            <a:avLst/>
            <a:gdLst/>
            <a:ahLst/>
            <a:rect l="l" t="t" r="r" b="b"/>
            <a:pathLst>
              <a:path w="1207" h="1462">
                <a:moveTo>
                  <a:pt x="17844" y="12478"/>
                </a:moveTo>
                <a:cubicBezTo>
                  <a:pt x="17807" y="12429"/>
                  <a:pt x="17817" y="12350"/>
                  <a:pt x="17748" y="12319"/>
                </a:cubicBezTo>
                <a:cubicBezTo>
                  <a:pt x="17719" y="12306"/>
                  <a:pt x="17617" y="12278"/>
                  <a:pt x="17590" y="12287"/>
                </a:cubicBezTo>
                <a:cubicBezTo>
                  <a:pt x="17501" y="12317"/>
                  <a:pt x="17489" y="12336"/>
                  <a:pt x="17431" y="12414"/>
                </a:cubicBezTo>
                <a:cubicBezTo>
                  <a:pt x="17388" y="12472"/>
                  <a:pt x="17354" y="12534"/>
                  <a:pt x="17336" y="12605"/>
                </a:cubicBezTo>
                <a:cubicBezTo>
                  <a:pt x="17320" y="12670"/>
                  <a:pt x="17374" y="12713"/>
                  <a:pt x="17399" y="12732"/>
                </a:cubicBezTo>
                <a:cubicBezTo>
                  <a:pt x="17438" y="12761"/>
                  <a:pt x="17491" y="12775"/>
                  <a:pt x="17526" y="12732"/>
                </a:cubicBezTo>
                <a:cubicBezTo>
                  <a:pt x="17588" y="12656"/>
                  <a:pt x="17639" y="12604"/>
                  <a:pt x="17685" y="12510"/>
                </a:cubicBezTo>
                <a:cubicBezTo>
                  <a:pt x="17723" y="12432"/>
                  <a:pt x="17740" y="12353"/>
                  <a:pt x="17780" y="12287"/>
                </a:cubicBezTo>
                <a:cubicBezTo>
                  <a:pt x="17803" y="12302"/>
                  <a:pt x="17835" y="12393"/>
                  <a:pt x="17844" y="12446"/>
                </a:cubicBezTo>
                <a:cubicBezTo>
                  <a:pt x="17870" y="12594"/>
                  <a:pt x="17861" y="12774"/>
                  <a:pt x="17875" y="12922"/>
                </a:cubicBezTo>
                <a:cubicBezTo>
                  <a:pt x="17892" y="13109"/>
                  <a:pt x="17875" y="13306"/>
                  <a:pt x="17875" y="13494"/>
                </a:cubicBezTo>
              </a:path>
              <a:path w="1207" h="1462">
                <a:moveTo>
                  <a:pt x="18510" y="12065"/>
                </a:moveTo>
                <a:cubicBezTo>
                  <a:pt x="18510" y="12033"/>
                  <a:pt x="18510" y="12022"/>
                  <a:pt x="18542" y="12033"/>
                </a:cubicBezTo>
                <a:cubicBezTo>
                  <a:pt x="18502" y="12046"/>
                  <a:pt x="18470" y="12095"/>
                  <a:pt x="18415" y="12128"/>
                </a:cubicBezTo>
                <a:cubicBezTo>
                  <a:pt x="18351" y="12167"/>
                  <a:pt x="18287" y="12205"/>
                  <a:pt x="18224" y="12224"/>
                </a:cubicBezTo>
                <a:cubicBezTo>
                  <a:pt x="18184" y="12236"/>
                  <a:pt x="18148" y="12154"/>
                  <a:pt x="18129" y="12192"/>
                </a:cubicBezTo>
                <a:cubicBezTo>
                  <a:pt x="18106" y="12237"/>
                  <a:pt x="18105" y="12400"/>
                  <a:pt x="18098" y="12446"/>
                </a:cubicBezTo>
                <a:cubicBezTo>
                  <a:pt x="18087" y="12516"/>
                  <a:pt x="18098" y="12597"/>
                  <a:pt x="18098" y="12668"/>
                </a:cubicBezTo>
                <a:cubicBezTo>
                  <a:pt x="18134" y="12655"/>
                  <a:pt x="18153" y="12614"/>
                  <a:pt x="18193" y="12573"/>
                </a:cubicBezTo>
                <a:cubicBezTo>
                  <a:pt x="18248" y="12518"/>
                  <a:pt x="18275" y="12445"/>
                  <a:pt x="18352" y="12414"/>
                </a:cubicBezTo>
                <a:cubicBezTo>
                  <a:pt x="18398" y="12395"/>
                  <a:pt x="18447" y="12419"/>
                  <a:pt x="18478" y="12446"/>
                </a:cubicBezTo>
                <a:cubicBezTo>
                  <a:pt x="18527" y="12490"/>
                  <a:pt x="18538" y="12602"/>
                  <a:pt x="18542" y="12668"/>
                </a:cubicBezTo>
                <a:cubicBezTo>
                  <a:pt x="18548" y="12774"/>
                  <a:pt x="18524" y="12828"/>
                  <a:pt x="18478" y="12922"/>
                </a:cubicBezTo>
                <a:cubicBezTo>
                  <a:pt x="18450" y="12979"/>
                  <a:pt x="18383" y="13092"/>
                  <a:pt x="18320" y="13113"/>
                </a:cubicBezTo>
                <a:cubicBezTo>
                  <a:pt x="18256" y="13113"/>
                  <a:pt x="18235" y="13113"/>
                  <a:pt x="18193" y="131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Ink 9"/>
          <p:cNvSpPr/>
          <p:nvPr/>
        </p:nvSpPr>
        <p:spPr>
          <a:xfrm>
            <a:off x="5521320" y="3497400"/>
            <a:ext cx="731880" cy="1577880"/>
          </a:xfrm>
          <a:custGeom>
            <a:avLst/>
            <a:gdLst/>
            <a:ahLst/>
            <a:rect l="l" t="t" r="r" b="b"/>
            <a:pathLst>
              <a:path w="2033" h="4382">
                <a:moveTo>
                  <a:pt x="15335" y="9716"/>
                </a:moveTo>
                <a:cubicBezTo>
                  <a:pt x="15353" y="9732"/>
                  <a:pt x="15406" y="9757"/>
                  <a:pt x="15430" y="9779"/>
                </a:cubicBezTo>
                <a:cubicBezTo>
                  <a:pt x="15535" y="9877"/>
                  <a:pt x="15641" y="9974"/>
                  <a:pt x="15748" y="10065"/>
                </a:cubicBezTo>
                <a:cubicBezTo>
                  <a:pt x="15801" y="10110"/>
                  <a:pt x="15855" y="10147"/>
                  <a:pt x="15907" y="10192"/>
                </a:cubicBezTo>
                <a:cubicBezTo>
                  <a:pt x="15954" y="10232"/>
                  <a:pt x="15975" y="10276"/>
                  <a:pt x="16002" y="10319"/>
                </a:cubicBezTo>
                <a:cubicBezTo>
                  <a:pt x="16019" y="10346"/>
                  <a:pt x="16048" y="10379"/>
                  <a:pt x="16066" y="10414"/>
                </a:cubicBezTo>
                <a:cubicBezTo>
                  <a:pt x="16018" y="10434"/>
                  <a:pt x="15984" y="10449"/>
                  <a:pt x="15938" y="10478"/>
                </a:cubicBezTo>
                <a:cubicBezTo>
                  <a:pt x="15898" y="10504"/>
                  <a:pt x="15856" y="10540"/>
                  <a:pt x="15812" y="10573"/>
                </a:cubicBezTo>
                <a:cubicBezTo>
                  <a:pt x="15731" y="10633"/>
                  <a:pt x="15641" y="10687"/>
                  <a:pt x="15558" y="10732"/>
                </a:cubicBezTo>
                <a:cubicBezTo>
                  <a:pt x="15529" y="10760"/>
                  <a:pt x="15523" y="10770"/>
                  <a:pt x="15494" y="10763"/>
                </a:cubicBezTo>
                <a:cubicBezTo>
                  <a:pt x="15504" y="10775"/>
                  <a:pt x="15541" y="10841"/>
                  <a:pt x="15558" y="10858"/>
                </a:cubicBezTo>
                <a:cubicBezTo>
                  <a:pt x="15584" y="10884"/>
                  <a:pt x="15613" y="10882"/>
                  <a:pt x="15653" y="10922"/>
                </a:cubicBezTo>
                <a:cubicBezTo>
                  <a:pt x="15683" y="10953"/>
                  <a:pt x="15707" y="10982"/>
                  <a:pt x="15748" y="11017"/>
                </a:cubicBezTo>
                <a:cubicBezTo>
                  <a:pt x="15809" y="11069"/>
                  <a:pt x="15887" y="11132"/>
                  <a:pt x="15938" y="11176"/>
                </a:cubicBezTo>
                <a:cubicBezTo>
                  <a:pt x="15978" y="11210"/>
                  <a:pt x="16035" y="11245"/>
                  <a:pt x="16066" y="11271"/>
                </a:cubicBezTo>
                <a:cubicBezTo>
                  <a:pt x="16101" y="11300"/>
                  <a:pt x="16134" y="11331"/>
                  <a:pt x="16161" y="11366"/>
                </a:cubicBezTo>
                <a:cubicBezTo>
                  <a:pt x="16185" y="11397"/>
                  <a:pt x="16192" y="11407"/>
                  <a:pt x="16192" y="11462"/>
                </a:cubicBezTo>
                <a:cubicBezTo>
                  <a:pt x="16192" y="11532"/>
                  <a:pt x="16173" y="11536"/>
                  <a:pt x="16129" y="11589"/>
                </a:cubicBezTo>
                <a:cubicBezTo>
                  <a:pt x="16065" y="11665"/>
                  <a:pt x="15986" y="11724"/>
                  <a:pt x="15907" y="11779"/>
                </a:cubicBezTo>
                <a:cubicBezTo>
                  <a:pt x="15847" y="11821"/>
                  <a:pt x="15766" y="11908"/>
                  <a:pt x="15716" y="11938"/>
                </a:cubicBezTo>
                <a:cubicBezTo>
                  <a:pt x="15649" y="11978"/>
                  <a:pt x="15590" y="11984"/>
                  <a:pt x="15526" y="12033"/>
                </a:cubicBezTo>
                <a:cubicBezTo>
                  <a:pt x="15482" y="12067"/>
                  <a:pt x="15449" y="12101"/>
                  <a:pt x="15430" y="12128"/>
                </a:cubicBezTo>
                <a:cubicBezTo>
                  <a:pt x="15423" y="12138"/>
                  <a:pt x="15402" y="12137"/>
                  <a:pt x="15462" y="12160"/>
                </a:cubicBezTo>
                <a:cubicBezTo>
                  <a:pt x="15508" y="12177"/>
                  <a:pt x="15573" y="12178"/>
                  <a:pt x="15621" y="12192"/>
                </a:cubicBezTo>
                <a:cubicBezTo>
                  <a:pt x="15700" y="12215"/>
                  <a:pt x="15777" y="12265"/>
                  <a:pt x="15843" y="12319"/>
                </a:cubicBezTo>
                <a:cubicBezTo>
                  <a:pt x="15897" y="12363"/>
                  <a:pt x="15991" y="12430"/>
                  <a:pt x="16034" y="12478"/>
                </a:cubicBezTo>
                <a:cubicBezTo>
                  <a:pt x="16090" y="12540"/>
                  <a:pt x="16144" y="12644"/>
                  <a:pt x="16192" y="12700"/>
                </a:cubicBezTo>
                <a:cubicBezTo>
                  <a:pt x="16240" y="12756"/>
                  <a:pt x="16230" y="12771"/>
                  <a:pt x="16256" y="12827"/>
                </a:cubicBezTo>
                <a:cubicBezTo>
                  <a:pt x="16266" y="12850"/>
                  <a:pt x="16298" y="12857"/>
                  <a:pt x="16288" y="12922"/>
                </a:cubicBezTo>
                <a:cubicBezTo>
                  <a:pt x="16279" y="12981"/>
                  <a:pt x="16228" y="13031"/>
                  <a:pt x="16192" y="13081"/>
                </a:cubicBezTo>
                <a:cubicBezTo>
                  <a:pt x="16149" y="13141"/>
                  <a:pt x="16062" y="13241"/>
                  <a:pt x="16034" y="13303"/>
                </a:cubicBezTo>
                <a:cubicBezTo>
                  <a:pt x="15970" y="13445"/>
                  <a:pt x="15902" y="13549"/>
                  <a:pt x="15812" y="13684"/>
                </a:cubicBezTo>
                <a:cubicBezTo>
                  <a:pt x="15733" y="13803"/>
                  <a:pt x="15651" y="13926"/>
                  <a:pt x="15558" y="14034"/>
                </a:cubicBezTo>
                <a:cubicBezTo>
                  <a:pt x="15537" y="14055"/>
                  <a:pt x="15515" y="14076"/>
                  <a:pt x="15494" y="14097"/>
                </a:cubicBezTo>
              </a:path>
              <a:path w="2033" h="4382">
                <a:moveTo>
                  <a:pt x="16764" y="12732"/>
                </a:moveTo>
                <a:cubicBezTo>
                  <a:pt x="16753" y="12732"/>
                  <a:pt x="16743" y="12732"/>
                  <a:pt x="16732" y="12732"/>
                </a:cubicBezTo>
              </a:path>
              <a:path w="2033" h="4382">
                <a:moveTo>
                  <a:pt x="16764" y="12732"/>
                </a:moveTo>
                <a:lnTo>
                  <a:pt x="16764" y="12732"/>
                </a:lnTo>
              </a:path>
              <a:path w="2033" h="4382">
                <a:moveTo>
                  <a:pt x="16637" y="12795"/>
                </a:moveTo>
                <a:cubicBezTo>
                  <a:pt x="16637" y="12725"/>
                  <a:pt x="16659" y="12664"/>
                  <a:pt x="16700" y="12605"/>
                </a:cubicBezTo>
                <a:cubicBezTo>
                  <a:pt x="16752" y="12529"/>
                  <a:pt x="16792" y="12448"/>
                  <a:pt x="16859" y="12382"/>
                </a:cubicBezTo>
                <a:cubicBezTo>
                  <a:pt x="16888" y="12354"/>
                  <a:pt x="16894" y="12344"/>
                  <a:pt x="16923" y="12351"/>
                </a:cubicBezTo>
                <a:cubicBezTo>
                  <a:pt x="16955" y="12394"/>
                  <a:pt x="17001" y="12448"/>
                  <a:pt x="16986" y="12510"/>
                </a:cubicBezTo>
                <a:cubicBezTo>
                  <a:pt x="16967" y="12589"/>
                  <a:pt x="16948" y="12688"/>
                  <a:pt x="16923" y="12764"/>
                </a:cubicBezTo>
                <a:cubicBezTo>
                  <a:pt x="16901" y="12831"/>
                  <a:pt x="16839" y="12900"/>
                  <a:pt x="16796" y="12954"/>
                </a:cubicBezTo>
                <a:cubicBezTo>
                  <a:pt x="16796" y="12877"/>
                  <a:pt x="16808" y="12893"/>
                  <a:pt x="16859" y="12859"/>
                </a:cubicBezTo>
                <a:cubicBezTo>
                  <a:pt x="16888" y="12839"/>
                  <a:pt x="16942" y="12802"/>
                  <a:pt x="16986" y="12827"/>
                </a:cubicBezTo>
                <a:cubicBezTo>
                  <a:pt x="17033" y="12853"/>
                  <a:pt x="17101" y="12935"/>
                  <a:pt x="17113" y="12986"/>
                </a:cubicBezTo>
                <a:cubicBezTo>
                  <a:pt x="17135" y="13079"/>
                  <a:pt x="17110" y="13188"/>
                  <a:pt x="17082" y="13272"/>
                </a:cubicBezTo>
                <a:cubicBezTo>
                  <a:pt x="17045" y="13383"/>
                  <a:pt x="17006" y="13485"/>
                  <a:pt x="16954" y="13589"/>
                </a:cubicBezTo>
                <a:cubicBezTo>
                  <a:pt x="16914" y="13669"/>
                  <a:pt x="16881" y="13684"/>
                  <a:pt x="16796" y="13684"/>
                </a:cubicBezTo>
                <a:cubicBezTo>
                  <a:pt x="16732" y="13684"/>
                  <a:pt x="16719" y="13634"/>
                  <a:pt x="16700" y="13589"/>
                </a:cubicBezTo>
                <a:cubicBezTo>
                  <a:pt x="16661" y="13497"/>
                  <a:pt x="16661" y="13523"/>
                  <a:pt x="16700" y="13430"/>
                </a:cubicBezTo>
              </a:path>
              <a:path w="2033" h="4382">
                <a:moveTo>
                  <a:pt x="17367" y="13430"/>
                </a:moveTo>
                <a:lnTo>
                  <a:pt x="17367" y="1343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Ink 10"/>
          <p:cNvSpPr/>
          <p:nvPr/>
        </p:nvSpPr>
        <p:spPr>
          <a:xfrm>
            <a:off x="6937200" y="2228760"/>
            <a:ext cx="2070360" cy="925560"/>
          </a:xfrm>
          <a:custGeom>
            <a:avLst/>
            <a:gdLst/>
            <a:ahLst/>
            <a:rect l="l" t="t" r="r" b="b"/>
            <a:pathLst>
              <a:path w="5748" h="2573">
                <a:moveTo>
                  <a:pt x="19526" y="6826"/>
                </a:moveTo>
                <a:cubicBezTo>
                  <a:pt x="19526" y="6837"/>
                  <a:pt x="19526" y="6847"/>
                  <a:pt x="19526" y="6858"/>
                </a:cubicBezTo>
              </a:path>
              <a:path w="5748" h="2573">
                <a:moveTo>
                  <a:pt x="19526" y="6826"/>
                </a:moveTo>
                <a:cubicBezTo>
                  <a:pt x="19526" y="6879"/>
                  <a:pt x="19526" y="6932"/>
                  <a:pt x="19526" y="6985"/>
                </a:cubicBezTo>
              </a:path>
              <a:path w="5748" h="2573">
                <a:moveTo>
                  <a:pt x="19526" y="6985"/>
                </a:moveTo>
                <a:cubicBezTo>
                  <a:pt x="19561" y="7126"/>
                  <a:pt x="19558" y="7251"/>
                  <a:pt x="19558" y="7398"/>
                </a:cubicBezTo>
                <a:cubicBezTo>
                  <a:pt x="19558" y="7588"/>
                  <a:pt x="19572" y="7750"/>
                  <a:pt x="19558" y="7938"/>
                </a:cubicBezTo>
                <a:cubicBezTo>
                  <a:pt x="19545" y="8118"/>
                  <a:pt x="19560" y="8301"/>
                  <a:pt x="19526" y="8477"/>
                </a:cubicBezTo>
                <a:cubicBezTo>
                  <a:pt x="19519" y="8514"/>
                  <a:pt x="19499" y="8764"/>
                  <a:pt x="19431" y="8763"/>
                </a:cubicBezTo>
                <a:cubicBezTo>
                  <a:pt x="19431" y="8727"/>
                  <a:pt x="19428" y="8713"/>
                  <a:pt x="19399" y="8700"/>
                </a:cubicBezTo>
              </a:path>
              <a:path w="5748" h="2573">
                <a:moveTo>
                  <a:pt x="19304" y="7144"/>
                </a:moveTo>
                <a:cubicBezTo>
                  <a:pt x="19261" y="7030"/>
                  <a:pt x="19287" y="7028"/>
                  <a:pt x="19304" y="6922"/>
                </a:cubicBezTo>
                <a:cubicBezTo>
                  <a:pt x="19322" y="6808"/>
                  <a:pt x="19409" y="6768"/>
                  <a:pt x="19463" y="6668"/>
                </a:cubicBezTo>
                <a:cubicBezTo>
                  <a:pt x="19519" y="6564"/>
                  <a:pt x="19586" y="6474"/>
                  <a:pt x="19717" y="6445"/>
                </a:cubicBezTo>
                <a:cubicBezTo>
                  <a:pt x="19848" y="6416"/>
                  <a:pt x="19923" y="6563"/>
                  <a:pt x="19939" y="6668"/>
                </a:cubicBezTo>
                <a:cubicBezTo>
                  <a:pt x="19963" y="6826"/>
                  <a:pt x="19877" y="7007"/>
                  <a:pt x="19812" y="7144"/>
                </a:cubicBezTo>
                <a:cubicBezTo>
                  <a:pt x="19735" y="7306"/>
                  <a:pt x="19633" y="7460"/>
                  <a:pt x="19558" y="7620"/>
                </a:cubicBezTo>
                <a:cubicBezTo>
                  <a:pt x="19513" y="7717"/>
                  <a:pt x="19475" y="7767"/>
                  <a:pt x="19399" y="7842"/>
                </a:cubicBezTo>
                <a:cubicBezTo>
                  <a:pt x="19429" y="7812"/>
                  <a:pt x="19412" y="7793"/>
                  <a:pt x="19463" y="7779"/>
                </a:cubicBezTo>
                <a:cubicBezTo>
                  <a:pt x="19551" y="7754"/>
                  <a:pt x="19577" y="7823"/>
                  <a:pt x="19622" y="7874"/>
                </a:cubicBezTo>
                <a:cubicBezTo>
                  <a:pt x="19729" y="7997"/>
                  <a:pt x="19786" y="8154"/>
                  <a:pt x="19812" y="8318"/>
                </a:cubicBezTo>
                <a:cubicBezTo>
                  <a:pt x="19825" y="8400"/>
                  <a:pt x="19838" y="8499"/>
                  <a:pt x="19876" y="8572"/>
                </a:cubicBezTo>
                <a:cubicBezTo>
                  <a:pt x="19913" y="8642"/>
                  <a:pt x="19907" y="8618"/>
                  <a:pt x="19971" y="8636"/>
                </a:cubicBezTo>
              </a:path>
              <a:path w="5748" h="2573">
                <a:moveTo>
                  <a:pt x="20034" y="7652"/>
                </a:moveTo>
                <a:cubicBezTo>
                  <a:pt x="20003" y="7662"/>
                  <a:pt x="19978" y="7728"/>
                  <a:pt x="19971" y="7779"/>
                </a:cubicBezTo>
                <a:cubicBezTo>
                  <a:pt x="19953" y="7913"/>
                  <a:pt x="19966" y="8064"/>
                  <a:pt x="20002" y="8192"/>
                </a:cubicBezTo>
                <a:cubicBezTo>
                  <a:pt x="20026" y="8276"/>
                  <a:pt x="20045" y="8361"/>
                  <a:pt x="20130" y="8382"/>
                </a:cubicBezTo>
                <a:cubicBezTo>
                  <a:pt x="20172" y="8325"/>
                  <a:pt x="20190" y="8268"/>
                  <a:pt x="20193" y="8192"/>
                </a:cubicBezTo>
                <a:cubicBezTo>
                  <a:pt x="20199" y="8062"/>
                  <a:pt x="20193" y="7928"/>
                  <a:pt x="20130" y="7810"/>
                </a:cubicBezTo>
                <a:cubicBezTo>
                  <a:pt x="20097" y="7747"/>
                  <a:pt x="20038" y="7784"/>
                  <a:pt x="20002" y="7810"/>
                </a:cubicBezTo>
              </a:path>
              <a:path w="5748" h="2573">
                <a:moveTo>
                  <a:pt x="20606" y="6922"/>
                </a:moveTo>
                <a:cubicBezTo>
                  <a:pt x="20574" y="6874"/>
                  <a:pt x="20534" y="6811"/>
                  <a:pt x="20479" y="6890"/>
                </a:cubicBezTo>
                <a:cubicBezTo>
                  <a:pt x="20412" y="6987"/>
                  <a:pt x="20387" y="7092"/>
                  <a:pt x="20384" y="7207"/>
                </a:cubicBezTo>
                <a:cubicBezTo>
                  <a:pt x="20379" y="7372"/>
                  <a:pt x="20401" y="7525"/>
                  <a:pt x="20415" y="7684"/>
                </a:cubicBezTo>
                <a:cubicBezTo>
                  <a:pt x="20428" y="7835"/>
                  <a:pt x="20463" y="7980"/>
                  <a:pt x="20479" y="8128"/>
                </a:cubicBezTo>
                <a:cubicBezTo>
                  <a:pt x="20491" y="8236"/>
                  <a:pt x="20510" y="8336"/>
                  <a:pt x="20510" y="8446"/>
                </a:cubicBezTo>
                <a:cubicBezTo>
                  <a:pt x="20510" y="8467"/>
                  <a:pt x="20510" y="8488"/>
                  <a:pt x="20510" y="8509"/>
                </a:cubicBezTo>
              </a:path>
              <a:path w="5748" h="2573">
                <a:moveTo>
                  <a:pt x="20320" y="8064"/>
                </a:moveTo>
                <a:cubicBezTo>
                  <a:pt x="20366" y="8053"/>
                  <a:pt x="20435" y="8031"/>
                  <a:pt x="20479" y="8001"/>
                </a:cubicBezTo>
                <a:cubicBezTo>
                  <a:pt x="20489" y="7990"/>
                  <a:pt x="20500" y="7980"/>
                  <a:pt x="20510" y="7969"/>
                </a:cubicBezTo>
              </a:path>
              <a:path w="5748" h="2573">
                <a:moveTo>
                  <a:pt x="21336" y="6509"/>
                </a:moveTo>
                <a:cubicBezTo>
                  <a:pt x="21344" y="6600"/>
                  <a:pt x="21364" y="6671"/>
                  <a:pt x="21368" y="6763"/>
                </a:cubicBezTo>
                <a:cubicBezTo>
                  <a:pt x="21371" y="6824"/>
                  <a:pt x="21379" y="6928"/>
                  <a:pt x="21400" y="6985"/>
                </a:cubicBezTo>
                <a:cubicBezTo>
                  <a:pt x="21431" y="6985"/>
                  <a:pt x="21442" y="6985"/>
                  <a:pt x="21431" y="7017"/>
                </a:cubicBezTo>
                <a:cubicBezTo>
                  <a:pt x="21395" y="6944"/>
                  <a:pt x="21391" y="6874"/>
                  <a:pt x="21368" y="6794"/>
                </a:cubicBezTo>
                <a:cubicBezTo>
                  <a:pt x="21346" y="6719"/>
                  <a:pt x="21301" y="6636"/>
                  <a:pt x="21272" y="6572"/>
                </a:cubicBezTo>
                <a:cubicBezTo>
                  <a:pt x="21244" y="6607"/>
                  <a:pt x="21186" y="6682"/>
                  <a:pt x="21177" y="6763"/>
                </a:cubicBezTo>
                <a:cubicBezTo>
                  <a:pt x="21151" y="6994"/>
                  <a:pt x="21140" y="7230"/>
                  <a:pt x="21114" y="7461"/>
                </a:cubicBezTo>
                <a:cubicBezTo>
                  <a:pt x="21086" y="7712"/>
                  <a:pt x="21050" y="7938"/>
                  <a:pt x="21050" y="8192"/>
                </a:cubicBezTo>
                <a:cubicBezTo>
                  <a:pt x="21050" y="8305"/>
                  <a:pt x="21054" y="8512"/>
                  <a:pt x="21146" y="8604"/>
                </a:cubicBezTo>
                <a:cubicBezTo>
                  <a:pt x="21219" y="8678"/>
                  <a:pt x="21298" y="8607"/>
                  <a:pt x="21368" y="8572"/>
                </a:cubicBezTo>
                <a:cubicBezTo>
                  <a:pt x="21454" y="8529"/>
                  <a:pt x="21511" y="8434"/>
                  <a:pt x="21558" y="8350"/>
                </a:cubicBezTo>
                <a:cubicBezTo>
                  <a:pt x="21594" y="8278"/>
                  <a:pt x="21608" y="8248"/>
                  <a:pt x="21622" y="8192"/>
                </a:cubicBezTo>
              </a:path>
              <a:path w="5748" h="2573">
                <a:moveTo>
                  <a:pt x="21876" y="7588"/>
                </a:moveTo>
                <a:cubicBezTo>
                  <a:pt x="21934" y="7588"/>
                  <a:pt x="21951" y="7562"/>
                  <a:pt x="22003" y="7556"/>
                </a:cubicBezTo>
                <a:cubicBezTo>
                  <a:pt x="22062" y="7549"/>
                  <a:pt x="22080" y="7541"/>
                  <a:pt x="22130" y="7525"/>
                </a:cubicBezTo>
                <a:cubicBezTo>
                  <a:pt x="22141" y="7525"/>
                  <a:pt x="22151" y="7525"/>
                  <a:pt x="22162" y="7525"/>
                </a:cubicBezTo>
              </a:path>
              <a:path w="5748" h="2573">
                <a:moveTo>
                  <a:pt x="21844" y="7969"/>
                </a:moveTo>
                <a:cubicBezTo>
                  <a:pt x="21884" y="7959"/>
                  <a:pt x="21931" y="7952"/>
                  <a:pt x="21971" y="7938"/>
                </a:cubicBezTo>
                <a:cubicBezTo>
                  <a:pt x="22026" y="7910"/>
                  <a:pt x="22041" y="7905"/>
                  <a:pt x="22066" y="7874"/>
                </a:cubicBezTo>
              </a:path>
              <a:path w="5748" h="2573">
                <a:moveTo>
                  <a:pt x="22574" y="6509"/>
                </a:moveTo>
                <a:cubicBezTo>
                  <a:pt x="22629" y="6491"/>
                  <a:pt x="22606" y="6435"/>
                  <a:pt x="22638" y="6382"/>
                </a:cubicBezTo>
                <a:cubicBezTo>
                  <a:pt x="22673" y="6323"/>
                  <a:pt x="22734" y="6228"/>
                  <a:pt x="22796" y="6191"/>
                </a:cubicBezTo>
                <a:cubicBezTo>
                  <a:pt x="22828" y="6191"/>
                  <a:pt x="22839" y="6191"/>
                  <a:pt x="22860" y="6191"/>
                </a:cubicBezTo>
                <a:cubicBezTo>
                  <a:pt x="22883" y="6304"/>
                  <a:pt x="22877" y="6360"/>
                  <a:pt x="22828" y="6477"/>
                </a:cubicBezTo>
                <a:cubicBezTo>
                  <a:pt x="22790" y="6570"/>
                  <a:pt x="22759" y="6679"/>
                  <a:pt x="22701" y="6763"/>
                </a:cubicBezTo>
                <a:cubicBezTo>
                  <a:pt x="22673" y="6803"/>
                  <a:pt x="22647" y="6816"/>
                  <a:pt x="22606" y="6826"/>
                </a:cubicBezTo>
                <a:cubicBezTo>
                  <a:pt x="22616" y="6786"/>
                  <a:pt x="22656" y="6719"/>
                  <a:pt x="22701" y="6699"/>
                </a:cubicBezTo>
                <a:cubicBezTo>
                  <a:pt x="22755" y="6675"/>
                  <a:pt x="22836" y="6709"/>
                  <a:pt x="22860" y="6763"/>
                </a:cubicBezTo>
                <a:cubicBezTo>
                  <a:pt x="22907" y="6866"/>
                  <a:pt x="22876" y="6910"/>
                  <a:pt x="22860" y="7017"/>
                </a:cubicBezTo>
                <a:cubicBezTo>
                  <a:pt x="22851" y="7080"/>
                  <a:pt x="22787" y="7221"/>
                  <a:pt x="22733" y="7271"/>
                </a:cubicBezTo>
                <a:cubicBezTo>
                  <a:pt x="22708" y="7294"/>
                  <a:pt x="22616" y="7357"/>
                  <a:pt x="22574" y="7334"/>
                </a:cubicBezTo>
                <a:cubicBezTo>
                  <a:pt x="22538" y="7298"/>
                  <a:pt x="22527" y="7281"/>
                  <a:pt x="22542" y="7239"/>
                </a:cubicBezTo>
              </a:path>
              <a:path w="5748" h="2573">
                <a:moveTo>
                  <a:pt x="22924" y="7080"/>
                </a:moveTo>
                <a:cubicBezTo>
                  <a:pt x="22924" y="7137"/>
                  <a:pt x="22940" y="7160"/>
                  <a:pt x="22892" y="7176"/>
                </a:cubicBezTo>
              </a:path>
              <a:path w="5748" h="2573">
                <a:moveTo>
                  <a:pt x="23273" y="6414"/>
                </a:moveTo>
                <a:cubicBezTo>
                  <a:pt x="23273" y="6323"/>
                  <a:pt x="23271" y="6318"/>
                  <a:pt x="23209" y="6255"/>
                </a:cubicBezTo>
                <a:cubicBezTo>
                  <a:pt x="23199" y="6244"/>
                  <a:pt x="23188" y="6234"/>
                  <a:pt x="23178" y="6223"/>
                </a:cubicBezTo>
                <a:cubicBezTo>
                  <a:pt x="23127" y="6274"/>
                  <a:pt x="23063" y="6339"/>
                  <a:pt x="23050" y="6414"/>
                </a:cubicBezTo>
                <a:cubicBezTo>
                  <a:pt x="23030" y="6527"/>
                  <a:pt x="23058" y="6628"/>
                  <a:pt x="23082" y="6731"/>
                </a:cubicBezTo>
                <a:cubicBezTo>
                  <a:pt x="23082" y="6742"/>
                  <a:pt x="23082" y="6752"/>
                  <a:pt x="23082" y="6763"/>
                </a:cubicBezTo>
                <a:cubicBezTo>
                  <a:pt x="23129" y="6751"/>
                  <a:pt x="23209" y="6741"/>
                  <a:pt x="23241" y="6699"/>
                </a:cubicBezTo>
                <a:cubicBezTo>
                  <a:pt x="23312" y="6607"/>
                  <a:pt x="23307" y="6513"/>
                  <a:pt x="23336" y="6414"/>
                </a:cubicBezTo>
                <a:cubicBezTo>
                  <a:pt x="23362" y="6323"/>
                  <a:pt x="23400" y="6286"/>
                  <a:pt x="23400" y="6286"/>
                </a:cubicBezTo>
                <a:cubicBezTo>
                  <a:pt x="23366" y="6302"/>
                  <a:pt x="23343" y="6449"/>
                  <a:pt x="23336" y="6509"/>
                </a:cubicBezTo>
                <a:cubicBezTo>
                  <a:pt x="23315" y="6693"/>
                  <a:pt x="23324" y="6907"/>
                  <a:pt x="23368" y="7080"/>
                </a:cubicBezTo>
                <a:cubicBezTo>
                  <a:pt x="23368" y="7112"/>
                  <a:pt x="23368" y="7123"/>
                  <a:pt x="23368" y="7080"/>
                </a:cubicBezTo>
              </a:path>
              <a:path w="5748" h="2573">
                <a:moveTo>
                  <a:pt x="23717" y="6191"/>
                </a:moveTo>
                <a:cubicBezTo>
                  <a:pt x="23677" y="6222"/>
                  <a:pt x="23608" y="6249"/>
                  <a:pt x="23558" y="6255"/>
                </a:cubicBezTo>
                <a:cubicBezTo>
                  <a:pt x="23512" y="6260"/>
                  <a:pt x="23468" y="6279"/>
                  <a:pt x="23463" y="6318"/>
                </a:cubicBezTo>
                <a:cubicBezTo>
                  <a:pt x="23455" y="6386"/>
                  <a:pt x="23473" y="6445"/>
                  <a:pt x="23495" y="6509"/>
                </a:cubicBezTo>
                <a:cubicBezTo>
                  <a:pt x="23513" y="6561"/>
                  <a:pt x="23527" y="6571"/>
                  <a:pt x="23527" y="6636"/>
                </a:cubicBezTo>
                <a:cubicBezTo>
                  <a:pt x="23527" y="6647"/>
                  <a:pt x="23527" y="6657"/>
                  <a:pt x="23527" y="6668"/>
                </a:cubicBezTo>
                <a:cubicBezTo>
                  <a:pt x="23580" y="6650"/>
                  <a:pt x="23546" y="6597"/>
                  <a:pt x="23622" y="6572"/>
                </a:cubicBezTo>
                <a:cubicBezTo>
                  <a:pt x="23684" y="6551"/>
                  <a:pt x="23699" y="6595"/>
                  <a:pt x="23717" y="6604"/>
                </a:cubicBezTo>
                <a:cubicBezTo>
                  <a:pt x="23788" y="6640"/>
                  <a:pt x="23781" y="6681"/>
                  <a:pt x="23781" y="6763"/>
                </a:cubicBezTo>
                <a:cubicBezTo>
                  <a:pt x="23781" y="6857"/>
                  <a:pt x="23706" y="6975"/>
                  <a:pt x="23654" y="7048"/>
                </a:cubicBezTo>
                <a:cubicBezTo>
                  <a:pt x="23593" y="7133"/>
                  <a:pt x="23498" y="7168"/>
                  <a:pt x="23432" y="7207"/>
                </a:cubicBezTo>
                <a:cubicBezTo>
                  <a:pt x="23421" y="7218"/>
                  <a:pt x="23411" y="7228"/>
                  <a:pt x="23400" y="7239"/>
                </a:cubicBezTo>
              </a:path>
              <a:path w="5748" h="2573">
                <a:moveTo>
                  <a:pt x="22447" y="7430"/>
                </a:moveTo>
                <a:cubicBezTo>
                  <a:pt x="22536" y="7392"/>
                  <a:pt x="22611" y="7392"/>
                  <a:pt x="22701" y="7366"/>
                </a:cubicBezTo>
                <a:cubicBezTo>
                  <a:pt x="22815" y="7333"/>
                  <a:pt x="22928" y="7308"/>
                  <a:pt x="23050" y="7302"/>
                </a:cubicBezTo>
                <a:cubicBezTo>
                  <a:pt x="23163" y="7297"/>
                  <a:pt x="23258" y="7276"/>
                  <a:pt x="23368" y="7271"/>
                </a:cubicBezTo>
                <a:cubicBezTo>
                  <a:pt x="23421" y="7269"/>
                  <a:pt x="23474" y="7271"/>
                  <a:pt x="23527" y="7271"/>
                </a:cubicBezTo>
              </a:path>
              <a:path w="5748" h="2573">
                <a:moveTo>
                  <a:pt x="23050" y="7556"/>
                </a:moveTo>
                <a:cubicBezTo>
                  <a:pt x="23050" y="7649"/>
                  <a:pt x="23078" y="7716"/>
                  <a:pt x="23082" y="7810"/>
                </a:cubicBezTo>
                <a:cubicBezTo>
                  <a:pt x="23091" y="7988"/>
                  <a:pt x="23112" y="8217"/>
                  <a:pt x="23050" y="8382"/>
                </a:cubicBezTo>
              </a:path>
              <a:path w="5748" h="2573">
                <a:moveTo>
                  <a:pt x="23717" y="7302"/>
                </a:moveTo>
                <a:lnTo>
                  <a:pt x="23717" y="7302"/>
                </a:lnTo>
              </a:path>
              <a:path w="5748" h="2573">
                <a:moveTo>
                  <a:pt x="23717" y="7302"/>
                </a:moveTo>
                <a:lnTo>
                  <a:pt x="23717" y="7302"/>
                </a:lnTo>
              </a:path>
              <a:path w="5748" h="2573">
                <a:moveTo>
                  <a:pt x="23876" y="7239"/>
                </a:moveTo>
                <a:cubicBezTo>
                  <a:pt x="23887" y="7239"/>
                  <a:pt x="23897" y="7239"/>
                  <a:pt x="23908" y="7239"/>
                </a:cubicBezTo>
              </a:path>
              <a:path w="5748" h="2573">
                <a:moveTo>
                  <a:pt x="23749" y="7652"/>
                </a:moveTo>
                <a:cubicBezTo>
                  <a:pt x="23738" y="7652"/>
                  <a:pt x="23728" y="7652"/>
                  <a:pt x="23717" y="7652"/>
                </a:cubicBezTo>
                <a:cubicBezTo>
                  <a:pt x="23747" y="7642"/>
                  <a:pt x="23776" y="7640"/>
                  <a:pt x="23812" y="7620"/>
                </a:cubicBezTo>
                <a:cubicBezTo>
                  <a:pt x="23861" y="7593"/>
                  <a:pt x="23896" y="7568"/>
                  <a:pt x="23940" y="7525"/>
                </a:cubicBezTo>
              </a:path>
              <a:path w="5748" h="2573">
                <a:moveTo>
                  <a:pt x="24162" y="7080"/>
                </a:moveTo>
                <a:cubicBezTo>
                  <a:pt x="24162" y="7059"/>
                  <a:pt x="24162" y="7038"/>
                  <a:pt x="24162" y="7017"/>
                </a:cubicBezTo>
              </a:path>
              <a:path w="5748" h="2573">
                <a:moveTo>
                  <a:pt x="24162" y="7080"/>
                </a:moveTo>
                <a:lnTo>
                  <a:pt x="24162" y="7080"/>
                </a:lnTo>
              </a:path>
              <a:path w="5748" h="2573">
                <a:moveTo>
                  <a:pt x="24194" y="6922"/>
                </a:moveTo>
                <a:cubicBezTo>
                  <a:pt x="24244" y="6845"/>
                  <a:pt x="24225" y="6874"/>
                  <a:pt x="24289" y="6826"/>
                </a:cubicBezTo>
                <a:cubicBezTo>
                  <a:pt x="24308" y="6904"/>
                  <a:pt x="24341" y="6986"/>
                  <a:pt x="24320" y="7080"/>
                </a:cubicBezTo>
                <a:cubicBezTo>
                  <a:pt x="24298" y="7178"/>
                  <a:pt x="24275" y="7249"/>
                  <a:pt x="24225" y="7334"/>
                </a:cubicBezTo>
                <a:cubicBezTo>
                  <a:pt x="24203" y="7372"/>
                  <a:pt x="24144" y="7475"/>
                  <a:pt x="24162" y="7430"/>
                </a:cubicBezTo>
                <a:cubicBezTo>
                  <a:pt x="24176" y="7394"/>
                  <a:pt x="24204" y="7372"/>
                  <a:pt x="24257" y="7366"/>
                </a:cubicBezTo>
                <a:cubicBezTo>
                  <a:pt x="24332" y="7358"/>
                  <a:pt x="24349" y="7439"/>
                  <a:pt x="24352" y="7493"/>
                </a:cubicBezTo>
                <a:cubicBezTo>
                  <a:pt x="24358" y="7586"/>
                  <a:pt x="24357" y="7663"/>
                  <a:pt x="24320" y="7747"/>
                </a:cubicBezTo>
                <a:cubicBezTo>
                  <a:pt x="24286" y="7824"/>
                  <a:pt x="24250" y="7907"/>
                  <a:pt x="24194" y="7969"/>
                </a:cubicBezTo>
                <a:cubicBezTo>
                  <a:pt x="24179" y="7985"/>
                  <a:pt x="24091" y="8032"/>
                  <a:pt x="24066" y="8001"/>
                </a:cubicBezTo>
                <a:cubicBezTo>
                  <a:pt x="24034" y="7961"/>
                  <a:pt x="24048" y="7942"/>
                  <a:pt x="24066" y="7906"/>
                </a:cubicBezTo>
              </a:path>
              <a:path w="5748" h="2573">
                <a:moveTo>
                  <a:pt x="24384" y="7810"/>
                </a:moveTo>
                <a:cubicBezTo>
                  <a:pt x="24384" y="7842"/>
                  <a:pt x="24384" y="7853"/>
                  <a:pt x="24352" y="7842"/>
                </a:cubicBezTo>
              </a:path>
              <a:path w="5748" h="2573">
                <a:moveTo>
                  <a:pt x="24702" y="6922"/>
                </a:moveTo>
                <a:cubicBezTo>
                  <a:pt x="24671" y="6849"/>
                  <a:pt x="24663" y="6819"/>
                  <a:pt x="24606" y="6763"/>
                </a:cubicBezTo>
                <a:cubicBezTo>
                  <a:pt x="24590" y="6809"/>
                  <a:pt x="24557" y="6811"/>
                  <a:pt x="24543" y="6890"/>
                </a:cubicBezTo>
                <a:cubicBezTo>
                  <a:pt x="24526" y="6987"/>
                  <a:pt x="24511" y="7076"/>
                  <a:pt x="24511" y="7176"/>
                </a:cubicBezTo>
                <a:cubicBezTo>
                  <a:pt x="24511" y="7212"/>
                  <a:pt x="24514" y="7225"/>
                  <a:pt x="24543" y="7239"/>
                </a:cubicBezTo>
                <a:cubicBezTo>
                  <a:pt x="24605" y="7223"/>
                  <a:pt x="24615" y="7198"/>
                  <a:pt x="24638" y="7144"/>
                </a:cubicBezTo>
                <a:cubicBezTo>
                  <a:pt x="24669" y="7072"/>
                  <a:pt x="24703" y="6987"/>
                  <a:pt x="24733" y="6922"/>
                </a:cubicBezTo>
                <a:cubicBezTo>
                  <a:pt x="24744" y="6911"/>
                  <a:pt x="24754" y="6901"/>
                  <a:pt x="24765" y="6890"/>
                </a:cubicBezTo>
                <a:cubicBezTo>
                  <a:pt x="24731" y="6946"/>
                  <a:pt x="24713" y="7042"/>
                  <a:pt x="24702" y="7112"/>
                </a:cubicBezTo>
                <a:cubicBezTo>
                  <a:pt x="24674" y="7283"/>
                  <a:pt x="24708" y="7454"/>
                  <a:pt x="24670" y="7620"/>
                </a:cubicBezTo>
                <a:cubicBezTo>
                  <a:pt x="24659" y="7668"/>
                  <a:pt x="24670" y="7729"/>
                  <a:pt x="24670" y="7779"/>
                </a:cubicBezTo>
              </a:path>
              <a:path w="5748" h="2573">
                <a:moveTo>
                  <a:pt x="24987" y="6826"/>
                </a:moveTo>
                <a:cubicBezTo>
                  <a:pt x="24987" y="6815"/>
                  <a:pt x="24987" y="6805"/>
                  <a:pt x="24987" y="6794"/>
                </a:cubicBezTo>
                <a:cubicBezTo>
                  <a:pt x="24940" y="6810"/>
                  <a:pt x="24961" y="6826"/>
                  <a:pt x="24892" y="6826"/>
                </a:cubicBezTo>
                <a:cubicBezTo>
                  <a:pt x="24836" y="6826"/>
                  <a:pt x="24860" y="6906"/>
                  <a:pt x="24860" y="6953"/>
                </a:cubicBezTo>
                <a:cubicBezTo>
                  <a:pt x="24860" y="6969"/>
                  <a:pt x="24841" y="7023"/>
                  <a:pt x="24828" y="7048"/>
                </a:cubicBezTo>
                <a:cubicBezTo>
                  <a:pt x="24811" y="7079"/>
                  <a:pt x="24772" y="7131"/>
                  <a:pt x="24797" y="7176"/>
                </a:cubicBezTo>
                <a:cubicBezTo>
                  <a:pt x="24836" y="7247"/>
                  <a:pt x="24820" y="7242"/>
                  <a:pt x="24828" y="7239"/>
                </a:cubicBezTo>
                <a:cubicBezTo>
                  <a:pt x="24872" y="7221"/>
                  <a:pt x="24866" y="7178"/>
                  <a:pt x="24892" y="7144"/>
                </a:cubicBezTo>
                <a:cubicBezTo>
                  <a:pt x="24921" y="7115"/>
                  <a:pt x="24927" y="7104"/>
                  <a:pt x="24956" y="7112"/>
                </a:cubicBezTo>
                <a:cubicBezTo>
                  <a:pt x="24970" y="7169"/>
                  <a:pt x="24987" y="7203"/>
                  <a:pt x="24987" y="7271"/>
                </a:cubicBezTo>
                <a:cubicBezTo>
                  <a:pt x="24987" y="7360"/>
                  <a:pt x="25019" y="7431"/>
                  <a:pt x="25019" y="7525"/>
                </a:cubicBezTo>
                <a:cubicBezTo>
                  <a:pt x="25019" y="7609"/>
                  <a:pt x="25014" y="7651"/>
                  <a:pt x="24956" y="7715"/>
                </a:cubicBezTo>
                <a:cubicBezTo>
                  <a:pt x="24918" y="7757"/>
                  <a:pt x="24850" y="7804"/>
                  <a:pt x="24797" y="7810"/>
                </a:cubicBezTo>
                <a:cubicBezTo>
                  <a:pt x="24743" y="7816"/>
                  <a:pt x="24741" y="7761"/>
                  <a:pt x="24733" y="77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Ink 11"/>
          <p:cNvSpPr/>
          <p:nvPr/>
        </p:nvSpPr>
        <p:spPr>
          <a:xfrm>
            <a:off x="7064280" y="3292560"/>
            <a:ext cx="1965600" cy="903240"/>
          </a:xfrm>
          <a:custGeom>
            <a:avLst/>
            <a:gdLst/>
            <a:ahLst/>
            <a:rect l="l" t="t" r="r" b="b"/>
            <a:pathLst>
              <a:path w="5461" h="2509">
                <a:moveTo>
                  <a:pt x="19622" y="9906"/>
                </a:moveTo>
                <a:lnTo>
                  <a:pt x="19622" y="9906"/>
                </a:lnTo>
              </a:path>
              <a:path w="5461" h="2509">
                <a:moveTo>
                  <a:pt x="19622" y="9906"/>
                </a:moveTo>
                <a:cubicBezTo>
                  <a:pt x="19622" y="9917"/>
                  <a:pt x="19622" y="9927"/>
                  <a:pt x="19622" y="9938"/>
                </a:cubicBezTo>
              </a:path>
              <a:path w="5461" h="2509">
                <a:moveTo>
                  <a:pt x="19622" y="9938"/>
                </a:moveTo>
                <a:cubicBezTo>
                  <a:pt x="19634" y="9989"/>
                  <a:pt x="19669" y="10018"/>
                  <a:pt x="19685" y="10065"/>
                </a:cubicBezTo>
                <a:cubicBezTo>
                  <a:pt x="19703" y="10117"/>
                  <a:pt x="19733" y="10173"/>
                  <a:pt x="19748" y="10224"/>
                </a:cubicBezTo>
                <a:cubicBezTo>
                  <a:pt x="19760" y="10266"/>
                  <a:pt x="19791" y="10345"/>
                  <a:pt x="19812" y="10382"/>
                </a:cubicBezTo>
                <a:cubicBezTo>
                  <a:pt x="19841" y="10411"/>
                  <a:pt x="19852" y="10417"/>
                  <a:pt x="19844" y="10446"/>
                </a:cubicBezTo>
                <a:cubicBezTo>
                  <a:pt x="19888" y="10461"/>
                  <a:pt x="19876" y="10526"/>
                  <a:pt x="19876" y="10478"/>
                </a:cubicBezTo>
              </a:path>
              <a:path w="5461" h="2509">
                <a:moveTo>
                  <a:pt x="20130" y="9779"/>
                </a:moveTo>
                <a:cubicBezTo>
                  <a:pt x="20121" y="9876"/>
                  <a:pt x="20085" y="9937"/>
                  <a:pt x="20066" y="10033"/>
                </a:cubicBezTo>
                <a:cubicBezTo>
                  <a:pt x="20042" y="10158"/>
                  <a:pt x="19988" y="10286"/>
                  <a:pt x="19971" y="10414"/>
                </a:cubicBezTo>
                <a:cubicBezTo>
                  <a:pt x="19949" y="10581"/>
                  <a:pt x="19920" y="10757"/>
                  <a:pt x="19876" y="10922"/>
                </a:cubicBezTo>
                <a:cubicBezTo>
                  <a:pt x="19843" y="11047"/>
                  <a:pt x="19846" y="11182"/>
                  <a:pt x="19812" y="11303"/>
                </a:cubicBezTo>
                <a:cubicBezTo>
                  <a:pt x="19792" y="11374"/>
                  <a:pt x="19761" y="11463"/>
                  <a:pt x="19748" y="11525"/>
                </a:cubicBezTo>
                <a:cubicBezTo>
                  <a:pt x="19738" y="11577"/>
                  <a:pt x="19701" y="11602"/>
                  <a:pt x="19717" y="11652"/>
                </a:cubicBezTo>
                <a:cubicBezTo>
                  <a:pt x="19727" y="11652"/>
                  <a:pt x="19738" y="11652"/>
                  <a:pt x="19748" y="11652"/>
                </a:cubicBezTo>
              </a:path>
              <a:path w="5461" h="2509">
                <a:moveTo>
                  <a:pt x="20288" y="10192"/>
                </a:moveTo>
                <a:cubicBezTo>
                  <a:pt x="20353" y="10192"/>
                  <a:pt x="20363" y="10177"/>
                  <a:pt x="20415" y="10160"/>
                </a:cubicBezTo>
                <a:cubicBezTo>
                  <a:pt x="20456" y="10146"/>
                  <a:pt x="20504" y="10141"/>
                  <a:pt x="20542" y="10128"/>
                </a:cubicBezTo>
                <a:cubicBezTo>
                  <a:pt x="20574" y="10128"/>
                  <a:pt x="20585" y="10128"/>
                  <a:pt x="20606" y="10128"/>
                </a:cubicBezTo>
              </a:path>
              <a:path w="5461" h="2509">
                <a:moveTo>
                  <a:pt x="20764" y="9684"/>
                </a:moveTo>
                <a:cubicBezTo>
                  <a:pt x="20764" y="9818"/>
                  <a:pt x="20780" y="9940"/>
                  <a:pt x="20796" y="10065"/>
                </a:cubicBezTo>
                <a:cubicBezTo>
                  <a:pt x="20822" y="10270"/>
                  <a:pt x="20796" y="10493"/>
                  <a:pt x="20796" y="10700"/>
                </a:cubicBezTo>
              </a:path>
              <a:path w="5461" h="2509">
                <a:moveTo>
                  <a:pt x="21146" y="9906"/>
                </a:moveTo>
                <a:cubicBezTo>
                  <a:pt x="21146" y="9854"/>
                  <a:pt x="21139" y="9804"/>
                  <a:pt x="21082" y="9779"/>
                </a:cubicBezTo>
                <a:cubicBezTo>
                  <a:pt x="21044" y="9762"/>
                  <a:pt x="21039" y="9733"/>
                  <a:pt x="20987" y="9716"/>
                </a:cubicBezTo>
                <a:cubicBezTo>
                  <a:pt x="20930" y="9697"/>
                  <a:pt x="20911" y="9722"/>
                  <a:pt x="20892" y="9747"/>
                </a:cubicBezTo>
                <a:cubicBezTo>
                  <a:pt x="20858" y="9792"/>
                  <a:pt x="20832" y="9845"/>
                  <a:pt x="20828" y="9906"/>
                </a:cubicBezTo>
                <a:cubicBezTo>
                  <a:pt x="20823" y="9983"/>
                  <a:pt x="20816" y="10062"/>
                  <a:pt x="20860" y="10128"/>
                </a:cubicBezTo>
                <a:cubicBezTo>
                  <a:pt x="20871" y="10139"/>
                  <a:pt x="20881" y="10149"/>
                  <a:pt x="20892" y="10160"/>
                </a:cubicBezTo>
                <a:cubicBezTo>
                  <a:pt x="20940" y="10148"/>
                  <a:pt x="20979" y="10130"/>
                  <a:pt x="21018" y="10096"/>
                </a:cubicBezTo>
                <a:cubicBezTo>
                  <a:pt x="21051" y="10067"/>
                  <a:pt x="21077" y="10012"/>
                  <a:pt x="21082" y="9970"/>
                </a:cubicBezTo>
                <a:cubicBezTo>
                  <a:pt x="21085" y="9945"/>
                  <a:pt x="21082" y="9793"/>
                  <a:pt x="21082" y="9874"/>
                </a:cubicBezTo>
                <a:cubicBezTo>
                  <a:pt x="21082" y="9948"/>
                  <a:pt x="21114" y="10015"/>
                  <a:pt x="21114" y="10096"/>
                </a:cubicBezTo>
                <a:cubicBezTo>
                  <a:pt x="21114" y="10200"/>
                  <a:pt x="21146" y="10277"/>
                  <a:pt x="21146" y="10382"/>
                </a:cubicBezTo>
                <a:cubicBezTo>
                  <a:pt x="21146" y="10456"/>
                  <a:pt x="21146" y="10530"/>
                  <a:pt x="21146" y="10604"/>
                </a:cubicBezTo>
              </a:path>
              <a:path w="5461" h="2509">
                <a:moveTo>
                  <a:pt x="21304" y="10446"/>
                </a:moveTo>
                <a:cubicBezTo>
                  <a:pt x="21304" y="10478"/>
                  <a:pt x="21304" y="10509"/>
                  <a:pt x="21304" y="10541"/>
                </a:cubicBezTo>
              </a:path>
              <a:path w="5461" h="2509">
                <a:moveTo>
                  <a:pt x="21463" y="9906"/>
                </a:moveTo>
                <a:cubicBezTo>
                  <a:pt x="21480" y="9856"/>
                  <a:pt x="21513" y="9872"/>
                  <a:pt x="21558" y="9842"/>
                </a:cubicBezTo>
                <a:cubicBezTo>
                  <a:pt x="21604" y="9812"/>
                  <a:pt x="21636" y="9764"/>
                  <a:pt x="21685" y="9747"/>
                </a:cubicBezTo>
                <a:cubicBezTo>
                  <a:pt x="21722" y="9735"/>
                  <a:pt x="21793" y="9741"/>
                  <a:pt x="21812" y="9779"/>
                </a:cubicBezTo>
                <a:cubicBezTo>
                  <a:pt x="21837" y="9830"/>
                  <a:pt x="21792" y="9871"/>
                  <a:pt x="21780" y="9906"/>
                </a:cubicBezTo>
                <a:cubicBezTo>
                  <a:pt x="21763" y="9956"/>
                  <a:pt x="21752" y="10012"/>
                  <a:pt x="21749" y="10065"/>
                </a:cubicBezTo>
                <a:cubicBezTo>
                  <a:pt x="21744" y="10145"/>
                  <a:pt x="21717" y="10204"/>
                  <a:pt x="21717" y="10287"/>
                </a:cubicBezTo>
                <a:cubicBezTo>
                  <a:pt x="21717" y="10369"/>
                  <a:pt x="21685" y="10425"/>
                  <a:pt x="21685" y="10509"/>
                </a:cubicBezTo>
                <a:cubicBezTo>
                  <a:pt x="21685" y="10531"/>
                  <a:pt x="21654" y="10600"/>
                  <a:pt x="21654" y="10541"/>
                </a:cubicBezTo>
              </a:path>
              <a:path w="5461" h="2509">
                <a:moveTo>
                  <a:pt x="22320" y="9652"/>
                </a:moveTo>
                <a:cubicBezTo>
                  <a:pt x="22271" y="9668"/>
                  <a:pt x="22294" y="9684"/>
                  <a:pt x="22225" y="9684"/>
                </a:cubicBezTo>
                <a:cubicBezTo>
                  <a:pt x="22167" y="9684"/>
                  <a:pt x="22150" y="9710"/>
                  <a:pt x="22098" y="9716"/>
                </a:cubicBezTo>
                <a:cubicBezTo>
                  <a:pt x="22029" y="9724"/>
                  <a:pt x="22034" y="9670"/>
                  <a:pt x="22034" y="9716"/>
                </a:cubicBezTo>
                <a:cubicBezTo>
                  <a:pt x="22034" y="9771"/>
                  <a:pt x="22022" y="9825"/>
                  <a:pt x="22003" y="9874"/>
                </a:cubicBezTo>
                <a:cubicBezTo>
                  <a:pt x="21989" y="9910"/>
                  <a:pt x="21988" y="10003"/>
                  <a:pt x="21971" y="10033"/>
                </a:cubicBezTo>
                <a:cubicBezTo>
                  <a:pt x="21928" y="10111"/>
                  <a:pt x="21950" y="10064"/>
                  <a:pt x="21971" y="10128"/>
                </a:cubicBezTo>
                <a:cubicBezTo>
                  <a:pt x="21999" y="10091"/>
                  <a:pt x="22016" y="10023"/>
                  <a:pt x="22066" y="10001"/>
                </a:cubicBezTo>
                <a:cubicBezTo>
                  <a:pt x="22111" y="9981"/>
                  <a:pt x="22164" y="10007"/>
                  <a:pt x="22193" y="10033"/>
                </a:cubicBezTo>
                <a:cubicBezTo>
                  <a:pt x="22231" y="10067"/>
                  <a:pt x="22274" y="10115"/>
                  <a:pt x="22288" y="10160"/>
                </a:cubicBezTo>
                <a:cubicBezTo>
                  <a:pt x="22314" y="10242"/>
                  <a:pt x="22276" y="10349"/>
                  <a:pt x="22257" y="10414"/>
                </a:cubicBezTo>
                <a:cubicBezTo>
                  <a:pt x="22242" y="10466"/>
                  <a:pt x="22223" y="10546"/>
                  <a:pt x="22162" y="10573"/>
                </a:cubicBezTo>
                <a:cubicBezTo>
                  <a:pt x="22123" y="10591"/>
                  <a:pt x="22055" y="10625"/>
                  <a:pt x="22003" y="10604"/>
                </a:cubicBezTo>
                <a:cubicBezTo>
                  <a:pt x="21931" y="10575"/>
                  <a:pt x="21933" y="10522"/>
                  <a:pt x="21876" y="10478"/>
                </a:cubicBezTo>
                <a:cubicBezTo>
                  <a:pt x="21844" y="10478"/>
                  <a:pt x="21833" y="10478"/>
                  <a:pt x="21844" y="10446"/>
                </a:cubicBezTo>
              </a:path>
              <a:path w="5461" h="2509">
                <a:moveTo>
                  <a:pt x="22447" y="9938"/>
                </a:moveTo>
                <a:lnTo>
                  <a:pt x="22447" y="9938"/>
                </a:lnTo>
              </a:path>
              <a:path w="5461" h="2509">
                <a:moveTo>
                  <a:pt x="22447" y="9938"/>
                </a:moveTo>
                <a:cubicBezTo>
                  <a:pt x="22458" y="9938"/>
                  <a:pt x="22468" y="9938"/>
                  <a:pt x="22479" y="9938"/>
                </a:cubicBezTo>
              </a:path>
              <a:path w="5461" h="2509">
                <a:moveTo>
                  <a:pt x="22479" y="9938"/>
                </a:moveTo>
                <a:cubicBezTo>
                  <a:pt x="22550" y="9992"/>
                  <a:pt x="22537" y="9961"/>
                  <a:pt x="22606" y="9938"/>
                </a:cubicBezTo>
                <a:cubicBezTo>
                  <a:pt x="22630" y="9930"/>
                  <a:pt x="22675" y="9938"/>
                  <a:pt x="22701" y="9938"/>
                </a:cubicBezTo>
              </a:path>
              <a:path w="5461" h="2509">
                <a:moveTo>
                  <a:pt x="22511" y="10224"/>
                </a:moveTo>
                <a:cubicBezTo>
                  <a:pt x="22579" y="10224"/>
                  <a:pt x="22617" y="10232"/>
                  <a:pt x="22670" y="10192"/>
                </a:cubicBezTo>
              </a:path>
              <a:path w="5461" h="2509">
                <a:moveTo>
                  <a:pt x="22796" y="9620"/>
                </a:moveTo>
                <a:cubicBezTo>
                  <a:pt x="22755" y="9606"/>
                  <a:pt x="22771" y="9543"/>
                  <a:pt x="22796" y="9493"/>
                </a:cubicBezTo>
                <a:cubicBezTo>
                  <a:pt x="22819" y="9448"/>
                  <a:pt x="22857" y="9416"/>
                  <a:pt x="22892" y="9398"/>
                </a:cubicBezTo>
                <a:cubicBezTo>
                  <a:pt x="22944" y="9424"/>
                  <a:pt x="22983" y="9485"/>
                  <a:pt x="22987" y="9557"/>
                </a:cubicBezTo>
                <a:cubicBezTo>
                  <a:pt x="22992" y="9651"/>
                  <a:pt x="22983" y="9731"/>
                  <a:pt x="22955" y="9811"/>
                </a:cubicBezTo>
                <a:cubicBezTo>
                  <a:pt x="22948" y="9831"/>
                  <a:pt x="22905" y="9961"/>
                  <a:pt x="22892" y="9970"/>
                </a:cubicBezTo>
                <a:cubicBezTo>
                  <a:pt x="22860" y="9991"/>
                  <a:pt x="22873" y="9940"/>
                  <a:pt x="22892" y="9906"/>
                </a:cubicBezTo>
                <a:cubicBezTo>
                  <a:pt x="22903" y="9895"/>
                  <a:pt x="22913" y="9885"/>
                  <a:pt x="22924" y="9874"/>
                </a:cubicBezTo>
                <a:cubicBezTo>
                  <a:pt x="23016" y="9898"/>
                  <a:pt x="22985" y="9932"/>
                  <a:pt x="23019" y="10001"/>
                </a:cubicBezTo>
                <a:cubicBezTo>
                  <a:pt x="23055" y="10074"/>
                  <a:pt x="23050" y="10136"/>
                  <a:pt x="23050" y="10224"/>
                </a:cubicBezTo>
                <a:cubicBezTo>
                  <a:pt x="23050" y="10334"/>
                  <a:pt x="23054" y="10390"/>
                  <a:pt x="22987" y="10478"/>
                </a:cubicBezTo>
                <a:cubicBezTo>
                  <a:pt x="22965" y="10507"/>
                  <a:pt x="22896" y="10529"/>
                  <a:pt x="22860" y="10509"/>
                </a:cubicBezTo>
                <a:cubicBezTo>
                  <a:pt x="22816" y="10485"/>
                  <a:pt x="22828" y="10454"/>
                  <a:pt x="22828" y="10414"/>
                </a:cubicBezTo>
              </a:path>
              <a:path w="5461" h="2509">
                <a:moveTo>
                  <a:pt x="23209" y="10319"/>
                </a:moveTo>
                <a:cubicBezTo>
                  <a:pt x="23209" y="10350"/>
                  <a:pt x="23209" y="10360"/>
                  <a:pt x="23178" y="10350"/>
                </a:cubicBezTo>
              </a:path>
              <a:path w="5461" h="2509">
                <a:moveTo>
                  <a:pt x="23400" y="9747"/>
                </a:moveTo>
                <a:cubicBezTo>
                  <a:pt x="23400" y="9687"/>
                  <a:pt x="23377" y="9640"/>
                  <a:pt x="23368" y="9620"/>
                </a:cubicBezTo>
                <a:cubicBezTo>
                  <a:pt x="23347" y="9572"/>
                  <a:pt x="23337" y="9537"/>
                  <a:pt x="23304" y="9493"/>
                </a:cubicBezTo>
                <a:cubicBezTo>
                  <a:pt x="23229" y="9512"/>
                  <a:pt x="23215" y="9543"/>
                  <a:pt x="23209" y="9620"/>
                </a:cubicBezTo>
                <a:cubicBezTo>
                  <a:pt x="23203" y="9691"/>
                  <a:pt x="23177" y="9898"/>
                  <a:pt x="23241" y="9938"/>
                </a:cubicBezTo>
                <a:cubicBezTo>
                  <a:pt x="23303" y="9977"/>
                  <a:pt x="23320" y="9898"/>
                  <a:pt x="23336" y="9874"/>
                </a:cubicBezTo>
                <a:cubicBezTo>
                  <a:pt x="23364" y="9832"/>
                  <a:pt x="23394" y="9799"/>
                  <a:pt x="23400" y="9747"/>
                </a:cubicBezTo>
                <a:cubicBezTo>
                  <a:pt x="23400" y="9737"/>
                  <a:pt x="23400" y="9726"/>
                  <a:pt x="23400" y="9716"/>
                </a:cubicBezTo>
                <a:cubicBezTo>
                  <a:pt x="23454" y="9733"/>
                  <a:pt x="23432" y="9777"/>
                  <a:pt x="23432" y="9842"/>
                </a:cubicBezTo>
                <a:cubicBezTo>
                  <a:pt x="23432" y="9989"/>
                  <a:pt x="23423" y="10118"/>
                  <a:pt x="23400" y="10255"/>
                </a:cubicBezTo>
                <a:cubicBezTo>
                  <a:pt x="23390" y="10314"/>
                  <a:pt x="23400" y="10386"/>
                  <a:pt x="23400" y="10446"/>
                </a:cubicBezTo>
              </a:path>
              <a:path w="5461" h="2509">
                <a:moveTo>
                  <a:pt x="23717" y="9525"/>
                </a:moveTo>
                <a:cubicBezTo>
                  <a:pt x="23667" y="9538"/>
                  <a:pt x="23636" y="9573"/>
                  <a:pt x="23590" y="9588"/>
                </a:cubicBezTo>
                <a:cubicBezTo>
                  <a:pt x="23528" y="9608"/>
                  <a:pt x="23527" y="9617"/>
                  <a:pt x="23527" y="9684"/>
                </a:cubicBezTo>
                <a:cubicBezTo>
                  <a:pt x="23527" y="9737"/>
                  <a:pt x="23527" y="9789"/>
                  <a:pt x="23527" y="9842"/>
                </a:cubicBezTo>
                <a:cubicBezTo>
                  <a:pt x="23555" y="9804"/>
                  <a:pt x="23571" y="9738"/>
                  <a:pt x="23622" y="9716"/>
                </a:cubicBezTo>
                <a:cubicBezTo>
                  <a:pt x="23671" y="9695"/>
                  <a:pt x="23704" y="9739"/>
                  <a:pt x="23717" y="9779"/>
                </a:cubicBezTo>
                <a:cubicBezTo>
                  <a:pt x="23754" y="9893"/>
                  <a:pt x="23705" y="10063"/>
                  <a:pt x="23686" y="10160"/>
                </a:cubicBezTo>
                <a:cubicBezTo>
                  <a:pt x="23674" y="10224"/>
                  <a:pt x="23701" y="10284"/>
                  <a:pt x="23622" y="10319"/>
                </a:cubicBezTo>
                <a:cubicBezTo>
                  <a:pt x="23573" y="10341"/>
                  <a:pt x="23527" y="10358"/>
                  <a:pt x="23495" y="10287"/>
                </a:cubicBezTo>
                <a:cubicBezTo>
                  <a:pt x="23495" y="10276"/>
                  <a:pt x="23495" y="10266"/>
                  <a:pt x="23495" y="10255"/>
                </a:cubicBezTo>
              </a:path>
              <a:path w="5461" h="2509">
                <a:moveTo>
                  <a:pt x="23940" y="9334"/>
                </a:moveTo>
                <a:cubicBezTo>
                  <a:pt x="23899" y="9430"/>
                  <a:pt x="23876" y="9569"/>
                  <a:pt x="23844" y="9684"/>
                </a:cubicBezTo>
                <a:cubicBezTo>
                  <a:pt x="23801" y="9836"/>
                  <a:pt x="23786" y="10004"/>
                  <a:pt x="23781" y="10160"/>
                </a:cubicBezTo>
                <a:cubicBezTo>
                  <a:pt x="23777" y="10285"/>
                  <a:pt x="23794" y="10393"/>
                  <a:pt x="23812" y="10509"/>
                </a:cubicBezTo>
                <a:cubicBezTo>
                  <a:pt x="23823" y="10578"/>
                  <a:pt x="23830" y="10616"/>
                  <a:pt x="23876" y="10668"/>
                </a:cubicBezTo>
                <a:cubicBezTo>
                  <a:pt x="23922" y="10719"/>
                  <a:pt x="23922" y="10678"/>
                  <a:pt x="23940" y="10732"/>
                </a:cubicBezTo>
              </a:path>
              <a:path w="5461" h="2509">
                <a:moveTo>
                  <a:pt x="23971" y="9842"/>
                </a:moveTo>
                <a:cubicBezTo>
                  <a:pt x="24003" y="9918"/>
                  <a:pt x="24011" y="9990"/>
                  <a:pt x="24035" y="10065"/>
                </a:cubicBezTo>
                <a:cubicBezTo>
                  <a:pt x="24063" y="10150"/>
                  <a:pt x="24094" y="10239"/>
                  <a:pt x="24130" y="10319"/>
                </a:cubicBezTo>
                <a:cubicBezTo>
                  <a:pt x="24151" y="10366"/>
                  <a:pt x="24216" y="10428"/>
                  <a:pt x="24225" y="10446"/>
                </a:cubicBezTo>
                <a:cubicBezTo>
                  <a:pt x="24225" y="10478"/>
                  <a:pt x="24225" y="10489"/>
                  <a:pt x="24257" y="10478"/>
                </a:cubicBezTo>
              </a:path>
              <a:path w="5461" h="2509">
                <a:moveTo>
                  <a:pt x="24257" y="9842"/>
                </a:moveTo>
                <a:cubicBezTo>
                  <a:pt x="24211" y="9947"/>
                  <a:pt x="24175" y="10055"/>
                  <a:pt x="24130" y="10160"/>
                </a:cubicBezTo>
                <a:cubicBezTo>
                  <a:pt x="24095" y="10242"/>
                  <a:pt x="24079" y="10341"/>
                  <a:pt x="24035" y="10414"/>
                </a:cubicBezTo>
                <a:cubicBezTo>
                  <a:pt x="24007" y="10460"/>
                  <a:pt x="23984" y="10488"/>
                  <a:pt x="23971" y="10541"/>
                </a:cubicBezTo>
              </a:path>
              <a:path w="5461" h="2509">
                <a:moveTo>
                  <a:pt x="24352" y="10001"/>
                </a:moveTo>
                <a:cubicBezTo>
                  <a:pt x="24394" y="10001"/>
                  <a:pt x="24437" y="10001"/>
                  <a:pt x="24479" y="10001"/>
                </a:cubicBezTo>
                <a:cubicBezTo>
                  <a:pt x="24479" y="9970"/>
                  <a:pt x="24479" y="9959"/>
                  <a:pt x="24511" y="9970"/>
                </a:cubicBezTo>
              </a:path>
              <a:path w="5461" h="2509">
                <a:moveTo>
                  <a:pt x="24765" y="9588"/>
                </a:moveTo>
                <a:cubicBezTo>
                  <a:pt x="24765" y="9557"/>
                  <a:pt x="24765" y="9546"/>
                  <a:pt x="24797" y="9557"/>
                </a:cubicBezTo>
                <a:cubicBezTo>
                  <a:pt x="24780" y="9605"/>
                  <a:pt x="24746" y="9590"/>
                  <a:pt x="24702" y="9620"/>
                </a:cubicBezTo>
                <a:cubicBezTo>
                  <a:pt x="24660" y="9648"/>
                  <a:pt x="24626" y="9678"/>
                  <a:pt x="24574" y="9684"/>
                </a:cubicBezTo>
                <a:cubicBezTo>
                  <a:pt x="24564" y="9684"/>
                  <a:pt x="24553" y="9684"/>
                  <a:pt x="24543" y="9684"/>
                </a:cubicBezTo>
                <a:cubicBezTo>
                  <a:pt x="24543" y="9727"/>
                  <a:pt x="24509" y="9966"/>
                  <a:pt x="24511" y="9970"/>
                </a:cubicBezTo>
                <a:cubicBezTo>
                  <a:pt x="24522" y="9970"/>
                  <a:pt x="24532" y="9970"/>
                  <a:pt x="24543" y="9970"/>
                </a:cubicBezTo>
                <a:cubicBezTo>
                  <a:pt x="24543" y="9877"/>
                  <a:pt x="24571" y="9944"/>
                  <a:pt x="24606" y="9874"/>
                </a:cubicBezTo>
                <a:cubicBezTo>
                  <a:pt x="24638" y="9810"/>
                  <a:pt x="24644" y="9854"/>
                  <a:pt x="24702" y="9874"/>
                </a:cubicBezTo>
                <a:cubicBezTo>
                  <a:pt x="24736" y="9885"/>
                  <a:pt x="24752" y="9949"/>
                  <a:pt x="24765" y="10001"/>
                </a:cubicBezTo>
                <a:cubicBezTo>
                  <a:pt x="24780" y="10061"/>
                  <a:pt x="24737" y="10104"/>
                  <a:pt x="24733" y="10160"/>
                </a:cubicBezTo>
                <a:cubicBezTo>
                  <a:pt x="24727" y="10246"/>
                  <a:pt x="24689" y="10248"/>
                  <a:pt x="24670" y="10287"/>
                </a:cubicBezTo>
                <a:cubicBezTo>
                  <a:pt x="24653" y="10321"/>
                  <a:pt x="24650" y="10345"/>
                  <a:pt x="24606" y="10350"/>
                </a:cubicBezTo>
                <a:cubicBezTo>
                  <a:pt x="24552" y="10357"/>
                  <a:pt x="24525" y="10361"/>
                  <a:pt x="24511" y="10319"/>
                </a:cubicBezTo>
              </a:path>
              <a:path w="5461" h="2509">
                <a:moveTo>
                  <a:pt x="24670" y="9144"/>
                </a:moveTo>
                <a:cubicBezTo>
                  <a:pt x="24729" y="9204"/>
                  <a:pt x="24750" y="9266"/>
                  <a:pt x="24797" y="9334"/>
                </a:cubicBezTo>
                <a:cubicBezTo>
                  <a:pt x="24860" y="9425"/>
                  <a:pt x="24901" y="9524"/>
                  <a:pt x="24956" y="9620"/>
                </a:cubicBezTo>
                <a:cubicBezTo>
                  <a:pt x="25034" y="9756"/>
                  <a:pt x="25076" y="9838"/>
                  <a:pt x="25082" y="10001"/>
                </a:cubicBezTo>
                <a:cubicBezTo>
                  <a:pt x="25090" y="10221"/>
                  <a:pt x="25060" y="10416"/>
                  <a:pt x="24956" y="10604"/>
                </a:cubicBezTo>
                <a:cubicBezTo>
                  <a:pt x="24894" y="10717"/>
                  <a:pt x="24810" y="10823"/>
                  <a:pt x="24733" y="10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Ink 12"/>
          <p:cNvSpPr/>
          <p:nvPr/>
        </p:nvSpPr>
        <p:spPr>
          <a:xfrm>
            <a:off x="7064280" y="4149720"/>
            <a:ext cx="1989360" cy="925560"/>
          </a:xfrm>
          <a:custGeom>
            <a:avLst/>
            <a:gdLst/>
            <a:ahLst/>
            <a:rect l="l" t="t" r="r" b="b"/>
            <a:pathLst>
              <a:path w="5525" h="2573">
                <a:moveTo>
                  <a:pt x="19685" y="12065"/>
                </a:moveTo>
                <a:cubicBezTo>
                  <a:pt x="19653" y="12065"/>
                  <a:pt x="19643" y="12065"/>
                  <a:pt x="19622" y="12065"/>
                </a:cubicBezTo>
                <a:cubicBezTo>
                  <a:pt x="19635" y="12118"/>
                  <a:pt x="19666" y="12171"/>
                  <a:pt x="19685" y="12224"/>
                </a:cubicBezTo>
                <a:cubicBezTo>
                  <a:pt x="19713" y="12301"/>
                  <a:pt x="19742" y="12334"/>
                  <a:pt x="19748" y="12414"/>
                </a:cubicBezTo>
                <a:cubicBezTo>
                  <a:pt x="19752" y="12458"/>
                  <a:pt x="19765" y="12530"/>
                  <a:pt x="19780" y="12573"/>
                </a:cubicBezTo>
                <a:cubicBezTo>
                  <a:pt x="19800" y="12629"/>
                  <a:pt x="19828" y="12683"/>
                  <a:pt x="19844" y="12732"/>
                </a:cubicBezTo>
                <a:cubicBezTo>
                  <a:pt x="19844" y="12764"/>
                  <a:pt x="19844" y="12775"/>
                  <a:pt x="19876" y="12764"/>
                </a:cubicBezTo>
              </a:path>
              <a:path w="5525" h="2573">
                <a:moveTo>
                  <a:pt x="20130" y="11970"/>
                </a:moveTo>
                <a:cubicBezTo>
                  <a:pt x="20130" y="12075"/>
                  <a:pt x="20100" y="12156"/>
                  <a:pt x="20066" y="12256"/>
                </a:cubicBezTo>
                <a:cubicBezTo>
                  <a:pt x="20021" y="12391"/>
                  <a:pt x="19978" y="12531"/>
                  <a:pt x="19939" y="12668"/>
                </a:cubicBezTo>
                <a:cubicBezTo>
                  <a:pt x="19896" y="12820"/>
                  <a:pt x="19830" y="12987"/>
                  <a:pt x="19812" y="13144"/>
                </a:cubicBezTo>
                <a:cubicBezTo>
                  <a:pt x="19797" y="13279"/>
                  <a:pt x="19786" y="13394"/>
                  <a:pt x="19748" y="13526"/>
                </a:cubicBezTo>
              </a:path>
              <a:path w="5525" h="2573">
                <a:moveTo>
                  <a:pt x="20256" y="12446"/>
                </a:moveTo>
                <a:cubicBezTo>
                  <a:pt x="20225" y="12446"/>
                  <a:pt x="20214" y="12446"/>
                  <a:pt x="20193" y="12446"/>
                </a:cubicBezTo>
                <a:cubicBezTo>
                  <a:pt x="20265" y="12446"/>
                  <a:pt x="20293" y="12434"/>
                  <a:pt x="20352" y="12414"/>
                </a:cubicBezTo>
                <a:cubicBezTo>
                  <a:pt x="20385" y="12403"/>
                  <a:pt x="20444" y="12414"/>
                  <a:pt x="20479" y="12414"/>
                </a:cubicBezTo>
              </a:path>
              <a:path w="5525" h="2573">
                <a:moveTo>
                  <a:pt x="20701" y="11843"/>
                </a:moveTo>
                <a:cubicBezTo>
                  <a:pt x="20701" y="11976"/>
                  <a:pt x="20685" y="12100"/>
                  <a:pt x="20669" y="12224"/>
                </a:cubicBezTo>
                <a:cubicBezTo>
                  <a:pt x="20651" y="12362"/>
                  <a:pt x="20658" y="12503"/>
                  <a:pt x="20638" y="12636"/>
                </a:cubicBezTo>
                <a:cubicBezTo>
                  <a:pt x="20627" y="12706"/>
                  <a:pt x="20638" y="12787"/>
                  <a:pt x="20638" y="12859"/>
                </a:cubicBezTo>
              </a:path>
              <a:path w="5525" h="2573">
                <a:moveTo>
                  <a:pt x="20955" y="12128"/>
                </a:moveTo>
                <a:cubicBezTo>
                  <a:pt x="21009" y="12058"/>
                  <a:pt x="20978" y="12070"/>
                  <a:pt x="20955" y="12002"/>
                </a:cubicBezTo>
                <a:cubicBezTo>
                  <a:pt x="20939" y="11955"/>
                  <a:pt x="20927" y="11941"/>
                  <a:pt x="20923" y="11906"/>
                </a:cubicBezTo>
                <a:cubicBezTo>
                  <a:pt x="20923" y="11895"/>
                  <a:pt x="20923" y="11885"/>
                  <a:pt x="20923" y="11874"/>
                </a:cubicBezTo>
                <a:cubicBezTo>
                  <a:pt x="20886" y="11887"/>
                  <a:pt x="20858" y="11953"/>
                  <a:pt x="20828" y="12002"/>
                </a:cubicBezTo>
                <a:cubicBezTo>
                  <a:pt x="20783" y="12076"/>
                  <a:pt x="20740" y="12143"/>
                  <a:pt x="20733" y="12224"/>
                </a:cubicBezTo>
                <a:cubicBezTo>
                  <a:pt x="20733" y="12235"/>
                  <a:pt x="20733" y="12245"/>
                  <a:pt x="20733" y="12256"/>
                </a:cubicBezTo>
                <a:cubicBezTo>
                  <a:pt x="20779" y="12220"/>
                  <a:pt x="20814" y="12206"/>
                  <a:pt x="20860" y="12160"/>
                </a:cubicBezTo>
                <a:cubicBezTo>
                  <a:pt x="20893" y="12127"/>
                  <a:pt x="20920" y="12051"/>
                  <a:pt x="20955" y="12033"/>
                </a:cubicBezTo>
                <a:cubicBezTo>
                  <a:pt x="20966" y="12033"/>
                  <a:pt x="20976" y="12033"/>
                  <a:pt x="20987" y="12033"/>
                </a:cubicBezTo>
                <a:cubicBezTo>
                  <a:pt x="20987" y="12158"/>
                  <a:pt x="20975" y="12265"/>
                  <a:pt x="20955" y="12382"/>
                </a:cubicBezTo>
                <a:cubicBezTo>
                  <a:pt x="20933" y="12515"/>
                  <a:pt x="20959" y="12645"/>
                  <a:pt x="20923" y="12764"/>
                </a:cubicBezTo>
                <a:cubicBezTo>
                  <a:pt x="20923" y="12795"/>
                  <a:pt x="20923" y="12806"/>
                  <a:pt x="20923" y="12827"/>
                </a:cubicBezTo>
              </a:path>
              <a:path w="5525" h="2573">
                <a:moveTo>
                  <a:pt x="21177" y="12002"/>
                </a:moveTo>
                <a:cubicBezTo>
                  <a:pt x="21146" y="12002"/>
                  <a:pt x="21135" y="12002"/>
                  <a:pt x="21146" y="11970"/>
                </a:cubicBezTo>
                <a:cubicBezTo>
                  <a:pt x="21210" y="11970"/>
                  <a:pt x="21221" y="11955"/>
                  <a:pt x="21272" y="11938"/>
                </a:cubicBezTo>
                <a:cubicBezTo>
                  <a:pt x="21318" y="11922"/>
                  <a:pt x="21356" y="11889"/>
                  <a:pt x="21400" y="11874"/>
                </a:cubicBezTo>
                <a:cubicBezTo>
                  <a:pt x="21410" y="11874"/>
                  <a:pt x="21421" y="11874"/>
                  <a:pt x="21431" y="11874"/>
                </a:cubicBezTo>
                <a:cubicBezTo>
                  <a:pt x="21431" y="11940"/>
                  <a:pt x="21478" y="11968"/>
                  <a:pt x="21463" y="12033"/>
                </a:cubicBezTo>
                <a:cubicBezTo>
                  <a:pt x="21441" y="12128"/>
                  <a:pt x="21422" y="12224"/>
                  <a:pt x="21400" y="12319"/>
                </a:cubicBezTo>
                <a:cubicBezTo>
                  <a:pt x="21377" y="12418"/>
                  <a:pt x="21344" y="12505"/>
                  <a:pt x="21336" y="12605"/>
                </a:cubicBezTo>
                <a:cubicBezTo>
                  <a:pt x="21333" y="12647"/>
                  <a:pt x="21336" y="12690"/>
                  <a:pt x="21336" y="12732"/>
                </a:cubicBezTo>
              </a:path>
              <a:path w="5525" h="2573">
                <a:moveTo>
                  <a:pt x="21812" y="11779"/>
                </a:moveTo>
                <a:cubicBezTo>
                  <a:pt x="21812" y="11830"/>
                  <a:pt x="21805" y="11881"/>
                  <a:pt x="21749" y="11906"/>
                </a:cubicBezTo>
                <a:cubicBezTo>
                  <a:pt x="21701" y="11928"/>
                  <a:pt x="21646" y="11827"/>
                  <a:pt x="21622" y="11874"/>
                </a:cubicBezTo>
                <a:cubicBezTo>
                  <a:pt x="21592" y="11934"/>
                  <a:pt x="21614" y="12003"/>
                  <a:pt x="21590" y="12065"/>
                </a:cubicBezTo>
                <a:cubicBezTo>
                  <a:pt x="21577" y="12099"/>
                  <a:pt x="21546" y="12231"/>
                  <a:pt x="21526" y="12256"/>
                </a:cubicBezTo>
                <a:cubicBezTo>
                  <a:pt x="21495" y="12256"/>
                  <a:pt x="21485" y="12256"/>
                  <a:pt x="21495" y="12287"/>
                </a:cubicBezTo>
                <a:cubicBezTo>
                  <a:pt x="21528" y="12254"/>
                  <a:pt x="21555" y="12178"/>
                  <a:pt x="21590" y="12160"/>
                </a:cubicBezTo>
                <a:cubicBezTo>
                  <a:pt x="21661" y="12125"/>
                  <a:pt x="21632" y="12153"/>
                  <a:pt x="21685" y="12160"/>
                </a:cubicBezTo>
                <a:cubicBezTo>
                  <a:pt x="21733" y="12166"/>
                  <a:pt x="21730" y="12211"/>
                  <a:pt x="21749" y="12256"/>
                </a:cubicBezTo>
                <a:cubicBezTo>
                  <a:pt x="21781" y="12333"/>
                  <a:pt x="21780" y="12363"/>
                  <a:pt x="21780" y="12446"/>
                </a:cubicBezTo>
                <a:cubicBezTo>
                  <a:pt x="21780" y="12550"/>
                  <a:pt x="21733" y="12560"/>
                  <a:pt x="21685" y="12636"/>
                </a:cubicBezTo>
                <a:cubicBezTo>
                  <a:pt x="21629" y="12724"/>
                  <a:pt x="21607" y="12734"/>
                  <a:pt x="21526" y="12795"/>
                </a:cubicBezTo>
                <a:cubicBezTo>
                  <a:pt x="21450" y="12853"/>
                  <a:pt x="21443" y="12816"/>
                  <a:pt x="21431" y="12732"/>
                </a:cubicBezTo>
              </a:path>
              <a:path w="5525" h="2573">
                <a:moveTo>
                  <a:pt x="21939" y="12160"/>
                </a:moveTo>
                <a:cubicBezTo>
                  <a:pt x="21929" y="12160"/>
                  <a:pt x="21918" y="12160"/>
                  <a:pt x="21908" y="12160"/>
                </a:cubicBezTo>
                <a:cubicBezTo>
                  <a:pt x="21976" y="12160"/>
                  <a:pt x="22013" y="12168"/>
                  <a:pt x="22066" y="12128"/>
                </a:cubicBezTo>
              </a:path>
              <a:path w="5525" h="2573">
                <a:moveTo>
                  <a:pt x="21939" y="12414"/>
                </a:moveTo>
                <a:cubicBezTo>
                  <a:pt x="21939" y="12364"/>
                  <a:pt x="21960" y="12382"/>
                  <a:pt x="22003" y="12382"/>
                </a:cubicBezTo>
              </a:path>
              <a:path w="5525" h="2573">
                <a:moveTo>
                  <a:pt x="22257" y="11748"/>
                </a:moveTo>
                <a:cubicBezTo>
                  <a:pt x="22257" y="11689"/>
                  <a:pt x="22254" y="11659"/>
                  <a:pt x="22320" y="11652"/>
                </a:cubicBezTo>
                <a:cubicBezTo>
                  <a:pt x="22353" y="11648"/>
                  <a:pt x="22434" y="11663"/>
                  <a:pt x="22447" y="11684"/>
                </a:cubicBezTo>
                <a:cubicBezTo>
                  <a:pt x="22483" y="11739"/>
                  <a:pt x="22437" y="11898"/>
                  <a:pt x="22416" y="11938"/>
                </a:cubicBezTo>
                <a:cubicBezTo>
                  <a:pt x="22385" y="11996"/>
                  <a:pt x="22365" y="12020"/>
                  <a:pt x="22320" y="12065"/>
                </a:cubicBezTo>
                <a:cubicBezTo>
                  <a:pt x="22364" y="12065"/>
                  <a:pt x="22423" y="12048"/>
                  <a:pt x="22447" y="12097"/>
                </a:cubicBezTo>
                <a:cubicBezTo>
                  <a:pt x="22474" y="12151"/>
                  <a:pt x="22479" y="12187"/>
                  <a:pt x="22479" y="12256"/>
                </a:cubicBezTo>
                <a:cubicBezTo>
                  <a:pt x="22479" y="12348"/>
                  <a:pt x="22457" y="12396"/>
                  <a:pt x="22416" y="12478"/>
                </a:cubicBezTo>
                <a:cubicBezTo>
                  <a:pt x="22392" y="12525"/>
                  <a:pt x="22342" y="12612"/>
                  <a:pt x="22288" y="12636"/>
                </a:cubicBezTo>
                <a:cubicBezTo>
                  <a:pt x="22251" y="12652"/>
                  <a:pt x="22149" y="12642"/>
                  <a:pt x="22130" y="12605"/>
                </a:cubicBezTo>
                <a:cubicBezTo>
                  <a:pt x="22130" y="12563"/>
                  <a:pt x="22130" y="12542"/>
                  <a:pt x="22130" y="12510"/>
                </a:cubicBezTo>
              </a:path>
              <a:path w="5525" h="2573">
                <a:moveTo>
                  <a:pt x="22574" y="12351"/>
                </a:moveTo>
                <a:cubicBezTo>
                  <a:pt x="22542" y="12351"/>
                  <a:pt x="22532" y="12351"/>
                  <a:pt x="22542" y="12382"/>
                </a:cubicBezTo>
              </a:path>
              <a:path w="5525" h="2573">
                <a:moveTo>
                  <a:pt x="22860" y="11748"/>
                </a:moveTo>
                <a:cubicBezTo>
                  <a:pt x="22860" y="11707"/>
                  <a:pt x="22861" y="11611"/>
                  <a:pt x="22828" y="11589"/>
                </a:cubicBezTo>
                <a:cubicBezTo>
                  <a:pt x="22798" y="11570"/>
                  <a:pt x="22650" y="11582"/>
                  <a:pt x="22638" y="11620"/>
                </a:cubicBezTo>
                <a:cubicBezTo>
                  <a:pt x="22616" y="11692"/>
                  <a:pt x="22592" y="11765"/>
                  <a:pt x="22574" y="11843"/>
                </a:cubicBezTo>
                <a:cubicBezTo>
                  <a:pt x="22551" y="11943"/>
                  <a:pt x="22610" y="11929"/>
                  <a:pt x="22638" y="11970"/>
                </a:cubicBezTo>
                <a:cubicBezTo>
                  <a:pt x="22638" y="11981"/>
                  <a:pt x="22638" y="11991"/>
                  <a:pt x="22638" y="12002"/>
                </a:cubicBezTo>
                <a:cubicBezTo>
                  <a:pt x="22706" y="11934"/>
                  <a:pt x="22696" y="11941"/>
                  <a:pt x="22733" y="11874"/>
                </a:cubicBezTo>
                <a:cubicBezTo>
                  <a:pt x="22751" y="11842"/>
                  <a:pt x="22791" y="11790"/>
                  <a:pt x="22796" y="11779"/>
                </a:cubicBezTo>
                <a:cubicBezTo>
                  <a:pt x="22806" y="11760"/>
                  <a:pt x="22824" y="11759"/>
                  <a:pt x="22828" y="11811"/>
                </a:cubicBezTo>
                <a:cubicBezTo>
                  <a:pt x="22848" y="12062"/>
                  <a:pt x="22828" y="12322"/>
                  <a:pt x="22828" y="12573"/>
                </a:cubicBezTo>
              </a:path>
              <a:path w="5525" h="2573">
                <a:moveTo>
                  <a:pt x="23304" y="11525"/>
                </a:moveTo>
                <a:cubicBezTo>
                  <a:pt x="23252" y="11578"/>
                  <a:pt x="23204" y="11608"/>
                  <a:pt x="23146" y="11652"/>
                </a:cubicBezTo>
                <a:cubicBezTo>
                  <a:pt x="23097" y="11689"/>
                  <a:pt x="23081" y="11684"/>
                  <a:pt x="23019" y="11684"/>
                </a:cubicBezTo>
                <a:cubicBezTo>
                  <a:pt x="23019" y="11771"/>
                  <a:pt x="23002" y="11836"/>
                  <a:pt x="22987" y="11906"/>
                </a:cubicBezTo>
                <a:cubicBezTo>
                  <a:pt x="22969" y="11990"/>
                  <a:pt x="23004" y="11969"/>
                  <a:pt x="22955" y="12033"/>
                </a:cubicBezTo>
                <a:cubicBezTo>
                  <a:pt x="22999" y="12019"/>
                  <a:pt x="22993" y="11984"/>
                  <a:pt x="23019" y="11970"/>
                </a:cubicBezTo>
                <a:cubicBezTo>
                  <a:pt x="23060" y="11949"/>
                  <a:pt x="23095" y="11938"/>
                  <a:pt x="23146" y="11938"/>
                </a:cubicBezTo>
                <a:cubicBezTo>
                  <a:pt x="23198" y="11938"/>
                  <a:pt x="23237" y="11983"/>
                  <a:pt x="23241" y="12033"/>
                </a:cubicBezTo>
                <a:cubicBezTo>
                  <a:pt x="23249" y="12141"/>
                  <a:pt x="23234" y="12221"/>
                  <a:pt x="23209" y="12319"/>
                </a:cubicBezTo>
                <a:cubicBezTo>
                  <a:pt x="23194" y="12378"/>
                  <a:pt x="23186" y="12433"/>
                  <a:pt x="23146" y="12478"/>
                </a:cubicBezTo>
                <a:cubicBezTo>
                  <a:pt x="23107" y="12522"/>
                  <a:pt x="23074" y="12510"/>
                  <a:pt x="23019" y="12510"/>
                </a:cubicBezTo>
                <a:cubicBezTo>
                  <a:pt x="22987" y="12510"/>
                  <a:pt x="22976" y="12510"/>
                  <a:pt x="22955" y="12510"/>
                </a:cubicBezTo>
              </a:path>
              <a:path w="5525" h="2573">
                <a:moveTo>
                  <a:pt x="23463" y="12097"/>
                </a:moveTo>
                <a:cubicBezTo>
                  <a:pt x="23548" y="12097"/>
                  <a:pt x="23632" y="12097"/>
                  <a:pt x="23717" y="12097"/>
                </a:cubicBezTo>
              </a:path>
              <a:path w="5525" h="2573">
                <a:moveTo>
                  <a:pt x="23940" y="11652"/>
                </a:moveTo>
                <a:cubicBezTo>
                  <a:pt x="23940" y="11868"/>
                  <a:pt x="23942" y="12077"/>
                  <a:pt x="23971" y="12287"/>
                </a:cubicBezTo>
                <a:cubicBezTo>
                  <a:pt x="23982" y="12365"/>
                  <a:pt x="23931" y="12581"/>
                  <a:pt x="24003" y="12605"/>
                </a:cubicBezTo>
              </a:path>
              <a:path w="5525" h="2573">
                <a:moveTo>
                  <a:pt x="24320" y="11843"/>
                </a:moveTo>
                <a:cubicBezTo>
                  <a:pt x="24320" y="11797"/>
                  <a:pt x="24312" y="11750"/>
                  <a:pt x="24289" y="11716"/>
                </a:cubicBezTo>
                <a:cubicBezTo>
                  <a:pt x="24264" y="11679"/>
                  <a:pt x="24200" y="11662"/>
                  <a:pt x="24162" y="11652"/>
                </a:cubicBezTo>
                <a:cubicBezTo>
                  <a:pt x="24146" y="11716"/>
                  <a:pt x="24083" y="11741"/>
                  <a:pt x="24066" y="11811"/>
                </a:cubicBezTo>
                <a:cubicBezTo>
                  <a:pt x="24041" y="11916"/>
                  <a:pt x="24043" y="11964"/>
                  <a:pt x="24066" y="12065"/>
                </a:cubicBezTo>
                <a:cubicBezTo>
                  <a:pt x="24066" y="12097"/>
                  <a:pt x="24066" y="12108"/>
                  <a:pt x="24098" y="12097"/>
                </a:cubicBezTo>
                <a:cubicBezTo>
                  <a:pt x="24147" y="12048"/>
                  <a:pt x="24190" y="11996"/>
                  <a:pt x="24225" y="11938"/>
                </a:cubicBezTo>
                <a:cubicBezTo>
                  <a:pt x="24263" y="11873"/>
                  <a:pt x="24279" y="11803"/>
                  <a:pt x="24320" y="11748"/>
                </a:cubicBezTo>
                <a:cubicBezTo>
                  <a:pt x="24320" y="11815"/>
                  <a:pt x="24293" y="11837"/>
                  <a:pt x="24289" y="11906"/>
                </a:cubicBezTo>
                <a:cubicBezTo>
                  <a:pt x="24278" y="12095"/>
                  <a:pt x="24289" y="12288"/>
                  <a:pt x="24289" y="12478"/>
                </a:cubicBezTo>
              </a:path>
              <a:path w="5525" h="2573">
                <a:moveTo>
                  <a:pt x="24479" y="12319"/>
                </a:moveTo>
                <a:cubicBezTo>
                  <a:pt x="24451" y="12348"/>
                  <a:pt x="24441" y="12354"/>
                  <a:pt x="24448" y="12382"/>
                </a:cubicBezTo>
              </a:path>
              <a:path w="5525" h="2573">
                <a:moveTo>
                  <a:pt x="24574" y="11811"/>
                </a:moveTo>
                <a:cubicBezTo>
                  <a:pt x="24589" y="11753"/>
                  <a:pt x="24621" y="11708"/>
                  <a:pt x="24670" y="11684"/>
                </a:cubicBezTo>
              </a:path>
              <a:path w="5525" h="2573">
                <a:moveTo>
                  <a:pt x="24702" y="11620"/>
                </a:moveTo>
                <a:cubicBezTo>
                  <a:pt x="24753" y="11607"/>
                  <a:pt x="24777" y="11570"/>
                  <a:pt x="24828" y="11557"/>
                </a:cubicBezTo>
                <a:cubicBezTo>
                  <a:pt x="24828" y="11620"/>
                  <a:pt x="24814" y="11632"/>
                  <a:pt x="24797" y="11684"/>
                </a:cubicBezTo>
                <a:cubicBezTo>
                  <a:pt x="24781" y="11733"/>
                  <a:pt x="24768" y="11823"/>
                  <a:pt x="24765" y="11874"/>
                </a:cubicBezTo>
                <a:cubicBezTo>
                  <a:pt x="24759" y="11966"/>
                  <a:pt x="24722" y="12040"/>
                  <a:pt x="24702" y="12128"/>
                </a:cubicBezTo>
                <a:cubicBezTo>
                  <a:pt x="24685" y="12205"/>
                  <a:pt x="24702" y="12302"/>
                  <a:pt x="24702" y="12382"/>
                </a:cubicBezTo>
              </a:path>
              <a:path w="5525" h="2573">
                <a:moveTo>
                  <a:pt x="25146" y="11525"/>
                </a:moveTo>
                <a:cubicBezTo>
                  <a:pt x="25117" y="11554"/>
                  <a:pt x="25029" y="11577"/>
                  <a:pt x="25019" y="11589"/>
                </a:cubicBezTo>
                <a:cubicBezTo>
                  <a:pt x="24986" y="11630"/>
                  <a:pt x="24956" y="11606"/>
                  <a:pt x="24956" y="11684"/>
                </a:cubicBezTo>
                <a:cubicBezTo>
                  <a:pt x="24956" y="11791"/>
                  <a:pt x="24951" y="11879"/>
                  <a:pt x="24924" y="11970"/>
                </a:cubicBezTo>
                <a:cubicBezTo>
                  <a:pt x="24924" y="12002"/>
                  <a:pt x="24924" y="12012"/>
                  <a:pt x="24924" y="12033"/>
                </a:cubicBezTo>
                <a:cubicBezTo>
                  <a:pt x="24960" y="12021"/>
                  <a:pt x="24974" y="11961"/>
                  <a:pt x="24987" y="11906"/>
                </a:cubicBezTo>
                <a:cubicBezTo>
                  <a:pt x="24997" y="11865"/>
                  <a:pt x="25054" y="11849"/>
                  <a:pt x="25082" y="11906"/>
                </a:cubicBezTo>
                <a:cubicBezTo>
                  <a:pt x="25104" y="11951"/>
                  <a:pt x="25111" y="12047"/>
                  <a:pt x="25114" y="12097"/>
                </a:cubicBezTo>
                <a:cubicBezTo>
                  <a:pt x="25119" y="12192"/>
                  <a:pt x="25111" y="12295"/>
                  <a:pt x="25082" y="12382"/>
                </a:cubicBezTo>
                <a:cubicBezTo>
                  <a:pt x="25059" y="12451"/>
                  <a:pt x="25005" y="12492"/>
                  <a:pt x="24956" y="12541"/>
                </a:cubicBezTo>
                <a:cubicBezTo>
                  <a:pt x="24905" y="12592"/>
                  <a:pt x="24879" y="12579"/>
                  <a:pt x="24828" y="12541"/>
                </a:cubicBezTo>
              </a:path>
              <a:path w="5525" h="2573">
                <a:moveTo>
                  <a:pt x="20256" y="13240"/>
                </a:moveTo>
                <a:cubicBezTo>
                  <a:pt x="20256" y="13405"/>
                  <a:pt x="20254" y="13569"/>
                  <a:pt x="20225" y="13716"/>
                </a:cubicBezTo>
                <a:cubicBezTo>
                  <a:pt x="20208" y="13804"/>
                  <a:pt x="20225" y="13911"/>
                  <a:pt x="20225" y="14002"/>
                </a:cubicBezTo>
              </a:path>
              <a:path w="5525" h="2573">
                <a:moveTo>
                  <a:pt x="20130" y="13780"/>
                </a:moveTo>
                <a:cubicBezTo>
                  <a:pt x="20119" y="13780"/>
                  <a:pt x="20109" y="13780"/>
                  <a:pt x="20098" y="13780"/>
                </a:cubicBezTo>
                <a:cubicBezTo>
                  <a:pt x="20149" y="13767"/>
                  <a:pt x="20178" y="13732"/>
                  <a:pt x="20225" y="13716"/>
                </a:cubicBezTo>
                <a:cubicBezTo>
                  <a:pt x="20260" y="13704"/>
                  <a:pt x="20283" y="13693"/>
                  <a:pt x="20320" y="13684"/>
                </a:cubicBezTo>
              </a:path>
              <a:path w="5525" h="2573">
                <a:moveTo>
                  <a:pt x="20606" y="13240"/>
                </a:moveTo>
                <a:cubicBezTo>
                  <a:pt x="20622" y="13289"/>
                  <a:pt x="20638" y="13266"/>
                  <a:pt x="20638" y="13335"/>
                </a:cubicBezTo>
                <a:cubicBezTo>
                  <a:pt x="20638" y="13589"/>
                  <a:pt x="20638" y="13843"/>
                  <a:pt x="20638" y="14097"/>
                </a:cubicBezTo>
              </a:path>
              <a:path w="5525" h="2573">
                <a:moveTo>
                  <a:pt x="20987" y="13430"/>
                </a:moveTo>
                <a:cubicBezTo>
                  <a:pt x="20975" y="13349"/>
                  <a:pt x="20969" y="13337"/>
                  <a:pt x="20923" y="13303"/>
                </a:cubicBezTo>
                <a:cubicBezTo>
                  <a:pt x="20878" y="13270"/>
                  <a:pt x="20868" y="13297"/>
                  <a:pt x="20828" y="13367"/>
                </a:cubicBezTo>
                <a:cubicBezTo>
                  <a:pt x="20799" y="13418"/>
                  <a:pt x="20750" y="13476"/>
                  <a:pt x="20733" y="13526"/>
                </a:cubicBezTo>
                <a:cubicBezTo>
                  <a:pt x="20710" y="13595"/>
                  <a:pt x="20732" y="13660"/>
                  <a:pt x="20764" y="13684"/>
                </a:cubicBezTo>
                <a:cubicBezTo>
                  <a:pt x="20774" y="13691"/>
                  <a:pt x="20835" y="13715"/>
                  <a:pt x="20860" y="13684"/>
                </a:cubicBezTo>
                <a:cubicBezTo>
                  <a:pt x="20874" y="13667"/>
                  <a:pt x="20908" y="13567"/>
                  <a:pt x="20923" y="13557"/>
                </a:cubicBezTo>
                <a:cubicBezTo>
                  <a:pt x="20943" y="13543"/>
                  <a:pt x="20975" y="13500"/>
                  <a:pt x="20987" y="13494"/>
                </a:cubicBezTo>
                <a:cubicBezTo>
                  <a:pt x="21018" y="13494"/>
                  <a:pt x="21029" y="13494"/>
                  <a:pt x="21018" y="13462"/>
                </a:cubicBezTo>
                <a:cubicBezTo>
                  <a:pt x="21050" y="13505"/>
                  <a:pt x="21068" y="13561"/>
                  <a:pt x="21050" y="13621"/>
                </a:cubicBezTo>
                <a:cubicBezTo>
                  <a:pt x="21027" y="13697"/>
                  <a:pt x="21018" y="13727"/>
                  <a:pt x="21018" y="13811"/>
                </a:cubicBezTo>
                <a:cubicBezTo>
                  <a:pt x="21018" y="13875"/>
                  <a:pt x="21018" y="13938"/>
                  <a:pt x="21018" y="14002"/>
                </a:cubicBezTo>
              </a:path>
              <a:path w="5525" h="2573">
                <a:moveTo>
                  <a:pt x="21209" y="13875"/>
                </a:moveTo>
                <a:lnTo>
                  <a:pt x="21209" y="13875"/>
                </a:lnTo>
              </a:path>
              <a:path w="5525" h="2573">
                <a:moveTo>
                  <a:pt x="21400" y="13303"/>
                </a:moveTo>
                <a:cubicBezTo>
                  <a:pt x="21412" y="13256"/>
                  <a:pt x="21447" y="13224"/>
                  <a:pt x="21495" y="13208"/>
                </a:cubicBezTo>
                <a:cubicBezTo>
                  <a:pt x="21540" y="13193"/>
                  <a:pt x="21578" y="13159"/>
                  <a:pt x="21622" y="13144"/>
                </a:cubicBezTo>
                <a:cubicBezTo>
                  <a:pt x="21679" y="13125"/>
                  <a:pt x="21711" y="13157"/>
                  <a:pt x="21717" y="13208"/>
                </a:cubicBezTo>
                <a:cubicBezTo>
                  <a:pt x="21725" y="13281"/>
                  <a:pt x="21665" y="13312"/>
                  <a:pt x="21654" y="13367"/>
                </a:cubicBezTo>
                <a:cubicBezTo>
                  <a:pt x="21642" y="13429"/>
                  <a:pt x="21647" y="13529"/>
                  <a:pt x="21622" y="13589"/>
                </a:cubicBezTo>
                <a:cubicBezTo>
                  <a:pt x="21610" y="13618"/>
                  <a:pt x="21605" y="13690"/>
                  <a:pt x="21590" y="13716"/>
                </a:cubicBezTo>
                <a:cubicBezTo>
                  <a:pt x="21561" y="13769"/>
                  <a:pt x="21558" y="13778"/>
                  <a:pt x="21558" y="13843"/>
                </a:cubicBezTo>
              </a:path>
              <a:path w="5525" h="2573">
                <a:moveTo>
                  <a:pt x="22003" y="13081"/>
                </a:moveTo>
                <a:cubicBezTo>
                  <a:pt x="22003" y="13049"/>
                  <a:pt x="22003" y="13039"/>
                  <a:pt x="22034" y="13049"/>
                </a:cubicBezTo>
                <a:cubicBezTo>
                  <a:pt x="21997" y="13062"/>
                  <a:pt x="21981" y="13076"/>
                  <a:pt x="21939" y="13113"/>
                </a:cubicBezTo>
                <a:cubicBezTo>
                  <a:pt x="21904" y="13144"/>
                  <a:pt x="21858" y="13171"/>
                  <a:pt x="21812" y="13176"/>
                </a:cubicBezTo>
                <a:cubicBezTo>
                  <a:pt x="21801" y="13176"/>
                  <a:pt x="21791" y="13176"/>
                  <a:pt x="21780" y="13176"/>
                </a:cubicBezTo>
                <a:cubicBezTo>
                  <a:pt x="21780" y="13234"/>
                  <a:pt x="21806" y="13251"/>
                  <a:pt x="21812" y="13303"/>
                </a:cubicBezTo>
                <a:cubicBezTo>
                  <a:pt x="21817" y="13349"/>
                  <a:pt x="21786" y="13491"/>
                  <a:pt x="21812" y="13430"/>
                </a:cubicBezTo>
                <a:cubicBezTo>
                  <a:pt x="21833" y="13381"/>
                  <a:pt x="21869" y="13308"/>
                  <a:pt x="21908" y="13303"/>
                </a:cubicBezTo>
                <a:cubicBezTo>
                  <a:pt x="21978" y="13294"/>
                  <a:pt x="21981" y="13314"/>
                  <a:pt x="22003" y="13367"/>
                </a:cubicBezTo>
                <a:cubicBezTo>
                  <a:pt x="22024" y="13416"/>
                  <a:pt x="22057" y="13499"/>
                  <a:pt x="22034" y="13557"/>
                </a:cubicBezTo>
                <a:cubicBezTo>
                  <a:pt x="22009" y="13619"/>
                  <a:pt x="21991" y="13663"/>
                  <a:pt x="21939" y="13716"/>
                </a:cubicBezTo>
                <a:cubicBezTo>
                  <a:pt x="21902" y="13753"/>
                  <a:pt x="21859" y="13796"/>
                  <a:pt x="21812" y="13811"/>
                </a:cubicBezTo>
                <a:cubicBezTo>
                  <a:pt x="21780" y="13811"/>
                  <a:pt x="21770" y="13811"/>
                  <a:pt x="21749" y="13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Ink 13"/>
          <p:cNvSpPr/>
          <p:nvPr/>
        </p:nvSpPr>
        <p:spPr>
          <a:xfrm>
            <a:off x="7246800" y="4365720"/>
            <a:ext cx="1818000" cy="1635120"/>
          </a:xfrm>
          <a:custGeom>
            <a:avLst/>
            <a:gdLst/>
            <a:ahLst/>
            <a:rect l="l" t="t" r="r" b="b"/>
            <a:pathLst>
              <a:path w="5049" h="4542">
                <a:moveTo>
                  <a:pt x="23622" y="12922"/>
                </a:moveTo>
                <a:cubicBezTo>
                  <a:pt x="23622" y="13010"/>
                  <a:pt x="23609" y="13063"/>
                  <a:pt x="23590" y="13144"/>
                </a:cubicBezTo>
                <a:cubicBezTo>
                  <a:pt x="23571" y="13226"/>
                  <a:pt x="23590" y="13345"/>
                  <a:pt x="23590" y="13430"/>
                </a:cubicBezTo>
              </a:path>
              <a:path w="5049" h="4542">
                <a:moveTo>
                  <a:pt x="23400" y="13208"/>
                </a:moveTo>
                <a:cubicBezTo>
                  <a:pt x="23400" y="13197"/>
                  <a:pt x="23400" y="13187"/>
                  <a:pt x="23400" y="13176"/>
                </a:cubicBezTo>
                <a:cubicBezTo>
                  <a:pt x="23445" y="13203"/>
                  <a:pt x="23505" y="13236"/>
                  <a:pt x="23558" y="13240"/>
                </a:cubicBezTo>
                <a:cubicBezTo>
                  <a:pt x="23579" y="13240"/>
                  <a:pt x="23601" y="13240"/>
                  <a:pt x="23622" y="13240"/>
                </a:cubicBezTo>
              </a:path>
              <a:path w="5049" h="4542">
                <a:moveTo>
                  <a:pt x="24035" y="12732"/>
                </a:moveTo>
                <a:cubicBezTo>
                  <a:pt x="24035" y="12836"/>
                  <a:pt x="24014" y="12915"/>
                  <a:pt x="24003" y="13018"/>
                </a:cubicBezTo>
                <a:cubicBezTo>
                  <a:pt x="23994" y="13101"/>
                  <a:pt x="24003" y="13189"/>
                  <a:pt x="24003" y="13272"/>
                </a:cubicBezTo>
              </a:path>
              <a:path w="5049" h="4542">
                <a:moveTo>
                  <a:pt x="24352" y="12859"/>
                </a:moveTo>
                <a:cubicBezTo>
                  <a:pt x="24341" y="12859"/>
                  <a:pt x="24331" y="12859"/>
                  <a:pt x="24320" y="12859"/>
                </a:cubicBezTo>
                <a:cubicBezTo>
                  <a:pt x="24320" y="12827"/>
                  <a:pt x="24320" y="12796"/>
                  <a:pt x="24320" y="12764"/>
                </a:cubicBezTo>
                <a:cubicBezTo>
                  <a:pt x="24273" y="12748"/>
                  <a:pt x="24294" y="12732"/>
                  <a:pt x="24225" y="12732"/>
                </a:cubicBezTo>
              </a:path>
              <a:path w="5049" h="4542">
                <a:moveTo>
                  <a:pt x="24130" y="12954"/>
                </a:moveTo>
                <a:cubicBezTo>
                  <a:pt x="24130" y="13023"/>
                  <a:pt x="24146" y="13002"/>
                  <a:pt x="24162" y="13049"/>
                </a:cubicBezTo>
                <a:cubicBezTo>
                  <a:pt x="24199" y="13013"/>
                  <a:pt x="24242" y="12967"/>
                  <a:pt x="24257" y="12922"/>
                </a:cubicBezTo>
                <a:cubicBezTo>
                  <a:pt x="24273" y="12873"/>
                  <a:pt x="24267" y="12872"/>
                  <a:pt x="24320" y="12859"/>
                </a:cubicBezTo>
                <a:cubicBezTo>
                  <a:pt x="24320" y="12950"/>
                  <a:pt x="24302" y="13028"/>
                  <a:pt x="24289" y="13113"/>
                </a:cubicBezTo>
                <a:cubicBezTo>
                  <a:pt x="24275" y="13201"/>
                  <a:pt x="24239" y="13281"/>
                  <a:pt x="24225" y="13367"/>
                </a:cubicBezTo>
                <a:cubicBezTo>
                  <a:pt x="24217" y="13415"/>
                  <a:pt x="24225" y="13476"/>
                  <a:pt x="24225" y="13526"/>
                </a:cubicBezTo>
              </a:path>
              <a:path w="5049" h="4542">
                <a:moveTo>
                  <a:pt x="24511" y="13430"/>
                </a:moveTo>
                <a:cubicBezTo>
                  <a:pt x="24511" y="13486"/>
                  <a:pt x="24513" y="13481"/>
                  <a:pt x="24479" y="13526"/>
                </a:cubicBezTo>
              </a:path>
              <a:path w="5049" h="4542">
                <a:moveTo>
                  <a:pt x="24860" y="12732"/>
                </a:moveTo>
                <a:cubicBezTo>
                  <a:pt x="24860" y="12700"/>
                  <a:pt x="24860" y="12689"/>
                  <a:pt x="24892" y="12700"/>
                </a:cubicBezTo>
              </a:path>
              <a:path w="5049" h="4542">
                <a:moveTo>
                  <a:pt x="24860" y="12732"/>
                </a:moveTo>
                <a:lnTo>
                  <a:pt x="24860" y="12732"/>
                </a:lnTo>
              </a:path>
              <a:path w="5049" h="4542">
                <a:moveTo>
                  <a:pt x="24860" y="12700"/>
                </a:moveTo>
                <a:cubicBezTo>
                  <a:pt x="24818" y="12732"/>
                  <a:pt x="24803" y="12759"/>
                  <a:pt x="24765" y="12764"/>
                </a:cubicBezTo>
                <a:cubicBezTo>
                  <a:pt x="24723" y="12769"/>
                  <a:pt x="24628" y="12795"/>
                  <a:pt x="24670" y="12795"/>
                </a:cubicBezTo>
                <a:cubicBezTo>
                  <a:pt x="24754" y="12795"/>
                  <a:pt x="24817" y="12785"/>
                  <a:pt x="24860" y="12764"/>
                </a:cubicBezTo>
                <a:cubicBezTo>
                  <a:pt x="24871" y="12764"/>
                  <a:pt x="24881" y="12764"/>
                  <a:pt x="24892" y="12764"/>
                </a:cubicBezTo>
                <a:cubicBezTo>
                  <a:pt x="24892" y="12835"/>
                  <a:pt x="24871" y="12869"/>
                  <a:pt x="24860" y="12922"/>
                </a:cubicBezTo>
                <a:cubicBezTo>
                  <a:pt x="24844" y="12995"/>
                  <a:pt x="24832" y="13075"/>
                  <a:pt x="24828" y="13144"/>
                </a:cubicBezTo>
                <a:cubicBezTo>
                  <a:pt x="24824" y="13219"/>
                  <a:pt x="24797" y="13255"/>
                  <a:pt x="24797" y="13335"/>
                </a:cubicBezTo>
                <a:cubicBezTo>
                  <a:pt x="24797" y="13367"/>
                  <a:pt x="24797" y="13378"/>
                  <a:pt x="24765" y="13367"/>
                </a:cubicBezTo>
              </a:path>
              <a:path w="5049" h="4542">
                <a:moveTo>
                  <a:pt x="24765" y="13367"/>
                </a:moveTo>
                <a:cubicBezTo>
                  <a:pt x="24776" y="13356"/>
                  <a:pt x="24786" y="13346"/>
                  <a:pt x="24797" y="13335"/>
                </a:cubicBezTo>
              </a:path>
              <a:path w="5049" h="4542">
                <a:moveTo>
                  <a:pt x="25178" y="12636"/>
                </a:moveTo>
                <a:cubicBezTo>
                  <a:pt x="25134" y="12651"/>
                  <a:pt x="25139" y="12681"/>
                  <a:pt x="25082" y="12700"/>
                </a:cubicBezTo>
                <a:cubicBezTo>
                  <a:pt x="25078" y="12701"/>
                  <a:pt x="24990" y="12728"/>
                  <a:pt x="24987" y="12732"/>
                </a:cubicBezTo>
                <a:cubicBezTo>
                  <a:pt x="24967" y="12757"/>
                  <a:pt x="24967" y="12763"/>
                  <a:pt x="24956" y="12795"/>
                </a:cubicBezTo>
                <a:cubicBezTo>
                  <a:pt x="24989" y="12851"/>
                  <a:pt x="24987" y="12887"/>
                  <a:pt x="24987" y="12954"/>
                </a:cubicBezTo>
                <a:cubicBezTo>
                  <a:pt x="24987" y="13057"/>
                  <a:pt x="24966" y="12980"/>
                  <a:pt x="25019" y="12954"/>
                </a:cubicBezTo>
                <a:cubicBezTo>
                  <a:pt x="25037" y="12945"/>
                  <a:pt x="25093" y="12954"/>
                  <a:pt x="25114" y="12954"/>
                </a:cubicBezTo>
                <a:cubicBezTo>
                  <a:pt x="25114" y="13013"/>
                  <a:pt x="25140" y="13029"/>
                  <a:pt x="25146" y="13081"/>
                </a:cubicBezTo>
                <a:cubicBezTo>
                  <a:pt x="25154" y="13157"/>
                  <a:pt x="25148" y="13213"/>
                  <a:pt x="25114" y="13272"/>
                </a:cubicBezTo>
                <a:cubicBezTo>
                  <a:pt x="25076" y="13339"/>
                  <a:pt x="25038" y="13404"/>
                  <a:pt x="24987" y="13462"/>
                </a:cubicBezTo>
                <a:cubicBezTo>
                  <a:pt x="24977" y="13473"/>
                  <a:pt x="24966" y="13483"/>
                  <a:pt x="24956" y="13494"/>
                </a:cubicBezTo>
              </a:path>
              <a:path w="5049" h="4542">
                <a:moveTo>
                  <a:pt x="20828" y="14732"/>
                </a:moveTo>
                <a:cubicBezTo>
                  <a:pt x="20828" y="14743"/>
                  <a:pt x="20828" y="14753"/>
                  <a:pt x="20828" y="14764"/>
                </a:cubicBezTo>
                <a:cubicBezTo>
                  <a:pt x="20851" y="14772"/>
                  <a:pt x="20906" y="14819"/>
                  <a:pt x="20923" y="14859"/>
                </a:cubicBezTo>
                <a:cubicBezTo>
                  <a:pt x="20953" y="14928"/>
                  <a:pt x="20982" y="15009"/>
                  <a:pt x="21018" y="15081"/>
                </a:cubicBezTo>
                <a:cubicBezTo>
                  <a:pt x="21063" y="15172"/>
                  <a:pt x="21042" y="15280"/>
                  <a:pt x="21082" y="15367"/>
                </a:cubicBezTo>
                <a:cubicBezTo>
                  <a:pt x="21102" y="15411"/>
                  <a:pt x="21112" y="15451"/>
                  <a:pt x="21146" y="15462"/>
                </a:cubicBezTo>
              </a:path>
              <a:path w="5049" h="4542">
                <a:moveTo>
                  <a:pt x="21400" y="14732"/>
                </a:moveTo>
                <a:cubicBezTo>
                  <a:pt x="21388" y="14830"/>
                  <a:pt x="21366" y="14921"/>
                  <a:pt x="21336" y="15018"/>
                </a:cubicBezTo>
                <a:cubicBezTo>
                  <a:pt x="21293" y="15156"/>
                  <a:pt x="21288" y="15289"/>
                  <a:pt x="21241" y="15430"/>
                </a:cubicBezTo>
                <a:cubicBezTo>
                  <a:pt x="21193" y="15575"/>
                  <a:pt x="21171" y="15696"/>
                  <a:pt x="21146" y="15843"/>
                </a:cubicBezTo>
                <a:cubicBezTo>
                  <a:pt x="21122" y="15984"/>
                  <a:pt x="21069" y="16116"/>
                  <a:pt x="21050" y="16256"/>
                </a:cubicBezTo>
                <a:cubicBezTo>
                  <a:pt x="21043" y="16306"/>
                  <a:pt x="21050" y="16364"/>
                  <a:pt x="21050" y="16415"/>
                </a:cubicBezTo>
              </a:path>
              <a:path w="5049" h="4542">
                <a:moveTo>
                  <a:pt x="21558" y="15208"/>
                </a:moveTo>
                <a:cubicBezTo>
                  <a:pt x="21595" y="15153"/>
                  <a:pt x="21615" y="15121"/>
                  <a:pt x="21685" y="15113"/>
                </a:cubicBezTo>
                <a:cubicBezTo>
                  <a:pt x="21722" y="15109"/>
                  <a:pt x="21774" y="15094"/>
                  <a:pt x="21812" y="15081"/>
                </a:cubicBezTo>
                <a:cubicBezTo>
                  <a:pt x="21918" y="15044"/>
                  <a:pt x="21884" y="15053"/>
                  <a:pt x="21971" y="15081"/>
                </a:cubicBezTo>
                <a:cubicBezTo>
                  <a:pt x="21982" y="15081"/>
                  <a:pt x="21992" y="15081"/>
                  <a:pt x="22003" y="15081"/>
                </a:cubicBezTo>
              </a:path>
              <a:path w="5049" h="4542">
                <a:moveTo>
                  <a:pt x="21622" y="15526"/>
                </a:moveTo>
                <a:cubicBezTo>
                  <a:pt x="21611" y="15537"/>
                  <a:pt x="21601" y="15547"/>
                  <a:pt x="21590" y="15558"/>
                </a:cubicBezTo>
                <a:cubicBezTo>
                  <a:pt x="21717" y="15558"/>
                  <a:pt x="21844" y="15558"/>
                  <a:pt x="21971" y="15558"/>
                </a:cubicBezTo>
              </a:path>
              <a:path w="5049" h="4542">
                <a:moveTo>
                  <a:pt x="22193" y="14796"/>
                </a:moveTo>
                <a:cubicBezTo>
                  <a:pt x="22183" y="14796"/>
                  <a:pt x="22172" y="14796"/>
                  <a:pt x="22162" y="14796"/>
                </a:cubicBezTo>
              </a:path>
              <a:path w="5049" h="4542">
                <a:moveTo>
                  <a:pt x="22193" y="14796"/>
                </a:moveTo>
                <a:cubicBezTo>
                  <a:pt x="22183" y="14785"/>
                  <a:pt x="22172" y="14775"/>
                  <a:pt x="22162" y="14764"/>
                </a:cubicBezTo>
              </a:path>
              <a:path w="5049" h="4542">
                <a:moveTo>
                  <a:pt x="22162" y="14764"/>
                </a:moveTo>
                <a:cubicBezTo>
                  <a:pt x="22200" y="14699"/>
                  <a:pt x="22207" y="14640"/>
                  <a:pt x="22257" y="14573"/>
                </a:cubicBezTo>
                <a:cubicBezTo>
                  <a:pt x="22294" y="14523"/>
                  <a:pt x="22288" y="14494"/>
                  <a:pt x="22352" y="14478"/>
                </a:cubicBezTo>
                <a:cubicBezTo>
                  <a:pt x="22425" y="14526"/>
                  <a:pt x="22363" y="14558"/>
                  <a:pt x="22352" y="14637"/>
                </a:cubicBezTo>
                <a:cubicBezTo>
                  <a:pt x="22336" y="14753"/>
                  <a:pt x="22290" y="14812"/>
                  <a:pt x="22257" y="14922"/>
                </a:cubicBezTo>
                <a:cubicBezTo>
                  <a:pt x="22241" y="14974"/>
                  <a:pt x="22236" y="15004"/>
                  <a:pt x="22193" y="15018"/>
                </a:cubicBezTo>
                <a:cubicBezTo>
                  <a:pt x="22228" y="14971"/>
                  <a:pt x="22243" y="14936"/>
                  <a:pt x="22288" y="14891"/>
                </a:cubicBezTo>
                <a:cubicBezTo>
                  <a:pt x="22317" y="14862"/>
                  <a:pt x="22391" y="14873"/>
                  <a:pt x="22416" y="14922"/>
                </a:cubicBezTo>
                <a:cubicBezTo>
                  <a:pt x="22446" y="14981"/>
                  <a:pt x="22447" y="15039"/>
                  <a:pt x="22447" y="15113"/>
                </a:cubicBezTo>
                <a:cubicBezTo>
                  <a:pt x="22447" y="15261"/>
                  <a:pt x="22423" y="15326"/>
                  <a:pt x="22384" y="15462"/>
                </a:cubicBezTo>
                <a:cubicBezTo>
                  <a:pt x="22360" y="15545"/>
                  <a:pt x="22346" y="15550"/>
                  <a:pt x="22288" y="15589"/>
                </a:cubicBezTo>
                <a:cubicBezTo>
                  <a:pt x="22252" y="15613"/>
                  <a:pt x="22193" y="15635"/>
                  <a:pt x="22162" y="15589"/>
                </a:cubicBezTo>
                <a:cubicBezTo>
                  <a:pt x="22139" y="15554"/>
                  <a:pt x="22130" y="15509"/>
                  <a:pt x="22130" y="15462"/>
                </a:cubicBezTo>
                <a:cubicBezTo>
                  <a:pt x="22130" y="15451"/>
                  <a:pt x="22130" y="15441"/>
                  <a:pt x="22130" y="15430"/>
                </a:cubicBezTo>
              </a:path>
              <a:path w="5049" h="4542">
                <a:moveTo>
                  <a:pt x="22606" y="15430"/>
                </a:moveTo>
                <a:cubicBezTo>
                  <a:pt x="22606" y="15441"/>
                  <a:pt x="22606" y="15451"/>
                  <a:pt x="22606" y="15462"/>
                </a:cubicBezTo>
              </a:path>
              <a:path w="5049" h="4542">
                <a:moveTo>
                  <a:pt x="22955" y="14700"/>
                </a:moveTo>
                <a:cubicBezTo>
                  <a:pt x="22955" y="14655"/>
                  <a:pt x="22946" y="14606"/>
                  <a:pt x="22924" y="14573"/>
                </a:cubicBezTo>
                <a:cubicBezTo>
                  <a:pt x="22887" y="14518"/>
                  <a:pt x="22835" y="14538"/>
                  <a:pt x="22796" y="14573"/>
                </a:cubicBezTo>
                <a:cubicBezTo>
                  <a:pt x="22740" y="14623"/>
                  <a:pt x="22713" y="14726"/>
                  <a:pt x="22701" y="14796"/>
                </a:cubicBezTo>
                <a:cubicBezTo>
                  <a:pt x="22690" y="14859"/>
                  <a:pt x="22675" y="15045"/>
                  <a:pt x="22733" y="15081"/>
                </a:cubicBezTo>
                <a:cubicBezTo>
                  <a:pt x="22767" y="15102"/>
                  <a:pt x="22841" y="15078"/>
                  <a:pt x="22860" y="15050"/>
                </a:cubicBezTo>
                <a:cubicBezTo>
                  <a:pt x="22884" y="15016"/>
                  <a:pt x="22946" y="14893"/>
                  <a:pt x="22955" y="14859"/>
                </a:cubicBezTo>
                <a:cubicBezTo>
                  <a:pt x="22970" y="14801"/>
                  <a:pt x="22974" y="14753"/>
                  <a:pt x="22987" y="14700"/>
                </a:cubicBezTo>
                <a:cubicBezTo>
                  <a:pt x="22921" y="14722"/>
                  <a:pt x="22980" y="14737"/>
                  <a:pt x="22987" y="14796"/>
                </a:cubicBezTo>
                <a:cubicBezTo>
                  <a:pt x="22996" y="14874"/>
                  <a:pt x="23016" y="14941"/>
                  <a:pt x="23019" y="15018"/>
                </a:cubicBezTo>
                <a:cubicBezTo>
                  <a:pt x="23027" y="15209"/>
                  <a:pt x="23000" y="15417"/>
                  <a:pt x="23050" y="15589"/>
                </a:cubicBezTo>
                <a:cubicBezTo>
                  <a:pt x="23050" y="15621"/>
                  <a:pt x="23050" y="15632"/>
                  <a:pt x="23050" y="15653"/>
                </a:cubicBezTo>
              </a:path>
              <a:path w="5049" h="4542">
                <a:moveTo>
                  <a:pt x="23495" y="14414"/>
                </a:moveTo>
                <a:cubicBezTo>
                  <a:pt x="23483" y="14451"/>
                  <a:pt x="23452" y="14472"/>
                  <a:pt x="23400" y="14478"/>
                </a:cubicBezTo>
                <a:cubicBezTo>
                  <a:pt x="23348" y="14484"/>
                  <a:pt x="23331" y="14510"/>
                  <a:pt x="23273" y="14510"/>
                </a:cubicBezTo>
                <a:cubicBezTo>
                  <a:pt x="23198" y="14510"/>
                  <a:pt x="23204" y="14497"/>
                  <a:pt x="23209" y="14510"/>
                </a:cubicBezTo>
                <a:cubicBezTo>
                  <a:pt x="23274" y="14678"/>
                  <a:pt x="23209" y="15166"/>
                  <a:pt x="23209" y="14986"/>
                </a:cubicBezTo>
                <a:cubicBezTo>
                  <a:pt x="23209" y="14931"/>
                  <a:pt x="23258" y="14885"/>
                  <a:pt x="23273" y="14827"/>
                </a:cubicBezTo>
                <a:cubicBezTo>
                  <a:pt x="23281" y="14795"/>
                  <a:pt x="23322" y="14739"/>
                  <a:pt x="23336" y="14732"/>
                </a:cubicBezTo>
                <a:cubicBezTo>
                  <a:pt x="23366" y="14717"/>
                  <a:pt x="23442" y="14777"/>
                  <a:pt x="23463" y="14796"/>
                </a:cubicBezTo>
                <a:cubicBezTo>
                  <a:pt x="23514" y="14841"/>
                  <a:pt x="23542" y="14887"/>
                  <a:pt x="23558" y="14954"/>
                </a:cubicBezTo>
                <a:cubicBezTo>
                  <a:pt x="23583" y="15058"/>
                  <a:pt x="23571" y="15048"/>
                  <a:pt x="23558" y="15145"/>
                </a:cubicBezTo>
                <a:cubicBezTo>
                  <a:pt x="23543" y="15254"/>
                  <a:pt x="23530" y="15309"/>
                  <a:pt x="23463" y="15399"/>
                </a:cubicBezTo>
                <a:cubicBezTo>
                  <a:pt x="23438" y="15432"/>
                  <a:pt x="23374" y="15458"/>
                  <a:pt x="23336" y="15462"/>
                </a:cubicBezTo>
                <a:cubicBezTo>
                  <a:pt x="23300" y="15462"/>
                  <a:pt x="23286" y="15459"/>
                  <a:pt x="23273" y="15430"/>
                </a:cubicBezTo>
              </a:path>
              <a:path w="5049" h="4542">
                <a:moveTo>
                  <a:pt x="23654" y="14764"/>
                </a:moveTo>
                <a:cubicBezTo>
                  <a:pt x="23654" y="14775"/>
                  <a:pt x="23654" y="14785"/>
                  <a:pt x="23654" y="14796"/>
                </a:cubicBezTo>
                <a:cubicBezTo>
                  <a:pt x="23684" y="14806"/>
                  <a:pt x="23715" y="14836"/>
                  <a:pt x="23749" y="14859"/>
                </a:cubicBezTo>
                <a:cubicBezTo>
                  <a:pt x="23802" y="14894"/>
                  <a:pt x="23846" y="14995"/>
                  <a:pt x="23876" y="15050"/>
                </a:cubicBezTo>
                <a:cubicBezTo>
                  <a:pt x="23924" y="15140"/>
                  <a:pt x="23900" y="15247"/>
                  <a:pt x="23940" y="15335"/>
                </a:cubicBezTo>
                <a:cubicBezTo>
                  <a:pt x="23975" y="15371"/>
                  <a:pt x="23986" y="15388"/>
                  <a:pt x="23971" y="15430"/>
                </a:cubicBezTo>
                <a:cubicBezTo>
                  <a:pt x="24022" y="15447"/>
                  <a:pt x="23984" y="15445"/>
                  <a:pt x="24035" y="15462"/>
                </a:cubicBezTo>
              </a:path>
              <a:path w="5049" h="4542">
                <a:moveTo>
                  <a:pt x="24035" y="14637"/>
                </a:moveTo>
                <a:cubicBezTo>
                  <a:pt x="24035" y="14605"/>
                  <a:pt x="24035" y="14594"/>
                  <a:pt x="24035" y="14637"/>
                </a:cubicBezTo>
              </a:path>
              <a:path w="5049" h="4542">
                <a:moveTo>
                  <a:pt x="24035" y="14637"/>
                </a:moveTo>
                <a:cubicBezTo>
                  <a:pt x="24024" y="14669"/>
                  <a:pt x="24014" y="14700"/>
                  <a:pt x="24003" y="14732"/>
                </a:cubicBezTo>
              </a:path>
              <a:path w="5049" h="4542">
                <a:moveTo>
                  <a:pt x="24003" y="14732"/>
                </a:moveTo>
                <a:cubicBezTo>
                  <a:pt x="23989" y="14840"/>
                  <a:pt x="23964" y="14941"/>
                  <a:pt x="23940" y="15050"/>
                </a:cubicBezTo>
                <a:cubicBezTo>
                  <a:pt x="23905" y="15212"/>
                  <a:pt x="23861" y="15368"/>
                  <a:pt x="23812" y="15526"/>
                </a:cubicBezTo>
              </a:path>
              <a:path w="5049" h="4542">
                <a:moveTo>
                  <a:pt x="22987" y="16256"/>
                </a:moveTo>
                <a:cubicBezTo>
                  <a:pt x="22976" y="16256"/>
                  <a:pt x="22966" y="16256"/>
                  <a:pt x="22955" y="16256"/>
                </a:cubicBezTo>
              </a:path>
              <a:path w="5049" h="4542">
                <a:moveTo>
                  <a:pt x="23400" y="16256"/>
                </a:moveTo>
                <a:cubicBezTo>
                  <a:pt x="23508" y="16229"/>
                  <a:pt x="23609" y="16202"/>
                  <a:pt x="23717" y="16161"/>
                </a:cubicBezTo>
                <a:cubicBezTo>
                  <a:pt x="23816" y="16124"/>
                  <a:pt x="23944" y="16086"/>
                  <a:pt x="24035" y="16034"/>
                </a:cubicBezTo>
                <a:cubicBezTo>
                  <a:pt x="24130" y="15979"/>
                  <a:pt x="24203" y="15881"/>
                  <a:pt x="24289" y="15812"/>
                </a:cubicBezTo>
                <a:cubicBezTo>
                  <a:pt x="24408" y="15716"/>
                  <a:pt x="24461" y="15655"/>
                  <a:pt x="24543" y="15526"/>
                </a:cubicBezTo>
                <a:cubicBezTo>
                  <a:pt x="24610" y="15420"/>
                  <a:pt x="24659" y="15331"/>
                  <a:pt x="24702" y="15208"/>
                </a:cubicBezTo>
                <a:cubicBezTo>
                  <a:pt x="24746" y="15081"/>
                  <a:pt x="24731" y="14958"/>
                  <a:pt x="24733" y="14827"/>
                </a:cubicBezTo>
                <a:cubicBezTo>
                  <a:pt x="24735" y="14690"/>
                  <a:pt x="24720" y="14605"/>
                  <a:pt x="24670" y="14478"/>
                </a:cubicBezTo>
                <a:cubicBezTo>
                  <a:pt x="24626" y="14366"/>
                  <a:pt x="24551" y="14314"/>
                  <a:pt x="24479" y="14224"/>
                </a:cubicBezTo>
                <a:cubicBezTo>
                  <a:pt x="24413" y="14142"/>
                  <a:pt x="24353" y="14057"/>
                  <a:pt x="24257" y="14002"/>
                </a:cubicBezTo>
                <a:cubicBezTo>
                  <a:pt x="24154" y="13943"/>
                  <a:pt x="23990" y="13873"/>
                  <a:pt x="23876" y="13843"/>
                </a:cubicBezTo>
                <a:cubicBezTo>
                  <a:pt x="23765" y="13814"/>
                  <a:pt x="23640" y="13800"/>
                  <a:pt x="23527" y="13780"/>
                </a:cubicBezTo>
                <a:cubicBezTo>
                  <a:pt x="23400" y="13758"/>
                  <a:pt x="23273" y="13737"/>
                  <a:pt x="23146" y="13716"/>
                </a:cubicBezTo>
                <a:cubicBezTo>
                  <a:pt x="23008" y="13693"/>
                  <a:pt x="22875" y="13687"/>
                  <a:pt x="22733" y="13684"/>
                </a:cubicBezTo>
                <a:cubicBezTo>
                  <a:pt x="22510" y="13680"/>
                  <a:pt x="22281" y="13668"/>
                  <a:pt x="22066" y="13716"/>
                </a:cubicBezTo>
                <a:cubicBezTo>
                  <a:pt x="21899" y="13753"/>
                  <a:pt x="21716" y="13809"/>
                  <a:pt x="21558" y="13875"/>
                </a:cubicBezTo>
                <a:cubicBezTo>
                  <a:pt x="21395" y="13943"/>
                  <a:pt x="21231" y="14034"/>
                  <a:pt x="21082" y="14129"/>
                </a:cubicBezTo>
                <a:cubicBezTo>
                  <a:pt x="20958" y="14207"/>
                  <a:pt x="20852" y="14301"/>
                  <a:pt x="20733" y="14383"/>
                </a:cubicBezTo>
                <a:cubicBezTo>
                  <a:pt x="20607" y="14470"/>
                  <a:pt x="20483" y="14581"/>
                  <a:pt x="20384" y="14700"/>
                </a:cubicBezTo>
                <a:cubicBezTo>
                  <a:pt x="20305" y="14794"/>
                  <a:pt x="20227" y="14934"/>
                  <a:pt x="20193" y="15050"/>
                </a:cubicBezTo>
                <a:cubicBezTo>
                  <a:pt x="20163" y="15151"/>
                  <a:pt x="20139" y="15322"/>
                  <a:pt x="20130" y="15430"/>
                </a:cubicBezTo>
                <a:cubicBezTo>
                  <a:pt x="20121" y="15540"/>
                  <a:pt x="20132" y="15677"/>
                  <a:pt x="20161" y="15780"/>
                </a:cubicBezTo>
                <a:cubicBezTo>
                  <a:pt x="20199" y="15912"/>
                  <a:pt x="20275" y="16020"/>
                  <a:pt x="20352" y="16129"/>
                </a:cubicBezTo>
                <a:cubicBezTo>
                  <a:pt x="20417" y="16222"/>
                  <a:pt x="20487" y="16306"/>
                  <a:pt x="20574" y="16383"/>
                </a:cubicBezTo>
                <a:cubicBezTo>
                  <a:pt x="20653" y="16453"/>
                  <a:pt x="20731" y="16497"/>
                  <a:pt x="20828" y="16542"/>
                </a:cubicBezTo>
                <a:cubicBezTo>
                  <a:pt x="20916" y="16583"/>
                  <a:pt x="21052" y="16652"/>
                  <a:pt x="21146" y="16669"/>
                </a:cubicBezTo>
                <a:cubicBezTo>
                  <a:pt x="21310" y="16698"/>
                  <a:pt x="21500" y="16661"/>
                  <a:pt x="21654" y="16637"/>
                </a:cubicBezTo>
                <a:cubicBezTo>
                  <a:pt x="21791" y="16615"/>
                  <a:pt x="21927" y="16622"/>
                  <a:pt x="22066" y="16605"/>
                </a:cubicBezTo>
                <a:cubicBezTo>
                  <a:pt x="22206" y="16588"/>
                  <a:pt x="22339" y="16568"/>
                  <a:pt x="22479" y="16542"/>
                </a:cubicBezTo>
                <a:cubicBezTo>
                  <a:pt x="22605" y="16518"/>
                  <a:pt x="22735" y="16504"/>
                  <a:pt x="22860" y="16478"/>
                </a:cubicBezTo>
                <a:cubicBezTo>
                  <a:pt x="23026" y="16444"/>
                  <a:pt x="23200" y="16424"/>
                  <a:pt x="23368" y="16415"/>
                </a:cubicBezTo>
                <a:cubicBezTo>
                  <a:pt x="23470" y="16409"/>
                  <a:pt x="23555" y="16395"/>
                  <a:pt x="23654" y="16383"/>
                </a:cubicBezTo>
              </a:path>
              <a:path w="5049" h="4542">
                <a:moveTo>
                  <a:pt x="23463" y="12128"/>
                </a:moveTo>
                <a:cubicBezTo>
                  <a:pt x="23463" y="12233"/>
                  <a:pt x="23470" y="12315"/>
                  <a:pt x="23495" y="12414"/>
                </a:cubicBezTo>
                <a:cubicBezTo>
                  <a:pt x="23508" y="12467"/>
                  <a:pt x="23518" y="12480"/>
                  <a:pt x="23527" y="12541"/>
                </a:cubicBezTo>
                <a:cubicBezTo>
                  <a:pt x="23565" y="12551"/>
                  <a:pt x="23584" y="12564"/>
                  <a:pt x="23622" y="12573"/>
                </a:cubicBezTo>
              </a:path>
              <a:path w="5049" h="4542">
                <a:moveTo>
                  <a:pt x="23654" y="12160"/>
                </a:moveTo>
                <a:cubicBezTo>
                  <a:pt x="23654" y="12149"/>
                  <a:pt x="23654" y="12139"/>
                  <a:pt x="23654" y="12128"/>
                </a:cubicBezTo>
                <a:cubicBezTo>
                  <a:pt x="23641" y="12166"/>
                  <a:pt x="23627" y="12182"/>
                  <a:pt x="23590" y="12224"/>
                </a:cubicBezTo>
                <a:cubicBezTo>
                  <a:pt x="23524" y="12298"/>
                  <a:pt x="23454" y="12363"/>
                  <a:pt x="23368" y="12414"/>
                </a:cubicBezTo>
                <a:cubicBezTo>
                  <a:pt x="23293" y="12459"/>
                  <a:pt x="23245" y="12482"/>
                  <a:pt x="23178" y="12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nk 14"/>
          <p:cNvSpPr/>
          <p:nvPr/>
        </p:nvSpPr>
        <p:spPr>
          <a:xfrm>
            <a:off x="2332080" y="4754520"/>
            <a:ext cx="3303720" cy="685800"/>
          </a:xfrm>
          <a:custGeom>
            <a:avLst/>
            <a:gdLst/>
            <a:ahLst/>
            <a:rect l="l" t="t" r="r" b="b"/>
            <a:pathLst>
              <a:path w="9177" h="1906">
                <a:moveTo>
                  <a:pt x="14605" y="13303"/>
                </a:moveTo>
                <a:cubicBezTo>
                  <a:pt x="14391" y="13303"/>
                  <a:pt x="14139" y="13277"/>
                  <a:pt x="13938" y="13335"/>
                </a:cubicBezTo>
                <a:cubicBezTo>
                  <a:pt x="13833" y="13366"/>
                  <a:pt x="13752" y="13409"/>
                  <a:pt x="13652" y="13430"/>
                </a:cubicBezTo>
                <a:cubicBezTo>
                  <a:pt x="13559" y="13449"/>
                  <a:pt x="13459" y="13447"/>
                  <a:pt x="13367" y="13462"/>
                </a:cubicBezTo>
                <a:cubicBezTo>
                  <a:pt x="13276" y="13477"/>
                  <a:pt x="13171" y="13488"/>
                  <a:pt x="13081" y="13494"/>
                </a:cubicBezTo>
                <a:cubicBezTo>
                  <a:pt x="12925" y="13504"/>
                  <a:pt x="12755" y="13520"/>
                  <a:pt x="12605" y="13526"/>
                </a:cubicBezTo>
                <a:cubicBezTo>
                  <a:pt x="12433" y="13533"/>
                  <a:pt x="12266" y="13550"/>
                  <a:pt x="12097" y="13557"/>
                </a:cubicBezTo>
                <a:cubicBezTo>
                  <a:pt x="11684" y="13575"/>
                  <a:pt x="11265" y="13570"/>
                  <a:pt x="10858" y="13589"/>
                </a:cubicBezTo>
                <a:cubicBezTo>
                  <a:pt x="10372" y="13612"/>
                  <a:pt x="9876" y="13579"/>
                  <a:pt x="9398" y="13557"/>
                </a:cubicBezTo>
                <a:cubicBezTo>
                  <a:pt x="9265" y="13551"/>
                  <a:pt x="9147" y="13544"/>
                  <a:pt x="9017" y="13526"/>
                </a:cubicBezTo>
                <a:cubicBezTo>
                  <a:pt x="8921" y="13513"/>
                  <a:pt x="8824" y="13500"/>
                  <a:pt x="8731" y="13494"/>
                </a:cubicBezTo>
                <a:cubicBezTo>
                  <a:pt x="8522" y="13481"/>
                  <a:pt x="8296" y="13473"/>
                  <a:pt x="8096" y="13462"/>
                </a:cubicBezTo>
                <a:cubicBezTo>
                  <a:pt x="7797" y="13446"/>
                  <a:pt x="7454" y="13446"/>
                  <a:pt x="7176" y="13494"/>
                </a:cubicBezTo>
                <a:cubicBezTo>
                  <a:pt x="7107" y="13506"/>
                  <a:pt x="7015" y="13513"/>
                  <a:pt x="6953" y="13557"/>
                </a:cubicBezTo>
                <a:cubicBezTo>
                  <a:pt x="6888" y="13603"/>
                  <a:pt x="6845" y="13663"/>
                  <a:pt x="6794" y="13716"/>
                </a:cubicBezTo>
                <a:cubicBezTo>
                  <a:pt x="6738" y="13776"/>
                  <a:pt x="6674" y="13835"/>
                  <a:pt x="6636" y="13906"/>
                </a:cubicBezTo>
                <a:cubicBezTo>
                  <a:pt x="6590" y="13992"/>
                  <a:pt x="6569" y="14071"/>
                  <a:pt x="6540" y="14160"/>
                </a:cubicBezTo>
                <a:cubicBezTo>
                  <a:pt x="6512" y="14246"/>
                  <a:pt x="6477" y="14355"/>
                  <a:pt x="6477" y="14446"/>
                </a:cubicBezTo>
                <a:cubicBezTo>
                  <a:pt x="6477" y="14521"/>
                  <a:pt x="6493" y="14568"/>
                  <a:pt x="6509" y="14637"/>
                </a:cubicBezTo>
                <a:cubicBezTo>
                  <a:pt x="6521" y="14689"/>
                  <a:pt x="6549" y="14785"/>
                  <a:pt x="6572" y="14827"/>
                </a:cubicBezTo>
                <a:cubicBezTo>
                  <a:pt x="6583" y="14848"/>
                  <a:pt x="6659" y="14946"/>
                  <a:pt x="6668" y="14954"/>
                </a:cubicBezTo>
                <a:cubicBezTo>
                  <a:pt x="6727" y="15007"/>
                  <a:pt x="6751" y="15019"/>
                  <a:pt x="6826" y="15050"/>
                </a:cubicBezTo>
                <a:cubicBezTo>
                  <a:pt x="6883" y="15074"/>
                  <a:pt x="6920" y="15065"/>
                  <a:pt x="6985" y="15081"/>
                </a:cubicBezTo>
                <a:cubicBezTo>
                  <a:pt x="7045" y="15096"/>
                  <a:pt x="7101" y="15108"/>
                  <a:pt x="7176" y="15113"/>
                </a:cubicBezTo>
                <a:cubicBezTo>
                  <a:pt x="7474" y="15134"/>
                  <a:pt x="7806" y="15128"/>
                  <a:pt x="8096" y="15081"/>
                </a:cubicBezTo>
                <a:cubicBezTo>
                  <a:pt x="8212" y="15062"/>
                  <a:pt x="8327" y="15012"/>
                  <a:pt x="8446" y="14986"/>
                </a:cubicBezTo>
                <a:cubicBezTo>
                  <a:pt x="8560" y="14961"/>
                  <a:pt x="8711" y="14930"/>
                  <a:pt x="8826" y="14922"/>
                </a:cubicBezTo>
                <a:cubicBezTo>
                  <a:pt x="8966" y="14912"/>
                  <a:pt x="9101" y="14898"/>
                  <a:pt x="9239" y="14891"/>
                </a:cubicBezTo>
                <a:cubicBezTo>
                  <a:pt x="9452" y="14881"/>
                  <a:pt x="9665" y="14893"/>
                  <a:pt x="9874" y="14922"/>
                </a:cubicBezTo>
                <a:cubicBezTo>
                  <a:pt x="10008" y="14941"/>
                  <a:pt x="10154" y="14977"/>
                  <a:pt x="10287" y="14986"/>
                </a:cubicBezTo>
                <a:cubicBezTo>
                  <a:pt x="10428" y="14995"/>
                  <a:pt x="10562" y="15011"/>
                  <a:pt x="10700" y="15018"/>
                </a:cubicBezTo>
                <a:cubicBezTo>
                  <a:pt x="11047" y="15035"/>
                  <a:pt x="11406" y="15024"/>
                  <a:pt x="11748" y="14986"/>
                </a:cubicBezTo>
                <a:cubicBezTo>
                  <a:pt x="11882" y="14971"/>
                  <a:pt x="12023" y="14969"/>
                  <a:pt x="12160" y="14954"/>
                </a:cubicBezTo>
                <a:cubicBezTo>
                  <a:pt x="12309" y="14938"/>
                  <a:pt x="12426" y="14949"/>
                  <a:pt x="12573" y="14954"/>
                </a:cubicBezTo>
                <a:cubicBezTo>
                  <a:pt x="12807" y="14962"/>
                  <a:pt x="13044" y="14973"/>
                  <a:pt x="13272" y="14986"/>
                </a:cubicBezTo>
                <a:cubicBezTo>
                  <a:pt x="13475" y="14997"/>
                  <a:pt x="13676" y="15007"/>
                  <a:pt x="13875" y="15018"/>
                </a:cubicBezTo>
                <a:cubicBezTo>
                  <a:pt x="14164" y="15034"/>
                  <a:pt x="14519" y="15057"/>
                  <a:pt x="14796" y="14986"/>
                </a:cubicBezTo>
                <a:cubicBezTo>
                  <a:pt x="14994" y="14935"/>
                  <a:pt x="15148" y="14849"/>
                  <a:pt x="15304" y="14732"/>
                </a:cubicBezTo>
                <a:cubicBezTo>
                  <a:pt x="15376" y="14678"/>
                  <a:pt x="15407" y="14647"/>
                  <a:pt x="15462" y="14573"/>
                </a:cubicBezTo>
                <a:cubicBezTo>
                  <a:pt x="15532" y="14478"/>
                  <a:pt x="15558" y="14361"/>
                  <a:pt x="15589" y="14256"/>
                </a:cubicBezTo>
                <a:cubicBezTo>
                  <a:pt x="15616" y="14164"/>
                  <a:pt x="15653" y="14067"/>
                  <a:pt x="15653" y="13970"/>
                </a:cubicBezTo>
                <a:cubicBezTo>
                  <a:pt x="15653" y="13878"/>
                  <a:pt x="15657" y="13765"/>
                  <a:pt x="15621" y="13684"/>
                </a:cubicBezTo>
                <a:cubicBezTo>
                  <a:pt x="15603" y="13643"/>
                  <a:pt x="15528" y="13553"/>
                  <a:pt x="15494" y="13526"/>
                </a:cubicBezTo>
                <a:cubicBezTo>
                  <a:pt x="15420" y="13466"/>
                  <a:pt x="15354" y="13472"/>
                  <a:pt x="15272" y="13430"/>
                </a:cubicBezTo>
                <a:cubicBezTo>
                  <a:pt x="15176" y="13381"/>
                  <a:pt x="15125" y="13335"/>
                  <a:pt x="15018" y="13303"/>
                </a:cubicBezTo>
                <a:cubicBezTo>
                  <a:pt x="14900" y="13268"/>
                  <a:pt x="14788" y="13259"/>
                  <a:pt x="14668" y="13240"/>
                </a:cubicBezTo>
                <a:cubicBezTo>
                  <a:pt x="14565" y="13224"/>
                  <a:pt x="14464" y="13192"/>
                  <a:pt x="14351" y="13208"/>
                </a:cubicBezTo>
                <a:cubicBezTo>
                  <a:pt x="14244" y="13223"/>
                  <a:pt x="14166" y="13276"/>
                  <a:pt x="14065" y="13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pe-Intercep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slope and y-intercept of the following equ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2x - y 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y =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Rebecah babysits for a night, she charges a flat fee of $30 plus $4.85 per child.  How could this be expres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Ink 4"/>
          <p:cNvSpPr/>
          <p:nvPr/>
        </p:nvSpPr>
        <p:spPr>
          <a:xfrm>
            <a:off x="6892920" y="754200"/>
            <a:ext cx="1508040" cy="458640"/>
          </a:xfrm>
          <a:custGeom>
            <a:avLst/>
            <a:gdLst/>
            <a:ahLst/>
            <a:rect l="l" t="t" r="r" b="b"/>
            <a:pathLst>
              <a:path w="4192" h="1271">
                <a:moveTo>
                  <a:pt x="19145" y="2984"/>
                </a:moveTo>
                <a:cubicBezTo>
                  <a:pt x="19145" y="2909"/>
                  <a:pt x="19172" y="2917"/>
                  <a:pt x="19209" y="2858"/>
                </a:cubicBezTo>
                <a:cubicBezTo>
                  <a:pt x="19253" y="2788"/>
                  <a:pt x="19295" y="2716"/>
                  <a:pt x="19368" y="2667"/>
                </a:cubicBezTo>
                <a:cubicBezTo>
                  <a:pt x="19427" y="2627"/>
                  <a:pt x="19523" y="2562"/>
                  <a:pt x="19590" y="2540"/>
                </a:cubicBezTo>
                <a:cubicBezTo>
                  <a:pt x="19628" y="2527"/>
                  <a:pt x="19692" y="2555"/>
                  <a:pt x="19717" y="2572"/>
                </a:cubicBezTo>
                <a:cubicBezTo>
                  <a:pt x="19774" y="2611"/>
                  <a:pt x="19827" y="2681"/>
                  <a:pt x="19876" y="2730"/>
                </a:cubicBezTo>
                <a:cubicBezTo>
                  <a:pt x="19925" y="2779"/>
                  <a:pt x="19931" y="2833"/>
                  <a:pt x="19907" y="2762"/>
                </a:cubicBezTo>
              </a:path>
              <a:path w="4192" h="1271">
                <a:moveTo>
                  <a:pt x="19780" y="2445"/>
                </a:moveTo>
                <a:cubicBezTo>
                  <a:pt x="19826" y="2445"/>
                  <a:pt x="19873" y="2453"/>
                  <a:pt x="19907" y="2476"/>
                </a:cubicBezTo>
                <a:cubicBezTo>
                  <a:pt x="19957" y="2510"/>
                  <a:pt x="20019" y="2508"/>
                  <a:pt x="20066" y="2540"/>
                </a:cubicBezTo>
                <a:cubicBezTo>
                  <a:pt x="20111" y="2570"/>
                  <a:pt x="20141" y="2591"/>
                  <a:pt x="20193" y="2604"/>
                </a:cubicBezTo>
                <a:cubicBezTo>
                  <a:pt x="20130" y="2666"/>
                  <a:pt x="20071" y="2710"/>
                  <a:pt x="20002" y="2762"/>
                </a:cubicBezTo>
                <a:cubicBezTo>
                  <a:pt x="19922" y="2823"/>
                  <a:pt x="19846" y="2973"/>
                  <a:pt x="19780" y="3016"/>
                </a:cubicBezTo>
                <a:cubicBezTo>
                  <a:pt x="19748" y="3037"/>
                  <a:pt x="19689" y="3018"/>
                  <a:pt x="19748" y="3048"/>
                </a:cubicBezTo>
              </a:path>
              <a:path w="4192" h="1271">
                <a:moveTo>
                  <a:pt x="20479" y="2445"/>
                </a:moveTo>
                <a:cubicBezTo>
                  <a:pt x="20479" y="2593"/>
                  <a:pt x="20479" y="2741"/>
                  <a:pt x="20479" y="2889"/>
                </a:cubicBezTo>
                <a:cubicBezTo>
                  <a:pt x="20583" y="2889"/>
                  <a:pt x="20547" y="2842"/>
                  <a:pt x="20574" y="2762"/>
                </a:cubicBezTo>
                <a:cubicBezTo>
                  <a:pt x="20601" y="2682"/>
                  <a:pt x="20578" y="2582"/>
                  <a:pt x="20606" y="2508"/>
                </a:cubicBezTo>
                <a:cubicBezTo>
                  <a:pt x="20617" y="2497"/>
                  <a:pt x="20627" y="2487"/>
                  <a:pt x="20638" y="2476"/>
                </a:cubicBezTo>
                <a:cubicBezTo>
                  <a:pt x="20638" y="2641"/>
                  <a:pt x="20644" y="2797"/>
                  <a:pt x="20669" y="2953"/>
                </a:cubicBezTo>
                <a:cubicBezTo>
                  <a:pt x="20682" y="3030"/>
                  <a:pt x="20661" y="3137"/>
                  <a:pt x="20638" y="3207"/>
                </a:cubicBezTo>
                <a:cubicBezTo>
                  <a:pt x="20614" y="3280"/>
                  <a:pt x="20581" y="3348"/>
                  <a:pt x="20510" y="3366"/>
                </a:cubicBezTo>
                <a:cubicBezTo>
                  <a:pt x="20411" y="3341"/>
                  <a:pt x="20423" y="3267"/>
                  <a:pt x="20415" y="3175"/>
                </a:cubicBezTo>
              </a:path>
              <a:path w="4192" h="1271">
                <a:moveTo>
                  <a:pt x="20764" y="2699"/>
                </a:moveTo>
                <a:cubicBezTo>
                  <a:pt x="20796" y="2699"/>
                  <a:pt x="20807" y="2699"/>
                  <a:pt x="20828" y="2699"/>
                </a:cubicBezTo>
                <a:cubicBezTo>
                  <a:pt x="20841" y="2661"/>
                  <a:pt x="20881" y="2646"/>
                  <a:pt x="20923" y="2604"/>
                </a:cubicBezTo>
              </a:path>
              <a:path w="4192" h="1271">
                <a:moveTo>
                  <a:pt x="21018" y="2413"/>
                </a:moveTo>
                <a:cubicBezTo>
                  <a:pt x="21018" y="2604"/>
                  <a:pt x="21018" y="3112"/>
                  <a:pt x="21018" y="2921"/>
                </a:cubicBezTo>
                <a:cubicBezTo>
                  <a:pt x="21018" y="2900"/>
                  <a:pt x="21018" y="2879"/>
                  <a:pt x="21018" y="2858"/>
                </a:cubicBezTo>
              </a:path>
              <a:path w="4192" h="1271">
                <a:moveTo>
                  <a:pt x="21114" y="2476"/>
                </a:moveTo>
                <a:cubicBezTo>
                  <a:pt x="21204" y="2432"/>
                  <a:pt x="21177" y="2522"/>
                  <a:pt x="21177" y="2604"/>
                </a:cubicBezTo>
                <a:cubicBezTo>
                  <a:pt x="21177" y="2678"/>
                  <a:pt x="21177" y="2752"/>
                  <a:pt x="21177" y="2826"/>
                </a:cubicBezTo>
                <a:cubicBezTo>
                  <a:pt x="21177" y="2998"/>
                  <a:pt x="21207" y="2700"/>
                  <a:pt x="21209" y="2667"/>
                </a:cubicBezTo>
                <a:cubicBezTo>
                  <a:pt x="21213" y="2600"/>
                  <a:pt x="21238" y="2526"/>
                  <a:pt x="21272" y="2476"/>
                </a:cubicBezTo>
                <a:cubicBezTo>
                  <a:pt x="21300" y="2434"/>
                  <a:pt x="21325" y="2445"/>
                  <a:pt x="21368" y="2445"/>
                </a:cubicBezTo>
                <a:cubicBezTo>
                  <a:pt x="21368" y="2527"/>
                  <a:pt x="21329" y="2663"/>
                  <a:pt x="21336" y="2730"/>
                </a:cubicBezTo>
                <a:cubicBezTo>
                  <a:pt x="21340" y="2762"/>
                  <a:pt x="21368" y="2916"/>
                  <a:pt x="21431" y="2889"/>
                </a:cubicBezTo>
                <a:cubicBezTo>
                  <a:pt x="21468" y="2853"/>
                  <a:pt x="21478" y="2837"/>
                  <a:pt x="21463" y="2794"/>
                </a:cubicBezTo>
              </a:path>
              <a:path w="4192" h="1271">
                <a:moveTo>
                  <a:pt x="21590" y="2222"/>
                </a:moveTo>
                <a:cubicBezTo>
                  <a:pt x="21558" y="2329"/>
                  <a:pt x="21558" y="2395"/>
                  <a:pt x="21558" y="2508"/>
                </a:cubicBezTo>
                <a:cubicBezTo>
                  <a:pt x="21558" y="2635"/>
                  <a:pt x="21558" y="2762"/>
                  <a:pt x="21558" y="2889"/>
                </a:cubicBezTo>
              </a:path>
              <a:path w="4192" h="1271">
                <a:moveTo>
                  <a:pt x="21431" y="2572"/>
                </a:moveTo>
                <a:cubicBezTo>
                  <a:pt x="21569" y="2572"/>
                  <a:pt x="21706" y="2572"/>
                  <a:pt x="21844" y="2572"/>
                </a:cubicBezTo>
                <a:cubicBezTo>
                  <a:pt x="21844" y="2505"/>
                  <a:pt x="21865" y="2402"/>
                  <a:pt x="21812" y="2350"/>
                </a:cubicBezTo>
                <a:cubicBezTo>
                  <a:pt x="21801" y="2350"/>
                  <a:pt x="21791" y="2350"/>
                  <a:pt x="21780" y="2350"/>
                </a:cubicBezTo>
                <a:cubicBezTo>
                  <a:pt x="21767" y="2402"/>
                  <a:pt x="21725" y="2450"/>
                  <a:pt x="21717" y="2508"/>
                </a:cubicBezTo>
                <a:cubicBezTo>
                  <a:pt x="21705" y="2596"/>
                  <a:pt x="21696" y="2759"/>
                  <a:pt x="21749" y="2826"/>
                </a:cubicBezTo>
                <a:cubicBezTo>
                  <a:pt x="21771" y="2854"/>
                  <a:pt x="21838" y="2879"/>
                  <a:pt x="21876" y="2858"/>
                </a:cubicBezTo>
                <a:cubicBezTo>
                  <a:pt x="21887" y="2847"/>
                  <a:pt x="21897" y="2837"/>
                  <a:pt x="21908" y="2826"/>
                </a:cubicBezTo>
              </a:path>
              <a:path w="4192" h="1271">
                <a:moveTo>
                  <a:pt x="21971" y="2350"/>
                </a:moveTo>
                <a:cubicBezTo>
                  <a:pt x="21971" y="2485"/>
                  <a:pt x="21968" y="2614"/>
                  <a:pt x="22003" y="2730"/>
                </a:cubicBezTo>
                <a:cubicBezTo>
                  <a:pt x="22020" y="2788"/>
                  <a:pt x="22003" y="2810"/>
                  <a:pt x="22003" y="2730"/>
                </a:cubicBezTo>
                <a:cubicBezTo>
                  <a:pt x="22003" y="2621"/>
                  <a:pt x="22043" y="2546"/>
                  <a:pt x="22066" y="2445"/>
                </a:cubicBezTo>
                <a:cubicBezTo>
                  <a:pt x="22080" y="2387"/>
                  <a:pt x="22104" y="2364"/>
                  <a:pt x="22162" y="2350"/>
                </a:cubicBezTo>
              </a:path>
              <a:path w="4192" h="1271">
                <a:moveTo>
                  <a:pt x="22384" y="2350"/>
                </a:moveTo>
                <a:cubicBezTo>
                  <a:pt x="22384" y="2314"/>
                  <a:pt x="22381" y="2300"/>
                  <a:pt x="22352" y="2286"/>
                </a:cubicBezTo>
                <a:cubicBezTo>
                  <a:pt x="22309" y="2318"/>
                  <a:pt x="22258" y="2330"/>
                  <a:pt x="22225" y="2381"/>
                </a:cubicBezTo>
                <a:cubicBezTo>
                  <a:pt x="22176" y="2457"/>
                  <a:pt x="22168" y="2579"/>
                  <a:pt x="22162" y="2667"/>
                </a:cubicBezTo>
                <a:cubicBezTo>
                  <a:pt x="22158" y="2722"/>
                  <a:pt x="22210" y="2757"/>
                  <a:pt x="22257" y="2762"/>
                </a:cubicBezTo>
                <a:cubicBezTo>
                  <a:pt x="22304" y="2767"/>
                  <a:pt x="22354" y="2772"/>
                  <a:pt x="22384" y="2730"/>
                </a:cubicBezTo>
                <a:cubicBezTo>
                  <a:pt x="22414" y="2687"/>
                  <a:pt x="22499" y="2586"/>
                  <a:pt x="22511" y="2540"/>
                </a:cubicBezTo>
                <a:cubicBezTo>
                  <a:pt x="22533" y="2456"/>
                  <a:pt x="22553" y="2391"/>
                  <a:pt x="22511" y="2318"/>
                </a:cubicBezTo>
                <a:cubicBezTo>
                  <a:pt x="22476" y="2365"/>
                  <a:pt x="22429" y="2447"/>
                  <a:pt x="22416" y="2508"/>
                </a:cubicBezTo>
                <a:cubicBezTo>
                  <a:pt x="22402" y="2573"/>
                  <a:pt x="22408" y="2668"/>
                  <a:pt x="22479" y="2699"/>
                </a:cubicBezTo>
                <a:cubicBezTo>
                  <a:pt x="22518" y="2716"/>
                  <a:pt x="22584" y="2699"/>
                  <a:pt x="22606" y="2667"/>
                </a:cubicBezTo>
                <a:cubicBezTo>
                  <a:pt x="22642" y="2616"/>
                  <a:pt x="22671" y="2562"/>
                  <a:pt x="22701" y="2508"/>
                </a:cubicBezTo>
              </a:path>
              <a:path w="4192" h="1271">
                <a:moveTo>
                  <a:pt x="22733" y="2445"/>
                </a:moveTo>
                <a:cubicBezTo>
                  <a:pt x="22733" y="2424"/>
                  <a:pt x="22733" y="2402"/>
                  <a:pt x="22733" y="2381"/>
                </a:cubicBezTo>
              </a:path>
              <a:path w="4192" h="1271">
                <a:moveTo>
                  <a:pt x="22765" y="2350"/>
                </a:moveTo>
                <a:cubicBezTo>
                  <a:pt x="22846" y="2321"/>
                  <a:pt x="22769" y="2428"/>
                  <a:pt x="22765" y="2508"/>
                </a:cubicBezTo>
                <a:cubicBezTo>
                  <a:pt x="22756" y="2668"/>
                  <a:pt x="22755" y="2831"/>
                  <a:pt x="22796" y="2984"/>
                </a:cubicBezTo>
                <a:cubicBezTo>
                  <a:pt x="22796" y="3061"/>
                  <a:pt x="22766" y="2856"/>
                  <a:pt x="22765" y="2826"/>
                </a:cubicBezTo>
                <a:cubicBezTo>
                  <a:pt x="22758" y="2672"/>
                  <a:pt x="22770" y="2516"/>
                  <a:pt x="22796" y="2381"/>
                </a:cubicBezTo>
                <a:cubicBezTo>
                  <a:pt x="22808" y="2319"/>
                  <a:pt x="22813" y="2292"/>
                  <a:pt x="22892" y="2286"/>
                </a:cubicBezTo>
                <a:cubicBezTo>
                  <a:pt x="22918" y="2284"/>
                  <a:pt x="23043" y="2290"/>
                  <a:pt x="23050" y="2318"/>
                </a:cubicBezTo>
                <a:cubicBezTo>
                  <a:pt x="23072" y="2407"/>
                  <a:pt x="23044" y="2477"/>
                  <a:pt x="22987" y="2540"/>
                </a:cubicBezTo>
                <a:cubicBezTo>
                  <a:pt x="22949" y="2582"/>
                  <a:pt x="22915" y="2629"/>
                  <a:pt x="22860" y="2635"/>
                </a:cubicBezTo>
                <a:cubicBezTo>
                  <a:pt x="22789" y="2643"/>
                  <a:pt x="22830" y="2668"/>
                  <a:pt x="22765" y="2635"/>
                </a:cubicBezTo>
              </a:path>
              <a:path w="4192" h="1271">
                <a:moveTo>
                  <a:pt x="23146" y="2096"/>
                </a:moveTo>
                <a:cubicBezTo>
                  <a:pt x="23135" y="2200"/>
                  <a:pt x="23088" y="2286"/>
                  <a:pt x="23082" y="2381"/>
                </a:cubicBezTo>
                <a:cubicBezTo>
                  <a:pt x="23075" y="2492"/>
                  <a:pt x="23041" y="2530"/>
                  <a:pt x="23114" y="2635"/>
                </a:cubicBezTo>
                <a:cubicBezTo>
                  <a:pt x="23157" y="2696"/>
                  <a:pt x="23186" y="2716"/>
                  <a:pt x="23241" y="2667"/>
                </a:cubicBezTo>
                <a:cubicBezTo>
                  <a:pt x="23277" y="2631"/>
                  <a:pt x="23294" y="2620"/>
                  <a:pt x="23336" y="2635"/>
                </a:cubicBezTo>
              </a:path>
              <a:path w="4192" h="1271">
                <a:moveTo>
                  <a:pt x="22955" y="2318"/>
                </a:moveTo>
                <a:cubicBezTo>
                  <a:pt x="23018" y="2302"/>
                  <a:pt x="23075" y="2304"/>
                  <a:pt x="23146" y="2286"/>
                </a:cubicBezTo>
                <a:cubicBezTo>
                  <a:pt x="23207" y="2255"/>
                  <a:pt x="23226" y="2244"/>
                  <a:pt x="23273" y="2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Ink 5"/>
          <p:cNvSpPr/>
          <p:nvPr/>
        </p:nvSpPr>
        <p:spPr>
          <a:xfrm>
            <a:off x="1635120" y="3268800"/>
            <a:ext cx="399960" cy="241200"/>
          </a:xfrm>
          <a:custGeom>
            <a:avLst/>
            <a:gdLst/>
            <a:ahLst/>
            <a:rect l="l" t="t" r="r" b="b"/>
            <a:pathLst>
              <a:path w="1113" h="668">
                <a:moveTo>
                  <a:pt x="4540" y="9334"/>
                </a:moveTo>
                <a:cubicBezTo>
                  <a:pt x="4540" y="9345"/>
                  <a:pt x="4540" y="9355"/>
                  <a:pt x="4540" y="9366"/>
                </a:cubicBezTo>
                <a:cubicBezTo>
                  <a:pt x="4589" y="9329"/>
                  <a:pt x="4605" y="9334"/>
                  <a:pt x="4667" y="9334"/>
                </a:cubicBezTo>
                <a:cubicBezTo>
                  <a:pt x="4717" y="9334"/>
                  <a:pt x="4737" y="9303"/>
                  <a:pt x="4794" y="9303"/>
                </a:cubicBezTo>
              </a:path>
              <a:path w="1113" h="668">
                <a:moveTo>
                  <a:pt x="5016" y="9239"/>
                </a:moveTo>
                <a:cubicBezTo>
                  <a:pt x="5024" y="9207"/>
                  <a:pt x="5052" y="9104"/>
                  <a:pt x="5080" y="9080"/>
                </a:cubicBezTo>
                <a:cubicBezTo>
                  <a:pt x="5136" y="9031"/>
                  <a:pt x="5254" y="9099"/>
                  <a:pt x="5270" y="9144"/>
                </a:cubicBezTo>
                <a:cubicBezTo>
                  <a:pt x="5286" y="9190"/>
                  <a:pt x="5254" y="9266"/>
                  <a:pt x="5239" y="9303"/>
                </a:cubicBezTo>
                <a:cubicBezTo>
                  <a:pt x="5214" y="9366"/>
                  <a:pt x="5159" y="9436"/>
                  <a:pt x="5112" y="9493"/>
                </a:cubicBezTo>
                <a:cubicBezTo>
                  <a:pt x="5079" y="9533"/>
                  <a:pt x="5006" y="9573"/>
                  <a:pt x="4985" y="9620"/>
                </a:cubicBezTo>
                <a:cubicBezTo>
                  <a:pt x="4967" y="9662"/>
                  <a:pt x="5037" y="9634"/>
                  <a:pt x="5048" y="9620"/>
                </a:cubicBezTo>
                <a:cubicBezTo>
                  <a:pt x="5091" y="9566"/>
                  <a:pt x="5075" y="9596"/>
                  <a:pt x="5144" y="9620"/>
                </a:cubicBezTo>
                <a:cubicBezTo>
                  <a:pt x="5191" y="9636"/>
                  <a:pt x="5215" y="9652"/>
                  <a:pt x="5270" y="9652"/>
                </a:cubicBezTo>
                <a:cubicBezTo>
                  <a:pt x="5281" y="9652"/>
                  <a:pt x="5291" y="9652"/>
                  <a:pt x="5302" y="9652"/>
                </a:cubicBezTo>
              </a:path>
              <a:path w="1113" h="668">
                <a:moveTo>
                  <a:pt x="5366" y="9271"/>
                </a:moveTo>
                <a:cubicBezTo>
                  <a:pt x="5378" y="9318"/>
                  <a:pt x="5410" y="9354"/>
                  <a:pt x="5429" y="9398"/>
                </a:cubicBezTo>
                <a:cubicBezTo>
                  <a:pt x="5462" y="9475"/>
                  <a:pt x="5498" y="9530"/>
                  <a:pt x="5556" y="9588"/>
                </a:cubicBezTo>
                <a:cubicBezTo>
                  <a:pt x="5598" y="9629"/>
                  <a:pt x="5639" y="9646"/>
                  <a:pt x="5652" y="9684"/>
                </a:cubicBezTo>
              </a:path>
              <a:path w="1113" h="668">
                <a:moveTo>
                  <a:pt x="5620" y="9303"/>
                </a:moveTo>
                <a:cubicBezTo>
                  <a:pt x="5574" y="9336"/>
                  <a:pt x="5531" y="9347"/>
                  <a:pt x="5493" y="9398"/>
                </a:cubicBezTo>
                <a:cubicBezTo>
                  <a:pt x="5433" y="9480"/>
                  <a:pt x="5394" y="9573"/>
                  <a:pt x="5334" y="9652"/>
                </a:cubicBezTo>
                <a:cubicBezTo>
                  <a:pt x="5304" y="9693"/>
                  <a:pt x="5301" y="9707"/>
                  <a:pt x="5270" y="9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Ink 6"/>
          <p:cNvSpPr/>
          <p:nvPr/>
        </p:nvSpPr>
        <p:spPr>
          <a:xfrm>
            <a:off x="2822400" y="3235320"/>
            <a:ext cx="503280" cy="239760"/>
          </a:xfrm>
          <a:custGeom>
            <a:avLst/>
            <a:gdLst/>
            <a:ahLst/>
            <a:rect l="l" t="t" r="r" b="b"/>
            <a:pathLst>
              <a:path w="1398" h="668">
                <a:moveTo>
                  <a:pt x="7842" y="9334"/>
                </a:moveTo>
                <a:cubicBezTo>
                  <a:pt x="7890" y="9299"/>
                  <a:pt x="7908" y="9303"/>
                  <a:pt x="7969" y="9303"/>
                </a:cubicBezTo>
                <a:cubicBezTo>
                  <a:pt x="8033" y="9303"/>
                  <a:pt x="8096" y="9303"/>
                  <a:pt x="8160" y="9303"/>
                </a:cubicBezTo>
              </a:path>
              <a:path w="1398" h="668">
                <a:moveTo>
                  <a:pt x="8414" y="9144"/>
                </a:moveTo>
                <a:cubicBezTo>
                  <a:pt x="8431" y="9044"/>
                  <a:pt x="8436" y="9097"/>
                  <a:pt x="8509" y="9049"/>
                </a:cubicBezTo>
                <a:cubicBezTo>
                  <a:pt x="8535" y="9032"/>
                  <a:pt x="8601" y="8970"/>
                  <a:pt x="8636" y="8985"/>
                </a:cubicBezTo>
                <a:cubicBezTo>
                  <a:pt x="8662" y="8996"/>
                  <a:pt x="8734" y="9048"/>
                  <a:pt x="8731" y="9080"/>
                </a:cubicBezTo>
                <a:cubicBezTo>
                  <a:pt x="8722" y="9166"/>
                  <a:pt x="8655" y="9267"/>
                  <a:pt x="8604" y="9334"/>
                </a:cubicBezTo>
                <a:cubicBezTo>
                  <a:pt x="8557" y="9396"/>
                  <a:pt x="8477" y="9413"/>
                  <a:pt x="8446" y="9493"/>
                </a:cubicBezTo>
                <a:cubicBezTo>
                  <a:pt x="8433" y="9526"/>
                  <a:pt x="8423" y="9553"/>
                  <a:pt x="8414" y="9588"/>
                </a:cubicBezTo>
                <a:cubicBezTo>
                  <a:pt x="8426" y="9552"/>
                  <a:pt x="8458" y="9531"/>
                  <a:pt x="8509" y="9525"/>
                </a:cubicBezTo>
                <a:cubicBezTo>
                  <a:pt x="8580" y="9517"/>
                  <a:pt x="8607" y="9542"/>
                  <a:pt x="8636" y="9557"/>
                </a:cubicBezTo>
                <a:cubicBezTo>
                  <a:pt x="8677" y="9577"/>
                  <a:pt x="8669" y="9588"/>
                  <a:pt x="8731" y="9588"/>
                </a:cubicBezTo>
                <a:cubicBezTo>
                  <a:pt x="8767" y="9588"/>
                  <a:pt x="8781" y="9585"/>
                  <a:pt x="8795" y="9557"/>
                </a:cubicBezTo>
              </a:path>
              <a:path w="1398" h="668">
                <a:moveTo>
                  <a:pt x="8890" y="9176"/>
                </a:moveTo>
                <a:cubicBezTo>
                  <a:pt x="8879" y="9176"/>
                  <a:pt x="8869" y="9176"/>
                  <a:pt x="8858" y="9176"/>
                </a:cubicBezTo>
                <a:cubicBezTo>
                  <a:pt x="8887" y="9186"/>
                  <a:pt x="8927" y="9229"/>
                  <a:pt x="8954" y="9271"/>
                </a:cubicBezTo>
                <a:cubicBezTo>
                  <a:pt x="9003" y="9347"/>
                  <a:pt x="9054" y="9421"/>
                  <a:pt x="9112" y="9493"/>
                </a:cubicBezTo>
                <a:cubicBezTo>
                  <a:pt x="9129" y="9514"/>
                  <a:pt x="9200" y="9615"/>
                  <a:pt x="9208" y="9620"/>
                </a:cubicBezTo>
                <a:cubicBezTo>
                  <a:pt x="9218" y="9620"/>
                  <a:pt x="9229" y="9620"/>
                  <a:pt x="9239" y="9620"/>
                </a:cubicBezTo>
              </a:path>
              <a:path w="1398" h="668">
                <a:moveTo>
                  <a:pt x="9176" y="9239"/>
                </a:moveTo>
                <a:cubicBezTo>
                  <a:pt x="9159" y="9306"/>
                  <a:pt x="9101" y="9346"/>
                  <a:pt x="9049" y="9398"/>
                </a:cubicBezTo>
                <a:cubicBezTo>
                  <a:pt x="8965" y="9483"/>
                  <a:pt x="8879" y="9567"/>
                  <a:pt x="8795" y="9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Ink 7"/>
          <p:cNvSpPr/>
          <p:nvPr/>
        </p:nvSpPr>
        <p:spPr>
          <a:xfrm>
            <a:off x="3760920" y="2949480"/>
            <a:ext cx="1703160" cy="696960"/>
          </a:xfrm>
          <a:custGeom>
            <a:avLst/>
            <a:gdLst/>
            <a:ahLst/>
            <a:rect l="l" t="t" r="r" b="b"/>
            <a:pathLst>
              <a:path w="4731" h="1937">
                <a:moveTo>
                  <a:pt x="10446" y="8541"/>
                </a:moveTo>
                <a:cubicBezTo>
                  <a:pt x="10496" y="8553"/>
                  <a:pt x="10516" y="8572"/>
                  <a:pt x="10573" y="8572"/>
                </a:cubicBezTo>
                <a:cubicBezTo>
                  <a:pt x="10641" y="8572"/>
                  <a:pt x="10675" y="8555"/>
                  <a:pt x="10732" y="8541"/>
                </a:cubicBezTo>
              </a:path>
              <a:path w="4731" h="1937">
                <a:moveTo>
                  <a:pt x="11049" y="8350"/>
                </a:moveTo>
                <a:cubicBezTo>
                  <a:pt x="11060" y="8350"/>
                  <a:pt x="11070" y="8350"/>
                  <a:pt x="11081" y="8350"/>
                </a:cubicBezTo>
              </a:path>
              <a:path w="4731" h="1937">
                <a:moveTo>
                  <a:pt x="11049" y="8350"/>
                </a:moveTo>
                <a:cubicBezTo>
                  <a:pt x="11060" y="8371"/>
                  <a:pt x="11070" y="8393"/>
                  <a:pt x="11081" y="8414"/>
                </a:cubicBezTo>
              </a:path>
              <a:path w="4731" h="1937">
                <a:moveTo>
                  <a:pt x="11081" y="8414"/>
                </a:moveTo>
                <a:cubicBezTo>
                  <a:pt x="11062" y="8469"/>
                  <a:pt x="11029" y="8546"/>
                  <a:pt x="11017" y="8604"/>
                </a:cubicBezTo>
                <a:cubicBezTo>
                  <a:pt x="10995" y="8708"/>
                  <a:pt x="11033" y="8797"/>
                  <a:pt x="11049" y="8890"/>
                </a:cubicBezTo>
                <a:cubicBezTo>
                  <a:pt x="11061" y="8962"/>
                  <a:pt x="11064" y="9025"/>
                  <a:pt x="11112" y="9080"/>
                </a:cubicBezTo>
                <a:cubicBezTo>
                  <a:pt x="11146" y="9119"/>
                  <a:pt x="11183" y="9128"/>
                  <a:pt x="11240" y="9144"/>
                </a:cubicBezTo>
                <a:cubicBezTo>
                  <a:pt x="11267" y="9120"/>
                  <a:pt x="11340" y="9088"/>
                  <a:pt x="11366" y="9049"/>
                </a:cubicBezTo>
                <a:cubicBezTo>
                  <a:pt x="11427" y="8957"/>
                  <a:pt x="11447" y="8837"/>
                  <a:pt x="11462" y="8731"/>
                </a:cubicBezTo>
                <a:cubicBezTo>
                  <a:pt x="11472" y="8660"/>
                  <a:pt x="11462" y="8581"/>
                  <a:pt x="11462" y="8509"/>
                </a:cubicBezTo>
                <a:cubicBezTo>
                  <a:pt x="11462" y="8575"/>
                  <a:pt x="11485" y="8570"/>
                  <a:pt x="11494" y="8636"/>
                </a:cubicBezTo>
                <a:cubicBezTo>
                  <a:pt x="11511" y="8762"/>
                  <a:pt x="11508" y="8892"/>
                  <a:pt x="11525" y="9017"/>
                </a:cubicBezTo>
                <a:cubicBezTo>
                  <a:pt x="11540" y="9130"/>
                  <a:pt x="11553" y="9254"/>
                  <a:pt x="11557" y="9366"/>
                </a:cubicBezTo>
                <a:cubicBezTo>
                  <a:pt x="11563" y="9533"/>
                  <a:pt x="11588" y="9753"/>
                  <a:pt x="11525" y="9906"/>
                </a:cubicBezTo>
                <a:cubicBezTo>
                  <a:pt x="11487" y="9997"/>
                  <a:pt x="11449" y="10046"/>
                  <a:pt x="11366" y="10096"/>
                </a:cubicBezTo>
                <a:cubicBezTo>
                  <a:pt x="11298" y="10137"/>
                  <a:pt x="11211" y="10108"/>
                  <a:pt x="11144" y="10065"/>
                </a:cubicBezTo>
                <a:cubicBezTo>
                  <a:pt x="11074" y="10020"/>
                  <a:pt x="11022" y="9950"/>
                  <a:pt x="11017" y="9874"/>
                </a:cubicBezTo>
                <a:cubicBezTo>
                  <a:pt x="11017" y="9853"/>
                  <a:pt x="11017" y="9832"/>
                  <a:pt x="11017" y="9811"/>
                </a:cubicBezTo>
              </a:path>
              <a:path w="4731" h="1937">
                <a:moveTo>
                  <a:pt x="11843" y="8731"/>
                </a:moveTo>
                <a:cubicBezTo>
                  <a:pt x="11853" y="8731"/>
                  <a:pt x="11864" y="8731"/>
                  <a:pt x="11874" y="8731"/>
                </a:cubicBezTo>
                <a:cubicBezTo>
                  <a:pt x="11895" y="8794"/>
                  <a:pt x="11912" y="8742"/>
                  <a:pt x="11970" y="8763"/>
                </a:cubicBezTo>
                <a:cubicBezTo>
                  <a:pt x="12081" y="8803"/>
                  <a:pt x="12050" y="8791"/>
                  <a:pt x="12160" y="8763"/>
                </a:cubicBezTo>
                <a:cubicBezTo>
                  <a:pt x="12212" y="8750"/>
                  <a:pt x="12271" y="8736"/>
                  <a:pt x="12319" y="8731"/>
                </a:cubicBezTo>
                <a:cubicBezTo>
                  <a:pt x="12330" y="8731"/>
                  <a:pt x="12340" y="8731"/>
                  <a:pt x="12351" y="8731"/>
                </a:cubicBezTo>
              </a:path>
              <a:path w="4731" h="1937">
                <a:moveTo>
                  <a:pt x="11906" y="9080"/>
                </a:moveTo>
                <a:cubicBezTo>
                  <a:pt x="11975" y="9080"/>
                  <a:pt x="11998" y="9065"/>
                  <a:pt x="12065" y="9049"/>
                </a:cubicBezTo>
                <a:cubicBezTo>
                  <a:pt x="12119" y="9036"/>
                  <a:pt x="12129" y="9026"/>
                  <a:pt x="12192" y="9017"/>
                </a:cubicBezTo>
              </a:path>
              <a:path w="4731" h="1937">
                <a:moveTo>
                  <a:pt x="12510" y="8477"/>
                </a:moveTo>
                <a:lnTo>
                  <a:pt x="12510" y="8477"/>
                </a:lnTo>
              </a:path>
              <a:path w="4731" h="1937">
                <a:moveTo>
                  <a:pt x="12510" y="8477"/>
                </a:moveTo>
                <a:lnTo>
                  <a:pt x="12510" y="8477"/>
                </a:lnTo>
                <a:lnTo>
                  <a:pt x="12510" y="8477"/>
                </a:lnTo>
              </a:path>
              <a:path w="4731" h="1937">
                <a:moveTo>
                  <a:pt x="12510" y="8477"/>
                </a:moveTo>
                <a:cubicBezTo>
                  <a:pt x="12584" y="8477"/>
                  <a:pt x="12658" y="8477"/>
                  <a:pt x="12732" y="8477"/>
                </a:cubicBezTo>
              </a:path>
              <a:path w="4731" h="1937">
                <a:moveTo>
                  <a:pt x="12986" y="8350"/>
                </a:moveTo>
                <a:cubicBezTo>
                  <a:pt x="12986" y="8339"/>
                  <a:pt x="12986" y="8329"/>
                  <a:pt x="12986" y="8318"/>
                </a:cubicBezTo>
              </a:path>
              <a:path w="4731" h="1937">
                <a:moveTo>
                  <a:pt x="12986" y="8350"/>
                </a:moveTo>
                <a:cubicBezTo>
                  <a:pt x="12997" y="8329"/>
                  <a:pt x="13007" y="8308"/>
                  <a:pt x="13018" y="8287"/>
                </a:cubicBezTo>
              </a:path>
              <a:path w="4731" h="1937">
                <a:moveTo>
                  <a:pt x="13018" y="8287"/>
                </a:moveTo>
                <a:cubicBezTo>
                  <a:pt x="13080" y="8271"/>
                  <a:pt x="13117" y="8211"/>
                  <a:pt x="13176" y="8192"/>
                </a:cubicBezTo>
                <a:cubicBezTo>
                  <a:pt x="13254" y="8167"/>
                  <a:pt x="13317" y="8209"/>
                  <a:pt x="13335" y="8287"/>
                </a:cubicBezTo>
                <a:cubicBezTo>
                  <a:pt x="13362" y="8402"/>
                  <a:pt x="13279" y="8540"/>
                  <a:pt x="13240" y="8636"/>
                </a:cubicBezTo>
                <a:cubicBezTo>
                  <a:pt x="13193" y="8751"/>
                  <a:pt x="13166" y="8872"/>
                  <a:pt x="13113" y="8985"/>
                </a:cubicBezTo>
                <a:cubicBezTo>
                  <a:pt x="13081" y="9053"/>
                  <a:pt x="12943" y="9176"/>
                  <a:pt x="13018" y="9176"/>
                </a:cubicBezTo>
                <a:cubicBezTo>
                  <a:pt x="13057" y="9176"/>
                  <a:pt x="13051" y="9069"/>
                  <a:pt x="13113" y="9049"/>
                </a:cubicBezTo>
                <a:cubicBezTo>
                  <a:pt x="13184" y="9026"/>
                  <a:pt x="13249" y="9069"/>
                  <a:pt x="13303" y="9080"/>
                </a:cubicBezTo>
                <a:cubicBezTo>
                  <a:pt x="13438" y="9108"/>
                  <a:pt x="13356" y="9074"/>
                  <a:pt x="13462" y="9144"/>
                </a:cubicBezTo>
                <a:cubicBezTo>
                  <a:pt x="13526" y="9187"/>
                  <a:pt x="13521" y="9107"/>
                  <a:pt x="13526" y="9080"/>
                </a:cubicBezTo>
              </a:path>
              <a:path w="4731" h="1937">
                <a:moveTo>
                  <a:pt x="13557" y="8477"/>
                </a:moveTo>
                <a:cubicBezTo>
                  <a:pt x="13557" y="8488"/>
                  <a:pt x="13557" y="8498"/>
                  <a:pt x="13557" y="8509"/>
                </a:cubicBezTo>
                <a:cubicBezTo>
                  <a:pt x="13596" y="8522"/>
                  <a:pt x="13622" y="8586"/>
                  <a:pt x="13652" y="8636"/>
                </a:cubicBezTo>
                <a:cubicBezTo>
                  <a:pt x="13703" y="8721"/>
                  <a:pt x="13711" y="8816"/>
                  <a:pt x="13780" y="8890"/>
                </a:cubicBezTo>
                <a:cubicBezTo>
                  <a:pt x="13817" y="8930"/>
                  <a:pt x="13864" y="9059"/>
                  <a:pt x="13906" y="9080"/>
                </a:cubicBezTo>
                <a:cubicBezTo>
                  <a:pt x="13958" y="9106"/>
                  <a:pt x="13970" y="9197"/>
                  <a:pt x="13970" y="9144"/>
                </a:cubicBezTo>
              </a:path>
              <a:path w="4731" h="1937">
                <a:moveTo>
                  <a:pt x="13938" y="8446"/>
                </a:moveTo>
                <a:cubicBezTo>
                  <a:pt x="13924" y="8502"/>
                  <a:pt x="13896" y="8551"/>
                  <a:pt x="13875" y="8604"/>
                </a:cubicBezTo>
                <a:cubicBezTo>
                  <a:pt x="13829" y="8719"/>
                  <a:pt x="13795" y="8839"/>
                  <a:pt x="13748" y="8954"/>
                </a:cubicBezTo>
                <a:cubicBezTo>
                  <a:pt x="13715" y="9034"/>
                  <a:pt x="13664" y="9104"/>
                  <a:pt x="13621" y="9176"/>
                </a:cubicBezTo>
                <a:cubicBezTo>
                  <a:pt x="13595" y="9228"/>
                  <a:pt x="13584" y="9236"/>
                  <a:pt x="13589" y="9271"/>
                </a:cubicBezTo>
              </a:path>
              <a:path w="4731" h="1937">
                <a:moveTo>
                  <a:pt x="14414" y="8731"/>
                </a:moveTo>
                <a:cubicBezTo>
                  <a:pt x="14373" y="8843"/>
                  <a:pt x="14396" y="8876"/>
                  <a:pt x="14414" y="8985"/>
                </a:cubicBezTo>
                <a:cubicBezTo>
                  <a:pt x="14414" y="9038"/>
                  <a:pt x="14414" y="9048"/>
                  <a:pt x="14414" y="9080"/>
                </a:cubicBezTo>
              </a:path>
              <a:path w="4731" h="1937">
                <a:moveTo>
                  <a:pt x="14192" y="8858"/>
                </a:moveTo>
                <a:cubicBezTo>
                  <a:pt x="14242" y="8846"/>
                  <a:pt x="14262" y="8826"/>
                  <a:pt x="14319" y="8826"/>
                </a:cubicBezTo>
                <a:cubicBezTo>
                  <a:pt x="14393" y="8826"/>
                  <a:pt x="14468" y="8826"/>
                  <a:pt x="14542" y="8826"/>
                </a:cubicBezTo>
              </a:path>
              <a:path w="4731" h="1937">
                <a:moveTo>
                  <a:pt x="14700" y="8382"/>
                </a:moveTo>
                <a:cubicBezTo>
                  <a:pt x="14760" y="8382"/>
                  <a:pt x="14781" y="8360"/>
                  <a:pt x="14827" y="8350"/>
                </a:cubicBezTo>
                <a:cubicBezTo>
                  <a:pt x="14897" y="8335"/>
                  <a:pt x="14960" y="8356"/>
                  <a:pt x="15018" y="8318"/>
                </a:cubicBezTo>
                <a:cubicBezTo>
                  <a:pt x="15048" y="8299"/>
                  <a:pt x="15101" y="8263"/>
                  <a:pt x="15145" y="8287"/>
                </a:cubicBezTo>
                <a:cubicBezTo>
                  <a:pt x="15194" y="8314"/>
                  <a:pt x="15188" y="8432"/>
                  <a:pt x="15176" y="8477"/>
                </a:cubicBezTo>
                <a:cubicBezTo>
                  <a:pt x="15148" y="8579"/>
                  <a:pt x="15145" y="8653"/>
                  <a:pt x="15145" y="8763"/>
                </a:cubicBezTo>
                <a:cubicBezTo>
                  <a:pt x="15145" y="8908"/>
                  <a:pt x="15139" y="9050"/>
                  <a:pt x="15176" y="9176"/>
                </a:cubicBezTo>
                <a:cubicBezTo>
                  <a:pt x="15176" y="9208"/>
                  <a:pt x="15176" y="9218"/>
                  <a:pt x="15176" y="92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Ink 8"/>
          <p:cNvSpPr/>
          <p:nvPr/>
        </p:nvSpPr>
        <p:spPr>
          <a:xfrm>
            <a:off x="6035760" y="2182680"/>
            <a:ext cx="2743200" cy="1555920"/>
          </a:xfrm>
          <a:custGeom>
            <a:avLst/>
            <a:gdLst/>
            <a:ahLst/>
            <a:rect l="l" t="t" r="r" b="b"/>
            <a:pathLst>
              <a:path w="7621" h="4319">
                <a:moveTo>
                  <a:pt x="16828" y="8414"/>
                </a:moveTo>
                <a:cubicBezTo>
                  <a:pt x="16814" y="8471"/>
                  <a:pt x="16801" y="8505"/>
                  <a:pt x="16796" y="8572"/>
                </a:cubicBezTo>
                <a:cubicBezTo>
                  <a:pt x="16791" y="8639"/>
                  <a:pt x="16764" y="8690"/>
                  <a:pt x="16764" y="8763"/>
                </a:cubicBezTo>
                <a:cubicBezTo>
                  <a:pt x="16764" y="8861"/>
                  <a:pt x="16775" y="8927"/>
                  <a:pt x="16796" y="9017"/>
                </a:cubicBezTo>
                <a:cubicBezTo>
                  <a:pt x="16809" y="9074"/>
                  <a:pt x="16793" y="9139"/>
                  <a:pt x="16859" y="9176"/>
                </a:cubicBezTo>
                <a:cubicBezTo>
                  <a:pt x="16870" y="9176"/>
                  <a:pt x="16880" y="9176"/>
                  <a:pt x="16891" y="9176"/>
                </a:cubicBezTo>
                <a:cubicBezTo>
                  <a:pt x="16929" y="9163"/>
                  <a:pt x="16956" y="9099"/>
                  <a:pt x="16986" y="9049"/>
                </a:cubicBezTo>
                <a:cubicBezTo>
                  <a:pt x="17034" y="8970"/>
                  <a:pt x="17022" y="8877"/>
                  <a:pt x="17050" y="8795"/>
                </a:cubicBezTo>
                <a:cubicBezTo>
                  <a:pt x="17077" y="8713"/>
                  <a:pt x="17082" y="8660"/>
                  <a:pt x="17082" y="8572"/>
                </a:cubicBezTo>
                <a:cubicBezTo>
                  <a:pt x="17082" y="8541"/>
                  <a:pt x="17082" y="8530"/>
                  <a:pt x="17082" y="8509"/>
                </a:cubicBezTo>
                <a:cubicBezTo>
                  <a:pt x="17082" y="8435"/>
                  <a:pt x="17110" y="8559"/>
                  <a:pt x="17113" y="8572"/>
                </a:cubicBezTo>
                <a:cubicBezTo>
                  <a:pt x="17130" y="8653"/>
                  <a:pt x="17137" y="8778"/>
                  <a:pt x="17145" y="8858"/>
                </a:cubicBezTo>
                <a:cubicBezTo>
                  <a:pt x="17160" y="9008"/>
                  <a:pt x="17159" y="9154"/>
                  <a:pt x="17177" y="9303"/>
                </a:cubicBezTo>
                <a:cubicBezTo>
                  <a:pt x="17195" y="9449"/>
                  <a:pt x="17160" y="9578"/>
                  <a:pt x="17145" y="9716"/>
                </a:cubicBezTo>
                <a:cubicBezTo>
                  <a:pt x="17134" y="9817"/>
                  <a:pt x="17137" y="9944"/>
                  <a:pt x="17082" y="10033"/>
                </a:cubicBezTo>
                <a:cubicBezTo>
                  <a:pt x="17061" y="10068"/>
                  <a:pt x="17000" y="10121"/>
                  <a:pt x="16954" y="10096"/>
                </a:cubicBezTo>
                <a:cubicBezTo>
                  <a:pt x="16832" y="10029"/>
                  <a:pt x="16862" y="9992"/>
                  <a:pt x="16828" y="9874"/>
                </a:cubicBezTo>
                <a:cubicBezTo>
                  <a:pt x="16806" y="9797"/>
                  <a:pt x="16772" y="9706"/>
                  <a:pt x="16796" y="9620"/>
                </a:cubicBezTo>
                <a:cubicBezTo>
                  <a:pt x="16818" y="9540"/>
                  <a:pt x="16840" y="9467"/>
                  <a:pt x="16891" y="9398"/>
                </a:cubicBezTo>
                <a:cubicBezTo>
                  <a:pt x="16930" y="9346"/>
                  <a:pt x="16993" y="9366"/>
                  <a:pt x="17050" y="9366"/>
                </a:cubicBezTo>
                <a:cubicBezTo>
                  <a:pt x="17120" y="9366"/>
                  <a:pt x="17104" y="9348"/>
                  <a:pt x="17177" y="9366"/>
                </a:cubicBezTo>
              </a:path>
              <a:path w="7621" h="4319">
                <a:moveTo>
                  <a:pt x="17590" y="8668"/>
                </a:moveTo>
                <a:lnTo>
                  <a:pt x="17590" y="8668"/>
                </a:lnTo>
              </a:path>
              <a:path w="7621" h="4319">
                <a:moveTo>
                  <a:pt x="17590" y="8668"/>
                </a:moveTo>
                <a:cubicBezTo>
                  <a:pt x="17600" y="8668"/>
                  <a:pt x="17611" y="8668"/>
                  <a:pt x="17621" y="8668"/>
                </a:cubicBezTo>
              </a:path>
              <a:path w="7621" h="4319">
                <a:moveTo>
                  <a:pt x="17621" y="8668"/>
                </a:moveTo>
                <a:cubicBezTo>
                  <a:pt x="17621" y="8679"/>
                  <a:pt x="17621" y="8689"/>
                  <a:pt x="17621" y="8700"/>
                </a:cubicBezTo>
                <a:cubicBezTo>
                  <a:pt x="17693" y="8700"/>
                  <a:pt x="17721" y="8712"/>
                  <a:pt x="17780" y="8731"/>
                </a:cubicBezTo>
                <a:cubicBezTo>
                  <a:pt x="17823" y="8745"/>
                  <a:pt x="17894" y="8731"/>
                  <a:pt x="17939" y="8731"/>
                </a:cubicBezTo>
              </a:path>
              <a:path w="7621" h="4319">
                <a:moveTo>
                  <a:pt x="17653" y="8954"/>
                </a:moveTo>
                <a:lnTo>
                  <a:pt x="17653" y="8954"/>
                </a:lnTo>
              </a:path>
              <a:path w="7621" h="4319">
                <a:moveTo>
                  <a:pt x="17653" y="8954"/>
                </a:moveTo>
                <a:cubicBezTo>
                  <a:pt x="17664" y="8964"/>
                  <a:pt x="17674" y="8975"/>
                  <a:pt x="17685" y="8985"/>
                </a:cubicBezTo>
              </a:path>
              <a:path w="7621" h="4319">
                <a:moveTo>
                  <a:pt x="17685" y="8985"/>
                </a:moveTo>
                <a:cubicBezTo>
                  <a:pt x="17782" y="8985"/>
                  <a:pt x="17858" y="8989"/>
                  <a:pt x="17939" y="9017"/>
                </a:cubicBezTo>
                <a:cubicBezTo>
                  <a:pt x="17994" y="9036"/>
                  <a:pt x="17982" y="8990"/>
                  <a:pt x="18002" y="9049"/>
                </a:cubicBezTo>
              </a:path>
              <a:path w="7621" h="4319">
                <a:moveTo>
                  <a:pt x="18256" y="8414"/>
                </a:moveTo>
                <a:cubicBezTo>
                  <a:pt x="18271" y="8325"/>
                  <a:pt x="18291" y="8284"/>
                  <a:pt x="18352" y="8223"/>
                </a:cubicBezTo>
                <a:cubicBezTo>
                  <a:pt x="18403" y="8172"/>
                  <a:pt x="18417" y="8152"/>
                  <a:pt x="18478" y="8192"/>
                </a:cubicBezTo>
                <a:cubicBezTo>
                  <a:pt x="18554" y="8242"/>
                  <a:pt x="18557" y="8367"/>
                  <a:pt x="18542" y="8446"/>
                </a:cubicBezTo>
                <a:cubicBezTo>
                  <a:pt x="18517" y="8574"/>
                  <a:pt x="18497" y="8703"/>
                  <a:pt x="18447" y="8826"/>
                </a:cubicBezTo>
                <a:cubicBezTo>
                  <a:pt x="18417" y="8899"/>
                  <a:pt x="18334" y="9012"/>
                  <a:pt x="18320" y="9080"/>
                </a:cubicBezTo>
                <a:cubicBezTo>
                  <a:pt x="18304" y="9160"/>
                  <a:pt x="18326" y="9217"/>
                  <a:pt x="18256" y="9239"/>
                </a:cubicBezTo>
                <a:cubicBezTo>
                  <a:pt x="18263" y="9219"/>
                  <a:pt x="18286" y="9161"/>
                  <a:pt x="18320" y="9144"/>
                </a:cubicBezTo>
                <a:cubicBezTo>
                  <a:pt x="18365" y="9144"/>
                  <a:pt x="18381" y="9132"/>
                  <a:pt x="18383" y="9080"/>
                </a:cubicBezTo>
                <a:cubicBezTo>
                  <a:pt x="18431" y="9104"/>
                  <a:pt x="18462" y="9161"/>
                  <a:pt x="18510" y="9208"/>
                </a:cubicBezTo>
                <a:cubicBezTo>
                  <a:pt x="18543" y="9240"/>
                  <a:pt x="18575" y="9267"/>
                  <a:pt x="18606" y="9271"/>
                </a:cubicBezTo>
                <a:cubicBezTo>
                  <a:pt x="18677" y="9280"/>
                  <a:pt x="18636" y="9304"/>
                  <a:pt x="18701" y="9271"/>
                </a:cubicBezTo>
              </a:path>
              <a:path w="7621" h="4319">
                <a:moveTo>
                  <a:pt x="18701" y="8572"/>
                </a:moveTo>
                <a:cubicBezTo>
                  <a:pt x="18744" y="8587"/>
                  <a:pt x="18766" y="8644"/>
                  <a:pt x="18796" y="8700"/>
                </a:cubicBezTo>
                <a:cubicBezTo>
                  <a:pt x="18838" y="8779"/>
                  <a:pt x="18904" y="8898"/>
                  <a:pt x="18923" y="8985"/>
                </a:cubicBezTo>
                <a:cubicBezTo>
                  <a:pt x="18941" y="9068"/>
                  <a:pt x="18991" y="9121"/>
                  <a:pt x="19018" y="9208"/>
                </a:cubicBezTo>
                <a:cubicBezTo>
                  <a:pt x="19034" y="9259"/>
                  <a:pt x="19033" y="9220"/>
                  <a:pt x="19050" y="9271"/>
                </a:cubicBezTo>
              </a:path>
              <a:path w="7621" h="4319">
                <a:moveTo>
                  <a:pt x="18986" y="8668"/>
                </a:moveTo>
                <a:cubicBezTo>
                  <a:pt x="18940" y="8762"/>
                  <a:pt x="18893" y="8872"/>
                  <a:pt x="18828" y="8954"/>
                </a:cubicBezTo>
                <a:cubicBezTo>
                  <a:pt x="18762" y="9037"/>
                  <a:pt x="18729" y="9122"/>
                  <a:pt x="18669" y="9208"/>
                </a:cubicBezTo>
                <a:cubicBezTo>
                  <a:pt x="18640" y="9236"/>
                  <a:pt x="18629" y="9242"/>
                  <a:pt x="18637" y="9271"/>
                </a:cubicBezTo>
              </a:path>
              <a:path w="7621" h="4319">
                <a:moveTo>
                  <a:pt x="19304" y="8858"/>
                </a:moveTo>
                <a:cubicBezTo>
                  <a:pt x="19354" y="8870"/>
                  <a:pt x="19374" y="8890"/>
                  <a:pt x="19431" y="8890"/>
                </a:cubicBezTo>
                <a:cubicBezTo>
                  <a:pt x="19484" y="8890"/>
                  <a:pt x="19537" y="8890"/>
                  <a:pt x="19590" y="8890"/>
                </a:cubicBezTo>
              </a:path>
              <a:path w="7621" h="4319">
                <a:moveTo>
                  <a:pt x="19526" y="8414"/>
                </a:moveTo>
                <a:cubicBezTo>
                  <a:pt x="19559" y="8422"/>
                  <a:pt x="19612" y="8469"/>
                  <a:pt x="19653" y="8446"/>
                </a:cubicBezTo>
                <a:cubicBezTo>
                  <a:pt x="19725" y="8406"/>
                  <a:pt x="19767" y="8437"/>
                  <a:pt x="19844" y="8414"/>
                </a:cubicBezTo>
                <a:cubicBezTo>
                  <a:pt x="19912" y="8394"/>
                  <a:pt x="19932" y="8382"/>
                  <a:pt x="20002" y="8382"/>
                </a:cubicBezTo>
                <a:cubicBezTo>
                  <a:pt x="20036" y="8382"/>
                  <a:pt x="20128" y="8381"/>
                  <a:pt x="20098" y="8446"/>
                </a:cubicBezTo>
                <a:cubicBezTo>
                  <a:pt x="20077" y="8492"/>
                  <a:pt x="20083" y="8524"/>
                  <a:pt x="20066" y="8572"/>
                </a:cubicBezTo>
                <a:cubicBezTo>
                  <a:pt x="20034" y="8661"/>
                  <a:pt x="20058" y="8739"/>
                  <a:pt x="20034" y="8826"/>
                </a:cubicBezTo>
                <a:cubicBezTo>
                  <a:pt x="20012" y="8904"/>
                  <a:pt x="19981" y="9011"/>
                  <a:pt x="19971" y="9080"/>
                </a:cubicBezTo>
                <a:cubicBezTo>
                  <a:pt x="19957" y="9178"/>
                  <a:pt x="19951" y="9270"/>
                  <a:pt x="19939" y="9366"/>
                </a:cubicBezTo>
              </a:path>
              <a:path w="7621" h="4319">
                <a:moveTo>
                  <a:pt x="21304" y="7556"/>
                </a:moveTo>
                <a:cubicBezTo>
                  <a:pt x="21304" y="7642"/>
                  <a:pt x="21323" y="7701"/>
                  <a:pt x="21336" y="7779"/>
                </a:cubicBezTo>
                <a:cubicBezTo>
                  <a:pt x="21351" y="7870"/>
                  <a:pt x="21357" y="7978"/>
                  <a:pt x="21368" y="8064"/>
                </a:cubicBezTo>
                <a:cubicBezTo>
                  <a:pt x="21372" y="8098"/>
                  <a:pt x="21368" y="8352"/>
                  <a:pt x="21368" y="8287"/>
                </a:cubicBezTo>
                <a:cubicBezTo>
                  <a:pt x="21368" y="8276"/>
                  <a:pt x="21368" y="8266"/>
                  <a:pt x="21368" y="8255"/>
                </a:cubicBezTo>
                <a:cubicBezTo>
                  <a:pt x="21328" y="8149"/>
                  <a:pt x="21336" y="8054"/>
                  <a:pt x="21336" y="7938"/>
                </a:cubicBezTo>
                <a:cubicBezTo>
                  <a:pt x="21336" y="7805"/>
                  <a:pt x="21355" y="7650"/>
                  <a:pt x="21400" y="7525"/>
                </a:cubicBezTo>
                <a:cubicBezTo>
                  <a:pt x="21418" y="7474"/>
                  <a:pt x="21456" y="7327"/>
                  <a:pt x="21495" y="7302"/>
                </a:cubicBezTo>
                <a:cubicBezTo>
                  <a:pt x="21505" y="7302"/>
                  <a:pt x="21516" y="7302"/>
                  <a:pt x="21526" y="7302"/>
                </a:cubicBezTo>
                <a:cubicBezTo>
                  <a:pt x="21587" y="7409"/>
                  <a:pt x="21590" y="7459"/>
                  <a:pt x="21590" y="7588"/>
                </a:cubicBezTo>
                <a:cubicBezTo>
                  <a:pt x="21590" y="7711"/>
                  <a:pt x="21652" y="8035"/>
                  <a:pt x="21558" y="8128"/>
                </a:cubicBezTo>
                <a:cubicBezTo>
                  <a:pt x="21495" y="8191"/>
                  <a:pt x="21590" y="7963"/>
                  <a:pt x="21590" y="7874"/>
                </a:cubicBezTo>
                <a:cubicBezTo>
                  <a:pt x="21590" y="7728"/>
                  <a:pt x="21615" y="7569"/>
                  <a:pt x="21654" y="7430"/>
                </a:cubicBezTo>
                <a:cubicBezTo>
                  <a:pt x="21677" y="7347"/>
                  <a:pt x="21685" y="7303"/>
                  <a:pt x="21749" y="7271"/>
                </a:cubicBezTo>
                <a:cubicBezTo>
                  <a:pt x="21776" y="7289"/>
                  <a:pt x="21804" y="7403"/>
                  <a:pt x="21812" y="7461"/>
                </a:cubicBezTo>
                <a:cubicBezTo>
                  <a:pt x="21828" y="7584"/>
                  <a:pt x="21831" y="7719"/>
                  <a:pt x="21844" y="7842"/>
                </a:cubicBezTo>
                <a:cubicBezTo>
                  <a:pt x="21861" y="8005"/>
                  <a:pt x="21832" y="8172"/>
                  <a:pt x="21876" y="8318"/>
                </a:cubicBezTo>
                <a:cubicBezTo>
                  <a:pt x="21889" y="8362"/>
                  <a:pt x="21935" y="8370"/>
                  <a:pt x="21971" y="8318"/>
                </a:cubicBezTo>
                <a:cubicBezTo>
                  <a:pt x="22006" y="8268"/>
                  <a:pt x="22036" y="8213"/>
                  <a:pt x="22066" y="8160"/>
                </a:cubicBezTo>
              </a:path>
              <a:path w="7621" h="4319">
                <a:moveTo>
                  <a:pt x="22034" y="7620"/>
                </a:moveTo>
                <a:cubicBezTo>
                  <a:pt x="22087" y="7620"/>
                  <a:pt x="22140" y="7620"/>
                  <a:pt x="22193" y="7620"/>
                </a:cubicBezTo>
              </a:path>
              <a:path w="7621" h="4319">
                <a:moveTo>
                  <a:pt x="22225" y="7620"/>
                </a:moveTo>
                <a:cubicBezTo>
                  <a:pt x="22236" y="7620"/>
                  <a:pt x="22246" y="7620"/>
                  <a:pt x="22257" y="7620"/>
                </a:cubicBezTo>
              </a:path>
              <a:path w="7621" h="4319">
                <a:moveTo>
                  <a:pt x="22066" y="7938"/>
                </a:moveTo>
                <a:cubicBezTo>
                  <a:pt x="22123" y="7924"/>
                  <a:pt x="22162" y="7890"/>
                  <a:pt x="22225" y="7874"/>
                </a:cubicBezTo>
                <a:cubicBezTo>
                  <a:pt x="22236" y="7874"/>
                  <a:pt x="22246" y="7874"/>
                  <a:pt x="22257" y="7874"/>
                </a:cubicBezTo>
              </a:path>
              <a:path w="7621" h="4319">
                <a:moveTo>
                  <a:pt x="22574" y="7461"/>
                </a:moveTo>
                <a:cubicBezTo>
                  <a:pt x="22520" y="7444"/>
                  <a:pt x="22535" y="7410"/>
                  <a:pt x="22574" y="7366"/>
                </a:cubicBezTo>
                <a:cubicBezTo>
                  <a:pt x="22631" y="7302"/>
                  <a:pt x="22670" y="7239"/>
                  <a:pt x="22733" y="7176"/>
                </a:cubicBezTo>
                <a:cubicBezTo>
                  <a:pt x="22788" y="7121"/>
                  <a:pt x="22809" y="7133"/>
                  <a:pt x="22860" y="7144"/>
                </a:cubicBezTo>
                <a:cubicBezTo>
                  <a:pt x="22907" y="7155"/>
                  <a:pt x="22935" y="7239"/>
                  <a:pt x="22924" y="7302"/>
                </a:cubicBezTo>
                <a:cubicBezTo>
                  <a:pt x="22901" y="7433"/>
                  <a:pt x="22850" y="7628"/>
                  <a:pt x="22796" y="7747"/>
                </a:cubicBezTo>
                <a:cubicBezTo>
                  <a:pt x="22740" y="7872"/>
                  <a:pt x="22687" y="7997"/>
                  <a:pt x="22638" y="8128"/>
                </a:cubicBezTo>
                <a:cubicBezTo>
                  <a:pt x="22613" y="8194"/>
                  <a:pt x="22588" y="8316"/>
                  <a:pt x="22511" y="8350"/>
                </a:cubicBezTo>
                <a:cubicBezTo>
                  <a:pt x="22500" y="8350"/>
                  <a:pt x="22490" y="8350"/>
                  <a:pt x="22479" y="8350"/>
                </a:cubicBezTo>
                <a:cubicBezTo>
                  <a:pt x="22487" y="8318"/>
                  <a:pt x="22506" y="8241"/>
                  <a:pt x="22542" y="8223"/>
                </a:cubicBezTo>
                <a:cubicBezTo>
                  <a:pt x="22583" y="8202"/>
                  <a:pt x="22576" y="8192"/>
                  <a:pt x="22638" y="8192"/>
                </a:cubicBezTo>
                <a:cubicBezTo>
                  <a:pt x="22675" y="8192"/>
                  <a:pt x="22763" y="8233"/>
                  <a:pt x="22796" y="8255"/>
                </a:cubicBezTo>
                <a:cubicBezTo>
                  <a:pt x="22867" y="8303"/>
                  <a:pt x="22902" y="8343"/>
                  <a:pt x="22987" y="8350"/>
                </a:cubicBezTo>
                <a:cubicBezTo>
                  <a:pt x="23053" y="8356"/>
                  <a:pt x="23069" y="8332"/>
                  <a:pt x="23114" y="8287"/>
                </a:cubicBezTo>
                <a:cubicBezTo>
                  <a:pt x="23201" y="8201"/>
                  <a:pt x="23188" y="8110"/>
                  <a:pt x="23209" y="8001"/>
                </a:cubicBezTo>
                <a:cubicBezTo>
                  <a:pt x="23220" y="7959"/>
                  <a:pt x="23230" y="7916"/>
                  <a:pt x="23241" y="7874"/>
                </a:cubicBezTo>
              </a:path>
              <a:path w="7621" h="4319">
                <a:moveTo>
                  <a:pt x="21590" y="8858"/>
                </a:moveTo>
                <a:cubicBezTo>
                  <a:pt x="21579" y="8847"/>
                  <a:pt x="21569" y="8837"/>
                  <a:pt x="21558" y="8826"/>
                </a:cubicBezTo>
              </a:path>
              <a:path w="7621" h="4319">
                <a:moveTo>
                  <a:pt x="21590" y="8858"/>
                </a:moveTo>
                <a:lnTo>
                  <a:pt x="21590" y="8858"/>
                </a:lnTo>
              </a:path>
              <a:path w="7621" h="4319">
                <a:moveTo>
                  <a:pt x="21526" y="8858"/>
                </a:moveTo>
                <a:cubicBezTo>
                  <a:pt x="21526" y="8929"/>
                  <a:pt x="21555" y="8977"/>
                  <a:pt x="21558" y="9049"/>
                </a:cubicBezTo>
                <a:cubicBezTo>
                  <a:pt x="21563" y="9159"/>
                  <a:pt x="21586" y="9259"/>
                  <a:pt x="21590" y="9366"/>
                </a:cubicBezTo>
                <a:cubicBezTo>
                  <a:pt x="21594" y="9490"/>
                  <a:pt x="21616" y="9596"/>
                  <a:pt x="21622" y="9716"/>
                </a:cubicBezTo>
                <a:cubicBezTo>
                  <a:pt x="21623" y="9744"/>
                  <a:pt x="21622" y="9948"/>
                  <a:pt x="21622" y="9874"/>
                </a:cubicBezTo>
                <a:cubicBezTo>
                  <a:pt x="21622" y="9732"/>
                  <a:pt x="21609" y="9594"/>
                  <a:pt x="21654" y="9462"/>
                </a:cubicBezTo>
                <a:cubicBezTo>
                  <a:pt x="21677" y="9396"/>
                  <a:pt x="21704" y="9273"/>
                  <a:pt x="21780" y="9239"/>
                </a:cubicBezTo>
                <a:cubicBezTo>
                  <a:pt x="21829" y="9217"/>
                  <a:pt x="21906" y="9242"/>
                  <a:pt x="21939" y="9271"/>
                </a:cubicBezTo>
                <a:cubicBezTo>
                  <a:pt x="22012" y="9337"/>
                  <a:pt x="22029" y="9432"/>
                  <a:pt x="22034" y="9525"/>
                </a:cubicBezTo>
                <a:cubicBezTo>
                  <a:pt x="22038" y="9608"/>
                  <a:pt x="22004" y="9714"/>
                  <a:pt x="21971" y="9779"/>
                </a:cubicBezTo>
                <a:cubicBezTo>
                  <a:pt x="21946" y="9829"/>
                  <a:pt x="21873" y="9952"/>
                  <a:pt x="21812" y="9970"/>
                </a:cubicBezTo>
                <a:cubicBezTo>
                  <a:pt x="21727" y="9994"/>
                  <a:pt x="21727" y="9978"/>
                  <a:pt x="21654" y="9970"/>
                </a:cubicBezTo>
                <a:cubicBezTo>
                  <a:pt x="21587" y="9963"/>
                  <a:pt x="21590" y="9933"/>
                  <a:pt x="21590" y="9874"/>
                </a:cubicBezTo>
                <a:cubicBezTo>
                  <a:pt x="21590" y="9863"/>
                  <a:pt x="21590" y="9853"/>
                  <a:pt x="21590" y="9842"/>
                </a:cubicBezTo>
              </a:path>
              <a:path w="7621" h="4319">
                <a:moveTo>
                  <a:pt x="22225" y="9239"/>
                </a:moveTo>
                <a:cubicBezTo>
                  <a:pt x="22292" y="9239"/>
                  <a:pt x="22316" y="9214"/>
                  <a:pt x="22384" y="9208"/>
                </a:cubicBezTo>
                <a:cubicBezTo>
                  <a:pt x="22446" y="9203"/>
                  <a:pt x="22511" y="9208"/>
                  <a:pt x="22574" y="9208"/>
                </a:cubicBezTo>
              </a:path>
              <a:path w="7621" h="4319">
                <a:moveTo>
                  <a:pt x="22320" y="9588"/>
                </a:moveTo>
                <a:cubicBezTo>
                  <a:pt x="22376" y="9630"/>
                  <a:pt x="22360" y="9630"/>
                  <a:pt x="22416" y="9588"/>
                </a:cubicBezTo>
              </a:path>
              <a:path w="7621" h="4319">
                <a:moveTo>
                  <a:pt x="22796" y="8890"/>
                </a:moveTo>
                <a:cubicBezTo>
                  <a:pt x="22807" y="8890"/>
                  <a:pt x="22817" y="8890"/>
                  <a:pt x="22828" y="8890"/>
                </a:cubicBezTo>
                <a:cubicBezTo>
                  <a:pt x="22844" y="8938"/>
                  <a:pt x="22867" y="8922"/>
                  <a:pt x="22924" y="8922"/>
                </a:cubicBezTo>
                <a:cubicBezTo>
                  <a:pt x="22988" y="8922"/>
                  <a:pt x="22999" y="8907"/>
                  <a:pt x="23050" y="8890"/>
                </a:cubicBezTo>
                <a:cubicBezTo>
                  <a:pt x="23074" y="8882"/>
                  <a:pt x="23120" y="8890"/>
                  <a:pt x="23146" y="8890"/>
                </a:cubicBezTo>
              </a:path>
              <a:path w="7621" h="4319">
                <a:moveTo>
                  <a:pt x="23209" y="8763"/>
                </a:moveTo>
                <a:cubicBezTo>
                  <a:pt x="23280" y="8763"/>
                  <a:pt x="23300" y="8748"/>
                  <a:pt x="23368" y="8731"/>
                </a:cubicBezTo>
                <a:cubicBezTo>
                  <a:pt x="23424" y="8717"/>
                  <a:pt x="23626" y="8706"/>
                  <a:pt x="23654" y="8763"/>
                </a:cubicBezTo>
                <a:cubicBezTo>
                  <a:pt x="23658" y="8772"/>
                  <a:pt x="23629" y="8871"/>
                  <a:pt x="23622" y="8890"/>
                </a:cubicBezTo>
                <a:cubicBezTo>
                  <a:pt x="23592" y="8975"/>
                  <a:pt x="23585" y="9061"/>
                  <a:pt x="23558" y="9144"/>
                </a:cubicBezTo>
                <a:cubicBezTo>
                  <a:pt x="23536" y="9210"/>
                  <a:pt x="23504" y="9307"/>
                  <a:pt x="23495" y="9366"/>
                </a:cubicBezTo>
                <a:cubicBezTo>
                  <a:pt x="23481" y="9459"/>
                  <a:pt x="23502" y="9566"/>
                  <a:pt x="23463" y="9652"/>
                </a:cubicBezTo>
                <a:cubicBezTo>
                  <a:pt x="23453" y="9663"/>
                  <a:pt x="23442" y="9673"/>
                  <a:pt x="23432" y="9684"/>
                </a:cubicBezTo>
              </a:path>
              <a:path w="7621" h="4319">
                <a:moveTo>
                  <a:pt x="22384" y="10192"/>
                </a:moveTo>
                <a:cubicBezTo>
                  <a:pt x="22414" y="10215"/>
                  <a:pt x="22430" y="10263"/>
                  <a:pt x="22479" y="10287"/>
                </a:cubicBezTo>
                <a:cubicBezTo>
                  <a:pt x="22551" y="10322"/>
                  <a:pt x="22589" y="10305"/>
                  <a:pt x="22670" y="10319"/>
                </a:cubicBezTo>
                <a:cubicBezTo>
                  <a:pt x="22783" y="10339"/>
                  <a:pt x="22900" y="10360"/>
                  <a:pt x="23019" y="10350"/>
                </a:cubicBezTo>
                <a:cubicBezTo>
                  <a:pt x="23125" y="10341"/>
                  <a:pt x="23265" y="10298"/>
                  <a:pt x="23368" y="10255"/>
                </a:cubicBezTo>
                <a:cubicBezTo>
                  <a:pt x="23507" y="10197"/>
                  <a:pt x="23636" y="10100"/>
                  <a:pt x="23749" y="10001"/>
                </a:cubicBezTo>
                <a:cubicBezTo>
                  <a:pt x="23881" y="9885"/>
                  <a:pt x="23982" y="9779"/>
                  <a:pt x="24066" y="9620"/>
                </a:cubicBezTo>
                <a:cubicBezTo>
                  <a:pt x="24146" y="9468"/>
                  <a:pt x="24240" y="9337"/>
                  <a:pt x="24289" y="9176"/>
                </a:cubicBezTo>
                <a:cubicBezTo>
                  <a:pt x="24340" y="9010"/>
                  <a:pt x="24379" y="8841"/>
                  <a:pt x="24384" y="8668"/>
                </a:cubicBezTo>
                <a:cubicBezTo>
                  <a:pt x="24389" y="8482"/>
                  <a:pt x="24365" y="8309"/>
                  <a:pt x="24352" y="8128"/>
                </a:cubicBezTo>
                <a:cubicBezTo>
                  <a:pt x="24338" y="7935"/>
                  <a:pt x="24319" y="7743"/>
                  <a:pt x="24257" y="7556"/>
                </a:cubicBezTo>
                <a:cubicBezTo>
                  <a:pt x="24170" y="7295"/>
                  <a:pt x="24021" y="6974"/>
                  <a:pt x="23844" y="6763"/>
                </a:cubicBezTo>
                <a:cubicBezTo>
                  <a:pt x="23685" y="6574"/>
                  <a:pt x="23527" y="6400"/>
                  <a:pt x="23304" y="6286"/>
                </a:cubicBezTo>
                <a:cubicBezTo>
                  <a:pt x="23108" y="6186"/>
                  <a:pt x="22915" y="6139"/>
                  <a:pt x="22701" y="6096"/>
                </a:cubicBezTo>
                <a:cubicBezTo>
                  <a:pt x="22501" y="6056"/>
                  <a:pt x="22270" y="6041"/>
                  <a:pt x="22066" y="6064"/>
                </a:cubicBezTo>
                <a:cubicBezTo>
                  <a:pt x="21881" y="6085"/>
                  <a:pt x="21623" y="6160"/>
                  <a:pt x="21463" y="6255"/>
                </a:cubicBezTo>
                <a:cubicBezTo>
                  <a:pt x="21237" y="6390"/>
                  <a:pt x="21036" y="6575"/>
                  <a:pt x="20860" y="6763"/>
                </a:cubicBezTo>
                <a:cubicBezTo>
                  <a:pt x="20728" y="6904"/>
                  <a:pt x="20581" y="7087"/>
                  <a:pt x="20510" y="7271"/>
                </a:cubicBezTo>
                <a:cubicBezTo>
                  <a:pt x="20443" y="7445"/>
                  <a:pt x="20369" y="7654"/>
                  <a:pt x="20352" y="7842"/>
                </a:cubicBezTo>
                <a:cubicBezTo>
                  <a:pt x="20334" y="8042"/>
                  <a:pt x="20347" y="8251"/>
                  <a:pt x="20384" y="8446"/>
                </a:cubicBezTo>
                <a:cubicBezTo>
                  <a:pt x="20420" y="8639"/>
                  <a:pt x="20444" y="8864"/>
                  <a:pt x="20510" y="9049"/>
                </a:cubicBezTo>
                <a:cubicBezTo>
                  <a:pt x="20573" y="9223"/>
                  <a:pt x="20663" y="9431"/>
                  <a:pt x="20764" y="9588"/>
                </a:cubicBezTo>
                <a:cubicBezTo>
                  <a:pt x="20860" y="9737"/>
                  <a:pt x="20964" y="9849"/>
                  <a:pt x="21082" y="9970"/>
                </a:cubicBezTo>
                <a:cubicBezTo>
                  <a:pt x="21222" y="10115"/>
                  <a:pt x="21404" y="10216"/>
                  <a:pt x="21590" y="10287"/>
                </a:cubicBezTo>
                <a:cubicBezTo>
                  <a:pt x="21732" y="10341"/>
                  <a:pt x="21918" y="10369"/>
                  <a:pt x="22066" y="10382"/>
                </a:cubicBezTo>
                <a:cubicBezTo>
                  <a:pt x="22228" y="10396"/>
                  <a:pt x="22385" y="10333"/>
                  <a:pt x="22542" y="10319"/>
                </a:cubicBezTo>
                <a:cubicBezTo>
                  <a:pt x="22719" y="10304"/>
                  <a:pt x="22825" y="10248"/>
                  <a:pt x="22987" y="10192"/>
                </a:cubicBezTo>
                <a:cubicBezTo>
                  <a:pt x="23095" y="10155"/>
                  <a:pt x="23197" y="10101"/>
                  <a:pt x="23304" y="10065"/>
                </a:cubicBezTo>
                <a:cubicBezTo>
                  <a:pt x="23402" y="10032"/>
                  <a:pt x="23456" y="10062"/>
                  <a:pt x="23495" y="100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Ink 9"/>
          <p:cNvSpPr/>
          <p:nvPr/>
        </p:nvSpPr>
        <p:spPr>
          <a:xfrm>
            <a:off x="114480" y="2982960"/>
            <a:ext cx="1257120" cy="1727280"/>
          </a:xfrm>
          <a:custGeom>
            <a:avLst/>
            <a:gdLst/>
            <a:ahLst/>
            <a:rect l="l" t="t" r="r" b="b"/>
            <a:pathLst>
              <a:path w="3493" h="4795">
                <a:moveTo>
                  <a:pt x="2159" y="8287"/>
                </a:moveTo>
                <a:cubicBezTo>
                  <a:pt x="2159" y="8462"/>
                  <a:pt x="2161" y="8624"/>
                  <a:pt x="2127" y="8795"/>
                </a:cubicBezTo>
                <a:cubicBezTo>
                  <a:pt x="2088" y="8994"/>
                  <a:pt x="2066" y="9197"/>
                  <a:pt x="2032" y="9398"/>
                </a:cubicBezTo>
                <a:cubicBezTo>
                  <a:pt x="1970" y="9758"/>
                  <a:pt x="1940" y="10117"/>
                  <a:pt x="1905" y="10478"/>
                </a:cubicBezTo>
                <a:cubicBezTo>
                  <a:pt x="1871" y="10837"/>
                  <a:pt x="1879" y="11199"/>
                  <a:pt x="1842" y="11557"/>
                </a:cubicBezTo>
                <a:cubicBezTo>
                  <a:pt x="1815" y="11820"/>
                  <a:pt x="1810" y="12089"/>
                  <a:pt x="1778" y="12351"/>
                </a:cubicBezTo>
                <a:cubicBezTo>
                  <a:pt x="1752" y="12560"/>
                  <a:pt x="1696" y="12784"/>
                  <a:pt x="1651" y="12986"/>
                </a:cubicBezTo>
                <a:cubicBezTo>
                  <a:pt x="1625" y="13038"/>
                  <a:pt x="1614" y="13046"/>
                  <a:pt x="1619" y="13081"/>
                </a:cubicBezTo>
              </a:path>
              <a:path w="3493" h="4795">
                <a:moveTo>
                  <a:pt x="318" y="10954"/>
                </a:moveTo>
                <a:cubicBezTo>
                  <a:pt x="403" y="10988"/>
                  <a:pt x="394" y="11012"/>
                  <a:pt x="508" y="11017"/>
                </a:cubicBezTo>
                <a:cubicBezTo>
                  <a:pt x="650" y="11024"/>
                  <a:pt x="782" y="11017"/>
                  <a:pt x="921" y="10986"/>
                </a:cubicBezTo>
                <a:cubicBezTo>
                  <a:pt x="1119" y="10942"/>
                  <a:pt x="1322" y="10927"/>
                  <a:pt x="1524" y="10890"/>
                </a:cubicBezTo>
                <a:cubicBezTo>
                  <a:pt x="1768" y="10846"/>
                  <a:pt x="2038" y="10813"/>
                  <a:pt x="2286" y="10795"/>
                </a:cubicBezTo>
                <a:cubicBezTo>
                  <a:pt x="2519" y="10778"/>
                  <a:pt x="2749" y="10763"/>
                  <a:pt x="2984" y="10763"/>
                </a:cubicBezTo>
                <a:cubicBezTo>
                  <a:pt x="3173" y="10763"/>
                  <a:pt x="3367" y="10702"/>
                  <a:pt x="3556" y="10732"/>
                </a:cubicBezTo>
                <a:cubicBezTo>
                  <a:pt x="3647" y="10746"/>
                  <a:pt x="3716" y="10763"/>
                  <a:pt x="3810" y="107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Ink 10"/>
          <p:cNvSpPr/>
          <p:nvPr/>
        </p:nvSpPr>
        <p:spPr>
          <a:xfrm>
            <a:off x="3406680" y="4194000"/>
            <a:ext cx="822600" cy="606600"/>
          </a:xfrm>
          <a:custGeom>
            <a:avLst/>
            <a:gdLst/>
            <a:ahLst/>
            <a:rect l="l" t="t" r="r" b="b"/>
            <a:pathLst>
              <a:path w="2287" h="1684">
                <a:moveTo>
                  <a:pt x="9557" y="12033"/>
                </a:moveTo>
                <a:cubicBezTo>
                  <a:pt x="9557" y="12157"/>
                  <a:pt x="9571" y="12262"/>
                  <a:pt x="9588" y="12382"/>
                </a:cubicBezTo>
                <a:cubicBezTo>
                  <a:pt x="9617" y="12587"/>
                  <a:pt x="9589" y="12823"/>
                  <a:pt x="9557" y="13018"/>
                </a:cubicBezTo>
                <a:cubicBezTo>
                  <a:pt x="9543" y="13107"/>
                  <a:pt x="9578" y="13169"/>
                  <a:pt x="9525" y="13240"/>
                </a:cubicBezTo>
                <a:cubicBezTo>
                  <a:pt x="9525" y="13076"/>
                  <a:pt x="9521" y="12919"/>
                  <a:pt x="9557" y="12764"/>
                </a:cubicBezTo>
                <a:cubicBezTo>
                  <a:pt x="9569" y="12713"/>
                  <a:pt x="9593" y="12645"/>
                  <a:pt x="9620" y="12605"/>
                </a:cubicBezTo>
                <a:cubicBezTo>
                  <a:pt x="9646" y="12567"/>
                  <a:pt x="9708" y="12523"/>
                  <a:pt x="9747" y="12510"/>
                </a:cubicBezTo>
                <a:cubicBezTo>
                  <a:pt x="9785" y="12497"/>
                  <a:pt x="9849" y="12524"/>
                  <a:pt x="9874" y="12541"/>
                </a:cubicBezTo>
                <a:cubicBezTo>
                  <a:pt x="9935" y="12582"/>
                  <a:pt x="9968" y="12650"/>
                  <a:pt x="10001" y="12700"/>
                </a:cubicBezTo>
                <a:cubicBezTo>
                  <a:pt x="10033" y="12748"/>
                  <a:pt x="10055" y="12826"/>
                  <a:pt x="10033" y="12890"/>
                </a:cubicBezTo>
                <a:cubicBezTo>
                  <a:pt x="10009" y="12961"/>
                  <a:pt x="9998" y="13089"/>
                  <a:pt x="9938" y="13144"/>
                </a:cubicBezTo>
                <a:cubicBezTo>
                  <a:pt x="9874" y="13203"/>
                  <a:pt x="9818" y="13249"/>
                  <a:pt x="9747" y="13303"/>
                </a:cubicBezTo>
                <a:cubicBezTo>
                  <a:pt x="9694" y="13343"/>
                  <a:pt x="9654" y="13335"/>
                  <a:pt x="9588" y="13335"/>
                </a:cubicBezTo>
                <a:cubicBezTo>
                  <a:pt x="9559" y="13335"/>
                  <a:pt x="9477" y="13302"/>
                  <a:pt x="9462" y="13272"/>
                </a:cubicBezTo>
                <a:cubicBezTo>
                  <a:pt x="9436" y="13219"/>
                  <a:pt x="9465" y="13151"/>
                  <a:pt x="9493" y="13113"/>
                </a:cubicBezTo>
              </a:path>
              <a:path w="2287" h="1684">
                <a:moveTo>
                  <a:pt x="10224" y="12541"/>
                </a:moveTo>
                <a:cubicBezTo>
                  <a:pt x="10273" y="12529"/>
                  <a:pt x="10294" y="12510"/>
                  <a:pt x="10350" y="12510"/>
                </a:cubicBezTo>
                <a:cubicBezTo>
                  <a:pt x="10437" y="12510"/>
                  <a:pt x="10501" y="12503"/>
                  <a:pt x="10573" y="12478"/>
                </a:cubicBezTo>
                <a:cubicBezTo>
                  <a:pt x="10604" y="12478"/>
                  <a:pt x="10615" y="12478"/>
                  <a:pt x="10636" y="12478"/>
                </a:cubicBezTo>
              </a:path>
              <a:path w="2287" h="1684">
                <a:moveTo>
                  <a:pt x="10478" y="12764"/>
                </a:moveTo>
                <a:cubicBezTo>
                  <a:pt x="10467" y="12764"/>
                  <a:pt x="10457" y="12764"/>
                  <a:pt x="10446" y="12764"/>
                </a:cubicBezTo>
                <a:cubicBezTo>
                  <a:pt x="10476" y="12756"/>
                  <a:pt x="10546" y="12747"/>
                  <a:pt x="10573" y="12732"/>
                </a:cubicBezTo>
                <a:cubicBezTo>
                  <a:pt x="10604" y="12715"/>
                  <a:pt x="10654" y="12674"/>
                  <a:pt x="10700" y="12700"/>
                </a:cubicBezTo>
                <a:cubicBezTo>
                  <a:pt x="10711" y="12711"/>
                  <a:pt x="10721" y="12721"/>
                  <a:pt x="10732" y="12732"/>
                </a:cubicBezTo>
              </a:path>
              <a:path w="2287" h="1684">
                <a:moveTo>
                  <a:pt x="11176" y="11906"/>
                </a:moveTo>
                <a:lnTo>
                  <a:pt x="11176" y="11906"/>
                </a:lnTo>
              </a:path>
              <a:path w="2287" h="1684">
                <a:moveTo>
                  <a:pt x="11176" y="11906"/>
                </a:moveTo>
                <a:lnTo>
                  <a:pt x="11176" y="11906"/>
                </a:lnTo>
              </a:path>
              <a:path w="2287" h="1684">
                <a:moveTo>
                  <a:pt x="11176" y="11970"/>
                </a:moveTo>
                <a:cubicBezTo>
                  <a:pt x="11176" y="12072"/>
                  <a:pt x="11156" y="12162"/>
                  <a:pt x="11144" y="12256"/>
                </a:cubicBezTo>
                <a:cubicBezTo>
                  <a:pt x="11111" y="12517"/>
                  <a:pt x="11185" y="12808"/>
                  <a:pt x="11112" y="13049"/>
                </a:cubicBezTo>
                <a:cubicBezTo>
                  <a:pt x="11112" y="13060"/>
                  <a:pt x="11112" y="13070"/>
                  <a:pt x="11112" y="13081"/>
                </a:cubicBezTo>
              </a:path>
              <a:path w="2287" h="1684">
                <a:moveTo>
                  <a:pt x="11366" y="12065"/>
                </a:moveTo>
                <a:cubicBezTo>
                  <a:pt x="11435" y="12088"/>
                  <a:pt x="11382" y="12128"/>
                  <a:pt x="11366" y="12192"/>
                </a:cubicBezTo>
                <a:cubicBezTo>
                  <a:pt x="11349" y="12259"/>
                  <a:pt x="11357" y="12319"/>
                  <a:pt x="11335" y="12382"/>
                </a:cubicBezTo>
                <a:cubicBezTo>
                  <a:pt x="11314" y="12442"/>
                  <a:pt x="11306" y="12495"/>
                  <a:pt x="11271" y="12541"/>
                </a:cubicBezTo>
                <a:cubicBezTo>
                  <a:pt x="11292" y="12513"/>
                  <a:pt x="11322" y="12453"/>
                  <a:pt x="11335" y="12446"/>
                </a:cubicBezTo>
                <a:cubicBezTo>
                  <a:pt x="11376" y="12425"/>
                  <a:pt x="11411" y="12414"/>
                  <a:pt x="11462" y="12414"/>
                </a:cubicBezTo>
                <a:cubicBezTo>
                  <a:pt x="11555" y="12414"/>
                  <a:pt x="11634" y="12407"/>
                  <a:pt x="11684" y="12382"/>
                </a:cubicBezTo>
                <a:cubicBezTo>
                  <a:pt x="11695" y="12382"/>
                  <a:pt x="11705" y="12382"/>
                  <a:pt x="11716" y="12382"/>
                </a:cubicBezTo>
              </a:path>
              <a:path w="2287" h="1684">
                <a:moveTo>
                  <a:pt x="11684" y="11652"/>
                </a:moveTo>
                <a:cubicBezTo>
                  <a:pt x="11684" y="11775"/>
                  <a:pt x="11665" y="11883"/>
                  <a:pt x="11652" y="12002"/>
                </a:cubicBezTo>
                <a:cubicBezTo>
                  <a:pt x="11637" y="12136"/>
                  <a:pt x="11665" y="12343"/>
                  <a:pt x="11684" y="12478"/>
                </a:cubicBezTo>
                <a:cubicBezTo>
                  <a:pt x="11710" y="12666"/>
                  <a:pt x="11734" y="12859"/>
                  <a:pt x="11748" y="13049"/>
                </a:cubicBezTo>
                <a:cubicBezTo>
                  <a:pt x="11748" y="13091"/>
                  <a:pt x="11748" y="13134"/>
                  <a:pt x="11748" y="13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Ink 11"/>
          <p:cNvSpPr/>
          <p:nvPr/>
        </p:nvSpPr>
        <p:spPr>
          <a:xfrm>
            <a:off x="3394080" y="3794040"/>
            <a:ext cx="915840" cy="446040"/>
          </a:xfrm>
          <a:custGeom>
            <a:avLst/>
            <a:gdLst/>
            <a:ahLst/>
            <a:rect l="l" t="t" r="r" b="b"/>
            <a:pathLst>
              <a:path w="2541" h="1239">
                <a:moveTo>
                  <a:pt x="9430" y="10858"/>
                </a:moveTo>
                <a:cubicBezTo>
                  <a:pt x="9430" y="10940"/>
                  <a:pt x="9452" y="11005"/>
                  <a:pt x="9462" y="11081"/>
                </a:cubicBezTo>
                <a:cubicBezTo>
                  <a:pt x="9474" y="11174"/>
                  <a:pt x="9482" y="11277"/>
                  <a:pt x="9493" y="11366"/>
                </a:cubicBezTo>
                <a:cubicBezTo>
                  <a:pt x="9502" y="11437"/>
                  <a:pt x="9493" y="11517"/>
                  <a:pt x="9493" y="11589"/>
                </a:cubicBezTo>
                <a:cubicBezTo>
                  <a:pt x="9493" y="11546"/>
                  <a:pt x="9493" y="11568"/>
                  <a:pt x="9493" y="11525"/>
                </a:cubicBezTo>
                <a:cubicBezTo>
                  <a:pt x="9493" y="11421"/>
                  <a:pt x="9466" y="11343"/>
                  <a:pt x="9462" y="11240"/>
                </a:cubicBezTo>
                <a:cubicBezTo>
                  <a:pt x="9459" y="11153"/>
                  <a:pt x="9471" y="11006"/>
                  <a:pt x="9493" y="10922"/>
                </a:cubicBezTo>
                <a:cubicBezTo>
                  <a:pt x="9509" y="10863"/>
                  <a:pt x="9528" y="10779"/>
                  <a:pt x="9557" y="10732"/>
                </a:cubicBezTo>
                <a:cubicBezTo>
                  <a:pt x="9574" y="10704"/>
                  <a:pt x="9652" y="10678"/>
                  <a:pt x="9684" y="10700"/>
                </a:cubicBezTo>
                <a:cubicBezTo>
                  <a:pt x="9720" y="10725"/>
                  <a:pt x="9744" y="10843"/>
                  <a:pt x="9747" y="10890"/>
                </a:cubicBezTo>
                <a:cubicBezTo>
                  <a:pt x="9753" y="10999"/>
                  <a:pt x="9779" y="11096"/>
                  <a:pt x="9779" y="11208"/>
                </a:cubicBezTo>
                <a:cubicBezTo>
                  <a:pt x="9779" y="11282"/>
                  <a:pt x="9779" y="11356"/>
                  <a:pt x="9779" y="11430"/>
                </a:cubicBezTo>
                <a:cubicBezTo>
                  <a:pt x="9779" y="11353"/>
                  <a:pt x="9801" y="11347"/>
                  <a:pt x="9811" y="11271"/>
                </a:cubicBezTo>
                <a:cubicBezTo>
                  <a:pt x="9828" y="11141"/>
                  <a:pt x="9855" y="11019"/>
                  <a:pt x="9874" y="10890"/>
                </a:cubicBezTo>
                <a:cubicBezTo>
                  <a:pt x="9890" y="10782"/>
                  <a:pt x="9894" y="10722"/>
                  <a:pt x="9970" y="10636"/>
                </a:cubicBezTo>
                <a:cubicBezTo>
                  <a:pt x="9970" y="10604"/>
                  <a:pt x="9970" y="10594"/>
                  <a:pt x="10001" y="10604"/>
                </a:cubicBezTo>
                <a:cubicBezTo>
                  <a:pt x="10057" y="10660"/>
                  <a:pt x="10083" y="10716"/>
                  <a:pt x="10096" y="10795"/>
                </a:cubicBezTo>
                <a:cubicBezTo>
                  <a:pt x="10117" y="10925"/>
                  <a:pt x="10128" y="11041"/>
                  <a:pt x="10128" y="11176"/>
                </a:cubicBezTo>
                <a:cubicBezTo>
                  <a:pt x="10128" y="11299"/>
                  <a:pt x="10155" y="11406"/>
                  <a:pt x="10160" y="11525"/>
                </a:cubicBezTo>
                <a:cubicBezTo>
                  <a:pt x="10163" y="11608"/>
                  <a:pt x="10159" y="11674"/>
                  <a:pt x="10192" y="11748"/>
                </a:cubicBezTo>
                <a:cubicBezTo>
                  <a:pt x="10224" y="11748"/>
                  <a:pt x="10234" y="11748"/>
                  <a:pt x="10224" y="11779"/>
                </a:cubicBezTo>
                <a:cubicBezTo>
                  <a:pt x="10291" y="11770"/>
                  <a:pt x="10298" y="11768"/>
                  <a:pt x="10350" y="11716"/>
                </a:cubicBezTo>
                <a:cubicBezTo>
                  <a:pt x="10389" y="11677"/>
                  <a:pt x="10412" y="11631"/>
                  <a:pt x="10446" y="11589"/>
                </a:cubicBezTo>
              </a:path>
              <a:path w="2541" h="1239">
                <a:moveTo>
                  <a:pt x="10604" y="11049"/>
                </a:moveTo>
                <a:cubicBezTo>
                  <a:pt x="10675" y="10996"/>
                  <a:pt x="10663" y="11026"/>
                  <a:pt x="10732" y="11049"/>
                </a:cubicBezTo>
                <a:cubicBezTo>
                  <a:pt x="10774" y="11063"/>
                  <a:pt x="10846" y="11049"/>
                  <a:pt x="10890" y="11049"/>
                </a:cubicBezTo>
              </a:path>
              <a:path w="2541" h="1239">
                <a:moveTo>
                  <a:pt x="10636" y="11462"/>
                </a:moveTo>
                <a:cubicBezTo>
                  <a:pt x="10710" y="11462"/>
                  <a:pt x="10784" y="11462"/>
                  <a:pt x="10858" y="11462"/>
                </a:cubicBezTo>
              </a:path>
              <a:path w="2541" h="1239">
                <a:moveTo>
                  <a:pt x="11874" y="10700"/>
                </a:moveTo>
                <a:cubicBezTo>
                  <a:pt x="11833" y="10686"/>
                  <a:pt x="11836" y="10649"/>
                  <a:pt x="11811" y="10636"/>
                </a:cubicBezTo>
                <a:cubicBezTo>
                  <a:pt x="11779" y="10620"/>
                  <a:pt x="11740" y="10607"/>
                  <a:pt x="11716" y="10604"/>
                </a:cubicBezTo>
                <a:cubicBezTo>
                  <a:pt x="11640" y="10594"/>
                  <a:pt x="11517" y="10587"/>
                  <a:pt x="11462" y="10636"/>
                </a:cubicBezTo>
                <a:cubicBezTo>
                  <a:pt x="11418" y="10675"/>
                  <a:pt x="11381" y="10686"/>
                  <a:pt x="11335" y="10732"/>
                </a:cubicBezTo>
                <a:cubicBezTo>
                  <a:pt x="11280" y="10787"/>
                  <a:pt x="11293" y="10796"/>
                  <a:pt x="11271" y="10858"/>
                </a:cubicBezTo>
                <a:cubicBezTo>
                  <a:pt x="11255" y="10903"/>
                  <a:pt x="11217" y="10977"/>
                  <a:pt x="11208" y="11017"/>
                </a:cubicBezTo>
                <a:cubicBezTo>
                  <a:pt x="11190" y="11099"/>
                  <a:pt x="11220" y="11175"/>
                  <a:pt x="11240" y="11240"/>
                </a:cubicBezTo>
                <a:cubicBezTo>
                  <a:pt x="11259" y="11303"/>
                  <a:pt x="11225" y="11340"/>
                  <a:pt x="11271" y="11398"/>
                </a:cubicBezTo>
                <a:cubicBezTo>
                  <a:pt x="11294" y="11427"/>
                  <a:pt x="11355" y="11478"/>
                  <a:pt x="11366" y="11494"/>
                </a:cubicBezTo>
                <a:cubicBezTo>
                  <a:pt x="11400" y="11545"/>
                  <a:pt x="11386" y="11557"/>
                  <a:pt x="11462" y="11557"/>
                </a:cubicBezTo>
                <a:cubicBezTo>
                  <a:pt x="11540" y="11557"/>
                  <a:pt x="11590" y="11538"/>
                  <a:pt x="11652" y="11525"/>
                </a:cubicBezTo>
                <a:cubicBezTo>
                  <a:pt x="11721" y="11510"/>
                  <a:pt x="11758" y="11510"/>
                  <a:pt x="11811" y="11462"/>
                </a:cubicBezTo>
                <a:cubicBezTo>
                  <a:pt x="11860" y="11418"/>
                  <a:pt x="11917" y="11367"/>
                  <a:pt x="11938" y="11303"/>
                </a:cubicBezTo>
                <a:cubicBezTo>
                  <a:pt x="11957" y="11247"/>
                  <a:pt x="11970" y="11212"/>
                  <a:pt x="11970" y="11144"/>
                </a:cubicBezTo>
                <a:cubicBezTo>
                  <a:pt x="11970" y="11057"/>
                  <a:pt x="11952" y="10993"/>
                  <a:pt x="11938" y="10922"/>
                </a:cubicBezTo>
                <a:cubicBezTo>
                  <a:pt x="11922" y="10844"/>
                  <a:pt x="11893" y="10827"/>
                  <a:pt x="11874" y="10763"/>
                </a:cubicBezTo>
                <a:cubicBezTo>
                  <a:pt x="11857" y="10705"/>
                  <a:pt x="11844" y="10653"/>
                  <a:pt x="11811" y="10604"/>
                </a:cubicBezTo>
                <a:cubicBezTo>
                  <a:pt x="11790" y="10573"/>
                  <a:pt x="11738" y="10544"/>
                  <a:pt x="11716" y="10541"/>
                </a:cubicBezTo>
                <a:cubicBezTo>
                  <a:pt x="11660" y="10534"/>
                  <a:pt x="11637" y="10561"/>
                  <a:pt x="11589" y="10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Ink 12"/>
          <p:cNvSpPr/>
          <p:nvPr/>
        </p:nvSpPr>
        <p:spPr>
          <a:xfrm>
            <a:off x="7451640" y="4457880"/>
            <a:ext cx="1567080" cy="914400"/>
          </a:xfrm>
          <a:custGeom>
            <a:avLst/>
            <a:gdLst/>
            <a:ahLst/>
            <a:rect l="l" t="t" r="r" b="b"/>
            <a:pathLst>
              <a:path w="4351" h="2541">
                <a:moveTo>
                  <a:pt x="20892" y="12668"/>
                </a:moveTo>
                <a:cubicBezTo>
                  <a:pt x="20849" y="12740"/>
                  <a:pt x="20881" y="12780"/>
                  <a:pt x="20860" y="12859"/>
                </a:cubicBezTo>
                <a:cubicBezTo>
                  <a:pt x="20833" y="12961"/>
                  <a:pt x="20828" y="13033"/>
                  <a:pt x="20828" y="13144"/>
                </a:cubicBezTo>
                <a:cubicBezTo>
                  <a:pt x="20828" y="13230"/>
                  <a:pt x="20840" y="13377"/>
                  <a:pt x="20860" y="13462"/>
                </a:cubicBezTo>
                <a:cubicBezTo>
                  <a:pt x="20877" y="13531"/>
                  <a:pt x="20909" y="13589"/>
                  <a:pt x="20923" y="13652"/>
                </a:cubicBezTo>
                <a:cubicBezTo>
                  <a:pt x="20923" y="13663"/>
                  <a:pt x="20923" y="13673"/>
                  <a:pt x="20923" y="13684"/>
                </a:cubicBezTo>
                <a:cubicBezTo>
                  <a:pt x="20975" y="13647"/>
                  <a:pt x="21035" y="13613"/>
                  <a:pt x="21050" y="13526"/>
                </a:cubicBezTo>
                <a:cubicBezTo>
                  <a:pt x="21077" y="13369"/>
                  <a:pt x="21128" y="13207"/>
                  <a:pt x="21146" y="13049"/>
                </a:cubicBezTo>
                <a:cubicBezTo>
                  <a:pt x="21151" y="13007"/>
                  <a:pt x="21148" y="12865"/>
                  <a:pt x="21177" y="12827"/>
                </a:cubicBezTo>
                <a:cubicBezTo>
                  <a:pt x="21188" y="12827"/>
                  <a:pt x="21198" y="12827"/>
                  <a:pt x="21209" y="12827"/>
                </a:cubicBezTo>
                <a:cubicBezTo>
                  <a:pt x="21209" y="12930"/>
                  <a:pt x="21230" y="13014"/>
                  <a:pt x="21241" y="13113"/>
                </a:cubicBezTo>
                <a:cubicBezTo>
                  <a:pt x="21258" y="13257"/>
                  <a:pt x="21268" y="13412"/>
                  <a:pt x="21272" y="13557"/>
                </a:cubicBezTo>
                <a:cubicBezTo>
                  <a:pt x="21277" y="13731"/>
                  <a:pt x="21323" y="13927"/>
                  <a:pt x="21304" y="14097"/>
                </a:cubicBezTo>
                <a:cubicBezTo>
                  <a:pt x="21287" y="14253"/>
                  <a:pt x="21286" y="14422"/>
                  <a:pt x="21241" y="14573"/>
                </a:cubicBezTo>
                <a:cubicBezTo>
                  <a:pt x="21203" y="14702"/>
                  <a:pt x="21153" y="14738"/>
                  <a:pt x="21082" y="14827"/>
                </a:cubicBezTo>
                <a:cubicBezTo>
                  <a:pt x="21029" y="14894"/>
                  <a:pt x="21010" y="14932"/>
                  <a:pt x="20923" y="14891"/>
                </a:cubicBezTo>
                <a:cubicBezTo>
                  <a:pt x="20834" y="14850"/>
                  <a:pt x="20769" y="14760"/>
                  <a:pt x="20733" y="14668"/>
                </a:cubicBezTo>
                <a:cubicBezTo>
                  <a:pt x="20722" y="14626"/>
                  <a:pt x="20712" y="14584"/>
                  <a:pt x="20701" y="14542"/>
                </a:cubicBezTo>
              </a:path>
              <a:path w="4351" h="2541">
                <a:moveTo>
                  <a:pt x="21590" y="13240"/>
                </a:moveTo>
                <a:cubicBezTo>
                  <a:pt x="21664" y="13208"/>
                  <a:pt x="21698" y="13208"/>
                  <a:pt x="21780" y="13208"/>
                </a:cubicBezTo>
                <a:cubicBezTo>
                  <a:pt x="21862" y="13208"/>
                  <a:pt x="21939" y="13192"/>
                  <a:pt x="22003" y="13240"/>
                </a:cubicBezTo>
              </a:path>
              <a:path w="4351" h="2541">
                <a:moveTo>
                  <a:pt x="21622" y="13589"/>
                </a:moveTo>
                <a:cubicBezTo>
                  <a:pt x="21690" y="13589"/>
                  <a:pt x="21727" y="13568"/>
                  <a:pt x="21780" y="13557"/>
                </a:cubicBezTo>
                <a:cubicBezTo>
                  <a:pt x="21833" y="13557"/>
                  <a:pt x="21844" y="13557"/>
                  <a:pt x="21876" y="13557"/>
                </a:cubicBezTo>
              </a:path>
              <a:path w="4351" h="2541">
                <a:moveTo>
                  <a:pt x="22193" y="12605"/>
                </a:moveTo>
                <a:cubicBezTo>
                  <a:pt x="22193" y="12710"/>
                  <a:pt x="22167" y="12787"/>
                  <a:pt x="22162" y="12890"/>
                </a:cubicBezTo>
                <a:cubicBezTo>
                  <a:pt x="22157" y="13000"/>
                  <a:pt x="22136" y="13100"/>
                  <a:pt x="22130" y="13208"/>
                </a:cubicBezTo>
                <a:cubicBezTo>
                  <a:pt x="22128" y="13250"/>
                  <a:pt x="22130" y="13293"/>
                  <a:pt x="22130" y="13335"/>
                </a:cubicBezTo>
                <a:cubicBezTo>
                  <a:pt x="22144" y="13293"/>
                  <a:pt x="22181" y="13298"/>
                  <a:pt x="22193" y="13272"/>
                </a:cubicBezTo>
                <a:cubicBezTo>
                  <a:pt x="22225" y="13207"/>
                  <a:pt x="22231" y="13253"/>
                  <a:pt x="22288" y="13272"/>
                </a:cubicBezTo>
                <a:cubicBezTo>
                  <a:pt x="22331" y="13286"/>
                  <a:pt x="22379" y="13278"/>
                  <a:pt x="22416" y="13303"/>
                </a:cubicBezTo>
                <a:cubicBezTo>
                  <a:pt x="22466" y="13337"/>
                  <a:pt x="22468" y="13353"/>
                  <a:pt x="22511" y="13367"/>
                </a:cubicBezTo>
              </a:path>
              <a:path w="4351" h="2541">
                <a:moveTo>
                  <a:pt x="22511" y="12541"/>
                </a:moveTo>
                <a:cubicBezTo>
                  <a:pt x="22443" y="12564"/>
                  <a:pt x="22493" y="12658"/>
                  <a:pt x="22479" y="12732"/>
                </a:cubicBezTo>
                <a:cubicBezTo>
                  <a:pt x="22449" y="12886"/>
                  <a:pt x="22429" y="13051"/>
                  <a:pt x="22416" y="13208"/>
                </a:cubicBezTo>
                <a:cubicBezTo>
                  <a:pt x="22398" y="13430"/>
                  <a:pt x="22371" y="13761"/>
                  <a:pt x="22447" y="13970"/>
                </a:cubicBezTo>
              </a:path>
              <a:path w="4351" h="2541">
                <a:moveTo>
                  <a:pt x="22701" y="13589"/>
                </a:moveTo>
                <a:cubicBezTo>
                  <a:pt x="22701" y="13621"/>
                  <a:pt x="22701" y="13631"/>
                  <a:pt x="22701" y="13652"/>
                </a:cubicBezTo>
              </a:path>
              <a:path w="4351" h="2541">
                <a:moveTo>
                  <a:pt x="23082" y="12668"/>
                </a:moveTo>
                <a:cubicBezTo>
                  <a:pt x="23055" y="12598"/>
                  <a:pt x="23061" y="12535"/>
                  <a:pt x="23019" y="12478"/>
                </a:cubicBezTo>
                <a:cubicBezTo>
                  <a:pt x="22935" y="12478"/>
                  <a:pt x="22924" y="12510"/>
                  <a:pt x="22860" y="12573"/>
                </a:cubicBezTo>
                <a:cubicBezTo>
                  <a:pt x="22779" y="12654"/>
                  <a:pt x="22829" y="12706"/>
                  <a:pt x="22796" y="12795"/>
                </a:cubicBezTo>
                <a:cubicBezTo>
                  <a:pt x="22767" y="12873"/>
                  <a:pt x="22807" y="12927"/>
                  <a:pt x="22828" y="13018"/>
                </a:cubicBezTo>
                <a:cubicBezTo>
                  <a:pt x="22842" y="13078"/>
                  <a:pt x="22909" y="13157"/>
                  <a:pt x="22955" y="13208"/>
                </a:cubicBezTo>
                <a:cubicBezTo>
                  <a:pt x="23034" y="13297"/>
                  <a:pt x="23041" y="13385"/>
                  <a:pt x="23082" y="13494"/>
                </a:cubicBezTo>
                <a:cubicBezTo>
                  <a:pt x="23110" y="13567"/>
                  <a:pt x="23137" y="13666"/>
                  <a:pt x="23114" y="13748"/>
                </a:cubicBezTo>
                <a:cubicBezTo>
                  <a:pt x="23096" y="13811"/>
                  <a:pt x="23090" y="13830"/>
                  <a:pt x="23050" y="13843"/>
                </a:cubicBezTo>
                <a:cubicBezTo>
                  <a:pt x="22985" y="13826"/>
                  <a:pt x="22940" y="13756"/>
                  <a:pt x="22924" y="13684"/>
                </a:cubicBezTo>
                <a:cubicBezTo>
                  <a:pt x="22896" y="13557"/>
                  <a:pt x="22892" y="13435"/>
                  <a:pt x="22892" y="13303"/>
                </a:cubicBezTo>
                <a:cubicBezTo>
                  <a:pt x="22892" y="13190"/>
                  <a:pt x="22915" y="13060"/>
                  <a:pt x="22955" y="12954"/>
                </a:cubicBezTo>
                <a:cubicBezTo>
                  <a:pt x="22987" y="12890"/>
                  <a:pt x="22997" y="12869"/>
                  <a:pt x="23019" y="12827"/>
                </a:cubicBezTo>
              </a:path>
              <a:path w="4351" h="2541">
                <a:moveTo>
                  <a:pt x="23527" y="12382"/>
                </a:moveTo>
                <a:cubicBezTo>
                  <a:pt x="23590" y="12382"/>
                  <a:pt x="23487" y="12406"/>
                  <a:pt x="23463" y="12414"/>
                </a:cubicBezTo>
                <a:cubicBezTo>
                  <a:pt x="23418" y="12429"/>
                  <a:pt x="23380" y="12463"/>
                  <a:pt x="23336" y="12478"/>
                </a:cubicBezTo>
                <a:cubicBezTo>
                  <a:pt x="23293" y="12492"/>
                  <a:pt x="23257" y="12533"/>
                  <a:pt x="23241" y="12541"/>
                </a:cubicBezTo>
                <a:cubicBezTo>
                  <a:pt x="23217" y="12553"/>
                  <a:pt x="23182" y="12588"/>
                  <a:pt x="23209" y="12636"/>
                </a:cubicBezTo>
                <a:cubicBezTo>
                  <a:pt x="23245" y="12700"/>
                  <a:pt x="23241" y="12748"/>
                  <a:pt x="23241" y="12827"/>
                </a:cubicBezTo>
                <a:cubicBezTo>
                  <a:pt x="23241" y="12912"/>
                  <a:pt x="23241" y="12996"/>
                  <a:pt x="23241" y="13081"/>
                </a:cubicBezTo>
                <a:cubicBezTo>
                  <a:pt x="23296" y="13063"/>
                  <a:pt x="23272" y="13007"/>
                  <a:pt x="23304" y="12954"/>
                </a:cubicBezTo>
                <a:cubicBezTo>
                  <a:pt x="23321" y="12926"/>
                  <a:pt x="23395" y="12843"/>
                  <a:pt x="23432" y="12859"/>
                </a:cubicBezTo>
                <a:cubicBezTo>
                  <a:pt x="23506" y="12892"/>
                  <a:pt x="23507" y="12961"/>
                  <a:pt x="23527" y="13018"/>
                </a:cubicBezTo>
                <a:cubicBezTo>
                  <a:pt x="23558" y="13108"/>
                  <a:pt x="23575" y="13204"/>
                  <a:pt x="23558" y="13303"/>
                </a:cubicBezTo>
                <a:cubicBezTo>
                  <a:pt x="23541" y="13406"/>
                  <a:pt x="23493" y="13533"/>
                  <a:pt x="23432" y="13621"/>
                </a:cubicBezTo>
                <a:cubicBezTo>
                  <a:pt x="23402" y="13664"/>
                  <a:pt x="23352" y="13711"/>
                  <a:pt x="23304" y="13716"/>
                </a:cubicBezTo>
                <a:cubicBezTo>
                  <a:pt x="23238" y="13723"/>
                  <a:pt x="23229" y="13635"/>
                  <a:pt x="23209" y="13589"/>
                </a:cubicBezTo>
              </a:path>
              <a:path w="4351" h="2541">
                <a:moveTo>
                  <a:pt x="23590" y="12922"/>
                </a:moveTo>
                <a:cubicBezTo>
                  <a:pt x="23649" y="12996"/>
                  <a:pt x="23649" y="13060"/>
                  <a:pt x="23686" y="13144"/>
                </a:cubicBezTo>
                <a:cubicBezTo>
                  <a:pt x="23730" y="13245"/>
                  <a:pt x="23759" y="13367"/>
                  <a:pt x="23812" y="13462"/>
                </a:cubicBezTo>
                <a:cubicBezTo>
                  <a:pt x="23839" y="13510"/>
                  <a:pt x="23881" y="13581"/>
                  <a:pt x="23908" y="13621"/>
                </a:cubicBezTo>
                <a:cubicBezTo>
                  <a:pt x="23919" y="13631"/>
                  <a:pt x="23929" y="13642"/>
                  <a:pt x="23940" y="13652"/>
                </a:cubicBezTo>
              </a:path>
              <a:path w="4351" h="2541">
                <a:moveTo>
                  <a:pt x="23940" y="12732"/>
                </a:moveTo>
                <a:cubicBezTo>
                  <a:pt x="23918" y="12865"/>
                  <a:pt x="23857" y="12986"/>
                  <a:pt x="23812" y="13113"/>
                </a:cubicBezTo>
                <a:cubicBezTo>
                  <a:pt x="23717" y="13380"/>
                  <a:pt x="23635" y="13643"/>
                  <a:pt x="23527" y="13906"/>
                </a:cubicBezTo>
              </a:path>
              <a:path w="4351" h="2541">
                <a:moveTo>
                  <a:pt x="24257" y="12827"/>
                </a:moveTo>
                <a:cubicBezTo>
                  <a:pt x="24212" y="12887"/>
                  <a:pt x="24225" y="12939"/>
                  <a:pt x="24225" y="13018"/>
                </a:cubicBezTo>
                <a:cubicBezTo>
                  <a:pt x="24225" y="13155"/>
                  <a:pt x="24225" y="13293"/>
                  <a:pt x="24225" y="13430"/>
                </a:cubicBezTo>
              </a:path>
              <a:path w="4351" h="2541">
                <a:moveTo>
                  <a:pt x="24130" y="13208"/>
                </a:moveTo>
                <a:cubicBezTo>
                  <a:pt x="24179" y="13196"/>
                  <a:pt x="24218" y="13178"/>
                  <a:pt x="24257" y="13144"/>
                </a:cubicBezTo>
                <a:cubicBezTo>
                  <a:pt x="24291" y="13115"/>
                  <a:pt x="24321" y="13081"/>
                  <a:pt x="24352" y="13049"/>
                </a:cubicBezTo>
              </a:path>
              <a:path w="4351" h="2541">
                <a:moveTo>
                  <a:pt x="24511" y="12668"/>
                </a:moveTo>
                <a:cubicBezTo>
                  <a:pt x="24523" y="12621"/>
                  <a:pt x="24540" y="12579"/>
                  <a:pt x="24574" y="12541"/>
                </a:cubicBezTo>
                <a:cubicBezTo>
                  <a:pt x="24590" y="12523"/>
                  <a:pt x="24669" y="12436"/>
                  <a:pt x="24702" y="12478"/>
                </a:cubicBezTo>
                <a:cubicBezTo>
                  <a:pt x="24734" y="12518"/>
                  <a:pt x="24745" y="12612"/>
                  <a:pt x="24733" y="12668"/>
                </a:cubicBezTo>
                <a:cubicBezTo>
                  <a:pt x="24711" y="12774"/>
                  <a:pt x="24653" y="12889"/>
                  <a:pt x="24606" y="12986"/>
                </a:cubicBezTo>
                <a:cubicBezTo>
                  <a:pt x="24578" y="13045"/>
                  <a:pt x="24551" y="13094"/>
                  <a:pt x="24511" y="13144"/>
                </a:cubicBezTo>
                <a:cubicBezTo>
                  <a:pt x="24521" y="13104"/>
                  <a:pt x="24560" y="13038"/>
                  <a:pt x="24606" y="13018"/>
                </a:cubicBezTo>
                <a:cubicBezTo>
                  <a:pt x="24644" y="13001"/>
                  <a:pt x="24711" y="13017"/>
                  <a:pt x="24733" y="13049"/>
                </a:cubicBezTo>
                <a:cubicBezTo>
                  <a:pt x="24773" y="13106"/>
                  <a:pt x="24780" y="13205"/>
                  <a:pt x="24765" y="13272"/>
                </a:cubicBezTo>
                <a:cubicBezTo>
                  <a:pt x="24742" y="13375"/>
                  <a:pt x="24739" y="13501"/>
                  <a:pt x="24670" y="13589"/>
                </a:cubicBezTo>
                <a:cubicBezTo>
                  <a:pt x="24635" y="13634"/>
                  <a:pt x="24568" y="13710"/>
                  <a:pt x="24511" y="13716"/>
                </a:cubicBezTo>
                <a:cubicBezTo>
                  <a:pt x="24472" y="13720"/>
                  <a:pt x="24472" y="13685"/>
                  <a:pt x="24448" y="13652"/>
                </a:cubicBezTo>
              </a:path>
              <a:path w="4351" h="2541">
                <a:moveTo>
                  <a:pt x="24892" y="12605"/>
                </a:moveTo>
                <a:cubicBezTo>
                  <a:pt x="24892" y="12709"/>
                  <a:pt x="24882" y="12822"/>
                  <a:pt x="24860" y="12922"/>
                </a:cubicBezTo>
                <a:cubicBezTo>
                  <a:pt x="24831" y="13053"/>
                  <a:pt x="24828" y="13167"/>
                  <a:pt x="24828" y="13303"/>
                </a:cubicBezTo>
                <a:cubicBezTo>
                  <a:pt x="24828" y="13393"/>
                  <a:pt x="24840" y="13512"/>
                  <a:pt x="24892" y="13589"/>
                </a:cubicBezTo>
                <a:cubicBezTo>
                  <a:pt x="24921" y="13618"/>
                  <a:pt x="24927" y="13629"/>
                  <a:pt x="24956" y="13621"/>
                </a:cubicBezTo>
                <a:cubicBezTo>
                  <a:pt x="25024" y="13535"/>
                  <a:pt x="25047" y="13478"/>
                  <a:pt x="25051" y="13367"/>
                </a:cubicBezTo>
                <a:cubicBezTo>
                  <a:pt x="25060" y="13130"/>
                  <a:pt x="25045" y="12898"/>
                  <a:pt x="25019" y="12668"/>
                </a:cubicBezTo>
                <a:cubicBezTo>
                  <a:pt x="25010" y="12592"/>
                  <a:pt x="25014" y="12486"/>
                  <a:pt x="24924" y="12446"/>
                </a:cubicBezTo>
                <a:cubicBezTo>
                  <a:pt x="24882" y="12427"/>
                  <a:pt x="24856" y="12457"/>
                  <a:pt x="24828" y="12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Ink 13"/>
          <p:cNvSpPr/>
          <p:nvPr/>
        </p:nvSpPr>
        <p:spPr>
          <a:xfrm>
            <a:off x="3807000" y="3336840"/>
            <a:ext cx="1725480" cy="331920"/>
          </a:xfrm>
          <a:custGeom>
            <a:avLst/>
            <a:gdLst/>
            <a:ahLst/>
            <a:rect l="l" t="t" r="r" b="b"/>
            <a:pathLst>
              <a:path w="4795" h="922">
                <a:moveTo>
                  <a:pt x="10604" y="9366"/>
                </a:moveTo>
                <a:cubicBezTo>
                  <a:pt x="10521" y="9366"/>
                  <a:pt x="10654" y="9366"/>
                  <a:pt x="10668" y="9366"/>
                </a:cubicBezTo>
                <a:cubicBezTo>
                  <a:pt x="10736" y="9366"/>
                  <a:pt x="10762" y="9346"/>
                  <a:pt x="10827" y="9334"/>
                </a:cubicBezTo>
                <a:cubicBezTo>
                  <a:pt x="10907" y="9320"/>
                  <a:pt x="11002" y="9314"/>
                  <a:pt x="11081" y="9303"/>
                </a:cubicBezTo>
                <a:cubicBezTo>
                  <a:pt x="11315" y="9270"/>
                  <a:pt x="11574" y="9303"/>
                  <a:pt x="11811" y="9303"/>
                </a:cubicBezTo>
              </a:path>
              <a:path w="4795" h="922">
                <a:moveTo>
                  <a:pt x="10636" y="9620"/>
                </a:moveTo>
                <a:cubicBezTo>
                  <a:pt x="10731" y="9620"/>
                  <a:pt x="10827" y="9620"/>
                  <a:pt x="10922" y="9620"/>
                </a:cubicBezTo>
              </a:path>
              <a:path w="4795" h="922">
                <a:moveTo>
                  <a:pt x="11176" y="9398"/>
                </a:moveTo>
                <a:cubicBezTo>
                  <a:pt x="11176" y="9512"/>
                  <a:pt x="11162" y="9609"/>
                  <a:pt x="11144" y="9716"/>
                </a:cubicBezTo>
                <a:cubicBezTo>
                  <a:pt x="11129" y="9805"/>
                  <a:pt x="11144" y="9911"/>
                  <a:pt x="11144" y="10001"/>
                </a:cubicBezTo>
              </a:path>
              <a:path w="4795" h="922">
                <a:moveTo>
                  <a:pt x="12478" y="9366"/>
                </a:moveTo>
                <a:cubicBezTo>
                  <a:pt x="12653" y="9366"/>
                  <a:pt x="12816" y="9354"/>
                  <a:pt x="12986" y="9334"/>
                </a:cubicBezTo>
                <a:cubicBezTo>
                  <a:pt x="13112" y="9319"/>
                  <a:pt x="13240" y="9307"/>
                  <a:pt x="13367" y="9303"/>
                </a:cubicBezTo>
                <a:cubicBezTo>
                  <a:pt x="13499" y="9299"/>
                  <a:pt x="13618" y="9275"/>
                  <a:pt x="13748" y="9271"/>
                </a:cubicBezTo>
                <a:cubicBezTo>
                  <a:pt x="13903" y="9266"/>
                  <a:pt x="14043" y="9287"/>
                  <a:pt x="14192" y="9303"/>
                </a:cubicBezTo>
                <a:cubicBezTo>
                  <a:pt x="14476" y="9334"/>
                  <a:pt x="14773" y="9300"/>
                  <a:pt x="15050" y="9334"/>
                </a:cubicBezTo>
                <a:cubicBezTo>
                  <a:pt x="15152" y="9346"/>
                  <a:pt x="15264" y="9334"/>
                  <a:pt x="15367" y="9334"/>
                </a:cubicBezTo>
              </a:path>
              <a:path w="4795" h="922">
                <a:moveTo>
                  <a:pt x="13208" y="9716"/>
                </a:moveTo>
                <a:cubicBezTo>
                  <a:pt x="13197" y="9716"/>
                  <a:pt x="13187" y="9716"/>
                  <a:pt x="13176" y="9716"/>
                </a:cubicBezTo>
              </a:path>
              <a:path w="4795" h="922">
                <a:moveTo>
                  <a:pt x="13208" y="9716"/>
                </a:moveTo>
                <a:lnTo>
                  <a:pt x="13208" y="9716"/>
                </a:lnTo>
              </a:path>
              <a:path w="4795" h="922">
                <a:moveTo>
                  <a:pt x="13176" y="9716"/>
                </a:moveTo>
                <a:lnTo>
                  <a:pt x="13176" y="9716"/>
                </a:lnTo>
              </a:path>
              <a:path w="4795" h="922">
                <a:moveTo>
                  <a:pt x="13208" y="9716"/>
                </a:moveTo>
                <a:cubicBezTo>
                  <a:pt x="13273" y="9700"/>
                  <a:pt x="13289" y="9684"/>
                  <a:pt x="13367" y="9684"/>
                </a:cubicBezTo>
                <a:cubicBezTo>
                  <a:pt x="13377" y="9684"/>
                  <a:pt x="13388" y="9684"/>
                  <a:pt x="13398" y="9684"/>
                </a:cubicBezTo>
              </a:path>
              <a:path w="4795" h="922">
                <a:moveTo>
                  <a:pt x="13748" y="9525"/>
                </a:moveTo>
                <a:cubicBezTo>
                  <a:pt x="13748" y="9659"/>
                  <a:pt x="13732" y="9781"/>
                  <a:pt x="13716" y="9906"/>
                </a:cubicBezTo>
                <a:cubicBezTo>
                  <a:pt x="13704" y="10003"/>
                  <a:pt x="13692" y="10094"/>
                  <a:pt x="13684" y="10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Ink 14"/>
          <p:cNvSpPr/>
          <p:nvPr/>
        </p:nvSpPr>
        <p:spPr>
          <a:xfrm>
            <a:off x="149400" y="3006720"/>
            <a:ext cx="1096920" cy="297000"/>
          </a:xfrm>
          <a:custGeom>
            <a:avLst/>
            <a:gdLst/>
            <a:ahLst/>
            <a:rect l="l" t="t" r="r" b="b"/>
            <a:pathLst>
              <a:path w="3049" h="827">
                <a:moveTo>
                  <a:pt x="1937" y="8763"/>
                </a:moveTo>
                <a:lnTo>
                  <a:pt x="1937" y="8763"/>
                </a:lnTo>
              </a:path>
              <a:path w="3049" h="827">
                <a:moveTo>
                  <a:pt x="1937" y="8763"/>
                </a:moveTo>
                <a:cubicBezTo>
                  <a:pt x="1947" y="8763"/>
                  <a:pt x="1958" y="8763"/>
                  <a:pt x="1968" y="8763"/>
                </a:cubicBezTo>
              </a:path>
              <a:path w="3049" h="827">
                <a:moveTo>
                  <a:pt x="1968" y="8763"/>
                </a:moveTo>
                <a:cubicBezTo>
                  <a:pt x="1992" y="8795"/>
                  <a:pt x="2009" y="8856"/>
                  <a:pt x="2064" y="8826"/>
                </a:cubicBezTo>
                <a:cubicBezTo>
                  <a:pt x="2108" y="8802"/>
                  <a:pt x="2096" y="8771"/>
                  <a:pt x="2096" y="8731"/>
                </a:cubicBezTo>
                <a:cubicBezTo>
                  <a:pt x="2070" y="8738"/>
                  <a:pt x="1992" y="8790"/>
                  <a:pt x="2000" y="8826"/>
                </a:cubicBezTo>
                <a:cubicBezTo>
                  <a:pt x="2011" y="8837"/>
                  <a:pt x="2021" y="8847"/>
                  <a:pt x="2032" y="8858"/>
                </a:cubicBezTo>
                <a:cubicBezTo>
                  <a:pt x="2087" y="8858"/>
                  <a:pt x="2108" y="8852"/>
                  <a:pt x="2127" y="8795"/>
                </a:cubicBezTo>
                <a:cubicBezTo>
                  <a:pt x="2127" y="8763"/>
                  <a:pt x="2127" y="8752"/>
                  <a:pt x="2127" y="8731"/>
                </a:cubicBezTo>
                <a:cubicBezTo>
                  <a:pt x="2107" y="8738"/>
                  <a:pt x="2049" y="8761"/>
                  <a:pt x="2032" y="8795"/>
                </a:cubicBezTo>
                <a:cubicBezTo>
                  <a:pt x="2032" y="8805"/>
                  <a:pt x="2032" y="8816"/>
                  <a:pt x="2032" y="8826"/>
                </a:cubicBezTo>
              </a:path>
              <a:path w="3049" h="827">
                <a:moveTo>
                  <a:pt x="540" y="8858"/>
                </a:moveTo>
                <a:cubicBezTo>
                  <a:pt x="602" y="8837"/>
                  <a:pt x="623" y="8829"/>
                  <a:pt x="698" y="8826"/>
                </a:cubicBezTo>
                <a:cubicBezTo>
                  <a:pt x="779" y="8822"/>
                  <a:pt x="847" y="8804"/>
                  <a:pt x="921" y="8795"/>
                </a:cubicBezTo>
                <a:cubicBezTo>
                  <a:pt x="1324" y="8744"/>
                  <a:pt x="1755" y="8797"/>
                  <a:pt x="2159" y="8763"/>
                </a:cubicBezTo>
                <a:cubicBezTo>
                  <a:pt x="2492" y="8735"/>
                  <a:pt x="2840" y="8763"/>
                  <a:pt x="3175" y="8763"/>
                </a:cubicBezTo>
              </a:path>
              <a:path w="3049" h="827">
                <a:moveTo>
                  <a:pt x="2826" y="8477"/>
                </a:moveTo>
                <a:cubicBezTo>
                  <a:pt x="2848" y="8543"/>
                  <a:pt x="2891" y="8510"/>
                  <a:pt x="2953" y="8541"/>
                </a:cubicBezTo>
                <a:cubicBezTo>
                  <a:pt x="3029" y="8578"/>
                  <a:pt x="3121" y="8595"/>
                  <a:pt x="3207" y="8636"/>
                </a:cubicBezTo>
                <a:cubicBezTo>
                  <a:pt x="3276" y="8669"/>
                  <a:pt x="3333" y="8703"/>
                  <a:pt x="3397" y="8731"/>
                </a:cubicBezTo>
                <a:cubicBezTo>
                  <a:pt x="3471" y="8764"/>
                  <a:pt x="3459" y="8696"/>
                  <a:pt x="3397" y="8731"/>
                </a:cubicBezTo>
                <a:cubicBezTo>
                  <a:pt x="3352" y="8757"/>
                  <a:pt x="3286" y="8785"/>
                  <a:pt x="3238" y="8795"/>
                </a:cubicBezTo>
                <a:cubicBezTo>
                  <a:pt x="3160" y="8811"/>
                  <a:pt x="3087" y="8833"/>
                  <a:pt x="3016" y="8858"/>
                </a:cubicBezTo>
                <a:cubicBezTo>
                  <a:pt x="2928" y="8889"/>
                  <a:pt x="2848" y="8922"/>
                  <a:pt x="2762" y="8954"/>
                </a:cubicBezTo>
              </a:path>
              <a:path w="3049" h="827">
                <a:moveTo>
                  <a:pt x="984" y="8350"/>
                </a:moveTo>
                <a:cubicBezTo>
                  <a:pt x="1052" y="8367"/>
                  <a:pt x="1067" y="8390"/>
                  <a:pt x="1016" y="8446"/>
                </a:cubicBezTo>
                <a:cubicBezTo>
                  <a:pt x="968" y="8499"/>
                  <a:pt x="888" y="8539"/>
                  <a:pt x="826" y="8572"/>
                </a:cubicBezTo>
                <a:cubicBezTo>
                  <a:pt x="742" y="8616"/>
                  <a:pt x="651" y="8676"/>
                  <a:pt x="572" y="8731"/>
                </a:cubicBezTo>
                <a:cubicBezTo>
                  <a:pt x="515" y="8770"/>
                  <a:pt x="462" y="8808"/>
                  <a:pt x="413" y="8858"/>
                </a:cubicBezTo>
                <a:cubicBezTo>
                  <a:pt x="417" y="8859"/>
                  <a:pt x="505" y="8886"/>
                  <a:pt x="508" y="8890"/>
                </a:cubicBezTo>
                <a:cubicBezTo>
                  <a:pt x="548" y="8940"/>
                  <a:pt x="565" y="8920"/>
                  <a:pt x="635" y="8954"/>
                </a:cubicBezTo>
                <a:cubicBezTo>
                  <a:pt x="694" y="8983"/>
                  <a:pt x="786" y="9033"/>
                  <a:pt x="857" y="9049"/>
                </a:cubicBezTo>
                <a:cubicBezTo>
                  <a:pt x="967" y="9074"/>
                  <a:pt x="1023" y="9069"/>
                  <a:pt x="1111" y="9144"/>
                </a:cubicBezTo>
                <a:cubicBezTo>
                  <a:pt x="1122" y="9155"/>
                  <a:pt x="1132" y="9165"/>
                  <a:pt x="1143" y="9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Ink 15"/>
          <p:cNvSpPr/>
          <p:nvPr/>
        </p:nvSpPr>
        <p:spPr>
          <a:xfrm>
            <a:off x="5989680" y="1450800"/>
            <a:ext cx="22320" cy="298800"/>
          </a:xfrm>
          <a:custGeom>
            <a:avLst/>
            <a:gdLst/>
            <a:ahLst/>
            <a:rect l="l" t="t" r="r" b="b"/>
            <a:pathLst>
              <a:path w="64" h="827">
                <a:moveTo>
                  <a:pt x="16700" y="4032"/>
                </a:moveTo>
                <a:cubicBezTo>
                  <a:pt x="16700" y="4176"/>
                  <a:pt x="16692" y="4318"/>
                  <a:pt x="16669" y="4445"/>
                </a:cubicBezTo>
                <a:cubicBezTo>
                  <a:pt x="16645" y="4576"/>
                  <a:pt x="16677" y="4707"/>
                  <a:pt x="16637" y="4826"/>
                </a:cubicBezTo>
                <a:cubicBezTo>
                  <a:pt x="16637" y="4858"/>
                  <a:pt x="16637" y="4869"/>
                  <a:pt x="16637" y="4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Ink 16"/>
          <p:cNvSpPr/>
          <p:nvPr/>
        </p:nvSpPr>
        <p:spPr>
          <a:xfrm>
            <a:off x="5943600" y="1657440"/>
            <a:ext cx="125280" cy="92160"/>
          </a:xfrm>
          <a:custGeom>
            <a:avLst/>
            <a:gdLst/>
            <a:ahLst/>
            <a:rect l="l" t="t" r="r" b="b"/>
            <a:pathLst>
              <a:path w="350" h="255">
                <a:moveTo>
                  <a:pt x="16510" y="4636"/>
                </a:moveTo>
                <a:cubicBezTo>
                  <a:pt x="16567" y="4691"/>
                  <a:pt x="16571" y="4730"/>
                  <a:pt x="16605" y="4794"/>
                </a:cubicBezTo>
                <a:cubicBezTo>
                  <a:pt x="16616" y="4815"/>
                  <a:pt x="16626" y="4837"/>
                  <a:pt x="16637" y="4858"/>
                </a:cubicBezTo>
                <a:cubicBezTo>
                  <a:pt x="16650" y="4820"/>
                  <a:pt x="16690" y="4803"/>
                  <a:pt x="16732" y="4762"/>
                </a:cubicBezTo>
                <a:cubicBezTo>
                  <a:pt x="16766" y="4729"/>
                  <a:pt x="16841" y="4703"/>
                  <a:pt x="16859" y="4667"/>
                </a:cubicBezTo>
                <a:cubicBezTo>
                  <a:pt x="16859" y="4636"/>
                  <a:pt x="16859" y="4625"/>
                  <a:pt x="16859" y="4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Ink 17"/>
          <p:cNvSpPr/>
          <p:nvPr/>
        </p:nvSpPr>
        <p:spPr>
          <a:xfrm>
            <a:off x="5818320" y="1839960"/>
            <a:ext cx="79200" cy="149040"/>
          </a:xfrm>
          <a:custGeom>
            <a:avLst/>
            <a:gdLst/>
            <a:ahLst/>
            <a:rect l="l" t="t" r="r" b="b"/>
            <a:pathLst>
              <a:path w="223" h="413">
                <a:moveTo>
                  <a:pt x="16383" y="5175"/>
                </a:moveTo>
                <a:cubicBezTo>
                  <a:pt x="16376" y="5156"/>
                  <a:pt x="16331" y="5093"/>
                  <a:pt x="16288" y="5112"/>
                </a:cubicBezTo>
                <a:cubicBezTo>
                  <a:pt x="16254" y="5127"/>
                  <a:pt x="16223" y="5152"/>
                  <a:pt x="16192" y="5175"/>
                </a:cubicBezTo>
                <a:cubicBezTo>
                  <a:pt x="16209" y="5261"/>
                  <a:pt x="16233" y="5253"/>
                  <a:pt x="16288" y="5302"/>
                </a:cubicBezTo>
                <a:cubicBezTo>
                  <a:pt x="16311" y="5323"/>
                  <a:pt x="16370" y="5399"/>
                  <a:pt x="16383" y="5429"/>
                </a:cubicBezTo>
                <a:cubicBezTo>
                  <a:pt x="16406" y="5480"/>
                  <a:pt x="16322" y="5520"/>
                  <a:pt x="16288" y="5524"/>
                </a:cubicBezTo>
                <a:cubicBezTo>
                  <a:pt x="16225" y="5531"/>
                  <a:pt x="16217" y="5526"/>
                  <a:pt x="16192" y="5493"/>
                </a:cubicBezTo>
                <a:cubicBezTo>
                  <a:pt x="16155" y="5455"/>
                  <a:pt x="16148" y="5437"/>
                  <a:pt x="16192" y="5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Ink 18"/>
          <p:cNvSpPr/>
          <p:nvPr/>
        </p:nvSpPr>
        <p:spPr>
          <a:xfrm>
            <a:off x="5967360" y="1817640"/>
            <a:ext cx="11160" cy="182520"/>
          </a:xfrm>
          <a:custGeom>
            <a:avLst/>
            <a:gdLst/>
            <a:ahLst/>
            <a:rect l="l" t="t" r="r" b="b"/>
            <a:pathLst>
              <a:path w="32" h="509">
                <a:moveTo>
                  <a:pt x="16605" y="5048"/>
                </a:moveTo>
                <a:cubicBezTo>
                  <a:pt x="16594" y="5126"/>
                  <a:pt x="16574" y="5156"/>
                  <a:pt x="16574" y="5239"/>
                </a:cubicBezTo>
                <a:cubicBezTo>
                  <a:pt x="16574" y="5345"/>
                  <a:pt x="16580" y="5463"/>
                  <a:pt x="16605" y="5524"/>
                </a:cubicBezTo>
                <a:cubicBezTo>
                  <a:pt x="16605" y="5535"/>
                  <a:pt x="16605" y="5545"/>
                  <a:pt x="16605" y="55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Ink 19"/>
          <p:cNvSpPr/>
          <p:nvPr/>
        </p:nvSpPr>
        <p:spPr>
          <a:xfrm>
            <a:off x="6000840" y="1897200"/>
            <a:ext cx="81000" cy="102960"/>
          </a:xfrm>
          <a:custGeom>
            <a:avLst/>
            <a:gdLst/>
            <a:ahLst/>
            <a:rect l="l" t="t" r="r" b="b"/>
            <a:pathLst>
              <a:path w="223" h="287">
                <a:moveTo>
                  <a:pt x="16828" y="5270"/>
                </a:moveTo>
                <a:cubicBezTo>
                  <a:pt x="16766" y="5286"/>
                  <a:pt x="16723" y="5330"/>
                  <a:pt x="16700" y="5398"/>
                </a:cubicBezTo>
                <a:cubicBezTo>
                  <a:pt x="16694" y="5414"/>
                  <a:pt x="16643" y="5503"/>
                  <a:pt x="16669" y="5524"/>
                </a:cubicBezTo>
                <a:cubicBezTo>
                  <a:pt x="16692" y="5543"/>
                  <a:pt x="16738" y="5580"/>
                  <a:pt x="16796" y="5556"/>
                </a:cubicBezTo>
                <a:cubicBezTo>
                  <a:pt x="16843" y="5536"/>
                  <a:pt x="16868" y="5507"/>
                  <a:pt x="16891" y="5461"/>
                </a:cubicBezTo>
                <a:cubicBezTo>
                  <a:pt x="16910" y="5423"/>
                  <a:pt x="16874" y="5328"/>
                  <a:pt x="16859" y="5302"/>
                </a:cubicBezTo>
                <a:cubicBezTo>
                  <a:pt x="16833" y="5258"/>
                  <a:pt x="16806" y="5270"/>
                  <a:pt x="16764" y="52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nk 20"/>
          <p:cNvSpPr/>
          <p:nvPr/>
        </p:nvSpPr>
        <p:spPr>
          <a:xfrm>
            <a:off x="6137280" y="1920960"/>
            <a:ext cx="23760" cy="193680"/>
          </a:xfrm>
          <a:custGeom>
            <a:avLst/>
            <a:gdLst/>
            <a:ahLst/>
            <a:rect l="l" t="t" r="r" b="b"/>
            <a:pathLst>
              <a:path w="64" h="541">
                <a:moveTo>
                  <a:pt x="17050" y="5334"/>
                </a:moveTo>
                <a:cubicBezTo>
                  <a:pt x="17050" y="5479"/>
                  <a:pt x="17062" y="5607"/>
                  <a:pt x="17082" y="5747"/>
                </a:cubicBezTo>
                <a:cubicBezTo>
                  <a:pt x="17090" y="5799"/>
                  <a:pt x="17136" y="5921"/>
                  <a:pt x="17113" y="5874"/>
                </a:cubicBezTo>
                <a:cubicBezTo>
                  <a:pt x="17103" y="5863"/>
                  <a:pt x="17092" y="5853"/>
                  <a:pt x="17082" y="5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Ink 21"/>
          <p:cNvSpPr/>
          <p:nvPr/>
        </p:nvSpPr>
        <p:spPr>
          <a:xfrm>
            <a:off x="6137280" y="1897200"/>
            <a:ext cx="104760" cy="114120"/>
          </a:xfrm>
          <a:custGeom>
            <a:avLst/>
            <a:gdLst/>
            <a:ahLst/>
            <a:rect l="l" t="t" r="r" b="b"/>
            <a:pathLst>
              <a:path w="287" h="319">
                <a:moveTo>
                  <a:pt x="17050" y="5398"/>
                </a:moveTo>
                <a:cubicBezTo>
                  <a:pt x="17087" y="5312"/>
                  <a:pt x="17079" y="5295"/>
                  <a:pt x="17177" y="5270"/>
                </a:cubicBezTo>
                <a:cubicBezTo>
                  <a:pt x="17239" y="5254"/>
                  <a:pt x="17265" y="5295"/>
                  <a:pt x="17304" y="5334"/>
                </a:cubicBezTo>
                <a:cubicBezTo>
                  <a:pt x="17379" y="5409"/>
                  <a:pt x="17331" y="5465"/>
                  <a:pt x="17272" y="5524"/>
                </a:cubicBezTo>
                <a:cubicBezTo>
                  <a:pt x="17226" y="5570"/>
                  <a:pt x="17177" y="5583"/>
                  <a:pt x="17113" y="5588"/>
                </a:cubicBezTo>
                <a:cubicBezTo>
                  <a:pt x="17059" y="5593"/>
                  <a:pt x="17060" y="5564"/>
                  <a:pt x="17050" y="55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Ink 22"/>
          <p:cNvSpPr/>
          <p:nvPr/>
        </p:nvSpPr>
        <p:spPr>
          <a:xfrm>
            <a:off x="6251400" y="1886040"/>
            <a:ext cx="127080" cy="125280"/>
          </a:xfrm>
          <a:custGeom>
            <a:avLst/>
            <a:gdLst/>
            <a:ahLst/>
            <a:rect l="l" t="t" r="r" b="b"/>
            <a:pathLst>
              <a:path w="350" h="350">
                <a:moveTo>
                  <a:pt x="17494" y="5429"/>
                </a:moveTo>
                <a:cubicBezTo>
                  <a:pt x="17558" y="5429"/>
                  <a:pt x="17564" y="5411"/>
                  <a:pt x="17590" y="5398"/>
                </a:cubicBezTo>
                <a:cubicBezTo>
                  <a:pt x="17662" y="5362"/>
                  <a:pt x="17608" y="5325"/>
                  <a:pt x="17590" y="5270"/>
                </a:cubicBezTo>
                <a:cubicBezTo>
                  <a:pt x="17573" y="5218"/>
                  <a:pt x="17537" y="5232"/>
                  <a:pt x="17494" y="5270"/>
                </a:cubicBezTo>
                <a:cubicBezTo>
                  <a:pt x="17426" y="5330"/>
                  <a:pt x="17433" y="5362"/>
                  <a:pt x="17399" y="5429"/>
                </a:cubicBezTo>
                <a:cubicBezTo>
                  <a:pt x="17362" y="5502"/>
                  <a:pt x="17366" y="5490"/>
                  <a:pt x="17431" y="5556"/>
                </a:cubicBezTo>
                <a:cubicBezTo>
                  <a:pt x="17478" y="5603"/>
                  <a:pt x="17524" y="5588"/>
                  <a:pt x="17590" y="5588"/>
                </a:cubicBezTo>
                <a:cubicBezTo>
                  <a:pt x="17666" y="5588"/>
                  <a:pt x="17666" y="5575"/>
                  <a:pt x="17716" y="55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oint-Slo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equation of a line with the point (2, -7) and a slope m = -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4419720" y="990720"/>
                <a:ext cx="32763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Ink 5"/>
          <p:cNvSpPr/>
          <p:nvPr/>
        </p:nvSpPr>
        <p:spPr>
          <a:xfrm>
            <a:off x="4251240" y="1635120"/>
            <a:ext cx="459000" cy="399960"/>
          </a:xfrm>
          <a:custGeom>
            <a:avLst/>
            <a:gdLst/>
            <a:ahLst/>
            <a:rect l="l" t="t" r="r" b="b"/>
            <a:pathLst>
              <a:path w="1271" h="1113">
                <a:moveTo>
                  <a:pt x="11874" y="4604"/>
                </a:moveTo>
                <a:cubicBezTo>
                  <a:pt x="11874" y="4743"/>
                  <a:pt x="11941" y="5459"/>
                  <a:pt x="11843" y="5493"/>
                </a:cubicBezTo>
                <a:cubicBezTo>
                  <a:pt x="11843" y="5412"/>
                  <a:pt x="11814" y="5355"/>
                  <a:pt x="11811" y="5270"/>
                </a:cubicBezTo>
                <a:cubicBezTo>
                  <a:pt x="11806" y="5130"/>
                  <a:pt x="11838" y="4962"/>
                  <a:pt x="11874" y="4826"/>
                </a:cubicBezTo>
                <a:cubicBezTo>
                  <a:pt x="11905" y="4711"/>
                  <a:pt x="11952" y="4654"/>
                  <a:pt x="12033" y="4572"/>
                </a:cubicBezTo>
                <a:cubicBezTo>
                  <a:pt x="12044" y="4561"/>
                  <a:pt x="12054" y="4551"/>
                  <a:pt x="12065" y="4540"/>
                </a:cubicBezTo>
                <a:cubicBezTo>
                  <a:pt x="12116" y="4609"/>
                  <a:pt x="12125" y="4670"/>
                  <a:pt x="12128" y="4762"/>
                </a:cubicBezTo>
                <a:cubicBezTo>
                  <a:pt x="12135" y="4936"/>
                  <a:pt x="12122" y="5106"/>
                  <a:pt x="12097" y="5270"/>
                </a:cubicBezTo>
                <a:cubicBezTo>
                  <a:pt x="12084" y="5353"/>
                  <a:pt x="12112" y="5336"/>
                  <a:pt x="12065" y="5398"/>
                </a:cubicBezTo>
                <a:cubicBezTo>
                  <a:pt x="12065" y="5276"/>
                  <a:pt x="12058" y="5096"/>
                  <a:pt x="12097" y="4985"/>
                </a:cubicBezTo>
                <a:cubicBezTo>
                  <a:pt x="12146" y="4847"/>
                  <a:pt x="12218" y="4713"/>
                  <a:pt x="12319" y="4604"/>
                </a:cubicBezTo>
                <a:cubicBezTo>
                  <a:pt x="12356" y="4564"/>
                  <a:pt x="12364" y="4572"/>
                  <a:pt x="12414" y="4572"/>
                </a:cubicBezTo>
                <a:cubicBezTo>
                  <a:pt x="12457" y="4630"/>
                  <a:pt x="12461" y="4717"/>
                  <a:pt x="12446" y="4794"/>
                </a:cubicBezTo>
                <a:cubicBezTo>
                  <a:pt x="12419" y="4932"/>
                  <a:pt x="12436" y="5069"/>
                  <a:pt x="12414" y="5207"/>
                </a:cubicBezTo>
                <a:cubicBezTo>
                  <a:pt x="12398" y="5310"/>
                  <a:pt x="12352" y="5448"/>
                  <a:pt x="12382" y="5556"/>
                </a:cubicBezTo>
                <a:cubicBezTo>
                  <a:pt x="12394" y="5598"/>
                  <a:pt x="12415" y="5687"/>
                  <a:pt x="12478" y="5652"/>
                </a:cubicBezTo>
                <a:cubicBezTo>
                  <a:pt x="12539" y="5618"/>
                  <a:pt x="12550" y="5551"/>
                  <a:pt x="12573" y="5493"/>
                </a:cubicBezTo>
              </a:path>
              <a:path w="1271" h="1113">
                <a:moveTo>
                  <a:pt x="12700" y="4921"/>
                </a:moveTo>
                <a:cubicBezTo>
                  <a:pt x="12755" y="4935"/>
                  <a:pt x="12790" y="4973"/>
                  <a:pt x="12859" y="4953"/>
                </a:cubicBezTo>
                <a:cubicBezTo>
                  <a:pt x="12940" y="4929"/>
                  <a:pt x="12993" y="4921"/>
                  <a:pt x="13081" y="4921"/>
                </a:cubicBezTo>
              </a:path>
              <a:path w="1271" h="1113">
                <a:moveTo>
                  <a:pt x="12732" y="5270"/>
                </a:moveTo>
                <a:cubicBezTo>
                  <a:pt x="12815" y="5270"/>
                  <a:pt x="12878" y="5249"/>
                  <a:pt x="12954" y="5239"/>
                </a:cubicBezTo>
                <a:cubicBezTo>
                  <a:pt x="12986" y="5239"/>
                  <a:pt x="13017" y="5239"/>
                  <a:pt x="13049" y="52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Ink 6"/>
          <p:cNvSpPr/>
          <p:nvPr/>
        </p:nvSpPr>
        <p:spPr>
          <a:xfrm>
            <a:off x="4879800" y="1657440"/>
            <a:ext cx="927360" cy="492120"/>
          </a:xfrm>
          <a:custGeom>
            <a:avLst/>
            <a:gdLst/>
            <a:ahLst/>
            <a:rect l="l" t="t" r="r" b="b"/>
            <a:pathLst>
              <a:path w="2573" h="1366">
                <a:moveTo>
                  <a:pt x="14065" y="4890"/>
                </a:moveTo>
                <a:cubicBezTo>
                  <a:pt x="14049" y="4841"/>
                  <a:pt x="14038" y="4853"/>
                  <a:pt x="14002" y="4826"/>
                </a:cubicBezTo>
                <a:cubicBezTo>
                  <a:pt x="13929" y="4771"/>
                  <a:pt x="13912" y="4736"/>
                  <a:pt x="13811" y="4731"/>
                </a:cubicBezTo>
                <a:cubicBezTo>
                  <a:pt x="13731" y="4727"/>
                  <a:pt x="13668" y="4720"/>
                  <a:pt x="13621" y="4794"/>
                </a:cubicBezTo>
                <a:cubicBezTo>
                  <a:pt x="13577" y="4863"/>
                  <a:pt x="13578" y="4933"/>
                  <a:pt x="13652" y="4985"/>
                </a:cubicBezTo>
                <a:cubicBezTo>
                  <a:pt x="13743" y="5050"/>
                  <a:pt x="13797" y="5139"/>
                  <a:pt x="13875" y="5207"/>
                </a:cubicBezTo>
                <a:cubicBezTo>
                  <a:pt x="13950" y="5272"/>
                  <a:pt x="13993" y="5294"/>
                  <a:pt x="14002" y="5398"/>
                </a:cubicBezTo>
                <a:cubicBezTo>
                  <a:pt x="14009" y="5477"/>
                  <a:pt x="13978" y="5459"/>
                  <a:pt x="13906" y="5493"/>
                </a:cubicBezTo>
                <a:cubicBezTo>
                  <a:pt x="13828" y="5529"/>
                  <a:pt x="13769" y="5524"/>
                  <a:pt x="13684" y="5524"/>
                </a:cubicBezTo>
                <a:cubicBezTo>
                  <a:pt x="13618" y="5524"/>
                  <a:pt x="13561" y="5502"/>
                  <a:pt x="13557" y="5429"/>
                </a:cubicBezTo>
                <a:cubicBezTo>
                  <a:pt x="13557" y="5342"/>
                  <a:pt x="13554" y="5317"/>
                  <a:pt x="13589" y="5270"/>
                </a:cubicBezTo>
              </a:path>
              <a:path w="2573" h="1366">
                <a:moveTo>
                  <a:pt x="14319" y="4604"/>
                </a:moveTo>
                <a:cubicBezTo>
                  <a:pt x="14337" y="4696"/>
                  <a:pt x="14351" y="4758"/>
                  <a:pt x="14351" y="4858"/>
                </a:cubicBezTo>
                <a:cubicBezTo>
                  <a:pt x="14351" y="5065"/>
                  <a:pt x="14321" y="5309"/>
                  <a:pt x="14383" y="5493"/>
                </a:cubicBezTo>
                <a:cubicBezTo>
                  <a:pt x="14383" y="5503"/>
                  <a:pt x="14383" y="5514"/>
                  <a:pt x="14383" y="5524"/>
                </a:cubicBezTo>
              </a:path>
              <a:path w="2573" h="1366">
                <a:moveTo>
                  <a:pt x="14637" y="5016"/>
                </a:moveTo>
                <a:cubicBezTo>
                  <a:pt x="14562" y="5109"/>
                  <a:pt x="14572" y="5164"/>
                  <a:pt x="14542" y="5270"/>
                </a:cubicBezTo>
                <a:cubicBezTo>
                  <a:pt x="14508" y="5389"/>
                  <a:pt x="14524" y="5450"/>
                  <a:pt x="14605" y="5524"/>
                </a:cubicBezTo>
                <a:cubicBezTo>
                  <a:pt x="14654" y="5568"/>
                  <a:pt x="14741" y="5579"/>
                  <a:pt x="14796" y="5524"/>
                </a:cubicBezTo>
                <a:cubicBezTo>
                  <a:pt x="14865" y="5455"/>
                  <a:pt x="14887" y="5362"/>
                  <a:pt x="14891" y="5270"/>
                </a:cubicBezTo>
                <a:cubicBezTo>
                  <a:pt x="14895" y="5168"/>
                  <a:pt x="14864" y="5092"/>
                  <a:pt x="14796" y="5016"/>
                </a:cubicBezTo>
                <a:cubicBezTo>
                  <a:pt x="14755" y="4971"/>
                  <a:pt x="14716" y="4969"/>
                  <a:pt x="14700" y="5016"/>
                </a:cubicBezTo>
              </a:path>
              <a:path w="2573" h="1366">
                <a:moveTo>
                  <a:pt x="15113" y="5048"/>
                </a:moveTo>
                <a:cubicBezTo>
                  <a:pt x="15113" y="5142"/>
                  <a:pt x="15092" y="5216"/>
                  <a:pt x="15081" y="5302"/>
                </a:cubicBezTo>
                <a:cubicBezTo>
                  <a:pt x="15064" y="5432"/>
                  <a:pt x="15107" y="5555"/>
                  <a:pt x="15113" y="5683"/>
                </a:cubicBezTo>
                <a:cubicBezTo>
                  <a:pt x="15117" y="5772"/>
                  <a:pt x="15145" y="5847"/>
                  <a:pt x="15145" y="5937"/>
                </a:cubicBezTo>
                <a:cubicBezTo>
                  <a:pt x="15145" y="5948"/>
                  <a:pt x="15145" y="5958"/>
                  <a:pt x="15145" y="5969"/>
                </a:cubicBezTo>
              </a:path>
              <a:path w="2573" h="1366">
                <a:moveTo>
                  <a:pt x="15050" y="5175"/>
                </a:moveTo>
                <a:cubicBezTo>
                  <a:pt x="15062" y="5090"/>
                  <a:pt x="15084" y="5077"/>
                  <a:pt x="15145" y="5016"/>
                </a:cubicBezTo>
                <a:cubicBezTo>
                  <a:pt x="15210" y="4951"/>
                  <a:pt x="15308" y="4931"/>
                  <a:pt x="15399" y="4953"/>
                </a:cubicBezTo>
                <a:cubicBezTo>
                  <a:pt x="15477" y="4972"/>
                  <a:pt x="15552" y="5080"/>
                  <a:pt x="15558" y="5144"/>
                </a:cubicBezTo>
                <a:cubicBezTo>
                  <a:pt x="15566" y="5236"/>
                  <a:pt x="15553" y="5323"/>
                  <a:pt x="15494" y="5398"/>
                </a:cubicBezTo>
                <a:cubicBezTo>
                  <a:pt x="15427" y="5483"/>
                  <a:pt x="15329" y="5463"/>
                  <a:pt x="15240" y="5524"/>
                </a:cubicBezTo>
                <a:cubicBezTo>
                  <a:pt x="15205" y="5548"/>
                  <a:pt x="15150" y="5593"/>
                  <a:pt x="15145" y="5524"/>
                </a:cubicBezTo>
                <a:cubicBezTo>
                  <a:pt x="15145" y="5503"/>
                  <a:pt x="15145" y="5482"/>
                  <a:pt x="15145" y="5461"/>
                </a:cubicBezTo>
              </a:path>
              <a:path w="2573" h="1366">
                <a:moveTo>
                  <a:pt x="15621" y="5270"/>
                </a:moveTo>
                <a:cubicBezTo>
                  <a:pt x="15735" y="5270"/>
                  <a:pt x="15840" y="5271"/>
                  <a:pt x="15938" y="5239"/>
                </a:cubicBezTo>
                <a:cubicBezTo>
                  <a:pt x="15982" y="5225"/>
                  <a:pt x="16080" y="5205"/>
                  <a:pt x="16097" y="5144"/>
                </a:cubicBezTo>
                <a:cubicBezTo>
                  <a:pt x="16126" y="5040"/>
                  <a:pt x="16098" y="4993"/>
                  <a:pt x="16002" y="4985"/>
                </a:cubicBezTo>
                <a:cubicBezTo>
                  <a:pt x="15890" y="4976"/>
                  <a:pt x="15864" y="5019"/>
                  <a:pt x="15812" y="5112"/>
                </a:cubicBezTo>
                <a:cubicBezTo>
                  <a:pt x="15754" y="5216"/>
                  <a:pt x="15717" y="5319"/>
                  <a:pt x="15780" y="5429"/>
                </a:cubicBezTo>
                <a:cubicBezTo>
                  <a:pt x="15830" y="5516"/>
                  <a:pt x="15868" y="5550"/>
                  <a:pt x="15970" y="5556"/>
                </a:cubicBezTo>
                <a:cubicBezTo>
                  <a:pt x="16046" y="5556"/>
                  <a:pt x="16079" y="5552"/>
                  <a:pt x="16129" y="55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Ink 7"/>
          <p:cNvSpPr/>
          <p:nvPr/>
        </p:nvSpPr>
        <p:spPr>
          <a:xfrm>
            <a:off x="6332400" y="1589040"/>
            <a:ext cx="503280" cy="446040"/>
          </a:xfrm>
          <a:custGeom>
            <a:avLst/>
            <a:gdLst/>
            <a:ahLst/>
            <a:rect l="l" t="t" r="r" b="b"/>
            <a:pathLst>
              <a:path w="1397" h="1240">
                <a:moveTo>
                  <a:pt x="17621" y="5239"/>
                </a:moveTo>
                <a:cubicBezTo>
                  <a:pt x="17562" y="5239"/>
                  <a:pt x="17634" y="5256"/>
                  <a:pt x="17653" y="5270"/>
                </a:cubicBezTo>
                <a:cubicBezTo>
                  <a:pt x="17707" y="5311"/>
                  <a:pt x="17740" y="5302"/>
                  <a:pt x="17812" y="5302"/>
                </a:cubicBezTo>
                <a:cubicBezTo>
                  <a:pt x="17919" y="5302"/>
                  <a:pt x="17974" y="5273"/>
                  <a:pt x="18034" y="5207"/>
                </a:cubicBezTo>
                <a:cubicBezTo>
                  <a:pt x="18101" y="5134"/>
                  <a:pt x="18144" y="5084"/>
                  <a:pt x="18161" y="4985"/>
                </a:cubicBezTo>
                <a:cubicBezTo>
                  <a:pt x="18179" y="4878"/>
                  <a:pt x="18193" y="4778"/>
                  <a:pt x="18193" y="4667"/>
                </a:cubicBezTo>
                <a:cubicBezTo>
                  <a:pt x="18193" y="4657"/>
                  <a:pt x="18193" y="4646"/>
                  <a:pt x="18193" y="4636"/>
                </a:cubicBezTo>
                <a:cubicBezTo>
                  <a:pt x="18206" y="4728"/>
                  <a:pt x="18206" y="4823"/>
                  <a:pt x="18224" y="4921"/>
                </a:cubicBezTo>
                <a:cubicBezTo>
                  <a:pt x="18252" y="5071"/>
                  <a:pt x="18283" y="5212"/>
                  <a:pt x="18288" y="5366"/>
                </a:cubicBezTo>
                <a:cubicBezTo>
                  <a:pt x="18292" y="5489"/>
                  <a:pt x="18316" y="5500"/>
                  <a:pt x="18288" y="5620"/>
                </a:cubicBezTo>
                <a:cubicBezTo>
                  <a:pt x="18288" y="5631"/>
                  <a:pt x="18288" y="5641"/>
                  <a:pt x="18288" y="5652"/>
                </a:cubicBezTo>
                <a:cubicBezTo>
                  <a:pt x="18251" y="5553"/>
                  <a:pt x="18247" y="5468"/>
                  <a:pt x="18224" y="5366"/>
                </a:cubicBezTo>
                <a:cubicBezTo>
                  <a:pt x="18195" y="5236"/>
                  <a:pt x="18193" y="5119"/>
                  <a:pt x="18193" y="4985"/>
                </a:cubicBezTo>
                <a:cubicBezTo>
                  <a:pt x="18193" y="4900"/>
                  <a:pt x="18222" y="4808"/>
                  <a:pt x="18256" y="4731"/>
                </a:cubicBezTo>
                <a:cubicBezTo>
                  <a:pt x="18289" y="4656"/>
                  <a:pt x="18308" y="4651"/>
                  <a:pt x="18383" y="4636"/>
                </a:cubicBezTo>
                <a:cubicBezTo>
                  <a:pt x="18434" y="4686"/>
                  <a:pt x="18497" y="4752"/>
                  <a:pt x="18510" y="4826"/>
                </a:cubicBezTo>
                <a:cubicBezTo>
                  <a:pt x="18524" y="4904"/>
                  <a:pt x="18487" y="5107"/>
                  <a:pt x="18447" y="5175"/>
                </a:cubicBezTo>
                <a:cubicBezTo>
                  <a:pt x="18442" y="5184"/>
                  <a:pt x="18310" y="5371"/>
                  <a:pt x="18288" y="5366"/>
                </a:cubicBezTo>
                <a:cubicBezTo>
                  <a:pt x="18288" y="5334"/>
                  <a:pt x="18288" y="5323"/>
                  <a:pt x="18288" y="5302"/>
                </a:cubicBezTo>
              </a:path>
              <a:path w="1397" h="1240">
                <a:moveTo>
                  <a:pt x="18764" y="4413"/>
                </a:moveTo>
                <a:cubicBezTo>
                  <a:pt x="18764" y="4528"/>
                  <a:pt x="18792" y="4619"/>
                  <a:pt x="18796" y="4731"/>
                </a:cubicBezTo>
                <a:cubicBezTo>
                  <a:pt x="18801" y="4871"/>
                  <a:pt x="18798" y="5009"/>
                  <a:pt x="18828" y="5144"/>
                </a:cubicBezTo>
                <a:cubicBezTo>
                  <a:pt x="18847" y="5227"/>
                  <a:pt x="18860" y="5282"/>
                  <a:pt x="18860" y="5366"/>
                </a:cubicBezTo>
              </a:path>
              <a:path w="1397" h="1240">
                <a:moveTo>
                  <a:pt x="18637" y="5016"/>
                </a:moveTo>
                <a:cubicBezTo>
                  <a:pt x="18655" y="4964"/>
                  <a:pt x="18700" y="4985"/>
                  <a:pt x="18764" y="4985"/>
                </a:cubicBezTo>
                <a:cubicBezTo>
                  <a:pt x="18838" y="4985"/>
                  <a:pt x="18912" y="4985"/>
                  <a:pt x="18986" y="49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nk 8"/>
          <p:cNvSpPr/>
          <p:nvPr/>
        </p:nvSpPr>
        <p:spPr>
          <a:xfrm>
            <a:off x="7007400" y="1406520"/>
            <a:ext cx="1074600" cy="674640"/>
          </a:xfrm>
          <a:custGeom>
            <a:avLst/>
            <a:gdLst/>
            <a:ahLst/>
            <a:rect l="l" t="t" r="r" b="b"/>
            <a:pathLst>
              <a:path w="2985" h="1874">
                <a:moveTo>
                  <a:pt x="19876" y="3905"/>
                </a:moveTo>
                <a:cubicBezTo>
                  <a:pt x="19819" y="4018"/>
                  <a:pt x="19751" y="4116"/>
                  <a:pt x="19685" y="4223"/>
                </a:cubicBezTo>
                <a:cubicBezTo>
                  <a:pt x="19589" y="4379"/>
                  <a:pt x="19539" y="4553"/>
                  <a:pt x="19494" y="4731"/>
                </a:cubicBezTo>
                <a:cubicBezTo>
                  <a:pt x="19460" y="4864"/>
                  <a:pt x="19438" y="5037"/>
                  <a:pt x="19463" y="5175"/>
                </a:cubicBezTo>
                <a:cubicBezTo>
                  <a:pt x="19487" y="5306"/>
                  <a:pt x="19530" y="5384"/>
                  <a:pt x="19622" y="5461"/>
                </a:cubicBezTo>
                <a:cubicBezTo>
                  <a:pt x="19674" y="5505"/>
                  <a:pt x="19722" y="5553"/>
                  <a:pt x="19780" y="5588"/>
                </a:cubicBezTo>
                <a:cubicBezTo>
                  <a:pt x="19819" y="5612"/>
                  <a:pt x="19859" y="5613"/>
                  <a:pt x="19907" y="5620"/>
                </a:cubicBezTo>
              </a:path>
              <a:path w="2985" h="1874">
                <a:moveTo>
                  <a:pt x="20034" y="4636"/>
                </a:moveTo>
                <a:cubicBezTo>
                  <a:pt x="20045" y="4678"/>
                  <a:pt x="20078" y="4793"/>
                  <a:pt x="20098" y="4826"/>
                </a:cubicBezTo>
                <a:cubicBezTo>
                  <a:pt x="20150" y="4912"/>
                  <a:pt x="20209" y="4986"/>
                  <a:pt x="20256" y="5080"/>
                </a:cubicBezTo>
                <a:cubicBezTo>
                  <a:pt x="20298" y="5164"/>
                  <a:pt x="20331" y="5245"/>
                  <a:pt x="20352" y="5334"/>
                </a:cubicBezTo>
                <a:cubicBezTo>
                  <a:pt x="20352" y="5370"/>
                  <a:pt x="20355" y="5384"/>
                  <a:pt x="20384" y="5398"/>
                </a:cubicBezTo>
              </a:path>
              <a:path w="2985" h="1874">
                <a:moveTo>
                  <a:pt x="20352" y="4540"/>
                </a:moveTo>
                <a:cubicBezTo>
                  <a:pt x="20338" y="4650"/>
                  <a:pt x="20287" y="4748"/>
                  <a:pt x="20256" y="4858"/>
                </a:cubicBezTo>
                <a:cubicBezTo>
                  <a:pt x="20222" y="4981"/>
                  <a:pt x="20169" y="5092"/>
                  <a:pt x="20130" y="5207"/>
                </a:cubicBezTo>
                <a:cubicBezTo>
                  <a:pt x="20105" y="5282"/>
                  <a:pt x="20066" y="5288"/>
                  <a:pt x="20066" y="5366"/>
                </a:cubicBezTo>
              </a:path>
              <a:path w="2985" h="1874">
                <a:moveTo>
                  <a:pt x="20606" y="5080"/>
                </a:moveTo>
                <a:cubicBezTo>
                  <a:pt x="20606" y="5196"/>
                  <a:pt x="20606" y="5313"/>
                  <a:pt x="20606" y="5429"/>
                </a:cubicBezTo>
              </a:path>
              <a:path w="2985" h="1874">
                <a:moveTo>
                  <a:pt x="21082" y="5080"/>
                </a:moveTo>
                <a:cubicBezTo>
                  <a:pt x="21098" y="5145"/>
                  <a:pt x="21114" y="5161"/>
                  <a:pt x="21114" y="5239"/>
                </a:cubicBezTo>
                <a:cubicBezTo>
                  <a:pt x="21114" y="5358"/>
                  <a:pt x="21135" y="5489"/>
                  <a:pt x="21082" y="5588"/>
                </a:cubicBezTo>
                <a:cubicBezTo>
                  <a:pt x="21052" y="5645"/>
                  <a:pt x="21022" y="5749"/>
                  <a:pt x="20955" y="5778"/>
                </a:cubicBezTo>
                <a:cubicBezTo>
                  <a:pt x="20923" y="5778"/>
                  <a:pt x="20913" y="5778"/>
                  <a:pt x="20892" y="5778"/>
                </a:cubicBezTo>
              </a:path>
              <a:path w="2985" h="1874">
                <a:moveTo>
                  <a:pt x="21368" y="4540"/>
                </a:moveTo>
                <a:cubicBezTo>
                  <a:pt x="21381" y="4633"/>
                  <a:pt x="21400" y="4688"/>
                  <a:pt x="21400" y="4794"/>
                </a:cubicBezTo>
                <a:cubicBezTo>
                  <a:pt x="21400" y="4917"/>
                  <a:pt x="21446" y="5023"/>
                  <a:pt x="21463" y="5144"/>
                </a:cubicBezTo>
                <a:cubicBezTo>
                  <a:pt x="21474" y="5222"/>
                  <a:pt x="21471" y="5215"/>
                  <a:pt x="21526" y="5270"/>
                </a:cubicBezTo>
                <a:cubicBezTo>
                  <a:pt x="21607" y="5250"/>
                  <a:pt x="21638" y="5164"/>
                  <a:pt x="21654" y="5080"/>
                </a:cubicBezTo>
                <a:cubicBezTo>
                  <a:pt x="21678" y="4954"/>
                  <a:pt x="21664" y="4819"/>
                  <a:pt x="21654" y="4699"/>
                </a:cubicBezTo>
                <a:cubicBezTo>
                  <a:pt x="21649" y="4646"/>
                  <a:pt x="21654" y="4551"/>
                  <a:pt x="21654" y="4604"/>
                </a:cubicBezTo>
                <a:cubicBezTo>
                  <a:pt x="21654" y="4720"/>
                  <a:pt x="21654" y="4807"/>
                  <a:pt x="21685" y="4921"/>
                </a:cubicBezTo>
                <a:cubicBezTo>
                  <a:pt x="21721" y="5050"/>
                  <a:pt x="21760" y="5200"/>
                  <a:pt x="21780" y="5334"/>
                </a:cubicBezTo>
                <a:cubicBezTo>
                  <a:pt x="21796" y="5443"/>
                  <a:pt x="21792" y="5585"/>
                  <a:pt x="21749" y="5683"/>
                </a:cubicBezTo>
                <a:cubicBezTo>
                  <a:pt x="21742" y="5699"/>
                  <a:pt x="21670" y="5837"/>
                  <a:pt x="21622" y="5778"/>
                </a:cubicBezTo>
                <a:cubicBezTo>
                  <a:pt x="21622" y="5768"/>
                  <a:pt x="21622" y="5757"/>
                  <a:pt x="21622" y="5747"/>
                </a:cubicBezTo>
              </a:path>
              <a:path w="2985" h="1874">
                <a:moveTo>
                  <a:pt x="22003" y="5080"/>
                </a:moveTo>
                <a:cubicBezTo>
                  <a:pt x="22003" y="5174"/>
                  <a:pt x="22029" y="5244"/>
                  <a:pt x="22034" y="5334"/>
                </a:cubicBezTo>
                <a:cubicBezTo>
                  <a:pt x="22034" y="5387"/>
                  <a:pt x="22034" y="5397"/>
                  <a:pt x="22034" y="5429"/>
                </a:cubicBezTo>
              </a:path>
              <a:path w="2985" h="1874">
                <a:moveTo>
                  <a:pt x="21908" y="3969"/>
                </a:moveTo>
                <a:cubicBezTo>
                  <a:pt x="21960" y="4021"/>
                  <a:pt x="22033" y="4097"/>
                  <a:pt x="22066" y="4159"/>
                </a:cubicBezTo>
                <a:cubicBezTo>
                  <a:pt x="22139" y="4298"/>
                  <a:pt x="22210" y="4434"/>
                  <a:pt x="22288" y="4572"/>
                </a:cubicBezTo>
                <a:cubicBezTo>
                  <a:pt x="22385" y="4745"/>
                  <a:pt x="22441" y="4947"/>
                  <a:pt x="22447" y="5144"/>
                </a:cubicBezTo>
                <a:cubicBezTo>
                  <a:pt x="22451" y="5285"/>
                  <a:pt x="22420" y="5431"/>
                  <a:pt x="22352" y="5556"/>
                </a:cubicBezTo>
                <a:cubicBezTo>
                  <a:pt x="22331" y="5588"/>
                  <a:pt x="22309" y="5620"/>
                  <a:pt x="22288" y="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nk 9"/>
          <p:cNvSpPr/>
          <p:nvPr/>
        </p:nvSpPr>
        <p:spPr>
          <a:xfrm>
            <a:off x="2685960" y="3063960"/>
            <a:ext cx="3578400" cy="1349280"/>
          </a:xfrm>
          <a:custGeom>
            <a:avLst/>
            <a:gdLst/>
            <a:ahLst/>
            <a:rect l="l" t="t" r="r" b="b"/>
            <a:pathLst>
              <a:path w="9939" h="3748">
                <a:moveTo>
                  <a:pt x="7969" y="8858"/>
                </a:moveTo>
                <a:cubicBezTo>
                  <a:pt x="7946" y="8891"/>
                  <a:pt x="7932" y="8928"/>
                  <a:pt x="7906" y="8985"/>
                </a:cubicBezTo>
                <a:cubicBezTo>
                  <a:pt x="7859" y="9089"/>
                  <a:pt x="7874" y="9188"/>
                  <a:pt x="7874" y="9303"/>
                </a:cubicBezTo>
                <a:cubicBezTo>
                  <a:pt x="7874" y="9465"/>
                  <a:pt x="7846" y="9618"/>
                  <a:pt x="7842" y="9779"/>
                </a:cubicBezTo>
                <a:cubicBezTo>
                  <a:pt x="7838" y="9943"/>
                  <a:pt x="7810" y="10090"/>
                  <a:pt x="7810" y="10255"/>
                </a:cubicBezTo>
                <a:cubicBezTo>
                  <a:pt x="7810" y="10349"/>
                  <a:pt x="7820" y="10469"/>
                  <a:pt x="7874" y="10541"/>
                </a:cubicBezTo>
                <a:cubicBezTo>
                  <a:pt x="7885" y="10541"/>
                  <a:pt x="7895" y="10541"/>
                  <a:pt x="7906" y="10541"/>
                </a:cubicBezTo>
                <a:cubicBezTo>
                  <a:pt x="8014" y="10478"/>
                  <a:pt x="8001" y="10487"/>
                  <a:pt x="8096" y="10382"/>
                </a:cubicBezTo>
                <a:cubicBezTo>
                  <a:pt x="8211" y="10255"/>
                  <a:pt x="8253" y="10122"/>
                  <a:pt x="8318" y="9970"/>
                </a:cubicBezTo>
                <a:cubicBezTo>
                  <a:pt x="8387" y="9809"/>
                  <a:pt x="8455" y="9639"/>
                  <a:pt x="8477" y="9462"/>
                </a:cubicBezTo>
                <a:cubicBezTo>
                  <a:pt x="8490" y="9356"/>
                  <a:pt x="8526" y="9235"/>
                  <a:pt x="8541" y="9144"/>
                </a:cubicBezTo>
                <a:cubicBezTo>
                  <a:pt x="8541" y="9123"/>
                  <a:pt x="8541" y="9101"/>
                  <a:pt x="8541" y="9080"/>
                </a:cubicBezTo>
                <a:cubicBezTo>
                  <a:pt x="8541" y="9181"/>
                  <a:pt x="8518" y="9269"/>
                  <a:pt x="8509" y="9366"/>
                </a:cubicBezTo>
                <a:cubicBezTo>
                  <a:pt x="8490" y="9564"/>
                  <a:pt x="8489" y="9773"/>
                  <a:pt x="8477" y="9970"/>
                </a:cubicBezTo>
                <a:cubicBezTo>
                  <a:pt x="8461" y="10226"/>
                  <a:pt x="8432" y="10477"/>
                  <a:pt x="8414" y="10732"/>
                </a:cubicBezTo>
                <a:cubicBezTo>
                  <a:pt x="8395" y="10999"/>
                  <a:pt x="8340" y="11232"/>
                  <a:pt x="8287" y="11494"/>
                </a:cubicBezTo>
                <a:cubicBezTo>
                  <a:pt x="8246" y="11697"/>
                  <a:pt x="8175" y="11860"/>
                  <a:pt x="8064" y="12033"/>
                </a:cubicBezTo>
                <a:cubicBezTo>
                  <a:pt x="8005" y="12124"/>
                  <a:pt x="7874" y="12261"/>
                  <a:pt x="7747" y="12256"/>
                </a:cubicBezTo>
                <a:cubicBezTo>
                  <a:pt x="7641" y="12252"/>
                  <a:pt x="7528" y="12162"/>
                  <a:pt x="7493" y="12065"/>
                </a:cubicBezTo>
                <a:cubicBezTo>
                  <a:pt x="7428" y="11884"/>
                  <a:pt x="7481" y="11734"/>
                  <a:pt x="7525" y="11557"/>
                </a:cubicBezTo>
                <a:cubicBezTo>
                  <a:pt x="7575" y="11354"/>
                  <a:pt x="7665" y="11257"/>
                  <a:pt x="7810" y="11112"/>
                </a:cubicBezTo>
                <a:cubicBezTo>
                  <a:pt x="7909" y="11013"/>
                  <a:pt x="7996" y="10951"/>
                  <a:pt x="8128" y="10922"/>
                </a:cubicBezTo>
                <a:cubicBezTo>
                  <a:pt x="8207" y="10905"/>
                  <a:pt x="8229" y="10934"/>
                  <a:pt x="8287" y="10954"/>
                </a:cubicBezTo>
              </a:path>
              <a:path w="9939" h="3748">
                <a:moveTo>
                  <a:pt x="9366" y="9271"/>
                </a:moveTo>
                <a:cubicBezTo>
                  <a:pt x="9293" y="9362"/>
                  <a:pt x="9305" y="9450"/>
                  <a:pt x="9271" y="9557"/>
                </a:cubicBezTo>
                <a:cubicBezTo>
                  <a:pt x="9227" y="9693"/>
                  <a:pt x="9238" y="9833"/>
                  <a:pt x="9208" y="9970"/>
                </a:cubicBezTo>
                <a:cubicBezTo>
                  <a:pt x="9192" y="10041"/>
                  <a:pt x="9186" y="10232"/>
                  <a:pt x="9144" y="10287"/>
                </a:cubicBezTo>
                <a:cubicBezTo>
                  <a:pt x="9112" y="10287"/>
                  <a:pt x="9101" y="10287"/>
                  <a:pt x="9112" y="10319"/>
                </a:cubicBezTo>
              </a:path>
              <a:path w="9939" h="3748">
                <a:moveTo>
                  <a:pt x="8858" y="9747"/>
                </a:moveTo>
                <a:cubicBezTo>
                  <a:pt x="9070" y="9747"/>
                  <a:pt x="9281" y="9747"/>
                  <a:pt x="9493" y="9747"/>
                </a:cubicBezTo>
              </a:path>
              <a:path w="9939" h="3748">
                <a:moveTo>
                  <a:pt x="10255" y="8985"/>
                </a:moveTo>
                <a:cubicBezTo>
                  <a:pt x="10197" y="8993"/>
                  <a:pt x="10150" y="8998"/>
                  <a:pt x="10096" y="9017"/>
                </a:cubicBezTo>
                <a:cubicBezTo>
                  <a:pt x="10049" y="9034"/>
                  <a:pt x="10024" y="9046"/>
                  <a:pt x="9970" y="9049"/>
                </a:cubicBezTo>
                <a:cubicBezTo>
                  <a:pt x="9938" y="9049"/>
                  <a:pt x="9927" y="9049"/>
                  <a:pt x="9906" y="9049"/>
                </a:cubicBezTo>
                <a:cubicBezTo>
                  <a:pt x="9991" y="9049"/>
                  <a:pt x="10051" y="9029"/>
                  <a:pt x="10128" y="9017"/>
                </a:cubicBezTo>
                <a:cubicBezTo>
                  <a:pt x="10199" y="9006"/>
                  <a:pt x="10316" y="9010"/>
                  <a:pt x="10382" y="8985"/>
                </a:cubicBezTo>
                <a:cubicBezTo>
                  <a:pt x="10435" y="8965"/>
                  <a:pt x="10484" y="8932"/>
                  <a:pt x="10541" y="8922"/>
                </a:cubicBezTo>
                <a:cubicBezTo>
                  <a:pt x="10570" y="8917"/>
                  <a:pt x="10606" y="8922"/>
                  <a:pt x="10636" y="8922"/>
                </a:cubicBezTo>
                <a:cubicBezTo>
                  <a:pt x="10628" y="8984"/>
                  <a:pt x="10625" y="8996"/>
                  <a:pt x="10604" y="9049"/>
                </a:cubicBezTo>
                <a:cubicBezTo>
                  <a:pt x="10580" y="9109"/>
                  <a:pt x="10520" y="9207"/>
                  <a:pt x="10509" y="9271"/>
                </a:cubicBezTo>
                <a:cubicBezTo>
                  <a:pt x="10486" y="9404"/>
                  <a:pt x="10458" y="9521"/>
                  <a:pt x="10414" y="9652"/>
                </a:cubicBezTo>
                <a:cubicBezTo>
                  <a:pt x="10373" y="9774"/>
                  <a:pt x="10338" y="9936"/>
                  <a:pt x="10319" y="10065"/>
                </a:cubicBezTo>
                <a:cubicBezTo>
                  <a:pt x="10303" y="10173"/>
                  <a:pt x="10272" y="10279"/>
                  <a:pt x="10255" y="10382"/>
                </a:cubicBezTo>
                <a:cubicBezTo>
                  <a:pt x="10245" y="10440"/>
                  <a:pt x="10242" y="10460"/>
                  <a:pt x="10224" y="10509"/>
                </a:cubicBezTo>
              </a:path>
              <a:path w="9939" h="3748">
                <a:moveTo>
                  <a:pt x="11081" y="9366"/>
                </a:moveTo>
                <a:cubicBezTo>
                  <a:pt x="11261" y="9366"/>
                  <a:pt x="11440" y="9366"/>
                  <a:pt x="11620" y="9366"/>
                </a:cubicBezTo>
              </a:path>
              <a:path w="9939" h="3748">
                <a:moveTo>
                  <a:pt x="11017" y="9811"/>
                </a:moveTo>
                <a:cubicBezTo>
                  <a:pt x="11077" y="9855"/>
                  <a:pt x="11130" y="9842"/>
                  <a:pt x="11208" y="9842"/>
                </a:cubicBezTo>
                <a:cubicBezTo>
                  <a:pt x="11332" y="9842"/>
                  <a:pt x="11447" y="9818"/>
                  <a:pt x="11557" y="9842"/>
                </a:cubicBezTo>
              </a:path>
              <a:path w="9939" h="3748">
                <a:moveTo>
                  <a:pt x="11970" y="9049"/>
                </a:moveTo>
                <a:cubicBezTo>
                  <a:pt x="12040" y="9049"/>
                  <a:pt x="12090" y="9075"/>
                  <a:pt x="12160" y="9080"/>
                </a:cubicBezTo>
                <a:cubicBezTo>
                  <a:pt x="12223" y="9085"/>
                  <a:pt x="12288" y="9080"/>
                  <a:pt x="12351" y="9080"/>
                </a:cubicBezTo>
              </a:path>
              <a:path w="9939" h="3748">
                <a:moveTo>
                  <a:pt x="12636" y="8858"/>
                </a:moveTo>
                <a:cubicBezTo>
                  <a:pt x="12684" y="8820"/>
                  <a:pt x="12735" y="8795"/>
                  <a:pt x="12795" y="8763"/>
                </a:cubicBezTo>
                <a:cubicBezTo>
                  <a:pt x="12889" y="8713"/>
                  <a:pt x="12944" y="8700"/>
                  <a:pt x="13049" y="8700"/>
                </a:cubicBezTo>
                <a:cubicBezTo>
                  <a:pt x="13143" y="8700"/>
                  <a:pt x="13195" y="8736"/>
                  <a:pt x="13240" y="8795"/>
                </a:cubicBezTo>
                <a:cubicBezTo>
                  <a:pt x="13312" y="8888"/>
                  <a:pt x="13205" y="8983"/>
                  <a:pt x="13144" y="9049"/>
                </a:cubicBezTo>
                <a:cubicBezTo>
                  <a:pt x="13099" y="9098"/>
                  <a:pt x="13019" y="9191"/>
                  <a:pt x="12954" y="9208"/>
                </a:cubicBezTo>
                <a:cubicBezTo>
                  <a:pt x="12873" y="9230"/>
                  <a:pt x="12894" y="9206"/>
                  <a:pt x="12827" y="9239"/>
                </a:cubicBezTo>
                <a:cubicBezTo>
                  <a:pt x="12902" y="9211"/>
                  <a:pt x="12915" y="9225"/>
                  <a:pt x="12986" y="9239"/>
                </a:cubicBezTo>
                <a:cubicBezTo>
                  <a:pt x="13069" y="9255"/>
                  <a:pt x="13135" y="9311"/>
                  <a:pt x="13208" y="9366"/>
                </a:cubicBezTo>
                <a:cubicBezTo>
                  <a:pt x="13258" y="9404"/>
                  <a:pt x="13324" y="9612"/>
                  <a:pt x="13335" y="9684"/>
                </a:cubicBezTo>
                <a:cubicBezTo>
                  <a:pt x="13351" y="9786"/>
                  <a:pt x="13329" y="9938"/>
                  <a:pt x="13303" y="10033"/>
                </a:cubicBezTo>
                <a:cubicBezTo>
                  <a:pt x="13282" y="10113"/>
                  <a:pt x="13150" y="10277"/>
                  <a:pt x="13081" y="10319"/>
                </a:cubicBezTo>
                <a:cubicBezTo>
                  <a:pt x="12987" y="10376"/>
                  <a:pt x="12838" y="10409"/>
                  <a:pt x="12732" y="10414"/>
                </a:cubicBezTo>
                <a:cubicBezTo>
                  <a:pt x="12666" y="10417"/>
                  <a:pt x="12517" y="10428"/>
                  <a:pt x="12478" y="10350"/>
                </a:cubicBezTo>
                <a:cubicBezTo>
                  <a:pt x="12478" y="10276"/>
                  <a:pt x="12478" y="10245"/>
                  <a:pt x="12478" y="10192"/>
                </a:cubicBezTo>
              </a:path>
              <a:path w="9939" h="3748">
                <a:moveTo>
                  <a:pt x="14319" y="8763"/>
                </a:moveTo>
                <a:cubicBezTo>
                  <a:pt x="14230" y="8795"/>
                  <a:pt x="14143" y="8824"/>
                  <a:pt x="14065" y="8890"/>
                </a:cubicBezTo>
                <a:cubicBezTo>
                  <a:pt x="13912" y="9020"/>
                  <a:pt x="13836" y="9158"/>
                  <a:pt x="13748" y="9334"/>
                </a:cubicBezTo>
                <a:cubicBezTo>
                  <a:pt x="13661" y="9507"/>
                  <a:pt x="13576" y="9677"/>
                  <a:pt x="13557" y="9874"/>
                </a:cubicBezTo>
                <a:cubicBezTo>
                  <a:pt x="13540" y="10056"/>
                  <a:pt x="13558" y="10195"/>
                  <a:pt x="13652" y="10350"/>
                </a:cubicBezTo>
                <a:cubicBezTo>
                  <a:pt x="13716" y="10456"/>
                  <a:pt x="13774" y="10570"/>
                  <a:pt x="13906" y="10604"/>
                </a:cubicBezTo>
                <a:cubicBezTo>
                  <a:pt x="13927" y="10604"/>
                  <a:pt x="13949" y="10604"/>
                  <a:pt x="13970" y="10604"/>
                </a:cubicBezTo>
              </a:path>
              <a:path w="9939" h="3748">
                <a:moveTo>
                  <a:pt x="14351" y="9176"/>
                </a:moveTo>
                <a:cubicBezTo>
                  <a:pt x="14364" y="9280"/>
                  <a:pt x="14416" y="9359"/>
                  <a:pt x="14446" y="9462"/>
                </a:cubicBezTo>
                <a:cubicBezTo>
                  <a:pt x="14492" y="9618"/>
                  <a:pt x="14535" y="9793"/>
                  <a:pt x="14605" y="9938"/>
                </a:cubicBezTo>
                <a:cubicBezTo>
                  <a:pt x="14663" y="10058"/>
                  <a:pt x="14697" y="10202"/>
                  <a:pt x="14764" y="10319"/>
                </a:cubicBezTo>
                <a:cubicBezTo>
                  <a:pt x="14793" y="10347"/>
                  <a:pt x="14799" y="10357"/>
                  <a:pt x="14827" y="10350"/>
                </a:cubicBezTo>
              </a:path>
              <a:path w="9939" h="3748">
                <a:moveTo>
                  <a:pt x="15018" y="9239"/>
                </a:moveTo>
                <a:cubicBezTo>
                  <a:pt x="14996" y="9326"/>
                  <a:pt x="14928" y="9337"/>
                  <a:pt x="14859" y="9398"/>
                </a:cubicBezTo>
                <a:cubicBezTo>
                  <a:pt x="14631" y="9599"/>
                  <a:pt x="14458" y="9856"/>
                  <a:pt x="14256" y="10065"/>
                </a:cubicBezTo>
                <a:cubicBezTo>
                  <a:pt x="14172" y="10152"/>
                  <a:pt x="14141" y="10225"/>
                  <a:pt x="14065" y="10319"/>
                </a:cubicBezTo>
              </a:path>
              <a:path w="9939" h="3748">
                <a:moveTo>
                  <a:pt x="15145" y="9779"/>
                </a:moveTo>
                <a:cubicBezTo>
                  <a:pt x="15240" y="9779"/>
                  <a:pt x="15280" y="9735"/>
                  <a:pt x="15367" y="9716"/>
                </a:cubicBezTo>
                <a:cubicBezTo>
                  <a:pt x="15450" y="9698"/>
                  <a:pt x="15539" y="9666"/>
                  <a:pt x="15621" y="9652"/>
                </a:cubicBezTo>
                <a:cubicBezTo>
                  <a:pt x="15684" y="9652"/>
                  <a:pt x="15706" y="9652"/>
                  <a:pt x="15748" y="9652"/>
                </a:cubicBezTo>
              </a:path>
              <a:path w="9939" h="3748">
                <a:moveTo>
                  <a:pt x="15938" y="9366"/>
                </a:moveTo>
                <a:cubicBezTo>
                  <a:pt x="15968" y="9315"/>
                  <a:pt x="16052" y="9197"/>
                  <a:pt x="16097" y="9176"/>
                </a:cubicBezTo>
                <a:cubicBezTo>
                  <a:pt x="16183" y="9136"/>
                  <a:pt x="16298" y="9137"/>
                  <a:pt x="16383" y="9176"/>
                </a:cubicBezTo>
                <a:cubicBezTo>
                  <a:pt x="16432" y="9198"/>
                  <a:pt x="16544" y="9266"/>
                  <a:pt x="16542" y="9334"/>
                </a:cubicBezTo>
                <a:cubicBezTo>
                  <a:pt x="16537" y="9478"/>
                  <a:pt x="16469" y="9562"/>
                  <a:pt x="16415" y="9684"/>
                </a:cubicBezTo>
                <a:cubicBezTo>
                  <a:pt x="16353" y="9824"/>
                  <a:pt x="16245" y="9902"/>
                  <a:pt x="16161" y="10033"/>
                </a:cubicBezTo>
                <a:cubicBezTo>
                  <a:pt x="16117" y="10102"/>
                  <a:pt x="16077" y="10197"/>
                  <a:pt x="16034" y="10255"/>
                </a:cubicBezTo>
                <a:cubicBezTo>
                  <a:pt x="16023" y="10266"/>
                  <a:pt x="16013" y="10276"/>
                  <a:pt x="16002" y="10287"/>
                </a:cubicBezTo>
                <a:cubicBezTo>
                  <a:pt x="16055" y="10279"/>
                  <a:pt x="16080" y="10263"/>
                  <a:pt x="16129" y="10255"/>
                </a:cubicBezTo>
                <a:cubicBezTo>
                  <a:pt x="16229" y="10238"/>
                  <a:pt x="16356" y="10247"/>
                  <a:pt x="16446" y="10287"/>
                </a:cubicBezTo>
                <a:cubicBezTo>
                  <a:pt x="16518" y="10319"/>
                  <a:pt x="16622" y="10365"/>
                  <a:pt x="16700" y="10382"/>
                </a:cubicBezTo>
                <a:cubicBezTo>
                  <a:pt x="16811" y="10407"/>
                  <a:pt x="16840" y="10337"/>
                  <a:pt x="16891" y="10255"/>
                </a:cubicBezTo>
              </a:path>
              <a:path w="9939" h="3748">
                <a:moveTo>
                  <a:pt x="16986" y="8509"/>
                </a:moveTo>
                <a:cubicBezTo>
                  <a:pt x="17039" y="8614"/>
                  <a:pt x="17097" y="8721"/>
                  <a:pt x="17145" y="8826"/>
                </a:cubicBezTo>
                <a:cubicBezTo>
                  <a:pt x="17242" y="9039"/>
                  <a:pt x="17322" y="9228"/>
                  <a:pt x="17367" y="9462"/>
                </a:cubicBezTo>
                <a:cubicBezTo>
                  <a:pt x="17413" y="9699"/>
                  <a:pt x="17408" y="9923"/>
                  <a:pt x="17367" y="10160"/>
                </a:cubicBezTo>
                <a:cubicBezTo>
                  <a:pt x="17326" y="10401"/>
                  <a:pt x="17263" y="10555"/>
                  <a:pt x="17145" y="10763"/>
                </a:cubicBezTo>
                <a:cubicBezTo>
                  <a:pt x="17075" y="10903"/>
                  <a:pt x="17047" y="10958"/>
                  <a:pt x="16986" y="11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tandard 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x + By = 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x- and y-intercepts of: -3x + 6y = 2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Ink 5"/>
          <p:cNvSpPr/>
          <p:nvPr/>
        </p:nvSpPr>
        <p:spPr>
          <a:xfrm>
            <a:off x="5394240" y="2651040"/>
            <a:ext cx="1030320" cy="824040"/>
          </a:xfrm>
          <a:custGeom>
            <a:avLst/>
            <a:gdLst/>
            <a:ahLst/>
            <a:rect l="l" t="t" r="r" b="b"/>
            <a:pathLst>
              <a:path w="2859" h="2287">
                <a:moveTo>
                  <a:pt x="15399" y="7398"/>
                </a:moveTo>
                <a:cubicBezTo>
                  <a:pt x="15399" y="7469"/>
                  <a:pt x="15422" y="7524"/>
                  <a:pt x="15430" y="7588"/>
                </a:cubicBezTo>
                <a:cubicBezTo>
                  <a:pt x="15458" y="7810"/>
                  <a:pt x="15426" y="8039"/>
                  <a:pt x="15462" y="8255"/>
                </a:cubicBezTo>
                <a:cubicBezTo>
                  <a:pt x="15473" y="8319"/>
                  <a:pt x="15472" y="8285"/>
                  <a:pt x="15494" y="8318"/>
                </a:cubicBezTo>
                <a:cubicBezTo>
                  <a:pt x="15534" y="8265"/>
                  <a:pt x="15560" y="8213"/>
                  <a:pt x="15589" y="8128"/>
                </a:cubicBezTo>
                <a:cubicBezTo>
                  <a:pt x="15636" y="7991"/>
                  <a:pt x="15672" y="7852"/>
                  <a:pt x="15716" y="7715"/>
                </a:cubicBezTo>
                <a:cubicBezTo>
                  <a:pt x="15744" y="7628"/>
                  <a:pt x="15748" y="7582"/>
                  <a:pt x="15748" y="7493"/>
                </a:cubicBezTo>
                <a:cubicBezTo>
                  <a:pt x="15748" y="7719"/>
                  <a:pt x="15764" y="7939"/>
                  <a:pt x="15780" y="8160"/>
                </a:cubicBezTo>
                <a:cubicBezTo>
                  <a:pt x="15795" y="8360"/>
                  <a:pt x="15808" y="8563"/>
                  <a:pt x="15812" y="8763"/>
                </a:cubicBezTo>
                <a:cubicBezTo>
                  <a:pt x="15816" y="8961"/>
                  <a:pt x="15789" y="9156"/>
                  <a:pt x="15716" y="9334"/>
                </a:cubicBezTo>
                <a:cubicBezTo>
                  <a:pt x="15684" y="9411"/>
                  <a:pt x="15640" y="9637"/>
                  <a:pt x="15526" y="9652"/>
                </a:cubicBezTo>
                <a:cubicBezTo>
                  <a:pt x="15429" y="9665"/>
                  <a:pt x="15379" y="9555"/>
                  <a:pt x="15335" y="9493"/>
                </a:cubicBezTo>
              </a:path>
              <a:path w="2859" h="2287">
                <a:moveTo>
                  <a:pt x="15780" y="7969"/>
                </a:moveTo>
                <a:cubicBezTo>
                  <a:pt x="15843" y="7969"/>
                  <a:pt x="15855" y="7955"/>
                  <a:pt x="15907" y="7938"/>
                </a:cubicBezTo>
                <a:cubicBezTo>
                  <a:pt x="15938" y="7938"/>
                  <a:pt x="15949" y="7938"/>
                  <a:pt x="15970" y="7938"/>
                </a:cubicBezTo>
              </a:path>
              <a:path w="2859" h="2287">
                <a:moveTo>
                  <a:pt x="16288" y="7493"/>
                </a:moveTo>
                <a:cubicBezTo>
                  <a:pt x="16288" y="7594"/>
                  <a:pt x="16311" y="7683"/>
                  <a:pt x="16320" y="7779"/>
                </a:cubicBezTo>
                <a:cubicBezTo>
                  <a:pt x="16343" y="8018"/>
                  <a:pt x="16320" y="8268"/>
                  <a:pt x="16320" y="8509"/>
                </a:cubicBezTo>
              </a:path>
              <a:path w="2859" h="2287">
                <a:moveTo>
                  <a:pt x="16510" y="7620"/>
                </a:moveTo>
                <a:cubicBezTo>
                  <a:pt x="16510" y="7863"/>
                  <a:pt x="16510" y="8107"/>
                  <a:pt x="16510" y="8350"/>
                </a:cubicBezTo>
                <a:cubicBezTo>
                  <a:pt x="16564" y="8242"/>
                  <a:pt x="16542" y="8097"/>
                  <a:pt x="16542" y="7969"/>
                </a:cubicBezTo>
              </a:path>
              <a:path w="2859" h="2287">
                <a:moveTo>
                  <a:pt x="16637" y="7556"/>
                </a:moveTo>
                <a:cubicBezTo>
                  <a:pt x="16670" y="7518"/>
                  <a:pt x="16729" y="7394"/>
                  <a:pt x="16796" y="7430"/>
                </a:cubicBezTo>
                <a:cubicBezTo>
                  <a:pt x="16876" y="7473"/>
                  <a:pt x="16885" y="7675"/>
                  <a:pt x="16891" y="7747"/>
                </a:cubicBezTo>
                <a:cubicBezTo>
                  <a:pt x="16908" y="7948"/>
                  <a:pt x="16904" y="8151"/>
                  <a:pt x="16923" y="8350"/>
                </a:cubicBezTo>
                <a:cubicBezTo>
                  <a:pt x="16931" y="8430"/>
                  <a:pt x="16894" y="8553"/>
                  <a:pt x="16986" y="8604"/>
                </a:cubicBezTo>
                <a:cubicBezTo>
                  <a:pt x="16997" y="8604"/>
                  <a:pt x="17007" y="8604"/>
                  <a:pt x="17018" y="8604"/>
                </a:cubicBezTo>
              </a:path>
              <a:path w="2859" h="2287">
                <a:moveTo>
                  <a:pt x="17208" y="7366"/>
                </a:moveTo>
                <a:cubicBezTo>
                  <a:pt x="17208" y="7550"/>
                  <a:pt x="17203" y="7725"/>
                  <a:pt x="17240" y="7906"/>
                </a:cubicBezTo>
                <a:cubicBezTo>
                  <a:pt x="17269" y="8047"/>
                  <a:pt x="17307" y="8182"/>
                  <a:pt x="17336" y="8318"/>
                </a:cubicBezTo>
                <a:cubicBezTo>
                  <a:pt x="17348" y="8374"/>
                  <a:pt x="17355" y="8396"/>
                  <a:pt x="17367" y="8446"/>
                </a:cubicBezTo>
              </a:path>
              <a:path w="2859" h="2287">
                <a:moveTo>
                  <a:pt x="16954" y="8064"/>
                </a:moveTo>
                <a:cubicBezTo>
                  <a:pt x="16966" y="8029"/>
                  <a:pt x="16999" y="8005"/>
                  <a:pt x="17050" y="8001"/>
                </a:cubicBezTo>
                <a:cubicBezTo>
                  <a:pt x="17125" y="7996"/>
                  <a:pt x="17231" y="7989"/>
                  <a:pt x="17304" y="7969"/>
                </a:cubicBezTo>
                <a:cubicBezTo>
                  <a:pt x="17359" y="7954"/>
                  <a:pt x="17480" y="7961"/>
                  <a:pt x="17526" y="7938"/>
                </a:cubicBezTo>
                <a:cubicBezTo>
                  <a:pt x="17537" y="7927"/>
                  <a:pt x="17547" y="7917"/>
                  <a:pt x="17558" y="7906"/>
                </a:cubicBezTo>
              </a:path>
              <a:path w="2859" h="2287">
                <a:moveTo>
                  <a:pt x="15018" y="8572"/>
                </a:moveTo>
                <a:cubicBezTo>
                  <a:pt x="15071" y="8572"/>
                  <a:pt x="15060" y="8572"/>
                  <a:pt x="15113" y="8572"/>
                </a:cubicBezTo>
                <a:cubicBezTo>
                  <a:pt x="15444" y="8572"/>
                  <a:pt x="15771" y="8580"/>
                  <a:pt x="16097" y="8604"/>
                </a:cubicBezTo>
                <a:cubicBezTo>
                  <a:pt x="16298" y="8619"/>
                  <a:pt x="16501" y="8621"/>
                  <a:pt x="16700" y="8636"/>
                </a:cubicBezTo>
                <a:cubicBezTo>
                  <a:pt x="17039" y="8662"/>
                  <a:pt x="17382" y="8631"/>
                  <a:pt x="17716" y="8668"/>
                </a:cubicBezTo>
                <a:cubicBezTo>
                  <a:pt x="17795" y="8668"/>
                  <a:pt x="17815" y="8656"/>
                  <a:pt x="17844" y="8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Ink 6"/>
          <p:cNvSpPr/>
          <p:nvPr/>
        </p:nvSpPr>
        <p:spPr>
          <a:xfrm>
            <a:off x="1863720" y="2639880"/>
            <a:ext cx="1096920" cy="538200"/>
          </a:xfrm>
          <a:custGeom>
            <a:avLst/>
            <a:gdLst/>
            <a:ahLst/>
            <a:rect l="l" t="t" r="r" b="b"/>
            <a:pathLst>
              <a:path w="3049" h="1493">
                <a:moveTo>
                  <a:pt x="5461" y="7430"/>
                </a:moveTo>
                <a:cubicBezTo>
                  <a:pt x="5461" y="7514"/>
                  <a:pt x="5483" y="7576"/>
                  <a:pt x="5493" y="7652"/>
                </a:cubicBezTo>
                <a:cubicBezTo>
                  <a:pt x="5509" y="7776"/>
                  <a:pt x="5488" y="7878"/>
                  <a:pt x="5524" y="8001"/>
                </a:cubicBezTo>
                <a:cubicBezTo>
                  <a:pt x="5568" y="8150"/>
                  <a:pt x="5617" y="8306"/>
                  <a:pt x="5683" y="8446"/>
                </a:cubicBezTo>
                <a:cubicBezTo>
                  <a:pt x="5719" y="8523"/>
                  <a:pt x="5731" y="8541"/>
                  <a:pt x="5810" y="8541"/>
                </a:cubicBezTo>
              </a:path>
              <a:path w="3049" h="1493">
                <a:moveTo>
                  <a:pt x="5842" y="7652"/>
                </a:moveTo>
                <a:cubicBezTo>
                  <a:pt x="5799" y="7766"/>
                  <a:pt x="5784" y="7859"/>
                  <a:pt x="5715" y="7969"/>
                </a:cubicBezTo>
                <a:cubicBezTo>
                  <a:pt x="5626" y="8111"/>
                  <a:pt x="5523" y="8243"/>
                  <a:pt x="5429" y="8382"/>
                </a:cubicBezTo>
                <a:cubicBezTo>
                  <a:pt x="5388" y="8442"/>
                  <a:pt x="5305" y="8599"/>
                  <a:pt x="5239" y="8636"/>
                </a:cubicBezTo>
                <a:cubicBezTo>
                  <a:pt x="5228" y="8636"/>
                  <a:pt x="5218" y="8636"/>
                  <a:pt x="5207" y="8636"/>
                </a:cubicBezTo>
              </a:path>
              <a:path w="3049" h="1493">
                <a:moveTo>
                  <a:pt x="5937" y="8128"/>
                </a:moveTo>
                <a:cubicBezTo>
                  <a:pt x="5975" y="8120"/>
                  <a:pt x="6063" y="8114"/>
                  <a:pt x="6096" y="8096"/>
                </a:cubicBezTo>
                <a:cubicBezTo>
                  <a:pt x="6134" y="8075"/>
                  <a:pt x="6156" y="8059"/>
                  <a:pt x="6191" y="8033"/>
                </a:cubicBezTo>
              </a:path>
              <a:path w="3049" h="1493">
                <a:moveTo>
                  <a:pt x="6445" y="7652"/>
                </a:moveTo>
                <a:cubicBezTo>
                  <a:pt x="6445" y="7806"/>
                  <a:pt x="6429" y="7945"/>
                  <a:pt x="6414" y="8096"/>
                </a:cubicBezTo>
                <a:cubicBezTo>
                  <a:pt x="6402" y="8217"/>
                  <a:pt x="6389" y="8328"/>
                  <a:pt x="6382" y="8446"/>
                </a:cubicBezTo>
                <a:cubicBezTo>
                  <a:pt x="6382" y="8477"/>
                  <a:pt x="6382" y="8488"/>
                  <a:pt x="6382" y="8509"/>
                </a:cubicBezTo>
              </a:path>
              <a:path w="3049" h="1493">
                <a:moveTo>
                  <a:pt x="6731" y="7715"/>
                </a:moveTo>
                <a:cubicBezTo>
                  <a:pt x="6769" y="7778"/>
                  <a:pt x="6782" y="7889"/>
                  <a:pt x="6763" y="7969"/>
                </a:cubicBezTo>
                <a:cubicBezTo>
                  <a:pt x="6738" y="8073"/>
                  <a:pt x="6753" y="8181"/>
                  <a:pt x="6731" y="8287"/>
                </a:cubicBezTo>
                <a:cubicBezTo>
                  <a:pt x="6728" y="8300"/>
                  <a:pt x="6699" y="8526"/>
                  <a:pt x="6699" y="8446"/>
                </a:cubicBezTo>
                <a:cubicBezTo>
                  <a:pt x="6699" y="8328"/>
                  <a:pt x="6709" y="8211"/>
                  <a:pt x="6731" y="8096"/>
                </a:cubicBezTo>
                <a:cubicBezTo>
                  <a:pt x="6753" y="7977"/>
                  <a:pt x="6810" y="7775"/>
                  <a:pt x="6890" y="7684"/>
                </a:cubicBezTo>
                <a:cubicBezTo>
                  <a:pt x="6936" y="7631"/>
                  <a:pt x="7055" y="7591"/>
                  <a:pt x="7112" y="7652"/>
                </a:cubicBezTo>
                <a:cubicBezTo>
                  <a:pt x="7189" y="7735"/>
                  <a:pt x="7150" y="7880"/>
                  <a:pt x="7144" y="7969"/>
                </a:cubicBezTo>
                <a:cubicBezTo>
                  <a:pt x="7140" y="8031"/>
                  <a:pt x="7144" y="8557"/>
                  <a:pt x="7176" y="8541"/>
                </a:cubicBezTo>
                <a:cubicBezTo>
                  <a:pt x="7213" y="8503"/>
                  <a:pt x="7227" y="8484"/>
                  <a:pt x="7239" y="8446"/>
                </a:cubicBezTo>
              </a:path>
              <a:path w="3049" h="1493">
                <a:moveTo>
                  <a:pt x="7715" y="7334"/>
                </a:moveTo>
                <a:cubicBezTo>
                  <a:pt x="7715" y="7451"/>
                  <a:pt x="7688" y="7539"/>
                  <a:pt x="7684" y="7652"/>
                </a:cubicBezTo>
                <a:cubicBezTo>
                  <a:pt x="7678" y="7828"/>
                  <a:pt x="7699" y="7989"/>
                  <a:pt x="7715" y="8160"/>
                </a:cubicBezTo>
                <a:cubicBezTo>
                  <a:pt x="7725" y="8261"/>
                  <a:pt x="7696" y="8385"/>
                  <a:pt x="7747" y="8477"/>
                </a:cubicBezTo>
                <a:cubicBezTo>
                  <a:pt x="7758" y="8488"/>
                  <a:pt x="7768" y="8498"/>
                  <a:pt x="7779" y="8509"/>
                </a:cubicBezTo>
              </a:path>
              <a:path w="3049" h="1493">
                <a:moveTo>
                  <a:pt x="7366" y="7874"/>
                </a:moveTo>
                <a:cubicBezTo>
                  <a:pt x="7471" y="7874"/>
                  <a:pt x="7549" y="7901"/>
                  <a:pt x="7652" y="7906"/>
                </a:cubicBezTo>
                <a:cubicBezTo>
                  <a:pt x="7751" y="7911"/>
                  <a:pt x="7846" y="7936"/>
                  <a:pt x="7938" y="7969"/>
                </a:cubicBezTo>
              </a:path>
              <a:path w="3049" h="1493">
                <a:moveTo>
                  <a:pt x="5207" y="8795"/>
                </a:moveTo>
                <a:cubicBezTo>
                  <a:pt x="5196" y="8795"/>
                  <a:pt x="5186" y="8795"/>
                  <a:pt x="5175" y="8795"/>
                </a:cubicBezTo>
                <a:cubicBezTo>
                  <a:pt x="5204" y="8812"/>
                  <a:pt x="5205" y="8822"/>
                  <a:pt x="5270" y="8826"/>
                </a:cubicBezTo>
                <a:cubicBezTo>
                  <a:pt x="5375" y="8832"/>
                  <a:pt x="5487" y="8814"/>
                  <a:pt x="5588" y="8795"/>
                </a:cubicBezTo>
                <a:cubicBezTo>
                  <a:pt x="5781" y="8759"/>
                  <a:pt x="5994" y="8716"/>
                  <a:pt x="6191" y="8700"/>
                </a:cubicBezTo>
                <a:cubicBezTo>
                  <a:pt x="6602" y="8668"/>
                  <a:pt x="7022" y="8710"/>
                  <a:pt x="7430" y="8731"/>
                </a:cubicBezTo>
                <a:cubicBezTo>
                  <a:pt x="7693" y="8744"/>
                  <a:pt x="7960" y="8731"/>
                  <a:pt x="8223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Ink 7"/>
          <p:cNvSpPr/>
          <p:nvPr/>
        </p:nvSpPr>
        <p:spPr>
          <a:xfrm>
            <a:off x="1679400" y="3292560"/>
            <a:ext cx="2241720" cy="571320"/>
          </a:xfrm>
          <a:custGeom>
            <a:avLst/>
            <a:gdLst/>
            <a:ahLst/>
            <a:rect l="l" t="t" r="r" b="b"/>
            <a:pathLst>
              <a:path w="6224" h="1589">
                <a:moveTo>
                  <a:pt x="4667" y="9842"/>
                </a:moveTo>
                <a:cubicBezTo>
                  <a:pt x="4726" y="9842"/>
                  <a:pt x="4742" y="9870"/>
                  <a:pt x="4794" y="9874"/>
                </a:cubicBezTo>
                <a:cubicBezTo>
                  <a:pt x="4907" y="9882"/>
                  <a:pt x="5006" y="9888"/>
                  <a:pt x="5112" y="9906"/>
                </a:cubicBezTo>
                <a:cubicBezTo>
                  <a:pt x="5165" y="9906"/>
                  <a:pt x="5175" y="9906"/>
                  <a:pt x="5207" y="9906"/>
                </a:cubicBezTo>
              </a:path>
              <a:path w="6224" h="1589">
                <a:moveTo>
                  <a:pt x="5493" y="9525"/>
                </a:moveTo>
                <a:cubicBezTo>
                  <a:pt x="5493" y="9471"/>
                  <a:pt x="5471" y="9400"/>
                  <a:pt x="5524" y="9366"/>
                </a:cubicBezTo>
                <a:cubicBezTo>
                  <a:pt x="5554" y="9347"/>
                  <a:pt x="5649" y="9337"/>
                  <a:pt x="5683" y="9334"/>
                </a:cubicBezTo>
                <a:cubicBezTo>
                  <a:pt x="5759" y="9328"/>
                  <a:pt x="5784" y="9347"/>
                  <a:pt x="5842" y="9366"/>
                </a:cubicBezTo>
                <a:cubicBezTo>
                  <a:pt x="5909" y="9388"/>
                  <a:pt x="5880" y="9501"/>
                  <a:pt x="5842" y="9557"/>
                </a:cubicBezTo>
                <a:cubicBezTo>
                  <a:pt x="5798" y="9622"/>
                  <a:pt x="5764" y="9689"/>
                  <a:pt x="5683" y="9716"/>
                </a:cubicBezTo>
                <a:cubicBezTo>
                  <a:pt x="5635" y="9732"/>
                  <a:pt x="5606" y="9767"/>
                  <a:pt x="5556" y="9779"/>
                </a:cubicBezTo>
                <a:cubicBezTo>
                  <a:pt x="5610" y="9738"/>
                  <a:pt x="5643" y="9747"/>
                  <a:pt x="5715" y="9747"/>
                </a:cubicBezTo>
                <a:cubicBezTo>
                  <a:pt x="5805" y="9747"/>
                  <a:pt x="5845" y="9781"/>
                  <a:pt x="5906" y="9842"/>
                </a:cubicBezTo>
                <a:cubicBezTo>
                  <a:pt x="5957" y="9893"/>
                  <a:pt x="5937" y="9964"/>
                  <a:pt x="5937" y="10033"/>
                </a:cubicBezTo>
                <a:cubicBezTo>
                  <a:pt x="5937" y="10124"/>
                  <a:pt x="5904" y="10163"/>
                  <a:pt x="5842" y="10224"/>
                </a:cubicBezTo>
                <a:cubicBezTo>
                  <a:pt x="5777" y="10288"/>
                  <a:pt x="5752" y="10285"/>
                  <a:pt x="5683" y="10319"/>
                </a:cubicBezTo>
                <a:cubicBezTo>
                  <a:pt x="5606" y="10357"/>
                  <a:pt x="5637" y="10328"/>
                  <a:pt x="5556" y="10319"/>
                </a:cubicBezTo>
                <a:cubicBezTo>
                  <a:pt x="5520" y="10319"/>
                  <a:pt x="5506" y="10316"/>
                  <a:pt x="5493" y="10287"/>
                </a:cubicBezTo>
              </a:path>
              <a:path w="6224" h="1589">
                <a:moveTo>
                  <a:pt x="6032" y="9716"/>
                </a:moveTo>
                <a:cubicBezTo>
                  <a:pt x="6032" y="9808"/>
                  <a:pt x="6054" y="9826"/>
                  <a:pt x="6096" y="9906"/>
                </a:cubicBezTo>
                <a:cubicBezTo>
                  <a:pt x="6152" y="10012"/>
                  <a:pt x="6155" y="10116"/>
                  <a:pt x="6191" y="10224"/>
                </a:cubicBezTo>
                <a:cubicBezTo>
                  <a:pt x="6221" y="10315"/>
                  <a:pt x="6261" y="10402"/>
                  <a:pt x="6318" y="10478"/>
                </a:cubicBezTo>
                <a:cubicBezTo>
                  <a:pt x="6347" y="10506"/>
                  <a:pt x="6353" y="10516"/>
                  <a:pt x="6382" y="10509"/>
                </a:cubicBezTo>
              </a:path>
              <a:path w="6224" h="1589">
                <a:moveTo>
                  <a:pt x="6509" y="9811"/>
                </a:moveTo>
                <a:cubicBezTo>
                  <a:pt x="6477" y="9821"/>
                  <a:pt x="6412" y="9896"/>
                  <a:pt x="6382" y="9938"/>
                </a:cubicBezTo>
                <a:cubicBezTo>
                  <a:pt x="6308" y="10043"/>
                  <a:pt x="6244" y="10156"/>
                  <a:pt x="6160" y="10255"/>
                </a:cubicBezTo>
                <a:cubicBezTo>
                  <a:pt x="6088" y="10339"/>
                  <a:pt x="6052" y="10468"/>
                  <a:pt x="5969" y="10541"/>
                </a:cubicBezTo>
                <a:cubicBezTo>
                  <a:pt x="5901" y="10600"/>
                  <a:pt x="5922" y="10572"/>
                  <a:pt x="5874" y="10636"/>
                </a:cubicBezTo>
              </a:path>
              <a:path w="6224" h="1589">
                <a:moveTo>
                  <a:pt x="6953" y="9716"/>
                </a:moveTo>
                <a:cubicBezTo>
                  <a:pt x="7005" y="9733"/>
                  <a:pt x="6985" y="9777"/>
                  <a:pt x="6985" y="9842"/>
                </a:cubicBezTo>
                <a:cubicBezTo>
                  <a:pt x="6985" y="9941"/>
                  <a:pt x="6934" y="10033"/>
                  <a:pt x="6922" y="10128"/>
                </a:cubicBezTo>
                <a:cubicBezTo>
                  <a:pt x="6911" y="10218"/>
                  <a:pt x="6890" y="10292"/>
                  <a:pt x="6890" y="10382"/>
                </a:cubicBezTo>
                <a:cubicBezTo>
                  <a:pt x="6890" y="10414"/>
                  <a:pt x="6890" y="10425"/>
                  <a:pt x="6890" y="10446"/>
                </a:cubicBezTo>
              </a:path>
              <a:path w="6224" h="1589">
                <a:moveTo>
                  <a:pt x="6731" y="10033"/>
                </a:moveTo>
                <a:cubicBezTo>
                  <a:pt x="6800" y="10033"/>
                  <a:pt x="6820" y="10061"/>
                  <a:pt x="6890" y="10065"/>
                </a:cubicBezTo>
                <a:cubicBezTo>
                  <a:pt x="6992" y="10071"/>
                  <a:pt x="7126" y="10083"/>
                  <a:pt x="7207" y="10033"/>
                </a:cubicBezTo>
              </a:path>
              <a:path w="6224" h="1589">
                <a:moveTo>
                  <a:pt x="7684" y="9366"/>
                </a:moveTo>
                <a:cubicBezTo>
                  <a:pt x="7663" y="9470"/>
                  <a:pt x="7603" y="9470"/>
                  <a:pt x="7556" y="9557"/>
                </a:cubicBezTo>
                <a:cubicBezTo>
                  <a:pt x="7505" y="9652"/>
                  <a:pt x="7417" y="9802"/>
                  <a:pt x="7398" y="9906"/>
                </a:cubicBezTo>
                <a:cubicBezTo>
                  <a:pt x="7381" y="9995"/>
                  <a:pt x="7341" y="10131"/>
                  <a:pt x="7366" y="10224"/>
                </a:cubicBezTo>
                <a:cubicBezTo>
                  <a:pt x="7380" y="10277"/>
                  <a:pt x="7446" y="10352"/>
                  <a:pt x="7493" y="10382"/>
                </a:cubicBezTo>
                <a:cubicBezTo>
                  <a:pt x="7597" y="10450"/>
                  <a:pt x="7651" y="10366"/>
                  <a:pt x="7715" y="10319"/>
                </a:cubicBezTo>
                <a:cubicBezTo>
                  <a:pt x="7805" y="10253"/>
                  <a:pt x="7845" y="10181"/>
                  <a:pt x="7874" y="10065"/>
                </a:cubicBezTo>
                <a:cubicBezTo>
                  <a:pt x="7889" y="10006"/>
                  <a:pt x="7824" y="9953"/>
                  <a:pt x="7779" y="9938"/>
                </a:cubicBezTo>
                <a:cubicBezTo>
                  <a:pt x="7726" y="9920"/>
                  <a:pt x="7647" y="9992"/>
                  <a:pt x="7620" y="10033"/>
                </a:cubicBezTo>
                <a:cubicBezTo>
                  <a:pt x="7570" y="10110"/>
                  <a:pt x="7530" y="10197"/>
                  <a:pt x="7525" y="10287"/>
                </a:cubicBezTo>
                <a:cubicBezTo>
                  <a:pt x="7522" y="10343"/>
                  <a:pt x="7499" y="10439"/>
                  <a:pt x="7556" y="10446"/>
                </a:cubicBezTo>
                <a:cubicBezTo>
                  <a:pt x="7567" y="10446"/>
                  <a:pt x="7577" y="10446"/>
                  <a:pt x="7588" y="10446"/>
                </a:cubicBezTo>
              </a:path>
              <a:path w="6224" h="1589">
                <a:moveTo>
                  <a:pt x="8509" y="9144"/>
                </a:moveTo>
                <a:cubicBezTo>
                  <a:pt x="8445" y="9157"/>
                  <a:pt x="8409" y="9160"/>
                  <a:pt x="8350" y="9208"/>
                </a:cubicBezTo>
                <a:cubicBezTo>
                  <a:pt x="8253" y="9288"/>
                  <a:pt x="8200" y="9450"/>
                  <a:pt x="8128" y="9557"/>
                </a:cubicBezTo>
                <a:cubicBezTo>
                  <a:pt x="8032" y="9699"/>
                  <a:pt x="8010" y="9867"/>
                  <a:pt x="7969" y="10033"/>
                </a:cubicBezTo>
                <a:cubicBezTo>
                  <a:pt x="7934" y="10176"/>
                  <a:pt x="7937" y="10304"/>
                  <a:pt x="7969" y="10446"/>
                </a:cubicBezTo>
                <a:cubicBezTo>
                  <a:pt x="7981" y="10498"/>
                  <a:pt x="8027" y="10648"/>
                  <a:pt x="8096" y="10668"/>
                </a:cubicBezTo>
                <a:cubicBezTo>
                  <a:pt x="8117" y="10668"/>
                  <a:pt x="8139" y="10668"/>
                  <a:pt x="8160" y="10668"/>
                </a:cubicBezTo>
              </a:path>
              <a:path w="6224" h="1589">
                <a:moveTo>
                  <a:pt x="8446" y="9747"/>
                </a:moveTo>
                <a:cubicBezTo>
                  <a:pt x="8431" y="9752"/>
                  <a:pt x="8360" y="9780"/>
                  <a:pt x="8350" y="9811"/>
                </a:cubicBezTo>
                <a:cubicBezTo>
                  <a:pt x="8319" y="9912"/>
                  <a:pt x="8318" y="10019"/>
                  <a:pt x="8318" y="10128"/>
                </a:cubicBezTo>
                <a:cubicBezTo>
                  <a:pt x="8318" y="10198"/>
                  <a:pt x="8302" y="10283"/>
                  <a:pt x="8382" y="10319"/>
                </a:cubicBezTo>
                <a:cubicBezTo>
                  <a:pt x="8457" y="10352"/>
                  <a:pt x="8511" y="10275"/>
                  <a:pt x="8541" y="10224"/>
                </a:cubicBezTo>
                <a:cubicBezTo>
                  <a:pt x="8599" y="10124"/>
                  <a:pt x="8604" y="10052"/>
                  <a:pt x="8604" y="9938"/>
                </a:cubicBezTo>
                <a:cubicBezTo>
                  <a:pt x="8604" y="9865"/>
                  <a:pt x="8556" y="9826"/>
                  <a:pt x="8509" y="9779"/>
                </a:cubicBezTo>
              </a:path>
              <a:path w="6224" h="1589">
                <a:moveTo>
                  <a:pt x="8636" y="9208"/>
                </a:moveTo>
                <a:cubicBezTo>
                  <a:pt x="8625" y="9197"/>
                  <a:pt x="8615" y="9187"/>
                  <a:pt x="8604" y="9176"/>
                </a:cubicBezTo>
                <a:cubicBezTo>
                  <a:pt x="8648" y="9191"/>
                  <a:pt x="8670" y="9246"/>
                  <a:pt x="8700" y="9303"/>
                </a:cubicBezTo>
                <a:cubicBezTo>
                  <a:pt x="8777" y="9449"/>
                  <a:pt x="8845" y="9623"/>
                  <a:pt x="8890" y="9779"/>
                </a:cubicBezTo>
                <a:cubicBezTo>
                  <a:pt x="8935" y="9936"/>
                  <a:pt x="8931" y="10075"/>
                  <a:pt x="8922" y="10224"/>
                </a:cubicBezTo>
                <a:cubicBezTo>
                  <a:pt x="8914" y="10348"/>
                  <a:pt x="8889" y="10460"/>
                  <a:pt x="8826" y="10573"/>
                </a:cubicBezTo>
                <a:cubicBezTo>
                  <a:pt x="8802" y="10615"/>
                  <a:pt x="8761" y="10665"/>
                  <a:pt x="8731" y="10700"/>
                </a:cubicBezTo>
                <a:cubicBezTo>
                  <a:pt x="8700" y="10735"/>
                  <a:pt x="8704" y="10770"/>
                  <a:pt x="8731" y="10732"/>
                </a:cubicBezTo>
                <a:cubicBezTo>
                  <a:pt x="8731" y="10721"/>
                  <a:pt x="8731" y="10711"/>
                  <a:pt x="8731" y="10700"/>
                </a:cubicBezTo>
              </a:path>
              <a:path w="6224" h="1589">
                <a:moveTo>
                  <a:pt x="9208" y="9938"/>
                </a:moveTo>
                <a:cubicBezTo>
                  <a:pt x="9228" y="9855"/>
                  <a:pt x="9283" y="9848"/>
                  <a:pt x="9366" y="9842"/>
                </a:cubicBezTo>
                <a:cubicBezTo>
                  <a:pt x="9448" y="9836"/>
                  <a:pt x="9511" y="9826"/>
                  <a:pt x="9588" y="9811"/>
                </a:cubicBezTo>
              </a:path>
              <a:path w="6224" h="1589">
                <a:moveTo>
                  <a:pt x="9271" y="10255"/>
                </a:moveTo>
                <a:cubicBezTo>
                  <a:pt x="9271" y="10266"/>
                  <a:pt x="9271" y="10276"/>
                  <a:pt x="9271" y="10287"/>
                </a:cubicBezTo>
                <a:cubicBezTo>
                  <a:pt x="9340" y="10287"/>
                  <a:pt x="9401" y="10279"/>
                  <a:pt x="9462" y="10255"/>
                </a:cubicBezTo>
                <a:cubicBezTo>
                  <a:pt x="9526" y="10230"/>
                  <a:pt x="9552" y="10224"/>
                  <a:pt x="9620" y="10224"/>
                </a:cubicBezTo>
              </a:path>
              <a:path w="6224" h="1589">
                <a:moveTo>
                  <a:pt x="9842" y="9747"/>
                </a:moveTo>
                <a:cubicBezTo>
                  <a:pt x="9815" y="9693"/>
                  <a:pt x="9834" y="9655"/>
                  <a:pt x="9874" y="9620"/>
                </a:cubicBezTo>
                <a:cubicBezTo>
                  <a:pt x="9939" y="9563"/>
                  <a:pt x="9945" y="9532"/>
                  <a:pt x="10033" y="9525"/>
                </a:cubicBezTo>
                <a:cubicBezTo>
                  <a:pt x="10086" y="9521"/>
                  <a:pt x="10125" y="9574"/>
                  <a:pt x="10128" y="9620"/>
                </a:cubicBezTo>
                <a:cubicBezTo>
                  <a:pt x="10136" y="9731"/>
                  <a:pt x="10103" y="9804"/>
                  <a:pt x="10065" y="9906"/>
                </a:cubicBezTo>
                <a:cubicBezTo>
                  <a:pt x="10019" y="10030"/>
                  <a:pt x="9977" y="10116"/>
                  <a:pt x="9906" y="10224"/>
                </a:cubicBezTo>
                <a:cubicBezTo>
                  <a:pt x="9859" y="10295"/>
                  <a:pt x="9752" y="10373"/>
                  <a:pt x="9716" y="10446"/>
                </a:cubicBezTo>
                <a:cubicBezTo>
                  <a:pt x="9695" y="10488"/>
                  <a:pt x="9699" y="10464"/>
                  <a:pt x="9684" y="10509"/>
                </a:cubicBezTo>
                <a:cubicBezTo>
                  <a:pt x="9738" y="10469"/>
                  <a:pt x="9771" y="10478"/>
                  <a:pt x="9842" y="10478"/>
                </a:cubicBezTo>
                <a:cubicBezTo>
                  <a:pt x="9925" y="10478"/>
                  <a:pt x="9983" y="10522"/>
                  <a:pt x="10065" y="10541"/>
                </a:cubicBezTo>
                <a:cubicBezTo>
                  <a:pt x="10163" y="10564"/>
                  <a:pt x="10211" y="10556"/>
                  <a:pt x="10224" y="10478"/>
                </a:cubicBezTo>
              </a:path>
              <a:path w="6224" h="1589">
                <a:moveTo>
                  <a:pt x="10319" y="9620"/>
                </a:moveTo>
                <a:cubicBezTo>
                  <a:pt x="10341" y="9628"/>
                  <a:pt x="10397" y="9677"/>
                  <a:pt x="10414" y="9716"/>
                </a:cubicBezTo>
                <a:cubicBezTo>
                  <a:pt x="10451" y="9798"/>
                  <a:pt x="10394" y="9896"/>
                  <a:pt x="10382" y="9970"/>
                </a:cubicBezTo>
                <a:cubicBezTo>
                  <a:pt x="10370" y="10041"/>
                  <a:pt x="10368" y="10140"/>
                  <a:pt x="10414" y="10192"/>
                </a:cubicBezTo>
                <a:cubicBezTo>
                  <a:pt x="10458" y="10241"/>
                  <a:pt x="10510" y="10224"/>
                  <a:pt x="10573" y="10224"/>
                </a:cubicBezTo>
                <a:cubicBezTo>
                  <a:pt x="10649" y="10224"/>
                  <a:pt x="10703" y="10204"/>
                  <a:pt x="10763" y="10192"/>
                </a:cubicBezTo>
                <a:cubicBezTo>
                  <a:pt x="10860" y="10173"/>
                  <a:pt x="10837" y="10189"/>
                  <a:pt x="10890" y="10096"/>
                </a:cubicBezTo>
              </a:path>
              <a:path w="6224" h="1589">
                <a:moveTo>
                  <a:pt x="10763" y="9462"/>
                </a:moveTo>
                <a:cubicBezTo>
                  <a:pt x="10763" y="9688"/>
                  <a:pt x="10747" y="9905"/>
                  <a:pt x="10732" y="10128"/>
                </a:cubicBezTo>
                <a:cubicBezTo>
                  <a:pt x="10718" y="10332"/>
                  <a:pt x="10699" y="10529"/>
                  <a:pt x="10668" y="107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Ink 8"/>
          <p:cNvSpPr/>
          <p:nvPr/>
        </p:nvSpPr>
        <p:spPr>
          <a:xfrm>
            <a:off x="5268960" y="3360600"/>
            <a:ext cx="2057400" cy="822600"/>
          </a:xfrm>
          <a:custGeom>
            <a:avLst/>
            <a:gdLst/>
            <a:ahLst/>
            <a:rect l="l" t="t" r="r" b="b"/>
            <a:pathLst>
              <a:path w="5716" h="2287">
                <a:moveTo>
                  <a:pt x="14668" y="10128"/>
                </a:moveTo>
                <a:cubicBezTo>
                  <a:pt x="14658" y="10128"/>
                  <a:pt x="14647" y="10128"/>
                  <a:pt x="14637" y="10128"/>
                </a:cubicBezTo>
                <a:cubicBezTo>
                  <a:pt x="14695" y="10128"/>
                  <a:pt x="14712" y="10154"/>
                  <a:pt x="14764" y="10160"/>
                </a:cubicBezTo>
                <a:cubicBezTo>
                  <a:pt x="14857" y="10170"/>
                  <a:pt x="14956" y="10160"/>
                  <a:pt x="15050" y="10160"/>
                </a:cubicBezTo>
              </a:path>
              <a:path w="5716" h="2287">
                <a:moveTo>
                  <a:pt x="15399" y="10001"/>
                </a:moveTo>
                <a:cubicBezTo>
                  <a:pt x="15416" y="9934"/>
                  <a:pt x="15446" y="9949"/>
                  <a:pt x="15494" y="9906"/>
                </a:cubicBezTo>
                <a:cubicBezTo>
                  <a:pt x="15561" y="9847"/>
                  <a:pt x="15584" y="9846"/>
                  <a:pt x="15653" y="9811"/>
                </a:cubicBezTo>
                <a:cubicBezTo>
                  <a:pt x="15685" y="9795"/>
                  <a:pt x="15733" y="9753"/>
                  <a:pt x="15780" y="9779"/>
                </a:cubicBezTo>
                <a:cubicBezTo>
                  <a:pt x="15828" y="9806"/>
                  <a:pt x="15823" y="9957"/>
                  <a:pt x="15812" y="10001"/>
                </a:cubicBezTo>
                <a:cubicBezTo>
                  <a:pt x="15786" y="10104"/>
                  <a:pt x="15688" y="10268"/>
                  <a:pt x="15621" y="10319"/>
                </a:cubicBezTo>
                <a:cubicBezTo>
                  <a:pt x="15610" y="10329"/>
                  <a:pt x="15600" y="10340"/>
                  <a:pt x="15589" y="10350"/>
                </a:cubicBezTo>
                <a:cubicBezTo>
                  <a:pt x="15602" y="10314"/>
                  <a:pt x="15643" y="10295"/>
                  <a:pt x="15684" y="10255"/>
                </a:cubicBezTo>
                <a:cubicBezTo>
                  <a:pt x="15744" y="10195"/>
                  <a:pt x="15753" y="10236"/>
                  <a:pt x="15812" y="10255"/>
                </a:cubicBezTo>
                <a:cubicBezTo>
                  <a:pt x="15879" y="10277"/>
                  <a:pt x="15901" y="10345"/>
                  <a:pt x="15907" y="10414"/>
                </a:cubicBezTo>
                <a:cubicBezTo>
                  <a:pt x="15913" y="10480"/>
                  <a:pt x="15875" y="10608"/>
                  <a:pt x="15843" y="10668"/>
                </a:cubicBezTo>
                <a:cubicBezTo>
                  <a:pt x="15782" y="10781"/>
                  <a:pt x="15711" y="10864"/>
                  <a:pt x="15621" y="10954"/>
                </a:cubicBezTo>
                <a:cubicBezTo>
                  <a:pt x="15574" y="11001"/>
                  <a:pt x="15524" y="10986"/>
                  <a:pt x="15462" y="10986"/>
                </a:cubicBezTo>
                <a:cubicBezTo>
                  <a:pt x="15462" y="10922"/>
                  <a:pt x="15462" y="10901"/>
                  <a:pt x="15462" y="10858"/>
                </a:cubicBezTo>
              </a:path>
              <a:path w="5716" h="2287">
                <a:moveTo>
                  <a:pt x="16320" y="9557"/>
                </a:moveTo>
                <a:cubicBezTo>
                  <a:pt x="16382" y="9578"/>
                  <a:pt x="16318" y="9691"/>
                  <a:pt x="16288" y="9747"/>
                </a:cubicBezTo>
                <a:cubicBezTo>
                  <a:pt x="16219" y="9875"/>
                  <a:pt x="16140" y="9985"/>
                  <a:pt x="16097" y="10128"/>
                </a:cubicBezTo>
                <a:cubicBezTo>
                  <a:pt x="16053" y="10275"/>
                  <a:pt x="16008" y="10420"/>
                  <a:pt x="16002" y="10573"/>
                </a:cubicBezTo>
                <a:cubicBezTo>
                  <a:pt x="15998" y="10693"/>
                  <a:pt x="15996" y="10788"/>
                  <a:pt x="16066" y="10890"/>
                </a:cubicBezTo>
                <a:cubicBezTo>
                  <a:pt x="16106" y="10949"/>
                  <a:pt x="16150" y="10922"/>
                  <a:pt x="16192" y="10890"/>
                </a:cubicBezTo>
              </a:path>
              <a:path w="5716" h="2287">
                <a:moveTo>
                  <a:pt x="16542" y="10096"/>
                </a:moveTo>
                <a:cubicBezTo>
                  <a:pt x="16521" y="10035"/>
                  <a:pt x="16505" y="10082"/>
                  <a:pt x="16478" y="10128"/>
                </a:cubicBezTo>
                <a:cubicBezTo>
                  <a:pt x="16416" y="10236"/>
                  <a:pt x="16414" y="10337"/>
                  <a:pt x="16383" y="10446"/>
                </a:cubicBezTo>
                <a:cubicBezTo>
                  <a:pt x="16355" y="10545"/>
                  <a:pt x="16361" y="10549"/>
                  <a:pt x="16383" y="10636"/>
                </a:cubicBezTo>
                <a:cubicBezTo>
                  <a:pt x="16436" y="10636"/>
                  <a:pt x="16505" y="10616"/>
                  <a:pt x="16542" y="10573"/>
                </a:cubicBezTo>
                <a:cubicBezTo>
                  <a:pt x="16598" y="10509"/>
                  <a:pt x="16631" y="10399"/>
                  <a:pt x="16637" y="10319"/>
                </a:cubicBezTo>
                <a:cubicBezTo>
                  <a:pt x="16640" y="10282"/>
                  <a:pt x="16611" y="10179"/>
                  <a:pt x="16574" y="10160"/>
                </a:cubicBezTo>
                <a:cubicBezTo>
                  <a:pt x="16548" y="10147"/>
                  <a:pt x="16476" y="10160"/>
                  <a:pt x="16446" y="10160"/>
                </a:cubicBezTo>
              </a:path>
              <a:path w="5716" h="2287">
                <a:moveTo>
                  <a:pt x="16637" y="9716"/>
                </a:moveTo>
                <a:cubicBezTo>
                  <a:pt x="16637" y="9787"/>
                  <a:pt x="16666" y="9809"/>
                  <a:pt x="16700" y="9874"/>
                </a:cubicBezTo>
                <a:cubicBezTo>
                  <a:pt x="16749" y="9966"/>
                  <a:pt x="16803" y="10042"/>
                  <a:pt x="16859" y="10128"/>
                </a:cubicBezTo>
                <a:cubicBezTo>
                  <a:pt x="16940" y="10252"/>
                  <a:pt x="16980" y="10362"/>
                  <a:pt x="16986" y="10509"/>
                </a:cubicBezTo>
                <a:cubicBezTo>
                  <a:pt x="16992" y="10659"/>
                  <a:pt x="16934" y="10812"/>
                  <a:pt x="16891" y="10954"/>
                </a:cubicBezTo>
                <a:cubicBezTo>
                  <a:pt x="16862" y="11049"/>
                  <a:pt x="16811" y="11122"/>
                  <a:pt x="16764" y="11208"/>
                </a:cubicBezTo>
              </a:path>
              <a:path w="5716" h="2287">
                <a:moveTo>
                  <a:pt x="17367" y="9811"/>
                </a:moveTo>
                <a:cubicBezTo>
                  <a:pt x="17367" y="9942"/>
                  <a:pt x="17347" y="10066"/>
                  <a:pt x="17336" y="10192"/>
                </a:cubicBezTo>
                <a:cubicBezTo>
                  <a:pt x="17328" y="10286"/>
                  <a:pt x="17339" y="10451"/>
                  <a:pt x="17304" y="10541"/>
                </a:cubicBezTo>
                <a:cubicBezTo>
                  <a:pt x="17293" y="10552"/>
                  <a:pt x="17283" y="10562"/>
                  <a:pt x="17272" y="10573"/>
                </a:cubicBezTo>
              </a:path>
              <a:path w="5716" h="2287">
                <a:moveTo>
                  <a:pt x="17113" y="10319"/>
                </a:moveTo>
                <a:cubicBezTo>
                  <a:pt x="17131" y="10345"/>
                  <a:pt x="17215" y="10373"/>
                  <a:pt x="17272" y="10350"/>
                </a:cubicBezTo>
                <a:cubicBezTo>
                  <a:pt x="17335" y="10324"/>
                  <a:pt x="17403" y="10259"/>
                  <a:pt x="17462" y="10224"/>
                </a:cubicBezTo>
                <a:cubicBezTo>
                  <a:pt x="17483" y="10213"/>
                  <a:pt x="17505" y="10203"/>
                  <a:pt x="17526" y="10192"/>
                </a:cubicBezTo>
              </a:path>
              <a:path w="5716" h="2287">
                <a:moveTo>
                  <a:pt x="17844" y="9620"/>
                </a:moveTo>
                <a:cubicBezTo>
                  <a:pt x="17829" y="9697"/>
                  <a:pt x="17806" y="9767"/>
                  <a:pt x="17780" y="9842"/>
                </a:cubicBezTo>
                <a:cubicBezTo>
                  <a:pt x="17734" y="9972"/>
                  <a:pt x="17714" y="10094"/>
                  <a:pt x="17685" y="10224"/>
                </a:cubicBezTo>
                <a:cubicBezTo>
                  <a:pt x="17662" y="10329"/>
                  <a:pt x="17626" y="10462"/>
                  <a:pt x="17653" y="10573"/>
                </a:cubicBezTo>
                <a:cubicBezTo>
                  <a:pt x="17662" y="10610"/>
                  <a:pt x="17738" y="10720"/>
                  <a:pt x="17780" y="10732"/>
                </a:cubicBezTo>
                <a:cubicBezTo>
                  <a:pt x="17823" y="10744"/>
                  <a:pt x="17944" y="10701"/>
                  <a:pt x="17970" y="10668"/>
                </a:cubicBezTo>
                <a:cubicBezTo>
                  <a:pt x="18023" y="10599"/>
                  <a:pt x="18082" y="10466"/>
                  <a:pt x="18098" y="10382"/>
                </a:cubicBezTo>
                <a:cubicBezTo>
                  <a:pt x="18117" y="10282"/>
                  <a:pt x="18091" y="10178"/>
                  <a:pt x="18066" y="10096"/>
                </a:cubicBezTo>
                <a:cubicBezTo>
                  <a:pt x="18066" y="10086"/>
                  <a:pt x="18066" y="10075"/>
                  <a:pt x="18066" y="10065"/>
                </a:cubicBezTo>
                <a:cubicBezTo>
                  <a:pt x="18015" y="10115"/>
                  <a:pt x="17952" y="10181"/>
                  <a:pt x="17939" y="10255"/>
                </a:cubicBezTo>
                <a:cubicBezTo>
                  <a:pt x="17918" y="10380"/>
                  <a:pt x="17907" y="10508"/>
                  <a:pt x="17907" y="10636"/>
                </a:cubicBezTo>
                <a:cubicBezTo>
                  <a:pt x="17907" y="10703"/>
                  <a:pt x="17948" y="10700"/>
                  <a:pt x="18002" y="10700"/>
                </a:cubicBezTo>
                <a:cubicBezTo>
                  <a:pt x="18013" y="10700"/>
                  <a:pt x="18023" y="10700"/>
                  <a:pt x="18034" y="10700"/>
                </a:cubicBezTo>
              </a:path>
              <a:path w="5716" h="2287">
                <a:moveTo>
                  <a:pt x="18320" y="9874"/>
                </a:moveTo>
                <a:cubicBezTo>
                  <a:pt x="18320" y="10053"/>
                  <a:pt x="18264" y="10324"/>
                  <a:pt x="18352" y="10478"/>
                </a:cubicBezTo>
                <a:cubicBezTo>
                  <a:pt x="18383" y="10532"/>
                  <a:pt x="18356" y="10484"/>
                  <a:pt x="18415" y="10509"/>
                </a:cubicBezTo>
                <a:cubicBezTo>
                  <a:pt x="18452" y="10435"/>
                  <a:pt x="18458" y="10373"/>
                  <a:pt x="18478" y="10287"/>
                </a:cubicBezTo>
                <a:cubicBezTo>
                  <a:pt x="18506" y="10165"/>
                  <a:pt x="18506" y="10024"/>
                  <a:pt x="18542" y="9906"/>
                </a:cubicBezTo>
                <a:cubicBezTo>
                  <a:pt x="18553" y="9885"/>
                  <a:pt x="18563" y="9863"/>
                  <a:pt x="18574" y="9842"/>
                </a:cubicBezTo>
                <a:cubicBezTo>
                  <a:pt x="18611" y="9917"/>
                  <a:pt x="18628" y="10068"/>
                  <a:pt x="18637" y="10160"/>
                </a:cubicBezTo>
                <a:cubicBezTo>
                  <a:pt x="18654" y="10329"/>
                  <a:pt x="18641" y="10501"/>
                  <a:pt x="18669" y="10668"/>
                </a:cubicBezTo>
                <a:cubicBezTo>
                  <a:pt x="18701" y="10857"/>
                  <a:pt x="18685" y="10989"/>
                  <a:pt x="18669" y="11176"/>
                </a:cubicBezTo>
                <a:cubicBezTo>
                  <a:pt x="18658" y="11309"/>
                  <a:pt x="18650" y="11439"/>
                  <a:pt x="18574" y="11557"/>
                </a:cubicBezTo>
                <a:cubicBezTo>
                  <a:pt x="18538" y="11613"/>
                  <a:pt x="18446" y="11638"/>
                  <a:pt x="18383" y="11620"/>
                </a:cubicBezTo>
                <a:cubicBezTo>
                  <a:pt x="18318" y="11602"/>
                  <a:pt x="18274" y="11414"/>
                  <a:pt x="18256" y="11366"/>
                </a:cubicBezTo>
              </a:path>
              <a:path w="5716" h="2287">
                <a:moveTo>
                  <a:pt x="18955" y="10096"/>
                </a:moveTo>
                <a:cubicBezTo>
                  <a:pt x="18955" y="10086"/>
                  <a:pt x="18955" y="10075"/>
                  <a:pt x="18955" y="10065"/>
                </a:cubicBezTo>
                <a:cubicBezTo>
                  <a:pt x="19026" y="10051"/>
                  <a:pt x="19069" y="10033"/>
                  <a:pt x="19145" y="10033"/>
                </a:cubicBezTo>
                <a:cubicBezTo>
                  <a:pt x="19156" y="10033"/>
                  <a:pt x="19166" y="10033"/>
                  <a:pt x="19177" y="10033"/>
                </a:cubicBezTo>
              </a:path>
              <a:path w="5716" h="2287">
                <a:moveTo>
                  <a:pt x="19018" y="10350"/>
                </a:moveTo>
                <a:cubicBezTo>
                  <a:pt x="19077" y="10350"/>
                  <a:pt x="19100" y="10328"/>
                  <a:pt x="19145" y="10319"/>
                </a:cubicBezTo>
                <a:cubicBezTo>
                  <a:pt x="19203" y="10319"/>
                  <a:pt x="19219" y="10324"/>
                  <a:pt x="19240" y="10287"/>
                </a:cubicBezTo>
              </a:path>
              <a:path w="5716" h="2287">
                <a:moveTo>
                  <a:pt x="19399" y="9906"/>
                </a:moveTo>
                <a:cubicBezTo>
                  <a:pt x="19410" y="9818"/>
                  <a:pt x="19441" y="9729"/>
                  <a:pt x="19494" y="9652"/>
                </a:cubicBezTo>
                <a:cubicBezTo>
                  <a:pt x="19530" y="9599"/>
                  <a:pt x="19556" y="9532"/>
                  <a:pt x="19622" y="9525"/>
                </a:cubicBezTo>
                <a:cubicBezTo>
                  <a:pt x="19653" y="9525"/>
                  <a:pt x="19664" y="9525"/>
                  <a:pt x="19685" y="9525"/>
                </a:cubicBezTo>
                <a:cubicBezTo>
                  <a:pt x="19699" y="9632"/>
                  <a:pt x="19711" y="9700"/>
                  <a:pt x="19685" y="9811"/>
                </a:cubicBezTo>
                <a:cubicBezTo>
                  <a:pt x="19654" y="9945"/>
                  <a:pt x="19624" y="10095"/>
                  <a:pt x="19590" y="10224"/>
                </a:cubicBezTo>
                <a:cubicBezTo>
                  <a:pt x="19582" y="10256"/>
                  <a:pt x="19511" y="10432"/>
                  <a:pt x="19494" y="10446"/>
                </a:cubicBezTo>
                <a:cubicBezTo>
                  <a:pt x="19484" y="10446"/>
                  <a:pt x="19473" y="10446"/>
                  <a:pt x="19463" y="10446"/>
                </a:cubicBezTo>
                <a:cubicBezTo>
                  <a:pt x="19493" y="10416"/>
                  <a:pt x="19537" y="10353"/>
                  <a:pt x="19590" y="10382"/>
                </a:cubicBezTo>
                <a:cubicBezTo>
                  <a:pt x="19634" y="10406"/>
                  <a:pt x="19671" y="10457"/>
                  <a:pt x="19717" y="10478"/>
                </a:cubicBezTo>
                <a:cubicBezTo>
                  <a:pt x="19760" y="10497"/>
                  <a:pt x="19792" y="10509"/>
                  <a:pt x="19844" y="10509"/>
                </a:cubicBezTo>
                <a:cubicBezTo>
                  <a:pt x="19876" y="10509"/>
                  <a:pt x="19886" y="10509"/>
                  <a:pt x="19876" y="10478"/>
                </a:cubicBezTo>
              </a:path>
              <a:path w="5716" h="2287">
                <a:moveTo>
                  <a:pt x="20034" y="9557"/>
                </a:moveTo>
                <a:cubicBezTo>
                  <a:pt x="19974" y="9576"/>
                  <a:pt x="20002" y="9677"/>
                  <a:pt x="20002" y="9747"/>
                </a:cubicBezTo>
                <a:cubicBezTo>
                  <a:pt x="20002" y="9856"/>
                  <a:pt x="19988" y="9914"/>
                  <a:pt x="20002" y="10001"/>
                </a:cubicBezTo>
                <a:cubicBezTo>
                  <a:pt x="20007" y="10031"/>
                  <a:pt x="20002" y="10066"/>
                  <a:pt x="20002" y="10096"/>
                </a:cubicBezTo>
                <a:cubicBezTo>
                  <a:pt x="20053" y="10084"/>
                  <a:pt x="20083" y="10049"/>
                  <a:pt x="20130" y="10033"/>
                </a:cubicBezTo>
                <a:cubicBezTo>
                  <a:pt x="20210" y="10006"/>
                  <a:pt x="20279" y="10056"/>
                  <a:pt x="20352" y="10001"/>
                </a:cubicBezTo>
              </a:path>
              <a:path w="5716" h="2287">
                <a:moveTo>
                  <a:pt x="20320" y="9334"/>
                </a:moveTo>
                <a:cubicBezTo>
                  <a:pt x="20320" y="9747"/>
                  <a:pt x="20320" y="10160"/>
                  <a:pt x="20320" y="10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Ink 9"/>
          <p:cNvSpPr/>
          <p:nvPr/>
        </p:nvSpPr>
        <p:spPr>
          <a:xfrm>
            <a:off x="2251080" y="4835520"/>
            <a:ext cx="1316160" cy="833400"/>
          </a:xfrm>
          <a:custGeom>
            <a:avLst/>
            <a:gdLst/>
            <a:ahLst/>
            <a:rect l="l" t="t" r="r" b="b"/>
            <a:pathLst>
              <a:path w="3652" h="2319">
                <a:moveTo>
                  <a:pt x="7017" y="14383"/>
                </a:moveTo>
                <a:cubicBezTo>
                  <a:pt x="7031" y="14441"/>
                  <a:pt x="7081" y="14484"/>
                  <a:pt x="7112" y="14542"/>
                </a:cubicBezTo>
                <a:cubicBezTo>
                  <a:pt x="7188" y="14684"/>
                  <a:pt x="7286" y="14814"/>
                  <a:pt x="7366" y="14954"/>
                </a:cubicBezTo>
                <a:cubicBezTo>
                  <a:pt x="7422" y="15051"/>
                  <a:pt x="7471" y="15142"/>
                  <a:pt x="7525" y="15240"/>
                </a:cubicBezTo>
                <a:cubicBezTo>
                  <a:pt x="7535" y="15251"/>
                  <a:pt x="7546" y="15261"/>
                  <a:pt x="7556" y="15272"/>
                </a:cubicBezTo>
              </a:path>
              <a:path w="3652" h="2319">
                <a:moveTo>
                  <a:pt x="7684" y="14224"/>
                </a:moveTo>
                <a:cubicBezTo>
                  <a:pt x="7622" y="14245"/>
                  <a:pt x="7607" y="14374"/>
                  <a:pt x="7588" y="14446"/>
                </a:cubicBezTo>
                <a:cubicBezTo>
                  <a:pt x="7544" y="14611"/>
                  <a:pt x="7492" y="14795"/>
                  <a:pt x="7430" y="14954"/>
                </a:cubicBezTo>
                <a:cubicBezTo>
                  <a:pt x="7364" y="15123"/>
                  <a:pt x="7301" y="15290"/>
                  <a:pt x="7239" y="15462"/>
                </a:cubicBezTo>
                <a:cubicBezTo>
                  <a:pt x="7210" y="15542"/>
                  <a:pt x="7195" y="15589"/>
                  <a:pt x="7144" y="15653"/>
                </a:cubicBezTo>
              </a:path>
              <a:path w="3652" h="2319">
                <a:moveTo>
                  <a:pt x="7652" y="14700"/>
                </a:moveTo>
                <a:cubicBezTo>
                  <a:pt x="7719" y="14667"/>
                  <a:pt x="7827" y="14581"/>
                  <a:pt x="7906" y="14605"/>
                </a:cubicBezTo>
                <a:cubicBezTo>
                  <a:pt x="7917" y="14616"/>
                  <a:pt x="7927" y="14626"/>
                  <a:pt x="7938" y="14637"/>
                </a:cubicBezTo>
              </a:path>
              <a:path w="3652" h="2319">
                <a:moveTo>
                  <a:pt x="7810" y="15018"/>
                </a:moveTo>
                <a:cubicBezTo>
                  <a:pt x="7867" y="14961"/>
                  <a:pt x="7896" y="14956"/>
                  <a:pt x="7969" y="14922"/>
                </a:cubicBezTo>
                <a:cubicBezTo>
                  <a:pt x="8025" y="14895"/>
                  <a:pt x="8040" y="14891"/>
                  <a:pt x="8064" y="14859"/>
                </a:cubicBezTo>
              </a:path>
              <a:path w="3652" h="2319">
                <a:moveTo>
                  <a:pt x="8795" y="14034"/>
                </a:moveTo>
                <a:cubicBezTo>
                  <a:pt x="8795" y="13967"/>
                  <a:pt x="8801" y="13966"/>
                  <a:pt x="8763" y="13938"/>
                </a:cubicBezTo>
                <a:cubicBezTo>
                  <a:pt x="8714" y="13901"/>
                  <a:pt x="8698" y="13906"/>
                  <a:pt x="8636" y="13906"/>
                </a:cubicBezTo>
                <a:cubicBezTo>
                  <a:pt x="8570" y="13906"/>
                  <a:pt x="8568" y="13924"/>
                  <a:pt x="8541" y="13938"/>
                </a:cubicBezTo>
                <a:cubicBezTo>
                  <a:pt x="8530" y="13938"/>
                  <a:pt x="8520" y="13938"/>
                  <a:pt x="8509" y="13938"/>
                </a:cubicBezTo>
                <a:cubicBezTo>
                  <a:pt x="8532" y="13869"/>
                  <a:pt x="8525" y="13932"/>
                  <a:pt x="8572" y="13938"/>
                </a:cubicBezTo>
                <a:cubicBezTo>
                  <a:pt x="8620" y="13944"/>
                  <a:pt x="8606" y="13979"/>
                  <a:pt x="8668" y="13938"/>
                </a:cubicBezTo>
                <a:cubicBezTo>
                  <a:pt x="8697" y="13909"/>
                  <a:pt x="8703" y="13899"/>
                  <a:pt x="8731" y="13906"/>
                </a:cubicBezTo>
                <a:cubicBezTo>
                  <a:pt x="8726" y="13921"/>
                  <a:pt x="8699" y="13992"/>
                  <a:pt x="8668" y="14002"/>
                </a:cubicBezTo>
                <a:cubicBezTo>
                  <a:pt x="8609" y="14020"/>
                  <a:pt x="8564" y="14047"/>
                  <a:pt x="8509" y="14065"/>
                </a:cubicBezTo>
                <a:cubicBezTo>
                  <a:pt x="8499" y="14068"/>
                  <a:pt x="8368" y="14067"/>
                  <a:pt x="8414" y="14034"/>
                </a:cubicBezTo>
                <a:cubicBezTo>
                  <a:pt x="8425" y="14034"/>
                  <a:pt x="8435" y="14034"/>
                  <a:pt x="8446" y="14034"/>
                </a:cubicBezTo>
              </a:path>
              <a:path w="3652" h="2319">
                <a:moveTo>
                  <a:pt x="9303" y="13684"/>
                </a:moveTo>
                <a:cubicBezTo>
                  <a:pt x="9283" y="13625"/>
                  <a:pt x="9225" y="13675"/>
                  <a:pt x="9176" y="13716"/>
                </a:cubicBezTo>
                <a:cubicBezTo>
                  <a:pt x="9099" y="13779"/>
                  <a:pt x="9031" y="13846"/>
                  <a:pt x="8954" y="13906"/>
                </a:cubicBezTo>
                <a:cubicBezTo>
                  <a:pt x="8895" y="13951"/>
                  <a:pt x="8865" y="14016"/>
                  <a:pt x="8795" y="14034"/>
                </a:cubicBezTo>
                <a:cubicBezTo>
                  <a:pt x="8854" y="14078"/>
                  <a:pt x="8887" y="14042"/>
                  <a:pt x="8954" y="14065"/>
                </a:cubicBezTo>
                <a:cubicBezTo>
                  <a:pt x="9050" y="14097"/>
                  <a:pt x="9081" y="14117"/>
                  <a:pt x="9144" y="14192"/>
                </a:cubicBezTo>
                <a:cubicBezTo>
                  <a:pt x="9215" y="14276"/>
                  <a:pt x="9208" y="14338"/>
                  <a:pt x="9208" y="14446"/>
                </a:cubicBezTo>
                <a:cubicBezTo>
                  <a:pt x="9208" y="14552"/>
                  <a:pt x="9183" y="14621"/>
                  <a:pt x="9112" y="14700"/>
                </a:cubicBezTo>
                <a:cubicBezTo>
                  <a:pt x="9088" y="14726"/>
                  <a:pt x="9024" y="14754"/>
                  <a:pt x="8985" y="14732"/>
                </a:cubicBezTo>
                <a:cubicBezTo>
                  <a:pt x="8922" y="14696"/>
                  <a:pt x="8924" y="14510"/>
                  <a:pt x="8922" y="14446"/>
                </a:cubicBezTo>
                <a:cubicBezTo>
                  <a:pt x="8917" y="14324"/>
                  <a:pt x="8923" y="14181"/>
                  <a:pt x="8954" y="14065"/>
                </a:cubicBezTo>
                <a:cubicBezTo>
                  <a:pt x="8974" y="13991"/>
                  <a:pt x="9030" y="13899"/>
                  <a:pt x="9080" y="13843"/>
                </a:cubicBezTo>
                <a:cubicBezTo>
                  <a:pt x="9091" y="13832"/>
                  <a:pt x="9101" y="13822"/>
                  <a:pt x="9112" y="13811"/>
                </a:cubicBezTo>
              </a:path>
              <a:path w="3652" h="2319">
                <a:moveTo>
                  <a:pt x="8382" y="15335"/>
                </a:moveTo>
                <a:cubicBezTo>
                  <a:pt x="8401" y="15339"/>
                  <a:pt x="8435" y="15386"/>
                  <a:pt x="8509" y="15367"/>
                </a:cubicBezTo>
                <a:cubicBezTo>
                  <a:pt x="8607" y="15342"/>
                  <a:pt x="8749" y="15267"/>
                  <a:pt x="8826" y="15208"/>
                </a:cubicBezTo>
                <a:cubicBezTo>
                  <a:pt x="8958" y="15107"/>
                  <a:pt x="9095" y="15050"/>
                  <a:pt x="9239" y="14954"/>
                </a:cubicBezTo>
                <a:cubicBezTo>
                  <a:pt x="9385" y="14856"/>
                  <a:pt x="9473" y="14766"/>
                  <a:pt x="9588" y="14637"/>
                </a:cubicBezTo>
                <a:cubicBezTo>
                  <a:pt x="9698" y="14514"/>
                  <a:pt x="9784" y="14412"/>
                  <a:pt x="9842" y="14256"/>
                </a:cubicBezTo>
                <a:cubicBezTo>
                  <a:pt x="9887" y="14135"/>
                  <a:pt x="9931" y="14007"/>
                  <a:pt x="9906" y="13875"/>
                </a:cubicBezTo>
                <a:cubicBezTo>
                  <a:pt x="9887" y="13771"/>
                  <a:pt x="9825" y="13658"/>
                  <a:pt x="9747" y="13589"/>
                </a:cubicBezTo>
                <a:cubicBezTo>
                  <a:pt x="9644" y="13497"/>
                  <a:pt x="9599" y="13495"/>
                  <a:pt x="9462" y="13462"/>
                </a:cubicBezTo>
                <a:cubicBezTo>
                  <a:pt x="9301" y="13423"/>
                  <a:pt x="9211" y="13446"/>
                  <a:pt x="9049" y="13462"/>
                </a:cubicBezTo>
                <a:cubicBezTo>
                  <a:pt x="8899" y="13477"/>
                  <a:pt x="8752" y="13492"/>
                  <a:pt x="8604" y="13526"/>
                </a:cubicBezTo>
                <a:cubicBezTo>
                  <a:pt x="8446" y="13562"/>
                  <a:pt x="8286" y="13560"/>
                  <a:pt x="8128" y="13589"/>
                </a:cubicBezTo>
                <a:cubicBezTo>
                  <a:pt x="7968" y="13618"/>
                  <a:pt x="7807" y="13646"/>
                  <a:pt x="7652" y="13684"/>
                </a:cubicBezTo>
                <a:cubicBezTo>
                  <a:pt x="7502" y="13721"/>
                  <a:pt x="7356" y="13771"/>
                  <a:pt x="7207" y="13811"/>
                </a:cubicBezTo>
                <a:cubicBezTo>
                  <a:pt x="7045" y="13855"/>
                  <a:pt x="6933" y="13941"/>
                  <a:pt x="6794" y="14034"/>
                </a:cubicBezTo>
                <a:cubicBezTo>
                  <a:pt x="6648" y="14131"/>
                  <a:pt x="6574" y="14205"/>
                  <a:pt x="6477" y="14351"/>
                </a:cubicBezTo>
                <a:cubicBezTo>
                  <a:pt x="6382" y="14494"/>
                  <a:pt x="6335" y="14600"/>
                  <a:pt x="6286" y="14764"/>
                </a:cubicBezTo>
                <a:cubicBezTo>
                  <a:pt x="6246" y="14897"/>
                  <a:pt x="6235" y="15068"/>
                  <a:pt x="6255" y="15208"/>
                </a:cubicBezTo>
                <a:cubicBezTo>
                  <a:pt x="6270" y="15314"/>
                  <a:pt x="6316" y="15376"/>
                  <a:pt x="6382" y="15462"/>
                </a:cubicBezTo>
                <a:cubicBezTo>
                  <a:pt x="6443" y="15542"/>
                  <a:pt x="6547" y="15581"/>
                  <a:pt x="6636" y="15621"/>
                </a:cubicBezTo>
                <a:cubicBezTo>
                  <a:pt x="6753" y="15674"/>
                  <a:pt x="6868" y="15688"/>
                  <a:pt x="6985" y="15716"/>
                </a:cubicBezTo>
                <a:cubicBezTo>
                  <a:pt x="7138" y="15753"/>
                  <a:pt x="7242" y="15722"/>
                  <a:pt x="7398" y="15716"/>
                </a:cubicBezTo>
                <a:cubicBezTo>
                  <a:pt x="7544" y="15711"/>
                  <a:pt x="7700" y="15691"/>
                  <a:pt x="7842" y="15653"/>
                </a:cubicBezTo>
                <a:cubicBezTo>
                  <a:pt x="8006" y="15610"/>
                  <a:pt x="8161" y="15523"/>
                  <a:pt x="8318" y="15462"/>
                </a:cubicBezTo>
                <a:cubicBezTo>
                  <a:pt x="8464" y="15405"/>
                  <a:pt x="8617" y="15366"/>
                  <a:pt x="8763" y="15335"/>
                </a:cubicBezTo>
                <a:cubicBezTo>
                  <a:pt x="8805" y="15325"/>
                  <a:pt x="8848" y="15314"/>
                  <a:pt x="8890" y="153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Ink 10"/>
          <p:cNvSpPr/>
          <p:nvPr/>
        </p:nvSpPr>
        <p:spPr>
          <a:xfrm>
            <a:off x="6068880" y="4022640"/>
            <a:ext cx="914400" cy="858960"/>
          </a:xfrm>
          <a:custGeom>
            <a:avLst/>
            <a:gdLst/>
            <a:ahLst/>
            <a:rect l="l" t="t" r="r" b="b"/>
            <a:pathLst>
              <a:path w="2541" h="2382">
                <a:moveTo>
                  <a:pt x="16986" y="11716"/>
                </a:moveTo>
                <a:cubicBezTo>
                  <a:pt x="16934" y="11802"/>
                  <a:pt x="16945" y="11901"/>
                  <a:pt x="16923" y="12002"/>
                </a:cubicBezTo>
                <a:cubicBezTo>
                  <a:pt x="16893" y="12138"/>
                  <a:pt x="16859" y="12242"/>
                  <a:pt x="16859" y="12382"/>
                </a:cubicBezTo>
                <a:cubicBezTo>
                  <a:pt x="16859" y="12455"/>
                  <a:pt x="16880" y="12551"/>
                  <a:pt x="16923" y="12605"/>
                </a:cubicBezTo>
                <a:cubicBezTo>
                  <a:pt x="16965" y="12657"/>
                  <a:pt x="16957" y="12674"/>
                  <a:pt x="17018" y="12700"/>
                </a:cubicBezTo>
                <a:cubicBezTo>
                  <a:pt x="17091" y="12731"/>
                  <a:pt x="17119" y="12721"/>
                  <a:pt x="17177" y="12668"/>
                </a:cubicBezTo>
                <a:cubicBezTo>
                  <a:pt x="17244" y="12607"/>
                  <a:pt x="17245" y="12586"/>
                  <a:pt x="17272" y="12510"/>
                </a:cubicBezTo>
                <a:cubicBezTo>
                  <a:pt x="17298" y="12436"/>
                  <a:pt x="17327" y="12339"/>
                  <a:pt x="17304" y="12256"/>
                </a:cubicBezTo>
                <a:cubicBezTo>
                  <a:pt x="17285" y="12187"/>
                  <a:pt x="17271" y="12144"/>
                  <a:pt x="17208" y="12128"/>
                </a:cubicBezTo>
                <a:cubicBezTo>
                  <a:pt x="17189" y="12208"/>
                  <a:pt x="17127" y="12291"/>
                  <a:pt x="17113" y="12382"/>
                </a:cubicBezTo>
                <a:cubicBezTo>
                  <a:pt x="17098" y="12480"/>
                  <a:pt x="17082" y="12567"/>
                  <a:pt x="17082" y="12668"/>
                </a:cubicBezTo>
                <a:cubicBezTo>
                  <a:pt x="17082" y="12704"/>
                  <a:pt x="17085" y="12718"/>
                  <a:pt x="17113" y="12732"/>
                </a:cubicBezTo>
              </a:path>
              <a:path w="2541" h="2382">
                <a:moveTo>
                  <a:pt x="17367" y="12065"/>
                </a:moveTo>
                <a:cubicBezTo>
                  <a:pt x="17420" y="12136"/>
                  <a:pt x="17381" y="12201"/>
                  <a:pt x="17399" y="12287"/>
                </a:cubicBezTo>
                <a:cubicBezTo>
                  <a:pt x="17418" y="12377"/>
                  <a:pt x="17400" y="12522"/>
                  <a:pt x="17431" y="12605"/>
                </a:cubicBezTo>
                <a:cubicBezTo>
                  <a:pt x="17459" y="12633"/>
                  <a:pt x="17470" y="12640"/>
                  <a:pt x="17462" y="12668"/>
                </a:cubicBezTo>
                <a:cubicBezTo>
                  <a:pt x="17528" y="12651"/>
                  <a:pt x="17549" y="12581"/>
                  <a:pt x="17558" y="12510"/>
                </a:cubicBezTo>
                <a:cubicBezTo>
                  <a:pt x="17572" y="12400"/>
                  <a:pt x="17590" y="12306"/>
                  <a:pt x="17590" y="12192"/>
                </a:cubicBezTo>
                <a:cubicBezTo>
                  <a:pt x="17590" y="12121"/>
                  <a:pt x="17571" y="12114"/>
                  <a:pt x="17621" y="12097"/>
                </a:cubicBezTo>
                <a:cubicBezTo>
                  <a:pt x="17621" y="12187"/>
                  <a:pt x="17644" y="12269"/>
                  <a:pt x="17653" y="12351"/>
                </a:cubicBezTo>
                <a:cubicBezTo>
                  <a:pt x="17670" y="12512"/>
                  <a:pt x="17685" y="12662"/>
                  <a:pt x="17685" y="12827"/>
                </a:cubicBezTo>
                <a:cubicBezTo>
                  <a:pt x="17685" y="12983"/>
                  <a:pt x="17670" y="13122"/>
                  <a:pt x="17653" y="13272"/>
                </a:cubicBezTo>
                <a:cubicBezTo>
                  <a:pt x="17644" y="13356"/>
                  <a:pt x="17651" y="13506"/>
                  <a:pt x="17558" y="13557"/>
                </a:cubicBezTo>
                <a:cubicBezTo>
                  <a:pt x="17547" y="13557"/>
                  <a:pt x="17537" y="13557"/>
                  <a:pt x="17526" y="13557"/>
                </a:cubicBezTo>
                <a:cubicBezTo>
                  <a:pt x="17436" y="13535"/>
                  <a:pt x="17430" y="13451"/>
                  <a:pt x="17399" y="13367"/>
                </a:cubicBezTo>
              </a:path>
              <a:path w="2541" h="2382">
                <a:moveTo>
                  <a:pt x="17812" y="12128"/>
                </a:moveTo>
                <a:cubicBezTo>
                  <a:pt x="17869" y="12128"/>
                  <a:pt x="17888" y="12101"/>
                  <a:pt x="17939" y="12097"/>
                </a:cubicBezTo>
                <a:cubicBezTo>
                  <a:pt x="18021" y="12091"/>
                  <a:pt x="18052" y="12076"/>
                  <a:pt x="18129" y="12065"/>
                </a:cubicBezTo>
              </a:path>
              <a:path w="2541" h="2382">
                <a:moveTo>
                  <a:pt x="18002" y="12414"/>
                </a:moveTo>
                <a:cubicBezTo>
                  <a:pt x="18042" y="12384"/>
                  <a:pt x="18057" y="12380"/>
                  <a:pt x="18098" y="12351"/>
                </a:cubicBezTo>
              </a:path>
              <a:path w="2541" h="2382">
                <a:moveTo>
                  <a:pt x="18415" y="11938"/>
                </a:moveTo>
                <a:cubicBezTo>
                  <a:pt x="18431" y="11876"/>
                  <a:pt x="18449" y="11814"/>
                  <a:pt x="18478" y="11748"/>
                </a:cubicBezTo>
                <a:cubicBezTo>
                  <a:pt x="18509" y="11679"/>
                  <a:pt x="18554" y="11641"/>
                  <a:pt x="18606" y="11589"/>
                </a:cubicBezTo>
                <a:cubicBezTo>
                  <a:pt x="18639" y="11556"/>
                  <a:pt x="18702" y="11529"/>
                  <a:pt x="18732" y="11589"/>
                </a:cubicBezTo>
                <a:cubicBezTo>
                  <a:pt x="18773" y="11671"/>
                  <a:pt x="18752" y="11788"/>
                  <a:pt x="18732" y="11874"/>
                </a:cubicBezTo>
                <a:cubicBezTo>
                  <a:pt x="18704" y="11999"/>
                  <a:pt x="18680" y="12138"/>
                  <a:pt x="18637" y="12256"/>
                </a:cubicBezTo>
                <a:cubicBezTo>
                  <a:pt x="18617" y="12312"/>
                  <a:pt x="18587" y="12332"/>
                  <a:pt x="18574" y="12382"/>
                </a:cubicBezTo>
                <a:cubicBezTo>
                  <a:pt x="18591" y="12333"/>
                  <a:pt x="18625" y="12348"/>
                  <a:pt x="18669" y="12319"/>
                </a:cubicBezTo>
                <a:cubicBezTo>
                  <a:pt x="18725" y="12281"/>
                  <a:pt x="18754" y="12287"/>
                  <a:pt x="18828" y="12287"/>
                </a:cubicBezTo>
                <a:cubicBezTo>
                  <a:pt x="18879" y="12287"/>
                  <a:pt x="18897" y="12319"/>
                  <a:pt x="18955" y="12319"/>
                </a:cubicBezTo>
                <a:cubicBezTo>
                  <a:pt x="18965" y="12319"/>
                  <a:pt x="18976" y="12319"/>
                  <a:pt x="18986" y="12319"/>
                </a:cubicBezTo>
              </a:path>
              <a:path w="2541" h="2382">
                <a:moveTo>
                  <a:pt x="19050" y="11557"/>
                </a:moveTo>
                <a:cubicBezTo>
                  <a:pt x="19050" y="11656"/>
                  <a:pt x="19005" y="11825"/>
                  <a:pt x="19018" y="11906"/>
                </a:cubicBezTo>
                <a:cubicBezTo>
                  <a:pt x="19024" y="11943"/>
                  <a:pt x="19050" y="11952"/>
                  <a:pt x="19050" y="12002"/>
                </a:cubicBezTo>
                <a:cubicBezTo>
                  <a:pt x="19115" y="12002"/>
                  <a:pt x="19125" y="11988"/>
                  <a:pt x="19177" y="11970"/>
                </a:cubicBezTo>
                <a:cubicBezTo>
                  <a:pt x="19218" y="11956"/>
                  <a:pt x="19266" y="11951"/>
                  <a:pt x="19304" y="11938"/>
                </a:cubicBezTo>
                <a:cubicBezTo>
                  <a:pt x="19360" y="11919"/>
                  <a:pt x="19348" y="11965"/>
                  <a:pt x="19368" y="11906"/>
                </a:cubicBezTo>
              </a:path>
              <a:path w="2541" h="2382">
                <a:moveTo>
                  <a:pt x="19399" y="11176"/>
                </a:moveTo>
                <a:cubicBezTo>
                  <a:pt x="19335" y="11198"/>
                  <a:pt x="19380" y="11294"/>
                  <a:pt x="19368" y="11366"/>
                </a:cubicBezTo>
                <a:cubicBezTo>
                  <a:pt x="19337" y="11559"/>
                  <a:pt x="19336" y="11741"/>
                  <a:pt x="19336" y="11938"/>
                </a:cubicBezTo>
                <a:cubicBezTo>
                  <a:pt x="19336" y="12054"/>
                  <a:pt x="19336" y="12171"/>
                  <a:pt x="19336" y="12287"/>
                </a:cubicBezTo>
              </a:path>
              <a:path w="2541" h="2382">
                <a:moveTo>
                  <a:pt x="17050" y="12922"/>
                </a:moveTo>
                <a:cubicBezTo>
                  <a:pt x="16992" y="12922"/>
                  <a:pt x="17080" y="12919"/>
                  <a:pt x="17113" y="12890"/>
                </a:cubicBezTo>
                <a:cubicBezTo>
                  <a:pt x="17181" y="12830"/>
                  <a:pt x="17267" y="12790"/>
                  <a:pt x="17336" y="12732"/>
                </a:cubicBezTo>
                <a:cubicBezTo>
                  <a:pt x="17416" y="12665"/>
                  <a:pt x="17503" y="12598"/>
                  <a:pt x="17590" y="12541"/>
                </a:cubicBezTo>
                <a:cubicBezTo>
                  <a:pt x="17664" y="12492"/>
                  <a:pt x="17788" y="12423"/>
                  <a:pt x="17875" y="12414"/>
                </a:cubicBezTo>
                <a:cubicBezTo>
                  <a:pt x="17886" y="12414"/>
                  <a:pt x="17896" y="12414"/>
                  <a:pt x="17907" y="12414"/>
                </a:cubicBezTo>
              </a:path>
              <a:path w="2541" h="2382">
                <a:moveTo>
                  <a:pt x="17431" y="12859"/>
                </a:moveTo>
                <a:cubicBezTo>
                  <a:pt x="17378" y="12876"/>
                  <a:pt x="17373" y="12884"/>
                  <a:pt x="17367" y="12954"/>
                </a:cubicBezTo>
                <a:cubicBezTo>
                  <a:pt x="17362" y="13012"/>
                  <a:pt x="17340" y="13057"/>
                  <a:pt x="17336" y="13113"/>
                </a:cubicBezTo>
                <a:cubicBezTo>
                  <a:pt x="17332" y="13170"/>
                  <a:pt x="17339" y="13230"/>
                  <a:pt x="17367" y="13272"/>
                </a:cubicBezTo>
                <a:cubicBezTo>
                  <a:pt x="17387" y="13302"/>
                  <a:pt x="17459" y="13322"/>
                  <a:pt x="17494" y="13303"/>
                </a:cubicBezTo>
                <a:cubicBezTo>
                  <a:pt x="17552" y="13271"/>
                  <a:pt x="17597" y="13251"/>
                  <a:pt x="17621" y="13176"/>
                </a:cubicBezTo>
                <a:cubicBezTo>
                  <a:pt x="17638" y="13125"/>
                  <a:pt x="17640" y="13067"/>
                  <a:pt x="17653" y="13018"/>
                </a:cubicBezTo>
                <a:cubicBezTo>
                  <a:pt x="17625" y="12997"/>
                  <a:pt x="17548" y="12947"/>
                  <a:pt x="17526" y="13018"/>
                </a:cubicBezTo>
                <a:cubicBezTo>
                  <a:pt x="17521" y="13035"/>
                  <a:pt x="17491" y="13202"/>
                  <a:pt x="17494" y="13208"/>
                </a:cubicBezTo>
                <a:cubicBezTo>
                  <a:pt x="17523" y="13237"/>
                  <a:pt x="17534" y="13243"/>
                  <a:pt x="17526" y="132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Ink 11"/>
          <p:cNvSpPr/>
          <p:nvPr/>
        </p:nvSpPr>
        <p:spPr>
          <a:xfrm>
            <a:off x="6172200" y="4332240"/>
            <a:ext cx="1349280" cy="1393920"/>
          </a:xfrm>
          <a:custGeom>
            <a:avLst/>
            <a:gdLst/>
            <a:ahLst/>
            <a:rect l="l" t="t" r="r" b="b"/>
            <a:pathLst>
              <a:path w="3748" h="3875">
                <a:moveTo>
                  <a:pt x="18542" y="12573"/>
                </a:moveTo>
                <a:cubicBezTo>
                  <a:pt x="18609" y="12519"/>
                  <a:pt x="18686" y="12485"/>
                  <a:pt x="18764" y="12446"/>
                </a:cubicBezTo>
                <a:cubicBezTo>
                  <a:pt x="18880" y="12388"/>
                  <a:pt x="18969" y="12311"/>
                  <a:pt x="19082" y="12256"/>
                </a:cubicBezTo>
                <a:cubicBezTo>
                  <a:pt x="19219" y="12190"/>
                  <a:pt x="19335" y="12140"/>
                  <a:pt x="19463" y="12097"/>
                </a:cubicBezTo>
                <a:cubicBezTo>
                  <a:pt x="19532" y="12074"/>
                  <a:pt x="19589" y="12049"/>
                  <a:pt x="19653" y="12033"/>
                </a:cubicBezTo>
              </a:path>
              <a:path w="3748" h="3875">
                <a:moveTo>
                  <a:pt x="19018" y="12573"/>
                </a:moveTo>
                <a:cubicBezTo>
                  <a:pt x="18976" y="12643"/>
                  <a:pt x="18986" y="12708"/>
                  <a:pt x="18986" y="12795"/>
                </a:cubicBezTo>
                <a:cubicBezTo>
                  <a:pt x="18986" y="12857"/>
                  <a:pt x="18987" y="12934"/>
                  <a:pt x="19018" y="12986"/>
                </a:cubicBezTo>
                <a:cubicBezTo>
                  <a:pt x="19034" y="13013"/>
                  <a:pt x="19109" y="13097"/>
                  <a:pt x="19145" y="13081"/>
                </a:cubicBezTo>
                <a:cubicBezTo>
                  <a:pt x="19179" y="13066"/>
                  <a:pt x="19252" y="12986"/>
                  <a:pt x="19272" y="12954"/>
                </a:cubicBezTo>
                <a:cubicBezTo>
                  <a:pt x="19314" y="12888"/>
                  <a:pt x="19349" y="12796"/>
                  <a:pt x="19368" y="12732"/>
                </a:cubicBezTo>
                <a:cubicBezTo>
                  <a:pt x="19382" y="12685"/>
                  <a:pt x="19361" y="12669"/>
                  <a:pt x="19336" y="12636"/>
                </a:cubicBezTo>
                <a:cubicBezTo>
                  <a:pt x="19281" y="12654"/>
                  <a:pt x="19289" y="12671"/>
                  <a:pt x="19240" y="12732"/>
                </a:cubicBezTo>
                <a:cubicBezTo>
                  <a:pt x="19175" y="12813"/>
                  <a:pt x="19177" y="12886"/>
                  <a:pt x="19177" y="12986"/>
                </a:cubicBezTo>
              </a:path>
              <a:path w="3748" h="3875">
                <a:moveTo>
                  <a:pt x="18034" y="13906"/>
                </a:moveTo>
                <a:cubicBezTo>
                  <a:pt x="18034" y="13959"/>
                  <a:pt x="18016" y="13952"/>
                  <a:pt x="18034" y="14002"/>
                </a:cubicBezTo>
                <a:cubicBezTo>
                  <a:pt x="18066" y="14091"/>
                  <a:pt x="18085" y="14168"/>
                  <a:pt x="18129" y="14256"/>
                </a:cubicBezTo>
                <a:cubicBezTo>
                  <a:pt x="18187" y="14372"/>
                  <a:pt x="18205" y="14492"/>
                  <a:pt x="18256" y="14605"/>
                </a:cubicBezTo>
                <a:cubicBezTo>
                  <a:pt x="18278" y="14653"/>
                  <a:pt x="18347" y="14749"/>
                  <a:pt x="18352" y="14764"/>
                </a:cubicBezTo>
                <a:cubicBezTo>
                  <a:pt x="18352" y="14775"/>
                  <a:pt x="18352" y="14785"/>
                  <a:pt x="18352" y="14796"/>
                </a:cubicBezTo>
                <a:cubicBezTo>
                  <a:pt x="18431" y="14773"/>
                  <a:pt x="18412" y="14785"/>
                  <a:pt x="18447" y="14700"/>
                </a:cubicBezTo>
                <a:cubicBezTo>
                  <a:pt x="18493" y="14587"/>
                  <a:pt x="18478" y="14470"/>
                  <a:pt x="18478" y="14351"/>
                </a:cubicBezTo>
                <a:cubicBezTo>
                  <a:pt x="18478" y="14213"/>
                  <a:pt x="18478" y="14076"/>
                  <a:pt x="18478" y="13938"/>
                </a:cubicBezTo>
                <a:cubicBezTo>
                  <a:pt x="18502" y="14011"/>
                  <a:pt x="18510" y="14073"/>
                  <a:pt x="18510" y="14160"/>
                </a:cubicBezTo>
                <a:cubicBezTo>
                  <a:pt x="18510" y="14311"/>
                  <a:pt x="18523" y="14486"/>
                  <a:pt x="18542" y="14637"/>
                </a:cubicBezTo>
                <a:cubicBezTo>
                  <a:pt x="18565" y="14823"/>
                  <a:pt x="18599" y="15018"/>
                  <a:pt x="18574" y="15208"/>
                </a:cubicBezTo>
                <a:cubicBezTo>
                  <a:pt x="18553" y="15370"/>
                  <a:pt x="18528" y="15526"/>
                  <a:pt x="18478" y="15684"/>
                </a:cubicBezTo>
                <a:cubicBezTo>
                  <a:pt x="18453" y="15763"/>
                  <a:pt x="18416" y="15888"/>
                  <a:pt x="18320" y="15907"/>
                </a:cubicBezTo>
                <a:cubicBezTo>
                  <a:pt x="18230" y="15925"/>
                  <a:pt x="18194" y="15893"/>
                  <a:pt x="18161" y="15812"/>
                </a:cubicBezTo>
                <a:cubicBezTo>
                  <a:pt x="18150" y="15780"/>
                  <a:pt x="18140" y="15748"/>
                  <a:pt x="18129" y="15716"/>
                </a:cubicBezTo>
              </a:path>
              <a:path w="3748" h="3875">
                <a:moveTo>
                  <a:pt x="18732" y="14160"/>
                </a:moveTo>
                <a:cubicBezTo>
                  <a:pt x="18801" y="14131"/>
                  <a:pt x="18853" y="14088"/>
                  <a:pt x="18923" y="14065"/>
                </a:cubicBezTo>
                <a:cubicBezTo>
                  <a:pt x="18969" y="14049"/>
                  <a:pt x="19034" y="14043"/>
                  <a:pt x="19082" y="14034"/>
                </a:cubicBezTo>
              </a:path>
              <a:path w="3748" h="3875">
                <a:moveTo>
                  <a:pt x="18923" y="14446"/>
                </a:moveTo>
                <a:cubicBezTo>
                  <a:pt x="18923" y="14435"/>
                  <a:pt x="18923" y="14425"/>
                  <a:pt x="18923" y="14414"/>
                </a:cubicBezTo>
                <a:cubicBezTo>
                  <a:pt x="18986" y="14414"/>
                  <a:pt x="18998" y="14400"/>
                  <a:pt x="19050" y="14383"/>
                </a:cubicBezTo>
                <a:cubicBezTo>
                  <a:pt x="19086" y="14383"/>
                  <a:pt x="19100" y="14380"/>
                  <a:pt x="19114" y="14351"/>
                </a:cubicBezTo>
              </a:path>
              <a:path w="3748" h="3875">
                <a:moveTo>
                  <a:pt x="19336" y="13526"/>
                </a:moveTo>
                <a:cubicBezTo>
                  <a:pt x="19351" y="13644"/>
                  <a:pt x="19342" y="13719"/>
                  <a:pt x="19336" y="13843"/>
                </a:cubicBezTo>
                <a:cubicBezTo>
                  <a:pt x="19331" y="13959"/>
                  <a:pt x="19336" y="14076"/>
                  <a:pt x="19336" y="14192"/>
                </a:cubicBezTo>
                <a:cubicBezTo>
                  <a:pt x="19386" y="14179"/>
                  <a:pt x="19406" y="14160"/>
                  <a:pt x="19463" y="14160"/>
                </a:cubicBezTo>
                <a:cubicBezTo>
                  <a:pt x="19493" y="14160"/>
                  <a:pt x="19558" y="14141"/>
                  <a:pt x="19590" y="14129"/>
                </a:cubicBezTo>
                <a:cubicBezTo>
                  <a:pt x="19636" y="14112"/>
                  <a:pt x="19712" y="14089"/>
                  <a:pt x="19748" y="14065"/>
                </a:cubicBezTo>
                <a:cubicBezTo>
                  <a:pt x="19759" y="14055"/>
                  <a:pt x="19769" y="14044"/>
                  <a:pt x="19780" y="14034"/>
                </a:cubicBezTo>
              </a:path>
              <a:path w="3748" h="3875">
                <a:moveTo>
                  <a:pt x="19748" y="13272"/>
                </a:moveTo>
                <a:cubicBezTo>
                  <a:pt x="19703" y="13303"/>
                  <a:pt x="19704" y="13416"/>
                  <a:pt x="19717" y="13494"/>
                </a:cubicBezTo>
                <a:cubicBezTo>
                  <a:pt x="19745" y="13661"/>
                  <a:pt x="19767" y="13833"/>
                  <a:pt x="19780" y="14002"/>
                </a:cubicBezTo>
                <a:cubicBezTo>
                  <a:pt x="19791" y="14144"/>
                  <a:pt x="19803" y="14280"/>
                  <a:pt x="19844" y="14414"/>
                </a:cubicBezTo>
              </a:path>
              <a:path w="3748" h="3875">
                <a:moveTo>
                  <a:pt x="18161" y="15526"/>
                </a:moveTo>
                <a:cubicBezTo>
                  <a:pt x="18132" y="15555"/>
                  <a:pt x="18126" y="15565"/>
                  <a:pt x="18098" y="15558"/>
                </a:cubicBezTo>
                <a:cubicBezTo>
                  <a:pt x="18124" y="15575"/>
                  <a:pt x="18086" y="15649"/>
                  <a:pt x="18161" y="15653"/>
                </a:cubicBezTo>
                <a:cubicBezTo>
                  <a:pt x="18252" y="15658"/>
                  <a:pt x="18326" y="15625"/>
                  <a:pt x="18415" y="15621"/>
                </a:cubicBezTo>
                <a:cubicBezTo>
                  <a:pt x="18543" y="15615"/>
                  <a:pt x="18671" y="15613"/>
                  <a:pt x="18796" y="15589"/>
                </a:cubicBezTo>
                <a:cubicBezTo>
                  <a:pt x="18997" y="15550"/>
                  <a:pt x="19213" y="15477"/>
                  <a:pt x="19399" y="15399"/>
                </a:cubicBezTo>
                <a:cubicBezTo>
                  <a:pt x="19602" y="15314"/>
                  <a:pt x="19762" y="15204"/>
                  <a:pt x="19939" y="15081"/>
                </a:cubicBezTo>
                <a:cubicBezTo>
                  <a:pt x="20121" y="14955"/>
                  <a:pt x="20267" y="14796"/>
                  <a:pt x="20415" y="14637"/>
                </a:cubicBezTo>
                <a:cubicBezTo>
                  <a:pt x="20556" y="14486"/>
                  <a:pt x="20657" y="14334"/>
                  <a:pt x="20764" y="14160"/>
                </a:cubicBezTo>
                <a:cubicBezTo>
                  <a:pt x="20846" y="14026"/>
                  <a:pt x="20880" y="13903"/>
                  <a:pt x="20892" y="13748"/>
                </a:cubicBezTo>
                <a:cubicBezTo>
                  <a:pt x="20902" y="13624"/>
                  <a:pt x="20886" y="13479"/>
                  <a:pt x="20828" y="13367"/>
                </a:cubicBezTo>
                <a:cubicBezTo>
                  <a:pt x="20760" y="13235"/>
                  <a:pt x="20692" y="13241"/>
                  <a:pt x="20574" y="13176"/>
                </a:cubicBezTo>
                <a:cubicBezTo>
                  <a:pt x="20458" y="13112"/>
                  <a:pt x="20367" y="13060"/>
                  <a:pt x="20225" y="13049"/>
                </a:cubicBezTo>
                <a:cubicBezTo>
                  <a:pt x="20070" y="13037"/>
                  <a:pt x="19927" y="13068"/>
                  <a:pt x="19780" y="13081"/>
                </a:cubicBezTo>
                <a:cubicBezTo>
                  <a:pt x="19609" y="13097"/>
                  <a:pt x="19441" y="13107"/>
                  <a:pt x="19272" y="13144"/>
                </a:cubicBezTo>
                <a:cubicBezTo>
                  <a:pt x="19091" y="13184"/>
                  <a:pt x="18912" y="13227"/>
                  <a:pt x="18732" y="13272"/>
                </a:cubicBezTo>
                <a:cubicBezTo>
                  <a:pt x="18536" y="13321"/>
                  <a:pt x="18400" y="13433"/>
                  <a:pt x="18224" y="13526"/>
                </a:cubicBezTo>
                <a:cubicBezTo>
                  <a:pt x="18045" y="13621"/>
                  <a:pt x="17894" y="13734"/>
                  <a:pt x="17748" y="13875"/>
                </a:cubicBezTo>
                <a:cubicBezTo>
                  <a:pt x="17594" y="14024"/>
                  <a:pt x="17488" y="14141"/>
                  <a:pt x="17367" y="14319"/>
                </a:cubicBezTo>
                <a:cubicBezTo>
                  <a:pt x="17224" y="14530"/>
                  <a:pt x="17165" y="14800"/>
                  <a:pt x="17145" y="15050"/>
                </a:cubicBezTo>
                <a:cubicBezTo>
                  <a:pt x="17135" y="15174"/>
                  <a:pt x="17118" y="15378"/>
                  <a:pt x="17177" y="15494"/>
                </a:cubicBezTo>
                <a:cubicBezTo>
                  <a:pt x="17223" y="15584"/>
                  <a:pt x="17284" y="15664"/>
                  <a:pt x="17367" y="15716"/>
                </a:cubicBezTo>
                <a:cubicBezTo>
                  <a:pt x="17465" y="15777"/>
                  <a:pt x="17572" y="15790"/>
                  <a:pt x="17685" y="15780"/>
                </a:cubicBezTo>
                <a:cubicBezTo>
                  <a:pt x="17822" y="15769"/>
                  <a:pt x="17935" y="15727"/>
                  <a:pt x="18066" y="15684"/>
                </a:cubicBezTo>
                <a:cubicBezTo>
                  <a:pt x="18211" y="15636"/>
                  <a:pt x="18338" y="15545"/>
                  <a:pt x="18478" y="15494"/>
                </a:cubicBezTo>
                <a:cubicBezTo>
                  <a:pt x="18624" y="15441"/>
                  <a:pt x="18773" y="15424"/>
                  <a:pt x="18923" y="153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Ink 12"/>
          <p:cNvSpPr/>
          <p:nvPr/>
        </p:nvSpPr>
        <p:spPr>
          <a:xfrm>
            <a:off x="2160720" y="4138560"/>
            <a:ext cx="125280" cy="11160"/>
          </a:xfrm>
          <a:custGeom>
            <a:avLst/>
            <a:gdLst/>
            <a:ahLst/>
            <a:rect l="l" t="t" r="r" b="b"/>
            <a:pathLst>
              <a:path w="350" h="32">
                <a:moveTo>
                  <a:pt x="6032" y="11525"/>
                </a:moveTo>
                <a:cubicBezTo>
                  <a:pt x="6022" y="11525"/>
                  <a:pt x="6011" y="11525"/>
                  <a:pt x="6001" y="11525"/>
                </a:cubicBezTo>
                <a:cubicBezTo>
                  <a:pt x="6099" y="11525"/>
                  <a:pt x="6172" y="11521"/>
                  <a:pt x="6255" y="11494"/>
                </a:cubicBezTo>
                <a:cubicBezTo>
                  <a:pt x="6279" y="11486"/>
                  <a:pt x="6324" y="11494"/>
                  <a:pt x="6350" y="11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Ink 13"/>
          <p:cNvSpPr/>
          <p:nvPr/>
        </p:nvSpPr>
        <p:spPr>
          <a:xfrm>
            <a:off x="2332080" y="4022640"/>
            <a:ext cx="171360" cy="412920"/>
          </a:xfrm>
          <a:custGeom>
            <a:avLst/>
            <a:gdLst/>
            <a:ahLst/>
            <a:rect l="l" t="t" r="r" b="b"/>
            <a:pathLst>
              <a:path w="477" h="1144">
                <a:moveTo>
                  <a:pt x="6572" y="11271"/>
                </a:moveTo>
                <a:cubicBezTo>
                  <a:pt x="6584" y="11237"/>
                  <a:pt x="6596" y="11213"/>
                  <a:pt x="6636" y="11208"/>
                </a:cubicBezTo>
                <a:cubicBezTo>
                  <a:pt x="6688" y="11201"/>
                  <a:pt x="6704" y="11176"/>
                  <a:pt x="6763" y="11176"/>
                </a:cubicBezTo>
                <a:cubicBezTo>
                  <a:pt x="6807" y="11176"/>
                  <a:pt x="6866" y="11159"/>
                  <a:pt x="6890" y="11208"/>
                </a:cubicBezTo>
                <a:cubicBezTo>
                  <a:pt x="6920" y="11267"/>
                  <a:pt x="6883" y="11378"/>
                  <a:pt x="6858" y="11430"/>
                </a:cubicBezTo>
                <a:cubicBezTo>
                  <a:pt x="6822" y="11506"/>
                  <a:pt x="6790" y="11562"/>
                  <a:pt x="6731" y="11620"/>
                </a:cubicBezTo>
                <a:cubicBezTo>
                  <a:pt x="6665" y="11686"/>
                  <a:pt x="6670" y="11635"/>
                  <a:pt x="6699" y="11620"/>
                </a:cubicBezTo>
                <a:cubicBezTo>
                  <a:pt x="6746" y="11597"/>
                  <a:pt x="6827" y="11624"/>
                  <a:pt x="6858" y="11652"/>
                </a:cubicBezTo>
                <a:cubicBezTo>
                  <a:pt x="6906" y="11695"/>
                  <a:pt x="6942" y="11755"/>
                  <a:pt x="6953" y="11811"/>
                </a:cubicBezTo>
                <a:cubicBezTo>
                  <a:pt x="6968" y="11889"/>
                  <a:pt x="6920" y="12027"/>
                  <a:pt x="6890" y="12097"/>
                </a:cubicBezTo>
                <a:cubicBezTo>
                  <a:pt x="6861" y="12166"/>
                  <a:pt x="6783" y="12261"/>
                  <a:pt x="6731" y="12287"/>
                </a:cubicBezTo>
                <a:cubicBezTo>
                  <a:pt x="6634" y="12336"/>
                  <a:pt x="6652" y="12314"/>
                  <a:pt x="6572" y="12287"/>
                </a:cubicBezTo>
                <a:cubicBezTo>
                  <a:pt x="6516" y="12268"/>
                  <a:pt x="6492" y="12253"/>
                  <a:pt x="6477" y="12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Ink 14"/>
          <p:cNvSpPr/>
          <p:nvPr/>
        </p:nvSpPr>
        <p:spPr>
          <a:xfrm>
            <a:off x="2525760" y="4125960"/>
            <a:ext cx="103320" cy="298440"/>
          </a:xfrm>
          <a:custGeom>
            <a:avLst/>
            <a:gdLst/>
            <a:ahLst/>
            <a:rect l="l" t="t" r="r" b="b"/>
            <a:pathLst>
              <a:path w="286" h="826">
                <a:moveTo>
                  <a:pt x="7017" y="11462"/>
                </a:moveTo>
                <a:cubicBezTo>
                  <a:pt x="7063" y="11521"/>
                  <a:pt x="7127" y="11609"/>
                  <a:pt x="7144" y="11684"/>
                </a:cubicBezTo>
                <a:cubicBezTo>
                  <a:pt x="7164" y="11772"/>
                  <a:pt x="7170" y="11853"/>
                  <a:pt x="7207" y="11938"/>
                </a:cubicBezTo>
                <a:cubicBezTo>
                  <a:pt x="7245" y="12024"/>
                  <a:pt x="7234" y="12116"/>
                  <a:pt x="7271" y="12192"/>
                </a:cubicBezTo>
                <a:cubicBezTo>
                  <a:pt x="7295" y="12241"/>
                  <a:pt x="7302" y="12229"/>
                  <a:pt x="7302" y="122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Ink 15"/>
          <p:cNvSpPr/>
          <p:nvPr/>
        </p:nvSpPr>
        <p:spPr>
          <a:xfrm>
            <a:off x="2446200" y="4103640"/>
            <a:ext cx="206640" cy="399960"/>
          </a:xfrm>
          <a:custGeom>
            <a:avLst/>
            <a:gdLst/>
            <a:ahLst/>
            <a:rect l="l" t="t" r="r" b="b"/>
            <a:pathLst>
              <a:path w="573" h="1113">
                <a:moveTo>
                  <a:pt x="7366" y="11398"/>
                </a:moveTo>
                <a:cubicBezTo>
                  <a:pt x="7324" y="11412"/>
                  <a:pt x="7290" y="11497"/>
                  <a:pt x="7271" y="11557"/>
                </a:cubicBezTo>
                <a:cubicBezTo>
                  <a:pt x="7216" y="11729"/>
                  <a:pt x="7112" y="11869"/>
                  <a:pt x="7048" y="12033"/>
                </a:cubicBezTo>
                <a:cubicBezTo>
                  <a:pt x="6990" y="12180"/>
                  <a:pt x="6927" y="12355"/>
                  <a:pt x="6826" y="12478"/>
                </a:cubicBezTo>
                <a:cubicBezTo>
                  <a:pt x="6815" y="12489"/>
                  <a:pt x="6805" y="12499"/>
                  <a:pt x="6794" y="125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Ink 16"/>
          <p:cNvSpPr/>
          <p:nvPr/>
        </p:nvSpPr>
        <p:spPr>
          <a:xfrm>
            <a:off x="2674800" y="4240080"/>
            <a:ext cx="92160" cy="12960"/>
          </a:xfrm>
          <a:custGeom>
            <a:avLst/>
            <a:gdLst/>
            <a:ahLst/>
            <a:rect l="l" t="t" r="r" b="b"/>
            <a:pathLst>
              <a:path w="255" h="33">
                <a:moveTo>
                  <a:pt x="7430" y="11811"/>
                </a:moveTo>
                <a:cubicBezTo>
                  <a:pt x="7478" y="11774"/>
                  <a:pt x="7494" y="11779"/>
                  <a:pt x="7556" y="11779"/>
                </a:cubicBezTo>
                <a:cubicBezTo>
                  <a:pt x="7599" y="11779"/>
                  <a:pt x="7641" y="11779"/>
                  <a:pt x="7684" y="11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Ink 17"/>
          <p:cNvSpPr/>
          <p:nvPr/>
        </p:nvSpPr>
        <p:spPr>
          <a:xfrm>
            <a:off x="2708280" y="4332240"/>
            <a:ext cx="58680" cy="22320"/>
          </a:xfrm>
          <a:custGeom>
            <a:avLst/>
            <a:gdLst/>
            <a:ahLst/>
            <a:rect l="l" t="t" r="r" b="b"/>
            <a:pathLst>
              <a:path w="160" h="65">
                <a:moveTo>
                  <a:pt x="7525" y="12033"/>
                </a:moveTo>
                <a:cubicBezTo>
                  <a:pt x="7525" y="12044"/>
                  <a:pt x="7525" y="12054"/>
                  <a:pt x="7525" y="12065"/>
                </a:cubicBezTo>
                <a:cubicBezTo>
                  <a:pt x="7585" y="12065"/>
                  <a:pt x="7628" y="12086"/>
                  <a:pt x="7684" y="12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Ink 18"/>
          <p:cNvSpPr/>
          <p:nvPr/>
        </p:nvSpPr>
        <p:spPr>
          <a:xfrm>
            <a:off x="2868480" y="4125960"/>
            <a:ext cx="195480" cy="331920"/>
          </a:xfrm>
          <a:custGeom>
            <a:avLst/>
            <a:gdLst/>
            <a:ahLst/>
            <a:rect l="l" t="t" r="r" b="b"/>
            <a:pathLst>
              <a:path w="541" h="921">
                <a:moveTo>
                  <a:pt x="7969" y="11652"/>
                </a:moveTo>
                <a:cubicBezTo>
                  <a:pt x="7989" y="11574"/>
                  <a:pt x="8035" y="11545"/>
                  <a:pt x="8096" y="11494"/>
                </a:cubicBezTo>
                <a:cubicBezTo>
                  <a:pt x="8148" y="11451"/>
                  <a:pt x="8185" y="11462"/>
                  <a:pt x="8255" y="11462"/>
                </a:cubicBezTo>
                <a:cubicBezTo>
                  <a:pt x="8313" y="11462"/>
                  <a:pt x="8343" y="11460"/>
                  <a:pt x="8350" y="11525"/>
                </a:cubicBezTo>
                <a:cubicBezTo>
                  <a:pt x="8359" y="11610"/>
                  <a:pt x="8269" y="11698"/>
                  <a:pt x="8255" y="11779"/>
                </a:cubicBezTo>
                <a:cubicBezTo>
                  <a:pt x="8235" y="11897"/>
                  <a:pt x="8205" y="12011"/>
                  <a:pt x="8160" y="12128"/>
                </a:cubicBezTo>
                <a:cubicBezTo>
                  <a:pt x="8146" y="12166"/>
                  <a:pt x="8113" y="12327"/>
                  <a:pt x="8096" y="12351"/>
                </a:cubicBezTo>
                <a:cubicBezTo>
                  <a:pt x="8064" y="12351"/>
                  <a:pt x="8054" y="12351"/>
                  <a:pt x="8064" y="12382"/>
                </a:cubicBezTo>
                <a:cubicBezTo>
                  <a:pt x="8114" y="12370"/>
                  <a:pt x="8132" y="12340"/>
                  <a:pt x="8160" y="12319"/>
                </a:cubicBezTo>
                <a:cubicBezTo>
                  <a:pt x="8203" y="12287"/>
                  <a:pt x="8266" y="12262"/>
                  <a:pt x="8318" y="12256"/>
                </a:cubicBezTo>
                <a:cubicBezTo>
                  <a:pt x="8388" y="12248"/>
                  <a:pt x="8417" y="12273"/>
                  <a:pt x="8446" y="12287"/>
                </a:cubicBezTo>
                <a:cubicBezTo>
                  <a:pt x="8479" y="12303"/>
                  <a:pt x="8498" y="12185"/>
                  <a:pt x="8509" y="12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Ink 19"/>
          <p:cNvSpPr/>
          <p:nvPr/>
        </p:nvSpPr>
        <p:spPr>
          <a:xfrm>
            <a:off x="3075120" y="4114800"/>
            <a:ext cx="160200" cy="160200"/>
          </a:xfrm>
          <a:custGeom>
            <a:avLst/>
            <a:gdLst/>
            <a:ahLst/>
            <a:rect l="l" t="t" r="r" b="b"/>
            <a:pathLst>
              <a:path w="445" h="445">
                <a:moveTo>
                  <a:pt x="8604" y="11462"/>
                </a:moveTo>
                <a:cubicBezTo>
                  <a:pt x="8593" y="11451"/>
                  <a:pt x="8583" y="11441"/>
                  <a:pt x="8572" y="11430"/>
                </a:cubicBezTo>
                <a:cubicBezTo>
                  <a:pt x="8572" y="11573"/>
                  <a:pt x="8582" y="11719"/>
                  <a:pt x="8541" y="11843"/>
                </a:cubicBezTo>
                <a:cubicBezTo>
                  <a:pt x="8541" y="11853"/>
                  <a:pt x="8541" y="11864"/>
                  <a:pt x="8541" y="11874"/>
                </a:cubicBezTo>
                <a:cubicBezTo>
                  <a:pt x="8602" y="11828"/>
                  <a:pt x="8591" y="11818"/>
                  <a:pt x="8668" y="11811"/>
                </a:cubicBezTo>
                <a:cubicBezTo>
                  <a:pt x="8761" y="11803"/>
                  <a:pt x="8883" y="11842"/>
                  <a:pt x="8954" y="11779"/>
                </a:cubicBezTo>
                <a:cubicBezTo>
                  <a:pt x="8999" y="11739"/>
                  <a:pt x="8985" y="11712"/>
                  <a:pt x="8985" y="11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Ink 20"/>
          <p:cNvSpPr/>
          <p:nvPr/>
        </p:nvSpPr>
        <p:spPr>
          <a:xfrm>
            <a:off x="3176640" y="4011480"/>
            <a:ext cx="34920" cy="549360"/>
          </a:xfrm>
          <a:custGeom>
            <a:avLst/>
            <a:gdLst/>
            <a:ahLst/>
            <a:rect l="l" t="t" r="r" b="b"/>
            <a:pathLst>
              <a:path w="97" h="1525">
                <a:moveTo>
                  <a:pt x="8922" y="11144"/>
                </a:moveTo>
                <a:cubicBezTo>
                  <a:pt x="8882" y="11171"/>
                  <a:pt x="8864" y="11357"/>
                  <a:pt x="8858" y="11430"/>
                </a:cubicBezTo>
                <a:cubicBezTo>
                  <a:pt x="8838" y="11664"/>
                  <a:pt x="8826" y="11892"/>
                  <a:pt x="8826" y="12128"/>
                </a:cubicBezTo>
                <a:cubicBezTo>
                  <a:pt x="8826" y="12317"/>
                  <a:pt x="8833" y="12481"/>
                  <a:pt x="8858" y="126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Ink 21"/>
          <p:cNvSpPr/>
          <p:nvPr/>
        </p:nvSpPr>
        <p:spPr>
          <a:xfrm>
            <a:off x="2149560" y="4525920"/>
            <a:ext cx="376200" cy="69840"/>
          </a:xfrm>
          <a:custGeom>
            <a:avLst/>
            <a:gdLst/>
            <a:ahLst/>
            <a:rect l="l" t="t" r="r" b="b"/>
            <a:pathLst>
              <a:path w="1049" h="192">
                <a:moveTo>
                  <a:pt x="5969" y="12764"/>
                </a:moveTo>
                <a:cubicBezTo>
                  <a:pt x="6113" y="12764"/>
                  <a:pt x="6243" y="12748"/>
                  <a:pt x="6382" y="12732"/>
                </a:cubicBezTo>
                <a:cubicBezTo>
                  <a:pt x="6503" y="12718"/>
                  <a:pt x="6584" y="12679"/>
                  <a:pt x="6699" y="12636"/>
                </a:cubicBezTo>
                <a:cubicBezTo>
                  <a:pt x="6771" y="12609"/>
                  <a:pt x="6879" y="12578"/>
                  <a:pt x="6953" y="12573"/>
                </a:cubicBezTo>
                <a:cubicBezTo>
                  <a:pt x="6974" y="12573"/>
                  <a:pt x="6996" y="12573"/>
                  <a:pt x="7017" y="12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Ink 22"/>
          <p:cNvSpPr/>
          <p:nvPr/>
        </p:nvSpPr>
        <p:spPr>
          <a:xfrm>
            <a:off x="2239920" y="4651200"/>
            <a:ext cx="114480" cy="59040"/>
          </a:xfrm>
          <a:custGeom>
            <a:avLst/>
            <a:gdLst/>
            <a:ahLst/>
            <a:rect l="l" t="t" r="r" b="b"/>
            <a:pathLst>
              <a:path w="318" h="160">
                <a:moveTo>
                  <a:pt x="6223" y="13081"/>
                </a:moveTo>
                <a:cubicBezTo>
                  <a:pt x="6273" y="13068"/>
                  <a:pt x="6303" y="13033"/>
                  <a:pt x="6350" y="13018"/>
                </a:cubicBezTo>
                <a:cubicBezTo>
                  <a:pt x="6411" y="12998"/>
                  <a:pt x="6442" y="12945"/>
                  <a:pt x="6509" y="12922"/>
                </a:cubicBezTo>
                <a:cubicBezTo>
                  <a:pt x="6519" y="12922"/>
                  <a:pt x="6530" y="12922"/>
                  <a:pt x="6540" y="12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Ink 23"/>
          <p:cNvSpPr/>
          <p:nvPr/>
        </p:nvSpPr>
        <p:spPr>
          <a:xfrm>
            <a:off x="2354400" y="4583160"/>
            <a:ext cx="171360" cy="355680"/>
          </a:xfrm>
          <a:custGeom>
            <a:avLst/>
            <a:gdLst/>
            <a:ahLst/>
            <a:rect l="l" t="t" r="r" b="b"/>
            <a:pathLst>
              <a:path w="478" h="985">
                <a:moveTo>
                  <a:pt x="6540" y="13081"/>
                </a:moveTo>
                <a:cubicBezTo>
                  <a:pt x="6551" y="13029"/>
                  <a:pt x="6592" y="12927"/>
                  <a:pt x="6636" y="12890"/>
                </a:cubicBezTo>
                <a:cubicBezTo>
                  <a:pt x="6688" y="12846"/>
                  <a:pt x="6743" y="12815"/>
                  <a:pt x="6794" y="12764"/>
                </a:cubicBezTo>
                <a:cubicBezTo>
                  <a:pt x="6823" y="12735"/>
                  <a:pt x="6829" y="12724"/>
                  <a:pt x="6858" y="12732"/>
                </a:cubicBezTo>
                <a:cubicBezTo>
                  <a:pt x="6913" y="12823"/>
                  <a:pt x="6875" y="12828"/>
                  <a:pt x="6858" y="12922"/>
                </a:cubicBezTo>
                <a:cubicBezTo>
                  <a:pt x="6841" y="13018"/>
                  <a:pt x="6810" y="13128"/>
                  <a:pt x="6763" y="13208"/>
                </a:cubicBezTo>
                <a:cubicBezTo>
                  <a:pt x="6724" y="13188"/>
                  <a:pt x="6780" y="13132"/>
                  <a:pt x="6826" y="13081"/>
                </a:cubicBezTo>
                <a:cubicBezTo>
                  <a:pt x="6859" y="13045"/>
                  <a:pt x="6909" y="13029"/>
                  <a:pt x="6953" y="13018"/>
                </a:cubicBezTo>
                <a:cubicBezTo>
                  <a:pt x="6965" y="13067"/>
                  <a:pt x="7032" y="13119"/>
                  <a:pt x="7017" y="13176"/>
                </a:cubicBezTo>
                <a:cubicBezTo>
                  <a:pt x="6990" y="13278"/>
                  <a:pt x="6944" y="13389"/>
                  <a:pt x="6922" y="13494"/>
                </a:cubicBezTo>
                <a:cubicBezTo>
                  <a:pt x="6898" y="13610"/>
                  <a:pt x="6879" y="13606"/>
                  <a:pt x="6794" y="13684"/>
                </a:cubicBezTo>
                <a:cubicBezTo>
                  <a:pt x="6731" y="13741"/>
                  <a:pt x="6740" y="13706"/>
                  <a:pt x="6699" y="13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Ink 24"/>
          <p:cNvSpPr/>
          <p:nvPr/>
        </p:nvSpPr>
        <p:spPr>
          <a:xfrm>
            <a:off x="2674800" y="4572000"/>
            <a:ext cx="354240" cy="81000"/>
          </a:xfrm>
          <a:custGeom>
            <a:avLst/>
            <a:gdLst/>
            <a:ahLst/>
            <a:rect l="l" t="t" r="r" b="b"/>
            <a:pathLst>
              <a:path w="985" h="223">
                <a:moveTo>
                  <a:pt x="7430" y="12922"/>
                </a:moveTo>
                <a:cubicBezTo>
                  <a:pt x="7531" y="12905"/>
                  <a:pt x="7616" y="12856"/>
                  <a:pt x="7715" y="12827"/>
                </a:cubicBezTo>
                <a:cubicBezTo>
                  <a:pt x="7853" y="12787"/>
                  <a:pt x="7986" y="12738"/>
                  <a:pt x="8128" y="12732"/>
                </a:cubicBezTo>
                <a:cubicBezTo>
                  <a:pt x="8227" y="12727"/>
                  <a:pt x="8312" y="12700"/>
                  <a:pt x="8414" y="12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Ink 25"/>
          <p:cNvSpPr/>
          <p:nvPr/>
        </p:nvSpPr>
        <p:spPr>
          <a:xfrm>
            <a:off x="2789280" y="4686480"/>
            <a:ext cx="68400" cy="45720"/>
          </a:xfrm>
          <a:custGeom>
            <a:avLst/>
            <a:gdLst/>
            <a:ahLst/>
            <a:rect l="l" t="t" r="r" b="b"/>
            <a:pathLst>
              <a:path w="192" h="127">
                <a:moveTo>
                  <a:pt x="7779" y="13144"/>
                </a:moveTo>
                <a:cubicBezTo>
                  <a:pt x="7768" y="13144"/>
                  <a:pt x="7758" y="13144"/>
                  <a:pt x="7747" y="13144"/>
                </a:cubicBezTo>
                <a:cubicBezTo>
                  <a:pt x="7800" y="13092"/>
                  <a:pt x="7850" y="13082"/>
                  <a:pt x="7906" y="13049"/>
                </a:cubicBezTo>
                <a:cubicBezTo>
                  <a:pt x="7917" y="13039"/>
                  <a:pt x="7927" y="13028"/>
                  <a:pt x="7938" y="13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Ink 26"/>
          <p:cNvSpPr/>
          <p:nvPr/>
        </p:nvSpPr>
        <p:spPr>
          <a:xfrm>
            <a:off x="2949480" y="4606920"/>
            <a:ext cx="160560" cy="353880"/>
          </a:xfrm>
          <a:custGeom>
            <a:avLst/>
            <a:gdLst/>
            <a:ahLst/>
            <a:rect l="l" t="t" r="r" b="b"/>
            <a:pathLst>
              <a:path w="445" h="986">
                <a:moveTo>
                  <a:pt x="8192" y="12954"/>
                </a:moveTo>
                <a:cubicBezTo>
                  <a:pt x="8235" y="12910"/>
                  <a:pt x="8294" y="12849"/>
                  <a:pt x="8350" y="12827"/>
                </a:cubicBezTo>
                <a:cubicBezTo>
                  <a:pt x="8402" y="12806"/>
                  <a:pt x="8394" y="12834"/>
                  <a:pt x="8446" y="12795"/>
                </a:cubicBezTo>
                <a:cubicBezTo>
                  <a:pt x="8464" y="12801"/>
                  <a:pt x="8525" y="12828"/>
                  <a:pt x="8509" y="12859"/>
                </a:cubicBezTo>
                <a:cubicBezTo>
                  <a:pt x="8480" y="12916"/>
                  <a:pt x="8472" y="12992"/>
                  <a:pt x="8446" y="13049"/>
                </a:cubicBezTo>
                <a:cubicBezTo>
                  <a:pt x="8430" y="13084"/>
                  <a:pt x="8406" y="13113"/>
                  <a:pt x="8382" y="13144"/>
                </a:cubicBezTo>
                <a:cubicBezTo>
                  <a:pt x="8440" y="13144"/>
                  <a:pt x="8457" y="13119"/>
                  <a:pt x="8509" y="13113"/>
                </a:cubicBezTo>
                <a:cubicBezTo>
                  <a:pt x="8572" y="13106"/>
                  <a:pt x="8579" y="13111"/>
                  <a:pt x="8604" y="13144"/>
                </a:cubicBezTo>
                <a:cubicBezTo>
                  <a:pt x="8661" y="13219"/>
                  <a:pt x="8633" y="13275"/>
                  <a:pt x="8604" y="13367"/>
                </a:cubicBezTo>
                <a:cubicBezTo>
                  <a:pt x="8566" y="13491"/>
                  <a:pt x="8521" y="13610"/>
                  <a:pt x="8446" y="13716"/>
                </a:cubicBezTo>
                <a:cubicBezTo>
                  <a:pt x="8403" y="13777"/>
                  <a:pt x="8401" y="13773"/>
                  <a:pt x="8350" y="13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20:49:24Z</dcterms:created>
  <dc:creator>Sharon Fieldman</dc:creator>
  <dc:description/>
  <dc:language>en-US</dc:language>
  <cp:lastModifiedBy>njamison</cp:lastModifiedBy>
  <dcterms:modified xsi:type="dcterms:W3CDTF">2011-05-19T18:33:13Z</dcterms:modified>
  <cp:revision>22</cp:revision>
  <dc:subject/>
  <dc:title>Goal 4.01 Linear Functions</dc:title>
</cp:coreProperties>
</file>